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377820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356760" y="1240920"/>
            <a:ext cx="59547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move the slide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3778200" y="942768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86FA5-7F8D-490C-B5D0-8D832EEB21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701D4-2E2B-41C6-A0EE-A8B1728E95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is altijd belangrijk om een boodschap vanuit de ‘ik’ vorm te formule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l vooral je eigen grenzen en de grenzen van de organisatie centra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zou studenten kunnen laten oefenen met het formuleren van een ‘ik’ boodsch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E5728-1AFD-4516-AA74-0E2D246C8B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antwoorden staan in de volgende dia. Laat ze nadenken over risicofactoren die van toepassing zijn op hun eigen doelgro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29B3A-A302-4BED-A410-88BAA67B38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BAA84-C5FC-48C6-914C-265537F8A1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7F5AA-D5BF-47F1-98F6-DCB4DBF63C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is belangrijk om signalen in het team te bespreken en een gezamenlijke aanpak te hanter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 vele gevallen is het belangrijk om het netwerk van een cliënt te betrekken bij de aanp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3AB14-85BD-44B0-BDC0-CB630C405D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042B59-45E9-4C73-AC65-2842C50453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nnen de Radar methode. Wordt gesproken van 3 verschillende stadia’s van agress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1 Geagiteerd 2 Dreigend en 3 Gewelddadi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hoeft niet altijd zo te zijn dat stadia 1 wordt opgevolgd door stadia 2 en vervolgens 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oms slaat het gedrag van een cliënt één of meerdere stadia’s o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m eenduidigheid te creëren in de opvatting over verschillende gedragskenmerken bij de 3 verschillende categorieën is het belangr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at je goed afstemt met je collega’s wat je verstaat onder geagiteerd, dreigend en gewelddadig gedrag. Dit kan namelijk ook verschillen per individ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die manier waarborg je een eenduidige aanpak. Hierdoor bied je de cliënten duidelijkheid en structuur. Namelijk iedere begeleider hanteert dezelfde aanpak en grijp in op dezelfde moment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CD265-4701-4F2B-99B1-D6D64183F9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kunnen voorbeelden zijn van gedrag bij het het stadia: “geagiteerd gedrag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gedrag moet feitelijk waarneembaar zijn en door alle collega’s op dezelfde manier opgevat wo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die manier behoud je een eenduidige aanp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4BE91-F051-450F-B4A5-6884B1BB7D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kunnen voorbeelden zijn van gedrag bij het het stadia: “dreigend gedrag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gedrag moet feitelijk waarneembaar zijn en door alle collega’s op dezelfde manier opgevat wo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die manier behoud je een eenduidige aanp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heck altijd protocollen op je BPV / toekomstige werkplek. In sommige gevallen worden er al sancties opgelegd wanneer een cliënt dreigend gedrag verto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Sancties; Straf naar aanleiding van ongewenst gedra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zou studenten kunnen vragen hoe er binnen de stage wordt omgegaan met dreigend gedra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7F040-4929-44C5-BCF5-0FE41A3C2E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belangrijk om te weten dat er binnen verschillende organisaties GEEN vrijheid beperkende maatregelen toegepast mogen worden. De aanpak kan verschillen per organisati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beeld van vrijheid beperkende maatregel; Opsluiting, vastgebonden worden e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nneer er sprake is van agressie moet je altijd jezelf in veiligheid stellen, en waar mogelijk ook de andere deelnem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erug slaan/schoppen is absoluut uit den boze en kan ontslag tot gevolg hebben. Tevens kan dit in de toekomst de aanvraag voor je VOG in de toekomst verpes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focus ligt dan ook bij het voorkomen van gewelddadig gedrag door in een van de voorgaande stadia’s een (gespreks)interventie uit te voe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BA8BE-E0D9-421A-8F0C-09F3E5135E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antwoorden staan in de volgende dia. Vraag studenten ook of ze weten welke handelingen op stage worden geadviseerd/gehantee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2259B-9B7B-4C75-8B4A-A8B4B04853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4B577-22AD-4318-9A2D-AA8BFB4FFD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antwoorden staan in de volgende dia. Vraag studenten ook of ze weten welke handelingen op stage worden geadviseerd/gehantee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3F0B1-201D-4D34-B536-5C860318EE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E2F-2B05-45BC-BD70-C5F47ACB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8A8D-EC0A-495F-A48E-4D4D665A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C458-84ED-4566-A2A3-4CB43265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7E8-C628-4BD2-BBDD-46FFFA8F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9670-BFF8-4BD4-ACD5-1660E1F6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1E41-CBD5-4A9D-9C95-F028534F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E89C-ADEC-4AD6-8864-7D432EF9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9B1C-47A0-475C-B08C-1FA96F04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EB1E-C332-4517-8E55-64123F28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4D1A-53AB-42A0-B189-B575442F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4B85-AE71-49E1-ADD7-1CC8A228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800C-D006-4597-9996-326BA633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C9B0-4CFC-46CC-86B2-6E737D3B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B1F0-27E1-4C0A-A99E-922B9629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E667-F8B9-474F-8B56-E060432A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5275-C8E9-45DE-913C-3AED402B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D3D8-2E23-46C1-9462-26D10A3A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34E80-F93F-4055-837B-E924423B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5F654-FBB7-4C4D-ABAF-7F26EF45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DA64A-5022-4C5A-B341-359DB0E0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8B555-97AC-400B-A5D0-27C28293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C82F3-4CF6-4A29-9CAC-DDEE5F38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635F-CFB2-46DB-AF8D-9E697224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33C5B-FF7B-4641-883B-3A8EEFDB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52B61-800A-4CDE-9077-767EBA0B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DBE4F-D3F7-43B4-9ABC-EEA32095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D99A9-181B-4369-93F6-E25703DC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6C14B-2F09-4892-A4C7-BBF96C1B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8E7F0-2F33-4AE6-BDC5-5806BEA3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781D8-A473-44BB-8FFE-5F240508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59F02-39D3-42FB-A76C-7B69E832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7543D-EED7-483F-BACE-3D444E13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DBEFA-25A9-4431-861B-50DBFE1E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F51D-6462-48F4-AA5C-E36E9D34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F13E9-8550-4248-B96B-3B8D8E8F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CF599-7A0B-4834-A019-EE288B2C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BA975-A1C3-4E98-ADB9-6A493343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A6812-91DF-488B-8C10-C2CB5573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53A51-A36D-4EE4-BDE0-57EFCFFF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CAE09-A4BD-4EAA-AD8D-85C80EB9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25EF9-1E38-4577-950B-4B348422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C0912-E5FA-4535-B4F5-05E22159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51EC8-08CA-4807-9202-001CE73A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AF03C-1CAF-4AF7-B00A-8060C34E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EE04-E6FE-435A-96E4-F88F866A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27375-6E27-4591-A97A-0047AE1B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31841-5C21-4CEB-9258-C192174B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9CFF4-473F-41D1-ADFF-EEB5ECDD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2746A-498D-41DC-BEF3-AA96BCEA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1F89A-C1B8-4AA7-B66A-6DD83F86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FE46D-A863-47E2-8741-4AE1F0AC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6CEAD-CFA8-47EB-B537-63A94D20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DAB69-AFC9-42B9-A29D-CE7ED7AC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263FF-AA93-461D-85D1-3980536F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0D480-E4F3-453A-A42E-3B0ABA1A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A54-C847-44ED-9693-5E368F10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530C3-C702-4F7C-A1EC-CC49967D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0D2-5A9C-4ED5-87E7-822655C0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F976-20ED-411F-BC7E-343AC73B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A022-6F6B-4951-AC5A-F12ABEC9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22AC4-5F86-40B3-87A9-3D0D39DEBF24}" type="slidenum"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120"/>
            <a:ext cx="10674720" cy="5350320"/>
            <a:chOff x="752040" y="744120"/>
            <a:chExt cx="10674720" cy="535032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3760"/>
              <a:ext cx="3275640" cy="4408920"/>
            </a:xfrm>
            <a:custGeom>
              <a:avLst/>
              <a:gdLst/>
              <a:ahLst/>
              <a:rect l="l" t="t" r="r" b="b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F57F7-BDF4-420B-B7B1-1A47227D3843}" type="slidenum"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efed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efede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efed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4B8F8-83C7-44C2-B4DB-D91FC0BE04AC}" type="slidenum">
              <a:rPr b="0" lang="nl-NL" sz="1200" spc="-1" strike="noStrike">
                <a:solidFill>
                  <a:srgbClr val="efede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97CCD-3111-41AE-8A23-DE65EDE008F2}" type="slidenum"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60C60-991C-4D48-BDC6-B95D1AE28366}" type="slidenum"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14480" y="1788840"/>
            <a:ext cx="8361360" cy="20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191b0e"/>
                </a:solidFill>
                <a:latin typeface="Franklin Gothic Book"/>
              </a:rPr>
              <a:t>ARGESSIE</a:t>
            </a:r>
            <a:endParaRPr b="0" lang="en-US" sz="7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2679480" y="3956040"/>
            <a:ext cx="6832440" cy="10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191b0e"/>
                </a:solidFill>
                <a:latin typeface="Franklin Gothic Book"/>
              </a:rPr>
              <a:t>Les 4</a:t>
            </a:r>
            <a:endParaRPr b="0" lang="en-US" sz="23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285560" y="472680"/>
            <a:ext cx="60958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91b0e"/>
                </a:solidFill>
                <a:latin typeface="Franklin Gothic Book"/>
              </a:rPr>
              <a:t>2 Dreigend gedrag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Nege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Assistentie vrag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Waarschuwen (consequenties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Uit de situatie gaa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Anderen weg stu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Confronte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begrenzen, KORT / DUIDELIJK / IK VORM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563840" y="331920"/>
            <a:ext cx="9144000" cy="60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191b0e"/>
                </a:solidFill>
                <a:latin typeface="Franklin Gothic Book"/>
              </a:rPr>
              <a:t>Risicofactoren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Wat zijn Risicofactoren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Noem voorbeelden van risicofacto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22840" y="304920"/>
            <a:ext cx="7451640" cy="97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191b0e"/>
                </a:solidFill>
                <a:latin typeface="Franklin Gothic Book"/>
              </a:rPr>
              <a:t>De risicofactoren zijn:</a:t>
            </a:r>
            <a:br>
              <a:rPr sz="4000"/>
            </a:b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22120" y="1414080"/>
            <a:ext cx="609588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Afd. cultuur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Regels, te veel/weinig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Gedwongen opname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Middelen gebruik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Cognitieve vermogens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Samenstelling van de patiënten groep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Deskundigheid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Voorzieningen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Werkdruk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Samenwerking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Onvoldoende medicatie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Onvoldoende info.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191b0e"/>
                </a:solidFill>
                <a:latin typeface="Franklin Gothic Book"/>
              </a:rPr>
              <a:t>Rollenspel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2 studenten spelen een situatie met agressie na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De klas analyseert deze situatie op basis van 3 niveaus (geagiteerd, dreigen en gewelddadig gedrag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De klas geeft tips hoe er ook met deze situatie om had kunnen worden gegaan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Rollenspel wordt opnieuw gedaan. De 2de keer met de meegekregen tips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Afbeelding 4" descr=""/>
          <p:cNvPicPr/>
          <p:nvPr/>
        </p:nvPicPr>
        <p:blipFill>
          <a:blip r:embed="rId1"/>
          <a:stretch/>
        </p:blipFill>
        <p:spPr>
          <a:xfrm>
            <a:off x="635040" y="1125360"/>
            <a:ext cx="6899400" cy="4607280"/>
          </a:xfrm>
          <a:prstGeom prst="rect">
            <a:avLst/>
          </a:prstGeom>
          <a:ln w="0">
            <a:noFill/>
          </a:ln>
        </p:spPr>
      </p:pic>
      <p:sp>
        <p:nvSpPr>
          <p:cNvPr id="265" name="Freeform 6"/>
          <p:cNvSpPr/>
          <p:nvPr/>
        </p:nvSpPr>
        <p:spPr>
          <a:xfrm flipH="1" flipV="1">
            <a:off x="7982640" y="639000"/>
            <a:ext cx="2295720" cy="3675240"/>
          </a:xfrm>
          <a:custGeom>
            <a:avLst/>
            <a:gdLst/>
            <a:ahLst/>
            <a:rect l="l" t="t" r="r" b="b"/>
            <a:pathLst>
              <a:path w="10002" h="10000">
                <a:moveTo>
                  <a:pt x="8763" y="0"/>
                </a:moveTo>
                <a:lnTo>
                  <a:pt x="10002" y="0"/>
                </a:lnTo>
                <a:lnTo>
                  <a:pt x="10002" y="10000"/>
                </a:lnTo>
                <a:lnTo>
                  <a:pt x="2" y="10000"/>
                </a:lnTo>
                <a:cubicBezTo>
                  <a:pt x="-2" y="9698"/>
                  <a:pt x="4" y="9427"/>
                  <a:pt x="0" y="9125"/>
                </a:cubicBezTo>
                <a:lnTo>
                  <a:pt x="8763" y="9128"/>
                </a:lnTo>
                <a:lnTo>
                  <a:pt x="8763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470440" y="2285640"/>
            <a:ext cx="30546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Je kan nog zoveel doen aan preventie en interventies, 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maar als de risicofactoren groot zijn blijft het onveilig en komen er incidenten zich voor doen.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4" name="Afbeelding 4" descr=""/>
          <p:cNvPicPr/>
          <p:nvPr/>
        </p:nvPicPr>
        <p:blipFill>
          <a:blip r:embed="rId1"/>
          <a:stretch/>
        </p:blipFill>
        <p:spPr>
          <a:xfrm>
            <a:off x="635040" y="1125360"/>
            <a:ext cx="6899400" cy="4607280"/>
          </a:xfrm>
          <a:prstGeom prst="rect">
            <a:avLst/>
          </a:prstGeom>
          <a:ln w="0">
            <a:noFill/>
          </a:ln>
        </p:spPr>
      </p:pic>
      <p:sp>
        <p:nvSpPr>
          <p:cNvPr id="225" name="Freeform 6"/>
          <p:cNvSpPr/>
          <p:nvPr/>
        </p:nvSpPr>
        <p:spPr>
          <a:xfrm flipH="1" flipV="1">
            <a:off x="7982640" y="639000"/>
            <a:ext cx="2295720" cy="3675240"/>
          </a:xfrm>
          <a:custGeom>
            <a:avLst/>
            <a:gdLst/>
            <a:ahLst/>
            <a:rect l="l" t="t" r="r" b="b"/>
            <a:pathLst>
              <a:path w="10002" h="10000">
                <a:moveTo>
                  <a:pt x="8763" y="0"/>
                </a:moveTo>
                <a:lnTo>
                  <a:pt x="10002" y="0"/>
                </a:lnTo>
                <a:lnTo>
                  <a:pt x="10002" y="10000"/>
                </a:lnTo>
                <a:lnTo>
                  <a:pt x="2" y="10000"/>
                </a:lnTo>
                <a:cubicBezTo>
                  <a:pt x="-2" y="9698"/>
                  <a:pt x="4" y="9427"/>
                  <a:pt x="0" y="9125"/>
                </a:cubicBezTo>
                <a:lnTo>
                  <a:pt x="8763" y="9128"/>
                </a:lnTo>
                <a:lnTo>
                  <a:pt x="8763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470440" y="1111320"/>
            <a:ext cx="3054600" cy="106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fede3"/>
                </a:solidFill>
                <a:latin typeface="Franklin Gothic Book"/>
              </a:rPr>
              <a:t>Lesprogramma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470440" y="2285640"/>
            <a:ext cx="30546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3 vormen van agressieve gedragingen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Interventies 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Risicofactoren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696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9720" y="631440"/>
            <a:ext cx="4019760" cy="55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efede3"/>
                </a:solidFill>
                <a:latin typeface="Franklin Gothic Book"/>
              </a:rPr>
              <a:t>Interventies en Risicofactoren</a:t>
            </a:r>
            <a:br>
              <a:rPr sz="5000"/>
            </a:br>
            <a:endParaRPr b="0" lang="en-US" sz="5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176520" y="631440"/>
            <a:ext cx="4892760" cy="560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191b0e"/>
                </a:solidFill>
                <a:uFillTx/>
                <a:latin typeface="Franklin Gothic Book"/>
              </a:rPr>
              <a:t>3 agressieve gedragingen: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91b0e"/>
                </a:solidFill>
                <a:latin typeface="Franklin Gothic Book"/>
              </a:rPr>
              <a:t>1. Geagiteerd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91b0e"/>
                </a:solidFill>
                <a:latin typeface="Franklin Gothic Book"/>
              </a:rPr>
              <a:t>2. Dreigend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91b0e"/>
                </a:solidFill>
                <a:latin typeface="Franklin Gothic Book"/>
              </a:rPr>
              <a:t>3. Gewelddadig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738360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4" name="Afbeelding 4" descr=""/>
          <p:cNvPicPr/>
          <p:nvPr/>
        </p:nvPicPr>
        <p:blipFill>
          <a:blip r:embed="rId1"/>
          <a:srcRect l="0" t="628" r="0" b="15140"/>
          <a:stretch/>
        </p:blipFill>
        <p:spPr>
          <a:xfrm>
            <a:off x="7612200" y="0"/>
            <a:ext cx="457992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84080" y="685800"/>
            <a:ext cx="579456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191b0e"/>
                </a:solidFill>
                <a:latin typeface="Franklin Gothic Book"/>
              </a:rPr>
              <a:t>1 . Geagiteerd gedrag</a:t>
            </a:r>
            <a:br>
              <a:rPr sz="4400"/>
            </a:b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36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1890720" y="22860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9"/>
          <p:cNvGrpSpPr/>
          <p:nvPr/>
        </p:nvGrpSpPr>
        <p:grpSpPr>
          <a:xfrm>
            <a:off x="752040" y="744120"/>
            <a:ext cx="10674720" cy="5350320"/>
            <a:chOff x="752040" y="744120"/>
            <a:chExt cx="10674720" cy="5350320"/>
          </a:xfrm>
        </p:grpSpPr>
        <p:sp>
          <p:nvSpPr>
            <p:cNvPr id="238" name="Freeform 6"/>
            <p:cNvSpPr/>
            <p:nvPr/>
          </p:nvSpPr>
          <p:spPr>
            <a:xfrm>
              <a:off x="81518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efe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 flipH="1" flipV="1">
              <a:off x="751320" y="743760"/>
              <a:ext cx="3275640" cy="4408920"/>
            </a:xfrm>
            <a:custGeom>
              <a:avLst/>
              <a:gdLst/>
              <a:ahLst/>
              <a:rect l="l" t="t" r="r" b="b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efe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40" name="Rectangle 1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635040" y="1487520"/>
            <a:ext cx="6899400" cy="3882960"/>
          </a:xfrm>
          <a:prstGeom prst="rect">
            <a:avLst/>
          </a:prstGeom>
          <a:ln w="0">
            <a:noFill/>
          </a:ln>
        </p:spPr>
      </p:pic>
      <p:sp>
        <p:nvSpPr>
          <p:cNvPr id="242" name="Freeform 6"/>
          <p:cNvSpPr/>
          <p:nvPr/>
        </p:nvSpPr>
        <p:spPr>
          <a:xfrm flipH="1" flipV="1">
            <a:off x="7982640" y="639000"/>
            <a:ext cx="2295720" cy="3675240"/>
          </a:xfrm>
          <a:custGeom>
            <a:avLst/>
            <a:gdLst/>
            <a:ahLst/>
            <a:rect l="l" t="t" r="r" b="b"/>
            <a:pathLst>
              <a:path w="10002" h="10000">
                <a:moveTo>
                  <a:pt x="8763" y="0"/>
                </a:moveTo>
                <a:lnTo>
                  <a:pt x="10002" y="0"/>
                </a:lnTo>
                <a:lnTo>
                  <a:pt x="10002" y="10000"/>
                </a:lnTo>
                <a:lnTo>
                  <a:pt x="2" y="10000"/>
                </a:lnTo>
                <a:cubicBezTo>
                  <a:pt x="-2" y="9698"/>
                  <a:pt x="4" y="9427"/>
                  <a:pt x="0" y="9125"/>
                </a:cubicBezTo>
                <a:lnTo>
                  <a:pt x="8763" y="9128"/>
                </a:lnTo>
                <a:lnTo>
                  <a:pt x="8763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569440" y="1314000"/>
            <a:ext cx="317664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ede3"/>
                </a:solidFill>
                <a:latin typeface="Franklin Gothic Book"/>
              </a:rPr>
              <a:t>DREIGEND GEDRAG</a:t>
            </a:r>
            <a:endParaRPr b="0" lang="en-US" sz="4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13"/>
          <p:cNvGrpSpPr/>
          <p:nvPr/>
        </p:nvGrpSpPr>
        <p:grpSpPr>
          <a:xfrm>
            <a:off x="752040" y="744120"/>
            <a:ext cx="10674720" cy="5350320"/>
            <a:chOff x="752040" y="744120"/>
            <a:chExt cx="10674720" cy="5350320"/>
          </a:xfrm>
        </p:grpSpPr>
        <p:sp>
          <p:nvSpPr>
            <p:cNvPr id="245" name="Freeform 6"/>
            <p:cNvSpPr/>
            <p:nvPr/>
          </p:nvSpPr>
          <p:spPr>
            <a:xfrm>
              <a:off x="81518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efe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46" name="Freeform 6"/>
            <p:cNvSpPr/>
            <p:nvPr/>
          </p:nvSpPr>
          <p:spPr>
            <a:xfrm flipH="1" flipV="1">
              <a:off x="751320" y="743760"/>
              <a:ext cx="3275640" cy="4408920"/>
            </a:xfrm>
            <a:custGeom>
              <a:avLst/>
              <a:gdLst/>
              <a:ahLst/>
              <a:rect l="l" t="t" r="r" b="b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efe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47" name="Rectangle 1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Freeform 6"/>
          <p:cNvSpPr/>
          <p:nvPr/>
        </p:nvSpPr>
        <p:spPr>
          <a:xfrm flipH="1" flipV="1">
            <a:off x="752040" y="744480"/>
            <a:ext cx="3276720" cy="4408560"/>
          </a:xfrm>
          <a:custGeom>
            <a:avLst/>
            <a:gdLst/>
            <a:ahLst/>
            <a:rect l="l" t="t" r="r" b="b"/>
            <a:pathLst>
              <a:path w="10002" h="10000">
                <a:moveTo>
                  <a:pt x="8763" y="0"/>
                </a:moveTo>
                <a:lnTo>
                  <a:pt x="10002" y="0"/>
                </a:lnTo>
                <a:lnTo>
                  <a:pt x="10002" y="10000"/>
                </a:lnTo>
                <a:lnTo>
                  <a:pt x="2" y="10000"/>
                </a:lnTo>
                <a:cubicBezTo>
                  <a:pt x="-2" y="9698"/>
                  <a:pt x="4" y="9427"/>
                  <a:pt x="0" y="9125"/>
                </a:cubicBezTo>
                <a:lnTo>
                  <a:pt x="8763" y="9128"/>
                </a:lnTo>
                <a:lnTo>
                  <a:pt x="8763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9" name="Tijdelijke aanduiding voor inhoud 8" descr=""/>
          <p:cNvPicPr/>
          <p:nvPr/>
        </p:nvPicPr>
        <p:blipFill>
          <a:blip r:embed="rId1"/>
          <a:srcRect l="5767" t="0" r="16555" b="0"/>
          <a:stretch/>
        </p:blipFill>
        <p:spPr>
          <a:xfrm>
            <a:off x="5175360" y="187200"/>
            <a:ext cx="6858000" cy="49658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7240" y="1898640"/>
            <a:ext cx="5300640" cy="325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GEWELDDADIG GEDRAG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947960" y="2080800"/>
            <a:ext cx="776592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1 Agitatie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91b0e"/>
                </a:solidFill>
                <a:latin typeface="Franklin Gothic Book"/>
              </a:rPr>
              <a:t>Beantwoord de volgende vraag: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Wat kan ik als professional doen op het moment dat iemand geagiteerd is? Zodat het niet verder escaleert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Vorm tweetallen en beschrijf wat jij zou doen als iemand geagiteerd gedrag laat zien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2" name="Tekstvak 2"/>
          <p:cNvSpPr/>
          <p:nvPr/>
        </p:nvSpPr>
        <p:spPr>
          <a:xfrm>
            <a:off x="1709640" y="689040"/>
            <a:ext cx="850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Franklin Gothic Book"/>
              </a:rPr>
              <a:t>Opdracht 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221840" y="160200"/>
            <a:ext cx="66106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191b0e"/>
                </a:solidFill>
                <a:latin typeface="Franklin Gothic Book"/>
              </a:rPr>
              <a:t>Geagiteerd gedrag: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Gedrag benoem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Luiste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Zelf rustig blijv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Stap naar achter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Vragen om iets te laten (let wel op hoe je iets zegt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Bevragen (wat is er aan de hand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Samen wandel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Zelf oplass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Humor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Ventile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Begrip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Troost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Medicatie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54" name="Afbeelding 6" descr=""/>
          <p:cNvPicPr/>
          <p:nvPr/>
        </p:nvPicPr>
        <p:blipFill>
          <a:blip r:embed="rId1"/>
          <a:stretch/>
        </p:blipFill>
        <p:spPr>
          <a:xfrm>
            <a:off x="7832880" y="469800"/>
            <a:ext cx="348912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91b0e"/>
                </a:solidFill>
                <a:latin typeface="Franklin Gothic Book"/>
              </a:rPr>
              <a:t>2 Dreigend gedrag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Wat kan ik als professional doen op het moment dat iemand dreigend gedrag laat zien? Zodat het niet verder escaleert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Vorm tweetallen en beschrijf wat jij zou doen als iemand geagiteerd gedrag laat zien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191b0e"/>
                </a:solidFill>
                <a:latin typeface="Franklin Gothic Book"/>
              </a:rPr>
              <a:t>Opdracht 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7T08:07:34Z</dcterms:created>
  <dc:creator>Koen Steinhauer</dc:creator>
  <dc:description/>
  <dc:language>en-US</dc:language>
  <cp:lastModifiedBy>Ilse Mellema - Peper</cp:lastModifiedBy>
  <cp:lastPrinted>2019-04-16T10:04:57Z</cp:lastPrinted>
  <dcterms:modified xsi:type="dcterms:W3CDTF">2019-05-15T21:25:32Z</dcterms:modified>
  <cp:revision>11</cp:revision>
  <dc:subject/>
  <dc:title>SLB Argessie les 4</dc:title>
</cp:coreProperties>
</file>