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A71D3-8BA6-4B6E-8AB9-B03F87D2AB83}"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685800" y="1143000"/>
            <a:ext cx="548640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atzlawick wil  de vraag achter de vraag duidelijk krijgen. Wil iemand bij een vraag een oplossing of gehoor vinden? Vraag door en benoem nonverbaal gedrag die je zi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en belangrijk onderzoek van Mehrabian en Ferris (1967) laat ziet dat 7% van onze totale communicatie bestaat uit woorden. De overige 93% is non-verbale communicatie. Die 93% wordt weer onderverdeeld in 38% stemgeluid, toon en intonatie en 55% lichaamstaal. Wanneer we het gesproken woord niet meer zouden gebruiken, communiceren we toch nog ontzettend veel. Vaak zijn we ons hier niet van bewust, maar we doen het allemaal.</a:t>
            </a:r>
            <a:endParaRPr b="0" lang="en-US" sz="1200" spc="-1" strike="noStrike">
              <a:solidFill>
                <a:srgbClr val="000000"/>
              </a:solidFill>
              <a:latin typeface="Calibri"/>
            </a:endParaRPr>
          </a:p>
        </p:txBody>
      </p:sp>
      <p:sp>
        <p:nvSpPr>
          <p:cNvPr id="248"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C4200-AC84-490B-B0D4-51FFAE42991B}"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685800" y="1143000"/>
            <a:ext cx="54864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at de klas het filmpje van mr. Bean zien en laat ze ondertussen meeschrijven welke nonverbale signalen ze allemaal waarn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espreek dit met de klas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ebben studenten voorbeelden waarbij een boodschap verkeerd is aangekomen bij een ander en waardoor er een verstoring in de communicatie ontstond? Bijv. Ruzie 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ij communicatie in Social media kan een boodschap heel verkeerd over komen. Hoe komt dit? Hoe kun je dit voorkomen? </a:t>
            </a:r>
            <a:endParaRPr b="0" lang="en-US" sz="1200" spc="-1" strike="noStrike">
              <a:solidFill>
                <a:srgbClr val="000000"/>
              </a:solidFill>
              <a:latin typeface="Calibri"/>
            </a:endParaRPr>
          </a:p>
        </p:txBody>
      </p:sp>
      <p:sp>
        <p:nvSpPr>
          <p:cNvPr id="25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FFF03-B552-4ED9-9DE0-4B20D6B1CCA9}"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85800" y="1143000"/>
            <a:ext cx="5486400" cy="3086280"/>
          </a:xfrm>
          <a:prstGeom prst="rect">
            <a:avLst/>
          </a:prstGeom>
          <a:ln w="0">
            <a:noFill/>
          </a:ln>
        </p:spPr>
      </p:sp>
      <p:sp>
        <p:nvSpPr>
          <p:cNvPr id="253" name="PlaceHolder 2"/>
          <p:cNvSpPr>
            <a:spLocks noGrp="1"/>
          </p:cNvSpPr>
          <p:nvPr>
            <p:ph type="body"/>
          </p:nvPr>
        </p:nvSpPr>
        <p:spPr>
          <a:xfrm>
            <a:off x="304560" y="4400640"/>
            <a:ext cx="6443640" cy="455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Wat kan de man allemaal bedoelen met de vraag: waar is het z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Expressief aspect = </a:t>
            </a:r>
            <a:r>
              <a:rPr b="0" lang="nl-NL" sz="1200" spc="-1" strike="noStrike">
                <a:solidFill>
                  <a:srgbClr val="000000"/>
                </a:solidFill>
                <a:latin typeface="Calibri"/>
                <a:ea typeface="Calibri"/>
              </a:rPr>
              <a:t>Uit het voorbeeld valt af te leiden dat de man wakker is, zout gebruikt en Nederlands spreekt. Veel meer valt er uit het voorbeeld niet af te leiden. Het gaat in een boodschap in meer of mindere mate om zelfexpressie van de zender. Hij laat iets van zichzelf zien, hij geeft iets van zijn persoonlijkheid blo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Zakelijk aspect= </a:t>
            </a:r>
            <a:r>
              <a:rPr b="0" lang="nl-NL" sz="1200" spc="-1" strike="noStrike">
                <a:solidFill>
                  <a:srgbClr val="000000"/>
                </a:solidFill>
                <a:latin typeface="Calibri"/>
                <a:ea typeface="Calibri"/>
              </a:rPr>
              <a:t>Het zakelijke aspect van de boodsch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lke boodschap bestaat uit zakelijke, oftewel feitelijke informatie. De vrouw het voorbeeld komt te weten dat haar man het zout zoekt, hij vraagt immers waar het zout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Appellerend aspect= </a:t>
            </a:r>
            <a:r>
              <a:rPr b="0" lang="nl-NL" sz="1200" spc="-1" strike="noStrike">
                <a:solidFill>
                  <a:srgbClr val="000000"/>
                </a:solidFill>
                <a:latin typeface="Calibri"/>
                <a:ea typeface="Calibri"/>
              </a:rPr>
              <a:t>Dit is een appel doen op iemand, hetgeen betekent een beroep doen op iemand teneinde een bepaald doel te bereiken. Iedere boodschap heeft namelijk tot doel invloed op een ander uit te oefenen. Bij het echtpaar uit het voorbeeld is dat de man de vrouw wil bewegen het zout voor hem te pakk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Relationele aspect= </a:t>
            </a:r>
            <a:r>
              <a:rPr b="0" lang="nl-NL" sz="1200" spc="-1" strike="noStrike">
                <a:solidFill>
                  <a:srgbClr val="000000"/>
                </a:solidFill>
                <a:latin typeface="Calibri"/>
                <a:ea typeface="Calibri"/>
              </a:rPr>
              <a:t>Dit aspect van de communicatie zegt iets over hoe de zender de ontvanger ziet. Niet wat de zender zegt, maar hoe hij zegt is van doorslaggevend belang in de communica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In het voorbeeld van het echtpaar kunnen we opmaken dat hij van zijn vrouw verlangt dat zij het zout pakt. Het geeft weer hoe hij de onderlinge verhouding ziet. (ik ben een man en jij de vrouw, dus haal jij het zout voor mij 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3D9CB-57F1-4CD8-BAE8-ED3BDA7EAB52}"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685800" y="1143000"/>
            <a:ext cx="548640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 is te voorspellen. Bepaald gedrag roept een bepaalde reactie op. Dit laat zien dat de manier waarop mensen reageren in veel gevallen te voorspellen en te beïnvloeden is.</a:t>
            </a:r>
            <a:endParaRPr b="0" lang="en-US" sz="1200" spc="-1" strike="noStrike">
              <a:solidFill>
                <a:srgbClr val="000000"/>
              </a:solidFill>
              <a:latin typeface="Calibri"/>
            </a:endParaRPr>
          </a:p>
        </p:txBody>
      </p:sp>
      <p:sp>
        <p:nvSpPr>
          <p:cNvPr id="25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74B25-F23B-4046-8995-282CC5F59C2F}"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40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el van de opdra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udenten worden zich ervan bewust dat zij in situaties (onbedoeld) de oorzaak kunnen zijn van agressie, maar ook dat ze een situatie kunnen veranderen dmv hun houding, gedrag, gesprekstechnieken etc. </a:t>
            </a:r>
            <a:endParaRPr b="0" lang="en-US" sz="1200" spc="-1" strike="noStrike">
              <a:solidFill>
                <a:srgbClr val="000000"/>
              </a:solidFill>
              <a:latin typeface="Calibri"/>
            </a:endParaRPr>
          </a:p>
        </p:txBody>
      </p:sp>
      <p:sp>
        <p:nvSpPr>
          <p:cNvPr id="26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6775C-0D82-46AB-A756-8DA996369206}"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40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ijk naar het het agressie beleid op je stage voor de volgebnde keer</a:t>
            </a:r>
            <a:endParaRPr b="0" lang="en-US" sz="1200" spc="-1" strike="noStrike">
              <a:solidFill>
                <a:srgbClr val="000000"/>
              </a:solidFill>
              <a:latin typeface="Calibri"/>
            </a:endParaRPr>
          </a:p>
        </p:txBody>
      </p:sp>
      <p:sp>
        <p:nvSpPr>
          <p:cNvPr id="263"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15F21-AA12-4C38-BC83-ADFE5B4D4538}"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5A9DC-F76C-45C3-98E6-C4117C274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567A-0A77-4EFC-81C5-11304A55A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0F372-5188-48F1-8655-AA3228FA2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5C2A9-DB09-45A1-A88C-ED4A98B9B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D09CC-1417-476B-A810-CB4AE8DA0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625B4-A345-4DF3-9EC2-141651B47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8B858-3461-4272-A2AA-81ECC0FAC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1081D-7CCA-42D9-BE2A-A074F0E7E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78418-5CF3-45FD-89C9-D6C26D190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E8D0C-DFAD-4D9D-8C82-476F4B9A8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819C6-00A2-4D49-932F-9864F451A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7FF5B-FBC0-4D35-B3CE-782EB3C8B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69C05-BBDC-465A-90E4-BC4B1CBEC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248AF-459F-4DA8-9929-35C5B695C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2E096-58A9-45D7-98B3-DD97E780D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31A18-0251-4EEE-AA7C-CDEDDE307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58B17-FA1A-41AC-B26A-7E2AFF5BB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37C9F3-0B84-4FD3-A732-0DE67C57CB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1D74D0-6A84-4DEB-81C2-9180E7A15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8F419-5B78-42D5-846F-D72816519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93A48-2C5A-4805-97CB-7BD2079D7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A6FFF-6508-4E34-8E0A-E1A05D85F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ED703-B44D-4434-A049-D13721FA6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CE3097-B0C3-4D23-8ABD-1846B96EB0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46083-9159-4557-B2B8-939D005BF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BD857-82DC-444D-A5E8-98C2477A5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D1615-D23B-4131-A895-F61883463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F98CD-3701-4710-A44C-A2A474400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7B52AE-92CB-4145-A7A4-D557795625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C6B986-7B16-4019-A3FD-10A080DAB1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658396-75A6-4582-BAAA-62A136A928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CDBE6-2B0C-4CD6-8B3E-98789626F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EF7D93-6E4B-45D2-AC9F-F5B75A62D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42E9F-43CE-49B1-B4DF-5DE6AE74A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13EF2-0B98-4BFD-86B0-849557530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B8DB7E-08AD-4841-99E6-1DAC7CFE1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4BF6D-1E0B-4947-BF11-86DDF49E55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FD73E-010B-4EBD-9D6A-8570B46872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4D5FA-C04D-42CE-B108-9A19B6A77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8F53C-D23D-4D21-AECA-11B19BD10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2B655-EDED-42C9-A00D-CB328CCC2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F2BBE9-3724-49F5-A5C3-9FDA3DB2D4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9EC846-E2B3-4314-967B-EA424D30B0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180FFC-94C4-4007-A8CE-9B9E6111E7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0F5D6-4080-4EC4-948D-13FF00E2F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F2F1C-EAF3-4A02-A7C4-14EBFC150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E59BF-E592-4CFD-9A2F-81C58F7E8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D5489D-57E2-4539-8045-6FEA6C5433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DCBE1-5793-4857-93C8-D980CDF18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FFD05-73EA-4B6A-A19C-1B4EB363E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517D0-6C38-4B9F-B9C8-C673D8AAB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A36CD-097D-4E77-8B85-D5A23A234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9049B-28D8-4513-860A-C0F6CBB1B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950EF7-3293-4E5D-AD16-95A68BC2ED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5A7EF-B9C9-48EB-9626-FA779D1D1D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2A123-C259-4241-90D8-95920B0B5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E5092E-BC07-45EC-B435-958F015515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4C586-5C64-4869-B135-74F6F6CF2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BF77-0139-483F-AA50-A3A8612FA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723A-8581-4984-83D8-7E38A0A6D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A32A9-C673-4EAB-B27F-4794FF7D5636}"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2" name="Group 6"/>
          <p:cNvGrpSpPr/>
          <p:nvPr/>
        </p:nvGrpSpPr>
        <p:grpSpPr>
          <a:xfrm>
            <a:off x="752040" y="744120"/>
            <a:ext cx="10674720" cy="5350320"/>
            <a:chOff x="752040" y="744120"/>
            <a:chExt cx="10674720" cy="5350320"/>
          </a:xfrm>
        </p:grpSpPr>
        <p:sp>
          <p:nvSpPr>
            <p:cNvPr id="43" name="Freeform 6"/>
            <p:cNvSpPr/>
            <p:nvPr/>
          </p:nvSpPr>
          <p:spPr>
            <a:xfrm>
              <a:off x="8151840" y="1685520"/>
              <a:ext cx="3274920" cy="4408920"/>
            </a:xfrm>
            <a:custGeom>
              <a:avLst/>
              <a:gdLst/>
              <a:ahLst/>
              <a:rect l="l" t="t" r="r" b="b"/>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4" name="Freeform 6"/>
            <p:cNvSpPr/>
            <p:nvPr/>
          </p:nvSpPr>
          <p:spPr>
            <a:xfrm flipH="1" flipV="1">
              <a:off x="751320" y="743760"/>
              <a:ext cx="3275640" cy="440892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88FDB-58F5-4A55-BCBA-9496601CC0F9}"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efede3"/>
                </a:solidFill>
                <a:latin typeface="Times New Roman"/>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6FB95-825A-45E1-B93F-3945D0B1685D}" type="slidenum">
              <a:rPr b="0" lang="nl-NL" sz="1200" spc="-1" strike="noStrike">
                <a:solidFill>
                  <a:srgbClr val="efede3"/>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29"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7DE19-40F8-49AA-8463-4575BD919C4F}"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2"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CFBC7-0D4E-443E-92B2-978B6E90744F}"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14480" y="1788840"/>
            <a:ext cx="8361360" cy="209700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191b0e"/>
                </a:solidFill>
                <a:latin typeface="Franklin Gothic Book"/>
              </a:rPr>
              <a:t>AGRESSIE</a:t>
            </a:r>
            <a:endParaRPr b="0" lang="en-US" sz="7200" spc="-1" strike="noStrike">
              <a:solidFill>
                <a:srgbClr val="191b0e"/>
              </a:solidFill>
              <a:latin typeface="Franklin Gothic Book"/>
            </a:endParaRPr>
          </a:p>
        </p:txBody>
      </p:sp>
      <p:sp>
        <p:nvSpPr>
          <p:cNvPr id="222" name="PlaceHolder 2"/>
          <p:cNvSpPr>
            <a:spLocks noGrp="1"/>
          </p:cNvSpPr>
          <p:nvPr>
            <p:ph type="subTitle"/>
          </p:nvPr>
        </p:nvSpPr>
        <p:spPr>
          <a:xfrm>
            <a:off x="2679480" y="3956040"/>
            <a:ext cx="6832440" cy="743040"/>
          </a:xfrm>
          <a:prstGeom prst="rect">
            <a:avLst/>
          </a:prstGeom>
          <a:noFill/>
          <a:ln w="0">
            <a:noFill/>
          </a:ln>
        </p:spPr>
        <p:txBody>
          <a:bodyPr anchor="t">
            <a:noAutofit/>
          </a:bodyPr>
          <a:p>
            <a:pPr indent="0" algn="ctr">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191b0e"/>
                </a:solidFill>
                <a:latin typeface="Franklin Gothic Book"/>
              </a:rPr>
              <a:t>Les 3</a:t>
            </a:r>
            <a:endParaRPr b="0" lang="en-US" sz="23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Lesprogramma</a:t>
            </a:r>
            <a:endParaRPr b="0" lang="en-US" sz="4400" spc="-1" strike="noStrike">
              <a:solidFill>
                <a:srgbClr val="191b0e"/>
              </a:solidFill>
              <a:latin typeface="Franklin Gothic Book"/>
            </a:endParaRPr>
          </a:p>
        </p:txBody>
      </p:sp>
      <p:sp>
        <p:nvSpPr>
          <p:cNvPr id="224" name=""/>
          <p:cNvSpPr txBox="1"/>
          <p:nvPr/>
        </p:nvSpPr>
        <p:spPr>
          <a:xfrm>
            <a:off x="1371600" y="2286000"/>
            <a:ext cx="960120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Communicatie en interactie</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os van Leary</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Communicatie en Interactie</a:t>
            </a:r>
            <a:br>
              <a:rPr sz="4400"/>
            </a:br>
            <a:endParaRPr b="0" lang="en-US" sz="4400" spc="-1" strike="noStrike">
              <a:solidFill>
                <a:srgbClr val="191b0e"/>
              </a:solidFill>
              <a:latin typeface="Franklin Gothic Book"/>
            </a:endParaRPr>
          </a:p>
        </p:txBody>
      </p:sp>
      <p:sp>
        <p:nvSpPr>
          <p:cNvPr id="226" name=""/>
          <p:cNvSpPr txBox="1"/>
          <p:nvPr/>
        </p:nvSpPr>
        <p:spPr>
          <a:xfrm>
            <a:off x="1112760" y="1615680"/>
            <a:ext cx="11079360" cy="5049720"/>
          </a:xfrm>
          <a:prstGeom prst="rect">
            <a:avLst/>
          </a:prstGeom>
          <a:noFill/>
          <a:ln w="0">
            <a:noFill/>
          </a:ln>
        </p:spPr>
        <p:txBody>
          <a:bodyPr anchor="t">
            <a:normAutofit fontScale="95000"/>
          </a:bodyPr>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Paul Watzlawick (psycholoog en communicatiewetenschapper):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Iedereen communiceert altijd. Non verbaal en verbaal.</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Boodschap: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0-30% = woorden</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70-80% = non verbaal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stemgeluid, toon en intonatie</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a:t>
            </a:r>
            <a:r>
              <a:rPr b="0" lang="nl-NL" sz="3200" spc="-1" strike="noStrike">
                <a:solidFill>
                  <a:srgbClr val="191b0e"/>
                </a:solidFill>
                <a:latin typeface="Franklin Gothic Book"/>
              </a:rPr>
              <a:t>lichaamstaal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240" y="685800"/>
            <a:ext cx="1022364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Wat wordt er gecommuniceerd?</a:t>
            </a:r>
            <a:endParaRPr b="0" lang="en-US" sz="4400" spc="-1" strike="noStrike">
              <a:solidFill>
                <a:srgbClr val="191b0e"/>
              </a:solidFill>
              <a:latin typeface="Franklin Gothic Book"/>
            </a:endParaRPr>
          </a:p>
        </p:txBody>
      </p:sp>
      <p:sp>
        <p:nvSpPr>
          <p:cNvPr id="228" name=""/>
          <p:cNvSpPr txBox="1"/>
          <p:nvPr/>
        </p:nvSpPr>
        <p:spPr>
          <a:xfrm>
            <a:off x="1258920" y="1523880"/>
            <a:ext cx="10336320" cy="518184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500" spc="-1" strike="noStrike">
                <a:solidFill>
                  <a:srgbClr val="191b0e"/>
                </a:solidFill>
                <a:latin typeface="Franklin Gothic Book"/>
              </a:rPr>
              <a:t>Mr. Bean doet examen</a:t>
            </a:r>
            <a:endParaRPr b="0" lang="en-US" sz="35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Vertrouwen, geschrokken, angst, nonchalance, onrust, zenuwen, arrogantie, paniek, oplossing, schijnheiligheid, vertrouwen, gedrevenheid etc. </a:t>
            </a:r>
            <a:endParaRPr b="0" lang="en-US" sz="28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Filmpje: Hoe komt een boodschap over? </a:t>
            </a:r>
            <a:endParaRPr b="0" lang="en-US" sz="32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91b0e"/>
                </a:solidFill>
                <a:latin typeface="Franklin Gothic Book"/>
              </a:rPr>
              <a:t>	</a:t>
            </a:r>
            <a:r>
              <a:rPr b="0" lang="nl-NL" sz="2000" spc="-1" strike="noStrike">
                <a:solidFill>
                  <a:srgbClr val="191b0e"/>
                </a:solidFill>
                <a:latin typeface="Franklin Gothic Book"/>
              </a:rPr>
              <a:t>	</a:t>
            </a: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Controleer je of de boodschap is aangekomen. </a:t>
            </a:r>
            <a:endParaRPr b="0" lang="en-US" sz="2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2160" y="277560"/>
            <a:ext cx="10895040" cy="189396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191b0e"/>
                </a:solidFill>
                <a:latin typeface="Franklin Gothic Book"/>
              </a:rPr>
              <a:t>Een echtpaar zit aan tafel. De man smeert een broodje en belegt deze met een gekookt eitje. Hij zegt tegen zijn vrouw: "Waar is het zout?"</a:t>
            </a:r>
            <a:endParaRPr b="0" lang="en-US" sz="4000" spc="-1" strike="noStrike">
              <a:solidFill>
                <a:srgbClr val="191b0e"/>
              </a:solidFill>
              <a:latin typeface="Franklin Gothic Book"/>
            </a:endParaRPr>
          </a:p>
        </p:txBody>
      </p:sp>
      <p:sp>
        <p:nvSpPr>
          <p:cNvPr id="230" name=""/>
          <p:cNvSpPr txBox="1"/>
          <p:nvPr/>
        </p:nvSpPr>
        <p:spPr>
          <a:xfrm>
            <a:off x="1371600" y="2286000"/>
            <a:ext cx="9601200" cy="3581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pic>
        <p:nvPicPr>
          <p:cNvPr id="231" name="Picture 2" descr=""/>
          <p:cNvPicPr/>
          <p:nvPr/>
        </p:nvPicPr>
        <p:blipFill>
          <a:blip r:embed="rId1"/>
          <a:stretch/>
        </p:blipFill>
        <p:spPr>
          <a:xfrm>
            <a:off x="992160" y="2835360"/>
            <a:ext cx="10686960" cy="370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232" name="Rectangle 7"/>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33" name="Picture 2" descr=""/>
          <p:cNvPicPr/>
          <p:nvPr/>
        </p:nvPicPr>
        <p:blipFill>
          <a:blip r:embed="rId1"/>
          <a:stretch/>
        </p:blipFill>
        <p:spPr>
          <a:xfrm>
            <a:off x="415800" y="1006560"/>
            <a:ext cx="7256520" cy="5653080"/>
          </a:xfrm>
          <a:prstGeom prst="rect">
            <a:avLst/>
          </a:prstGeom>
          <a:ln w="0">
            <a:noFill/>
          </a:ln>
        </p:spPr>
      </p:pic>
      <p:sp>
        <p:nvSpPr>
          <p:cNvPr id="234" name="Freeform 6"/>
          <p:cNvSpPr/>
          <p:nvPr/>
        </p:nvSpPr>
        <p:spPr>
          <a:xfrm flipH="1" flipV="1">
            <a:off x="7982640" y="639000"/>
            <a:ext cx="2295720" cy="367524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35" name=""/>
          <p:cNvSpPr txBox="1"/>
          <p:nvPr/>
        </p:nvSpPr>
        <p:spPr>
          <a:xfrm>
            <a:off x="8470440" y="2285640"/>
            <a:ext cx="3054600" cy="3932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De roos van Leary:</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Er is altijd sprake van communicatie.</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Leary oordeelt niet. Het is afhankelijk van de situatie en heeft geen waarde oordeel. Je bent vrij om je te bewegen in het model.</a:t>
            </a:r>
            <a:endParaRPr b="0" lang="en-US" sz="1600" spc="-1" strike="noStrike">
              <a:solidFill>
                <a:srgbClr val="191b0e"/>
              </a:solidFill>
              <a:latin typeface="Franklin Gothic Book"/>
            </a:endParaRPr>
          </a:p>
        </p:txBody>
      </p:sp>
      <p:sp>
        <p:nvSpPr>
          <p:cNvPr id="236" name="Rechthoek 4"/>
          <p:cNvSpPr/>
          <p:nvPr/>
        </p:nvSpPr>
        <p:spPr>
          <a:xfrm>
            <a:off x="1200240" y="39672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Franklin Gothic Book"/>
              </a:rPr>
              <a:t>Filmpje met uitleg Roos van Leary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Rollenspel</a:t>
            </a:r>
            <a:endParaRPr b="0" lang="en-US" sz="4400" spc="-1" strike="noStrike">
              <a:solidFill>
                <a:srgbClr val="191b0e"/>
              </a:solidFill>
              <a:latin typeface="Franklin Gothic Book"/>
            </a:endParaRPr>
          </a:p>
        </p:txBody>
      </p:sp>
      <p:sp>
        <p:nvSpPr>
          <p:cNvPr id="238" name=""/>
          <p:cNvSpPr txBox="1"/>
          <p:nvPr/>
        </p:nvSpPr>
        <p:spPr>
          <a:xfrm>
            <a:off x="1371600" y="1947960"/>
            <a:ext cx="9601200" cy="4797360"/>
          </a:xfrm>
          <a:prstGeom prst="rect">
            <a:avLst/>
          </a:prstGeom>
          <a:noFill/>
          <a:ln w="0">
            <a:noFill/>
          </a:ln>
        </p:spPr>
        <p:txBody>
          <a:bodyPr anchor="t">
            <a:normAutofit fontScale="75000"/>
          </a:bodyPr>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 studenten spelen een situatie met agressie na waar 1 van de 2 bij betrokken was. </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analyseert deze situatie op basis van de Roos van Leary</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geeft tips hoe er ook met deze situatie om had kunnen worden gegaan (onder/ boven- tegen/ samen)</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llenspel wordt opnieuw gedaan. De 2de keer met de meegekregen tips.</a:t>
            </a: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Voorbeeld praktijk. bv Patiënt weigert medicatie. Als professional probeer je aanvallend tegen over helpend te zetten.</a:t>
            </a: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239" name="Rectangle 9"/>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40" name="Rectangle 11"/>
          <p:cNvSpPr/>
          <p:nvPr/>
        </p:nvSpPr>
        <p:spPr>
          <a:xfrm>
            <a:off x="0" y="0"/>
            <a:ext cx="12192120" cy="6858000"/>
          </a:xfrm>
          <a:prstGeom prst="rect">
            <a:avLst/>
          </a:prstGeom>
          <a:solidFill>
            <a:srgbClr val="efed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1" name="Rectangle 13"/>
          <p:cNvSpPr/>
          <p:nvPr/>
        </p:nvSpPr>
        <p:spPr>
          <a:xfrm>
            <a:off x="0" y="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2" name="Rectangle 15"/>
          <p:cNvSpPr/>
          <p:nvPr/>
        </p:nvSpPr>
        <p:spPr>
          <a:xfrm>
            <a:off x="11826720" y="649440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3" name="Rectangle 17"/>
          <p:cNvSpPr/>
          <p:nvPr/>
        </p:nvSpPr>
        <p:spPr>
          <a:xfrm>
            <a:off x="11826720" y="-468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4" name="Rectangle 19"/>
          <p:cNvSpPr/>
          <p:nvPr/>
        </p:nvSpPr>
        <p:spPr>
          <a:xfrm>
            <a:off x="0" y="649440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45" name="Tijdelijke aanduiding voor inhoud 4" descr=""/>
          <p:cNvPicPr/>
          <p:nvPr/>
        </p:nvPicPr>
        <p:blipFill>
          <a:blip r:embed="rId1"/>
          <a:srcRect l="0" t="17514" r="0" b="0"/>
          <a:stretch/>
        </p:blipFill>
        <p:spPr>
          <a:xfrm>
            <a:off x="160200" y="160200"/>
            <a:ext cx="11871360" cy="653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07T08:03:39Z</dcterms:created>
  <dc:creator>Koen Steinhauer</dc:creator>
  <dc:description/>
  <dc:language>en-US</dc:language>
  <cp:lastModifiedBy>Ilse Mellema - Peper</cp:lastModifiedBy>
  <dcterms:modified xsi:type="dcterms:W3CDTF">2019-05-15T21:21:22Z</dcterms:modified>
  <cp:revision>48</cp:revision>
  <dc:subject/>
  <dc:title>SLB AGRESSIE les 3</dc:title>
</cp:coreProperties>
</file>