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2112F-123C-4C80-B8B6-40816DB63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EF9A3-ED4D-4BF4-9A7C-6CE46A314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altijd belangrijk om een boodschap vanuit de ‘ik’ vorm te formul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l vooral je eigen grenzen en de grenzen van de organisatie centr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laten oefenen met het formuleren van een ‘ik’ boodsch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32577-3D37-4431-9AEF-8290F39008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Laat ze nadenken over risicofactoren die van toepassing zijn op hun eigen doelgro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0F1DB-895E-42CC-B4D1-667DA8D86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F5950-A95D-4EF9-831A-4C7E78733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8C15B-5D65-425C-8CBF-E8FCEDBB3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belangrijk om signalen in het team te bespreken en een gezamenlijke aanpak te hante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vele gevallen is het belangrijk om het netwerk van een cliënt te betrekken bij de aanp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9F30F-FA2D-46F1-B5B9-8DDAB3EEC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684DE-8C87-4C29-93AC-9ABB72426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nnen de Radar methode. Wordt gesproken van 3 verschillende stadia’s van agres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 Geagiteerd 2 Dreigend en 3 Gewelddad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hoeft niet altijd zo te zijn dat stadia 1 wordt opgevolgd door stadia 2 en vervolgens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oms slaat het gedrag van een cliënt één of meerdere stadia’s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eenduidigheid te creëren in de opvatting over verschillende gedragskenmerken bij de 3 verschillende categorieën is het belangr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t je goed afstemt met je collega’s wat je verstaat onder geagiteerd, dreigend en gewelddadig gedrag. Dit kan namelijk ook verschillen per individ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waarborg je een eenduidige aanpak. Hierdoor bied je de cliënten duidelijkheid en structuur. Namelijk iedere begeleider hanteert dezelfde aanpak en grijp in op dezelfde momen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2CFA8-5585-49B9-81B9-0CE218BDF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geagiteer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4F98C-67DF-414E-A182-010ACDB6A3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dreigen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eck altijd protocollen op je BPV / toekomstige werkplek. In sommige gevallen worden er al sancties opgelegd wanneer een cliënt dreigend gedrag verto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Sancties; Straf naar aanleiding van ongewenst ge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vragen hoe er binnen de stage wordt omgegaan met dreigend gedr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129B6-E1B2-4DD0-B194-4A77053738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elangrijk om te weten dat er binnen verschillende organisaties GEEN vrijheid beperkende maatregelen toegepast mogen worden. De aanpak kan verschillen per organisat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van vrijheid beperkende maatregel; Opsluiting, vastgebonden worden e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nneer er sprake is van agressie moet je altijd jezelf in veiligheid stellen, en waar mogelijk ook de andere deelne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rug slaan/schoppen is absoluut uit den boze en kan ontslag tot gevolg hebben. Tevens kan dit in de toekomst de aanvraag voor je VOG in de toekomst verpes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ocus ligt dan ook bij het voorkomen van gewelddadig gedrag door in een van de voorgaande stadia’s een (gespreks)interventie uit te vo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C601E-3F25-497E-A0F2-1D302A9FE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75ADA-0490-4D72-A71A-BF288C6A55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0B505-C394-4E66-866D-5F304F7A90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B47D0-5E22-4FAE-BBCD-0D93BB580D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A94-E32F-41FC-89DE-D3FFD80C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613-71D6-489B-BC9B-B9DC856A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2D8-D723-4747-AFD3-734EE127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9B8-D2C3-4F31-9A38-66936D5B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D52-824D-4FA3-86BF-FF38A4A4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DCF8-93BE-405E-BFC3-0E8D7B4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4C9-D3C9-497B-B05C-F918481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BFD5-E28F-475B-9B44-763D4755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C9F-759F-403F-83D3-1B46268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4FE9-8AB5-4E14-A8F0-E5F03E0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40A7-10EE-44D9-8DC6-45DC634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B88-547E-4DE4-BFFE-0794BF5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255-6CB7-487C-BE90-FF84952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339-849C-460A-BDC6-1840BBC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B19F-302F-405E-9346-665C1D12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6DA9-43F4-49ED-9B9D-7C7D3B38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E053-D88F-4463-AAB5-25FFB598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B2CA-C979-4BDC-AFAD-54B26D9E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7A76-7B70-4EE2-B086-E202705B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E294-52CB-4F16-9C67-BA32882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766E-F260-4FFF-AA5D-A6FEF3D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92B2-DDB7-43A1-9F25-56228BD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825-0C50-481B-A49B-B6A37539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63CC-A2D3-4535-BDA3-4C76D6E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F384-007B-41D9-BC72-45ECFCF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8CA9-A852-4644-8A04-31A9B8FF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6145-B8B1-4667-8B3C-7DE78F9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2DD4-141B-4E38-BB27-0CCF52CD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6F3A-F653-4841-8B51-AEEDCCAD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661D-3AED-448E-97C9-B6ED7805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2558-5538-4F6C-A3F2-1D491439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263D-EE5A-4B76-9EDF-C248B995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AB84-B8E5-4E7C-B0DD-21815EEF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D7D-CD1F-4FF7-ADB1-C59A47E3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92F4-0751-45E0-835E-57CD6A8F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E19D-58B3-4D5F-8430-B984062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8233-E775-4C32-92D4-58A8C8DB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B4A5-3837-4B84-A297-A6AAD04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4E9C-761E-4039-B8F1-E578A3E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1890-7568-49E8-9679-FB85828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60E0-C1E7-4592-B09E-918B0DBD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C249-E919-4B76-A391-E578F5E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ABAD-81D2-4579-95DB-7203FA4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C5AB4-F133-4504-BEC2-BBE154C9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A25-2BB2-4036-9962-B8FA055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BC89-582C-445F-920D-B2C12D63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26C95-5F2C-4D1B-A9CE-5C65595B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0CA2-4DDC-4707-9965-410FBE7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05D8-18E0-414D-8078-945608C5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0229-67FF-4FBD-986A-52BF9008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85B1-B6DC-4680-8D88-A4C9277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7A8C-61BE-426F-8BB0-A5812D9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B467-0060-4749-9A47-5D136F1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84D4-39A3-4BD6-ABD2-CFB1F82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6A8C-3D53-4357-96F3-28F35C23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A28-CC74-410D-BAE1-3EC90C37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43AE-9410-4345-8FFB-10A75273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9C2-D5E8-409F-90F5-978BC0F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6CD-3A5F-4C0A-B15E-4EC7223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EB3-A9F4-4939-ACB7-804CE93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2F7C5-F1B4-4F8E-BCD4-46E3B700CE7E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A5EC3-5D14-4240-8905-6BAC7948DC54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AC285-0D9C-4816-9BDC-7EA9C0F13BC5}" type="slidenum"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ADFB-5815-4804-9858-7101497B5F2A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C0081-F386-4FB7-9888-A7293C13C494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191b0e"/>
                </a:solidFill>
                <a:latin typeface="Franklin Gothic Book"/>
              </a:rPr>
              <a:t>ARGESSIE</a:t>
            </a:r>
            <a:endParaRPr b="0" lang="en-US" sz="7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79480" y="3956040"/>
            <a:ext cx="68324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191b0e"/>
                </a:solidFill>
                <a:latin typeface="Franklin Gothic Book"/>
              </a:rPr>
              <a:t>Les 4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472680"/>
            <a:ext cx="6095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Neg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ssistentie vrag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Waarschuwen (consequentie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Uit de situatie gaa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nderen weg stu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Confron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enzen, KORT / DUIDELIJK / IK VORM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63840" y="331920"/>
            <a:ext cx="914400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Risicofactoren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zijn Risicofactoren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Noem voorbeelden van risicofacto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22840" y="304920"/>
            <a:ext cx="745164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De risicofactoren zijn:</a:t>
            </a:r>
            <a:br>
              <a:rPr sz="4000"/>
            </a:b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22120" y="1414080"/>
            <a:ext cx="609588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Afd. cultuur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Regels, te veel/weini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Gedwongen opname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Middelen gebrui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Cognitieve vermogens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stelling van de patiënten groep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Deskundigheid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Voorzieningen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Werkdru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werkin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medicatie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info.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Rollenspel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2 studenten spelen een situatie met agressie na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analyseert deze situatie op basis van 3 niveaus (geagiteerd, dreigen en gewelddadig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geeft tips hoe er ook met deze situatie om had kunnen worden gegaan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Rollenspel wordt opnieuw gedaan. De 2de keer met de meegekregen tip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Je kan nog zoveel doen aan preventie en interventies,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maar als de risicofactoren groot zijn blijft het onveilig en komen er incidenten zich voor doen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70440" y="1111320"/>
            <a:ext cx="3054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fede3"/>
                </a:solidFill>
                <a:latin typeface="Franklin Gothic Book"/>
              </a:rPr>
              <a:t>Lesprogramma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3 vormen van agressieve gedraging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Interventie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Risicofactor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696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9720" y="631440"/>
            <a:ext cx="40197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efede3"/>
                </a:solidFill>
                <a:latin typeface="Franklin Gothic Book"/>
              </a:rPr>
              <a:t>Interventies en Risicofactoren</a:t>
            </a:r>
            <a:br>
              <a:rPr sz="5000"/>
            </a:br>
            <a:endParaRPr b="0" lang="en-US" sz="5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76520" y="631440"/>
            <a:ext cx="4892760" cy="56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3 agressieve gedragingen: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1. Geagiteer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2. Dreigen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3. Gewelddadi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38360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Afbeelding 4" descr=""/>
          <p:cNvPicPr/>
          <p:nvPr/>
        </p:nvPicPr>
        <p:blipFill>
          <a:blip r:embed="rId1"/>
          <a:srcRect l="0" t="628" r="0" b="15140"/>
          <a:stretch/>
        </p:blipFill>
        <p:spPr>
          <a:xfrm>
            <a:off x="761220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4080" y="685800"/>
            <a:ext cx="57945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191b0e"/>
                </a:solidFill>
                <a:latin typeface="Franklin Gothic Book"/>
              </a:rPr>
              <a:t>1 . Geagiteerd gedrag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1890720" y="2286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9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38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35040" y="1487520"/>
            <a:ext cx="6899400" cy="388296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69440" y="1314000"/>
            <a:ext cx="31766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ede3"/>
                </a:solidFill>
                <a:latin typeface="Franklin Gothic Book"/>
              </a:rPr>
              <a:t>DREIGEND GEDRAG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45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7" name="Rectangle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Freeform 6"/>
          <p:cNvSpPr/>
          <p:nvPr/>
        </p:nvSpPr>
        <p:spPr>
          <a:xfrm flipH="1" flipV="1">
            <a:off x="752040" y="744480"/>
            <a:ext cx="3276720" cy="440856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Tijdelijke aanduiding voor inhoud 8" descr=""/>
          <p:cNvPicPr/>
          <p:nvPr/>
        </p:nvPicPr>
        <p:blipFill>
          <a:blip r:embed="rId1"/>
          <a:srcRect l="5767" t="0" r="16555" b="0"/>
          <a:stretch/>
        </p:blipFill>
        <p:spPr>
          <a:xfrm>
            <a:off x="5175360" y="1872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7240" y="1898640"/>
            <a:ext cx="530064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GEWELDDADIG GEDRAG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47960" y="2080800"/>
            <a:ext cx="77659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1 Agit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Beantwoord de volgende vraag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geagiteerd is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Tekstvak 2"/>
          <p:cNvSpPr/>
          <p:nvPr/>
        </p:nvSpPr>
        <p:spPr>
          <a:xfrm>
            <a:off x="1709640" y="6890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21840" y="160200"/>
            <a:ext cx="6610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191b0e"/>
                </a:solidFill>
                <a:latin typeface="Franklin Gothic Book"/>
              </a:rPr>
              <a:t>Geagiteerd gedrag: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Gedrag benoem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Luis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rustig blijv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tap naar achte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ragen om iets te laten (let wel op hoe je iets zeg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vragen (wat is er aan de hand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amen wandel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oplass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Humo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entil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ip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Troost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Medic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54" name="Afbeelding 6" descr=""/>
          <p:cNvPicPr/>
          <p:nvPr/>
        </p:nvPicPr>
        <p:blipFill>
          <a:blip r:embed="rId1"/>
          <a:stretch/>
        </p:blipFill>
        <p:spPr>
          <a:xfrm>
            <a:off x="7832880" y="469800"/>
            <a:ext cx="3489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dreigend gedrag laat zien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08:07:34Z</dcterms:created>
  <dc:creator>Koen Steinhauer</dc:creator>
  <dc:description/>
  <dc:language>en-US</dc:language>
  <cp:lastModifiedBy>Ilse Mellema - Peper</cp:lastModifiedBy>
  <cp:lastPrinted>2019-04-16T10:04:57Z</cp:lastPrinted>
  <dcterms:modified xsi:type="dcterms:W3CDTF">2019-05-15T21:25:32Z</dcterms:modified>
  <cp:revision>11</cp:revision>
  <dc:subject/>
  <dc:title>SLB Argessie les 4</dc:title>
</cp:coreProperties>
</file>