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6F1-9DFE-4734-90C3-482FD071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5FB-4576-411F-885E-0C81F0FA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51EB-705D-4CB3-8D75-014E18BB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B20-E537-4E8A-8CB4-5C4FD0CD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236-87FF-4096-A413-0F54C631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23B-2C8B-4AA0-AB2B-67EF4758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DFC0-771D-46EF-A2EE-23114AFB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A23-3C43-4A2E-95CB-5198DEB3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BD03-3BAC-4A2F-98B0-6C665DF4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8A9-F824-41AE-8A73-230DC2B5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727-D587-44E2-BB53-1D23D07F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7199-0069-43EE-965A-8EB3B798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B07C-DED9-4EEE-80D8-867A2FE4D514}" type="slidenum">
              <a:rPr b="0" lang="nl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YOaIHQwYYQ&amp;feature=related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et hart en aansluitende bloedvate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voorkamer (re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rechter kamer (re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voorkamer (li atri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- linker kamer (li 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YouTube - hybrid heart with blood f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inhoud 3" descr="harttjeskamer.jpg"/>
          <p:cNvPicPr/>
          <p:nvPr/>
        </p:nvPicPr>
        <p:blipFill>
          <a:blip r:embed="rId1"/>
          <a:stretch/>
        </p:blipFill>
        <p:spPr>
          <a:xfrm>
            <a:off x="2457360" y="1600200"/>
            <a:ext cx="4229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Tijdelijke aanduiding voor inhoud 3" descr="hartkamers.jpg"/>
          <p:cNvPicPr/>
          <p:nvPr/>
        </p:nvPicPr>
        <p:blipFill>
          <a:blip r:embed="rId1"/>
          <a:stretch/>
        </p:blipFill>
        <p:spPr>
          <a:xfrm>
            <a:off x="457200" y="2028960"/>
            <a:ext cx="4038480" cy="3668400"/>
          </a:xfrm>
          <a:prstGeom prst="rect">
            <a:avLst/>
          </a:prstGeom>
          <a:ln w="0">
            <a:noFill/>
          </a:ln>
        </p:spPr>
      </p:pic>
      <p:pic>
        <p:nvPicPr>
          <p:cNvPr id="47" name="Tijdelijke aanduiding voor inhoud 7" descr="het hart en anatomie 002.jpg"/>
          <p:cNvPicPr/>
          <p:nvPr/>
        </p:nvPicPr>
        <p:blipFill>
          <a:blip r:embed="rId2"/>
          <a:stretch/>
        </p:blipFill>
        <p:spPr>
          <a:xfrm>
            <a:off x="4929120" y="1785960"/>
            <a:ext cx="3272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HFDST 1; Het hart en aansluitende bloedva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Symbol"/>
                <a:ea typeface="Symbol"/>
              </a:rPr>
              <a:t>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Bouw van het hart; anato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2 voorkamers (boezem of atrium), 2 kamers (ventrik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scheiden door een tussenschot of sept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4 hartklepp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inhoud 3" descr="het hart en anatomie 002.jpg"/>
          <p:cNvPicPr/>
          <p:nvPr/>
        </p:nvPicPr>
        <p:blipFill>
          <a:blip r:embed="rId1"/>
          <a:stretch/>
        </p:blipFill>
        <p:spPr>
          <a:xfrm>
            <a:off x="857160" y="1571760"/>
            <a:ext cx="3272040" cy="56973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1. rechter voorkamer  (re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2 rechter kamer (re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3. linker voorkamer (li boezem - atriu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Calibri"/>
              </a:rPr>
              <a:t>4. linker kamer (li ventrik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5. tricus pid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6. pulmonalis 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7. aorta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8. mitraliskl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0:02:45Z</dcterms:created>
  <dc:creator>viviane</dc:creator>
  <dc:description/>
  <dc:language>en-US</dc:language>
  <cp:lastModifiedBy>viviane huybrechts</cp:lastModifiedBy>
  <dcterms:modified xsi:type="dcterms:W3CDTF">2019-03-28T11:06:16Z</dcterms:modified>
  <cp:revision>81</cp:revision>
  <dc:subject/>
  <dc:title>Dia 1</dc:title>
</cp:coreProperties>
</file>