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8500-C7A6-46EF-8AA0-6392E432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D228-4025-40CF-9043-8DB22DD5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D639-96AD-40A8-90E5-465F9556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095F-A114-43BA-91E9-DD78B789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F69-8BFA-419D-8689-431A888D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2EAF-CA8C-4216-842C-85F77863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F2A8-230E-46D1-999E-09D1E100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E170-B827-4BB0-B76C-E916885F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10FB-5C93-481B-A3FE-1FC3E0B3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3504-7B3E-4CAB-8CC9-4B6C0B22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470A-35B9-47AE-93D2-9E163699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A49C-19B9-47D1-8A09-9414AC59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E992-CEBC-400F-8C21-D778EE24E38D}" type="slidenum">
              <a:rPr b="0" lang="nl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YOaIHQwYYQ&amp;feature=related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Het hart en aansluitende bloedvate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b0f0"/>
                </a:solidFill>
                <a:latin typeface="Symbol"/>
                <a:ea typeface="Symbol"/>
              </a:rPr>
              <a:t>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Bouw van het hart; anato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rechter voorkamer (re atri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rechter kamer (re 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linker voorkamer (li atri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linker kamer (li 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YouTube - hybrid heart with blood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Tijdelijke aanduiding voor inhoud 3" descr="harttjeskamer.jpg"/>
          <p:cNvPicPr/>
          <p:nvPr/>
        </p:nvPicPr>
        <p:blipFill>
          <a:blip r:embed="rId1"/>
          <a:stretch/>
        </p:blipFill>
        <p:spPr>
          <a:xfrm>
            <a:off x="2457360" y="1600200"/>
            <a:ext cx="42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Tijdelijke aanduiding voor inhoud 3" descr="hartkamers.jpg"/>
          <p:cNvPicPr/>
          <p:nvPr/>
        </p:nvPicPr>
        <p:blipFill>
          <a:blip r:embed="rId1"/>
          <a:stretch/>
        </p:blipFill>
        <p:spPr>
          <a:xfrm>
            <a:off x="457200" y="2028960"/>
            <a:ext cx="4038480" cy="3668400"/>
          </a:xfrm>
          <a:prstGeom prst="rect">
            <a:avLst/>
          </a:prstGeom>
          <a:ln w="0">
            <a:noFill/>
          </a:ln>
        </p:spPr>
      </p:pic>
      <p:pic>
        <p:nvPicPr>
          <p:cNvPr id="47" name="Tijdelijke aanduiding voor inhoud 7" descr="het hart en anatomie 002.jpg"/>
          <p:cNvPicPr/>
          <p:nvPr/>
        </p:nvPicPr>
        <p:blipFill>
          <a:blip r:embed="rId2"/>
          <a:stretch/>
        </p:blipFill>
        <p:spPr>
          <a:xfrm>
            <a:off x="4929120" y="1785960"/>
            <a:ext cx="32720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HFDST 1; Het hart en aansluitende bloedva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b0f0"/>
                </a:solidFill>
                <a:latin typeface="Symbol"/>
                <a:ea typeface="Symbol"/>
              </a:rPr>
              <a:t>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Bouw van het hart; anato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voorkamers (boezem of atrium), 2 kamers (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scheiden door een tussenschot of sep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 hartklep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Tijdelijke aanduiding voor inhoud 3" descr="het hart en anatomie 002.jpg"/>
          <p:cNvPicPr/>
          <p:nvPr/>
        </p:nvPicPr>
        <p:blipFill>
          <a:blip r:embed="rId1"/>
          <a:stretch/>
        </p:blipFill>
        <p:spPr>
          <a:xfrm>
            <a:off x="857160" y="1571760"/>
            <a:ext cx="3272040" cy="5697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. rechter voorkamer  (re boezem - atri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2 rechter kamer (re ventrik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3. linker voorkamer (li boezem - atri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4. linker kamer (li ventrik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5. tricus pidalis 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6. pulmonalis 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7. aorta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8. mitralis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0:02:45Z</dcterms:created>
  <dc:creator>viviane</dc:creator>
  <dc:description/>
  <dc:language>en-US</dc:language>
  <cp:lastModifiedBy>viviane huybrechts</cp:lastModifiedBy>
  <dcterms:modified xsi:type="dcterms:W3CDTF">2019-03-28T11:06:16Z</dcterms:modified>
  <cp:revision>81</cp:revision>
  <dc:subject/>
  <dc:title>Dia 1</dc:title>
</cp:coreProperties>
</file>