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2836-F74F-4713-A4C4-ADD5D820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296-12C1-46CB-BD37-76EF4A95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F3F-5E41-4B9C-80C0-3B29CBF2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1693-50E7-44EE-8833-D0D560A9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3E3C-5652-439E-BB2C-D549F6FA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F0D-FD4F-4CE3-9E94-C43C3DD1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05E3-01CA-4FEB-8ADE-20403AFE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C837-C5CF-4632-B6CC-7A6BF740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6B5-DC0A-4305-81D5-5A2E4702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48BB-B387-4E42-9769-FC074FC6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F1DC-5045-4CEF-8752-9130F5B9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17E-9554-48AA-8CC8-1BA3B43E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3BFD-0460-46F5-94E4-0C6233312289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YOaIHQwYYQ&amp;feature=relate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et hart en aansluitende bloedvat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voorkamer (re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kamer (re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voorkamer (li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kamer (li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hybrid heart with blood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ijdelijke aanduiding voor inhoud 3" descr="harttjeskamer.jpg"/>
          <p:cNvPicPr/>
          <p:nvPr/>
        </p:nvPicPr>
        <p:blipFill>
          <a:blip r:embed="rId1"/>
          <a:stretch/>
        </p:blipFill>
        <p:spPr>
          <a:xfrm>
            <a:off x="2457360" y="1600200"/>
            <a:ext cx="42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ijdelijke aanduiding voor inhoud 3" descr="hartkamers.jpg"/>
          <p:cNvPicPr/>
          <p:nvPr/>
        </p:nvPicPr>
        <p:blipFill>
          <a:blip r:embed="rId1"/>
          <a:stretch/>
        </p:blipFill>
        <p:spPr>
          <a:xfrm>
            <a:off x="457200" y="2028960"/>
            <a:ext cx="4038480" cy="3668400"/>
          </a:xfrm>
          <a:prstGeom prst="rect">
            <a:avLst/>
          </a:prstGeom>
          <a:ln w="0">
            <a:noFill/>
          </a:ln>
        </p:spPr>
      </p:pic>
      <p:pic>
        <p:nvPicPr>
          <p:cNvPr id="47" name="Tijdelijke aanduiding voor inhoud 7" descr="het hart en anatomie 002.jpg"/>
          <p:cNvPicPr/>
          <p:nvPr/>
        </p:nvPicPr>
        <p:blipFill>
          <a:blip r:embed="rId2"/>
          <a:stretch/>
        </p:blipFill>
        <p:spPr>
          <a:xfrm>
            <a:off x="4929120" y="1785960"/>
            <a:ext cx="32720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FDST 1; Het hart en aansluitende bloedva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voorkamers (boezem of atrium), 2 kamers (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scheiden door een tussenschot of sep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 hartklep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ijdelijke aanduiding voor inhoud 3" descr="het hart en anatomie 002.jpg"/>
          <p:cNvPicPr/>
          <p:nvPr/>
        </p:nvPicPr>
        <p:blipFill>
          <a:blip r:embed="rId1"/>
          <a:stretch/>
        </p:blipFill>
        <p:spPr>
          <a:xfrm>
            <a:off x="857160" y="1571760"/>
            <a:ext cx="3272040" cy="569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. rechter voorkamer  (re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2 rechter kamer (re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3. linker voorkamer (li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4. linker kamer (li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5. tricus pid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6. pulmon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7. aorta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8. mitralis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0:02:45Z</dcterms:created>
  <dc:creator>viviane</dc:creator>
  <dc:description/>
  <dc:language>en-US</dc:language>
  <cp:lastModifiedBy>viviane huybrechts</cp:lastModifiedBy>
  <dcterms:modified xsi:type="dcterms:W3CDTF">2019-03-28T11:06:16Z</dcterms:modified>
  <cp:revision>81</cp:revision>
  <dc:subject/>
  <dc:title>Dia 1</dc:title>
</cp:coreProperties>
</file>