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E4B-974D-4C7A-806C-2261B7E8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D2E-464F-4206-A333-C95F211A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FB3-0EA8-499C-B72A-9ABEDFBC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EF3-2497-49FA-8CED-9B560FC6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86A-D719-4BA6-88BC-B833CD90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386-9B77-4E80-BBEE-C8C4A3CF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9F7-F354-42B7-B466-64D13A56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932-7382-4357-A2E2-6EEF4196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558-D2E2-4DE2-8491-547FF643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4D3-4949-4EBF-BC65-0AFCAFB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F68-1D57-4222-8AFD-4BDBC5B2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98B-9D79-4B33-B6D7-C3504E72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7C16-2578-4A5D-9658-8CE4F888F5F2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YOaIHQwYYQ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et hart en aansluitende bloedvat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voorkamer (re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kamer (re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voorkamer (li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kamer (li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hybrid heart with blood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inhoud 3" descr="harttjeskamer.jpg"/>
          <p:cNvPicPr/>
          <p:nvPr/>
        </p:nvPicPr>
        <p:blipFill>
          <a:blip r:embed="rId1"/>
          <a:stretch/>
        </p:blipFill>
        <p:spPr>
          <a:xfrm>
            <a:off x="2457360" y="1600200"/>
            <a:ext cx="42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inhoud 3" descr="hartkamers.jpg"/>
          <p:cNvPicPr/>
          <p:nvPr/>
        </p:nvPicPr>
        <p:blipFill>
          <a:blip r:embed="rId1"/>
          <a:stretch/>
        </p:blipFill>
        <p:spPr>
          <a:xfrm>
            <a:off x="457200" y="2028960"/>
            <a:ext cx="4038480" cy="3668400"/>
          </a:xfrm>
          <a:prstGeom prst="rect">
            <a:avLst/>
          </a:prstGeom>
          <a:ln w="0">
            <a:noFill/>
          </a:ln>
        </p:spPr>
      </p:pic>
      <p:pic>
        <p:nvPicPr>
          <p:cNvPr id="47" name="Tijdelijke aanduiding voor inhoud 7" descr="het hart en anatomie 002.jpg"/>
          <p:cNvPicPr/>
          <p:nvPr/>
        </p:nvPicPr>
        <p:blipFill>
          <a:blip r:embed="rId2"/>
          <a:stretch/>
        </p:blipFill>
        <p:spPr>
          <a:xfrm>
            <a:off x="4929120" y="1785960"/>
            <a:ext cx="3272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FDST 1; Het hart en aansluitende bloedv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voorkamers (boezem of atrium), 2 kamers (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scheiden door een tussenschot of sep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hartkle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inhoud 3" descr="het hart en anatomie 002.jpg"/>
          <p:cNvPicPr/>
          <p:nvPr/>
        </p:nvPicPr>
        <p:blipFill>
          <a:blip r:embed="rId1"/>
          <a:stretch/>
        </p:blipFill>
        <p:spPr>
          <a:xfrm>
            <a:off x="857160" y="1571760"/>
            <a:ext cx="3272040" cy="569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. rechter voorkamer  (re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2 rechter kamer (re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3. linker voorkamer (li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4. linker kamer (li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. tricus pid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6. pulmon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7. aorta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8. mitralis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0:02:45Z</dcterms:created>
  <dc:creator>viviane</dc:creator>
  <dc:description/>
  <dc:language>en-US</dc:language>
  <cp:lastModifiedBy>viviane huybrechts</cp:lastModifiedBy>
  <dcterms:modified xsi:type="dcterms:W3CDTF">2019-03-28T11:06:16Z</dcterms:modified>
  <cp:revision>81</cp:revision>
  <dc:subject/>
  <dc:title>Dia 1</dc:title>
</cp:coreProperties>
</file>