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2185-8FAE-4F09-BE96-B949146813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DF5F-E758-490B-A425-A01BFA35FC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C637-2ED0-4738-A7CA-8943B17A6C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F6F4-9022-49BC-955B-59EB6423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D0D3-E317-4744-9099-9263672E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66E4-ECD4-4F7A-A404-6A61B642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2E92-B220-4B0F-88E7-55F85232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A0F1-4186-4EC2-993F-86F343CB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6610-E59C-4495-9098-08550DB4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96F9-2E12-400A-922B-E73AF5B3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CE43-AA1F-40D4-B3BC-254FCC33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875E-8E19-47AB-BE94-17008751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10C7-B20C-4456-AA56-06C88BDF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E079-FF2E-4DE7-9DE3-83867495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E59A-902D-4312-AB5D-EEE6B985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9323-86D3-4C1C-8E6E-E0334CD03A2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Onmogelijke figu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920960" y="1417680"/>
            <a:ext cx="530208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216080" y="214200"/>
            <a:ext cx="66373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0" y="0"/>
            <a:ext cx="1714680" cy="73580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8072280" y="0"/>
            <a:ext cx="1714680" cy="73580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000160" y="0"/>
            <a:ext cx="544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Magische plaatj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Group 10"/>
          <p:cNvGrpSpPr/>
          <p:nvPr/>
        </p:nvGrpSpPr>
        <p:grpSpPr>
          <a:xfrm>
            <a:off x="1476360" y="1600200"/>
            <a:ext cx="5950080" cy="5011560"/>
            <a:chOff x="1476360" y="1600200"/>
            <a:chExt cx="5950080" cy="5011560"/>
          </a:xfrm>
        </p:grpSpPr>
        <p:sp>
          <p:nvSpPr>
            <p:cNvPr id="89" name="Oval 4"/>
            <p:cNvSpPr/>
            <p:nvPr/>
          </p:nvSpPr>
          <p:spPr>
            <a:xfrm>
              <a:off x="5809680" y="5083920"/>
              <a:ext cx="1616760" cy="152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8"/>
            <p:cNvSpPr/>
            <p:nvPr/>
          </p:nvSpPr>
          <p:spPr>
            <a:xfrm>
              <a:off x="1476360" y="5083920"/>
              <a:ext cx="1616760" cy="152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"/>
            <p:cNvSpPr/>
            <p:nvPr/>
          </p:nvSpPr>
          <p:spPr>
            <a:xfrm>
              <a:off x="3724200" y="1600200"/>
              <a:ext cx="1616760" cy="152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Isosceles Triangle 6"/>
            <p:cNvSpPr/>
            <p:nvPr/>
          </p:nvSpPr>
          <p:spPr>
            <a:xfrm>
              <a:off x="2236680" y="2174400"/>
              <a:ext cx="4592160" cy="3740400"/>
            </a:xfrm>
            <a:prstGeom prst="triangle">
              <a:avLst>
                <a:gd name="adj" fmla="val 5000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784520" y="717480"/>
            <a:ext cx="5574960" cy="5423040"/>
          </a:xfrm>
          <a:prstGeom prst="rect">
            <a:avLst/>
          </a:prstGeom>
          <a:ln w="0">
            <a:noFill/>
          </a:ln>
        </p:spPr>
      </p:pic>
      <p:sp>
        <p:nvSpPr>
          <p:cNvPr id="96" name="Isosceles Triangle 4"/>
          <p:cNvSpPr/>
          <p:nvPr/>
        </p:nvSpPr>
        <p:spPr>
          <a:xfrm flipH="1" flipV="1">
            <a:off x="-1143720" y="642960"/>
            <a:ext cx="5715000" cy="557208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sosceles Triangle 5"/>
          <p:cNvSpPr/>
          <p:nvPr/>
        </p:nvSpPr>
        <p:spPr>
          <a:xfrm flipH="1" flipV="1">
            <a:off x="4570920" y="642960"/>
            <a:ext cx="5715000" cy="557208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sosceles Triangle 6"/>
          <p:cNvSpPr/>
          <p:nvPr/>
        </p:nvSpPr>
        <p:spPr>
          <a:xfrm flipH="1" flipV="1">
            <a:off x="1713600" y="6072120"/>
            <a:ext cx="5715000" cy="557208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-28440" y="0"/>
            <a:ext cx="920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214280" y="81000"/>
            <a:ext cx="66535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Kleurenil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ijk naar het rooster. Je ziet heel duidelijk grijze spookstippen tussen de zwarte blokken, terwijl die stippen er niet zij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384120" y="642960"/>
            <a:ext cx="8375760" cy="557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8366040" cy="557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Kleurenil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f goed naar de blauwe stip in het midden van de groene cirkel kijken. Wat gebeurt er met de sti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t heeft te maken met de vermoeidheid van je o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571760" y="428760"/>
            <a:ext cx="61434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Illusies: vorm en groot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 poten heeft deze olif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00000" y="2163600"/>
            <a:ext cx="690876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Ambigue figu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mbigue figuren zijn figuren die je op twee manieren kan bekijken. Je kan er twee dingen in zi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286000" y="285840"/>
            <a:ext cx="4857840" cy="63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357200" y="885960"/>
            <a:ext cx="64645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357200" y="928800"/>
            <a:ext cx="64296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20:20:57Z</dcterms:created>
  <dc:creator>Rutger Smit</dc:creator>
  <dc:description/>
  <dc:language>en-US</dc:language>
  <cp:lastModifiedBy>Kraats, van de J.B.</cp:lastModifiedBy>
  <dcterms:modified xsi:type="dcterms:W3CDTF">2019-03-12T19:38:49Z</dcterms:modified>
  <cp:revision>99</cp:revision>
  <dc:subject/>
  <dc:title>Maaike</dc:title>
</cp:coreProperties>
</file>