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AA52-8B70-4EC7-BAD2-4E93E044DF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1661-F502-4127-B3F4-6CCDC38B8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1C0C-8BE8-4EEE-8B64-D7E1C46D42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2EF-B292-40C7-9DED-C58EF078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A1E-FC58-4B25-BD2E-E2BD8CCE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705-3D1E-47FA-9C7D-9375B20C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7AC-31E0-48EF-AE99-68CC3B71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784-4ED7-4A56-B7A1-68241082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416-B6BC-4922-A345-6847C2DD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D87-2D15-4251-8E12-018FD800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28D-6F4B-4515-8290-7B36331B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0485-29FE-4A21-ABC1-AB2136D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AD2-7A11-40D3-B99B-730D58E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894-D39E-4C88-A4A4-4315C567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60E-C8B3-41DB-97F0-1A64571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E6D0-591F-4AD8-B233-011E3A6CBAB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Onmogelijk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20960" y="1417680"/>
            <a:ext cx="5302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16080" y="214200"/>
            <a:ext cx="6637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07228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00016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Magische plaat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1476360" y="1600200"/>
            <a:ext cx="5950080" cy="5011560"/>
            <a:chOff x="1476360" y="1600200"/>
            <a:chExt cx="5950080" cy="5011560"/>
          </a:xfrm>
        </p:grpSpPr>
        <p:sp>
          <p:nvSpPr>
            <p:cNvPr id="89" name="Oval 4"/>
            <p:cNvSpPr/>
            <p:nvPr/>
          </p:nvSpPr>
          <p:spPr>
            <a:xfrm>
              <a:off x="580968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147636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3724200" y="160020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6"/>
            <p:cNvSpPr/>
            <p:nvPr/>
          </p:nvSpPr>
          <p:spPr>
            <a:xfrm>
              <a:off x="2236680" y="2174400"/>
              <a:ext cx="4592160" cy="374040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84520" y="717480"/>
            <a:ext cx="5574960" cy="5423040"/>
          </a:xfrm>
          <a:prstGeom prst="rect">
            <a:avLst/>
          </a:prstGeom>
          <a:ln w="0">
            <a:noFill/>
          </a:ln>
        </p:spPr>
      </p:pic>
      <p:sp>
        <p:nvSpPr>
          <p:cNvPr id="96" name="Isosceles Triangle 4"/>
          <p:cNvSpPr/>
          <p:nvPr/>
        </p:nvSpPr>
        <p:spPr>
          <a:xfrm flipH="1" flipV="1">
            <a:off x="-11437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sosceles Triangle 5"/>
          <p:cNvSpPr/>
          <p:nvPr/>
        </p:nvSpPr>
        <p:spPr>
          <a:xfrm flipH="1" flipV="1">
            <a:off x="45709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sosceles Triangle 6"/>
          <p:cNvSpPr/>
          <p:nvPr/>
        </p:nvSpPr>
        <p:spPr>
          <a:xfrm flipH="1" flipV="1">
            <a:off x="1713600" y="607212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28440" y="0"/>
            <a:ext cx="92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14280" y="81000"/>
            <a:ext cx="66535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naar het rooster. Je ziet heel duidelijk grijze spookstippen tussen de zwarte blokken, terwijl die stippen er niet zij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84120" y="642960"/>
            <a:ext cx="837576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36604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f goed naar de blauwe stip in het midden van de groene cirkel kijken. Wat gebeurt er met de sti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ft te maken met de vermoeidheid van je 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1434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Illusies: vorm en gro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poten heeft deze olif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00000" y="2163600"/>
            <a:ext cx="69087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Ambigu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bigue figuren zijn figuren die je op twee manieren kan bekijken. Je kan er twee dingen in 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6000" y="285840"/>
            <a:ext cx="485784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57200" y="885960"/>
            <a:ext cx="6464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4296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20:57Z</dcterms:created>
  <dc:creator>Rutger Smit</dc:creator>
  <dc:description/>
  <dc:language>en-US</dc:language>
  <cp:lastModifiedBy>Kraats, van de J.B.</cp:lastModifiedBy>
  <dcterms:modified xsi:type="dcterms:W3CDTF">2019-03-12T19:38:49Z</dcterms:modified>
  <cp:revision>99</cp:revision>
  <dc:subject/>
  <dc:title>Maaike</dc:title>
</cp:coreProperties>
</file>