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3D4D-F19B-4F57-AEC8-0A527A41B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44C9-62B5-47A4-88B6-4091860AA3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5D9C-E7A6-450B-B473-66360F5E16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C42-BCF6-4BD4-A41E-630510DB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76A-7B03-4E13-92A6-E5E3A689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099-6263-4EC8-915C-84881910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616-9A0F-439D-9DFF-D5B302DC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516-7137-4584-85D1-6D44E434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476-6AF7-466F-B03C-41757EE1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F55-0830-4F2C-B30D-CFD9FFC0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302-A192-4B5A-ADC0-9587F85B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51A-FD15-49D5-A5C2-0C178E0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20D-0C5B-4031-A5E1-1D93C61E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C65-77FA-4647-BB17-CB019BDD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721-01C5-4B1E-9435-4CA9409D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A81-1506-4E9A-97D1-F90044DD723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Onmogelijk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20960" y="1417680"/>
            <a:ext cx="5302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16080" y="214200"/>
            <a:ext cx="6637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07228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00016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Magische plaat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1476360" y="1600200"/>
            <a:ext cx="5950080" cy="5011560"/>
            <a:chOff x="1476360" y="1600200"/>
            <a:chExt cx="5950080" cy="5011560"/>
          </a:xfrm>
        </p:grpSpPr>
        <p:sp>
          <p:nvSpPr>
            <p:cNvPr id="89" name="Oval 4"/>
            <p:cNvSpPr/>
            <p:nvPr/>
          </p:nvSpPr>
          <p:spPr>
            <a:xfrm>
              <a:off x="580968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147636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3724200" y="160020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6"/>
            <p:cNvSpPr/>
            <p:nvPr/>
          </p:nvSpPr>
          <p:spPr>
            <a:xfrm>
              <a:off x="2236680" y="2174400"/>
              <a:ext cx="4592160" cy="374040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84520" y="717480"/>
            <a:ext cx="5574960" cy="5423040"/>
          </a:xfrm>
          <a:prstGeom prst="rect">
            <a:avLst/>
          </a:prstGeom>
          <a:ln w="0">
            <a:noFill/>
          </a:ln>
        </p:spPr>
      </p:pic>
      <p:sp>
        <p:nvSpPr>
          <p:cNvPr id="96" name="Isosceles Triangle 4"/>
          <p:cNvSpPr/>
          <p:nvPr/>
        </p:nvSpPr>
        <p:spPr>
          <a:xfrm flipH="1" flipV="1">
            <a:off x="-11437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sosceles Triangle 5"/>
          <p:cNvSpPr/>
          <p:nvPr/>
        </p:nvSpPr>
        <p:spPr>
          <a:xfrm flipH="1" flipV="1">
            <a:off x="45709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sosceles Triangle 6"/>
          <p:cNvSpPr/>
          <p:nvPr/>
        </p:nvSpPr>
        <p:spPr>
          <a:xfrm flipH="1" flipV="1">
            <a:off x="1713600" y="607212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28440" y="0"/>
            <a:ext cx="92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14280" y="81000"/>
            <a:ext cx="66535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naar het rooster. Je ziet heel duidelijk grijze spookstippen tussen de zwarte blokken, terwijl die stippen er niet zij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84120" y="642960"/>
            <a:ext cx="837576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36604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f goed naar de blauwe stip in het midden van de groene cirkel kijken. Wat gebeurt er met de sti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ft te maken met de vermoeidheid van je 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1434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Illusies: vorm en gro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poten heeft deze olif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00000" y="2163600"/>
            <a:ext cx="69087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Ambigu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bigue figuren zijn figuren die je op twee manieren kan bekijken. Je kan er twee dingen in 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6000" y="285840"/>
            <a:ext cx="485784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57200" y="885960"/>
            <a:ext cx="6464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4296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20:57Z</dcterms:created>
  <dc:creator>Rutger Smit</dc:creator>
  <dc:description/>
  <dc:language>en-US</dc:language>
  <cp:lastModifiedBy>Kraats, van de J.B.</cp:lastModifiedBy>
  <dcterms:modified xsi:type="dcterms:W3CDTF">2019-03-12T19:38:49Z</dcterms:modified>
  <cp:revision>99</cp:revision>
  <dc:subject/>
  <dc:title>Maaike</dc:title>
</cp:coreProperties>
</file>