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FFC9-11E1-4DFE-A9C7-EC5DDCBBD0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094B-E338-460D-BEEF-165BF8A9FD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C789-DACC-4835-AAC6-1063F61E86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CE12-DC2A-4324-9F5A-77EC0D44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B367-EC68-4D83-94ED-09762AD3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CF91-302D-44FC-899B-5C337D92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8733-64AD-483F-B2E9-C82BBC776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F855-0A48-4BB7-8AD7-53677BAA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1F0F-35FA-4D13-8721-1ED34A7D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94A9-8670-4603-A920-2422CEAA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8209-C841-47E5-98BB-205785AE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0B75-11DD-4FCA-BF1C-A5585A13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583F-CDC2-4147-A752-A52DBBAC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1F08-01FF-42FA-903D-195D9F67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6786-887A-441F-970C-0AEA6BE4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F774-962A-441D-93B7-6493BA4454B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Onmogelijke figu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920960" y="1417680"/>
            <a:ext cx="530208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216080" y="214200"/>
            <a:ext cx="66373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0" y="0"/>
            <a:ext cx="1714680" cy="73580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8072280" y="0"/>
            <a:ext cx="1714680" cy="73580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000160" y="0"/>
            <a:ext cx="544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Magische plaatj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Group 10"/>
          <p:cNvGrpSpPr/>
          <p:nvPr/>
        </p:nvGrpSpPr>
        <p:grpSpPr>
          <a:xfrm>
            <a:off x="1476360" y="1600200"/>
            <a:ext cx="5950080" cy="5011560"/>
            <a:chOff x="1476360" y="1600200"/>
            <a:chExt cx="5950080" cy="5011560"/>
          </a:xfrm>
        </p:grpSpPr>
        <p:sp>
          <p:nvSpPr>
            <p:cNvPr id="89" name="Oval 4"/>
            <p:cNvSpPr/>
            <p:nvPr/>
          </p:nvSpPr>
          <p:spPr>
            <a:xfrm>
              <a:off x="5809680" y="5083920"/>
              <a:ext cx="1616760" cy="152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8"/>
            <p:cNvSpPr/>
            <p:nvPr/>
          </p:nvSpPr>
          <p:spPr>
            <a:xfrm>
              <a:off x="1476360" y="5083920"/>
              <a:ext cx="1616760" cy="152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"/>
            <p:cNvSpPr/>
            <p:nvPr/>
          </p:nvSpPr>
          <p:spPr>
            <a:xfrm>
              <a:off x="3724200" y="1600200"/>
              <a:ext cx="1616760" cy="152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Isosceles Triangle 6"/>
            <p:cNvSpPr/>
            <p:nvPr/>
          </p:nvSpPr>
          <p:spPr>
            <a:xfrm>
              <a:off x="2236680" y="2174400"/>
              <a:ext cx="4592160" cy="3740400"/>
            </a:xfrm>
            <a:prstGeom prst="triangle">
              <a:avLst>
                <a:gd name="adj" fmla="val 5000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784520" y="717480"/>
            <a:ext cx="5574960" cy="5423040"/>
          </a:xfrm>
          <a:prstGeom prst="rect">
            <a:avLst/>
          </a:prstGeom>
          <a:ln w="0">
            <a:noFill/>
          </a:ln>
        </p:spPr>
      </p:pic>
      <p:sp>
        <p:nvSpPr>
          <p:cNvPr id="96" name="Isosceles Triangle 4"/>
          <p:cNvSpPr/>
          <p:nvPr/>
        </p:nvSpPr>
        <p:spPr>
          <a:xfrm flipH="1" flipV="1">
            <a:off x="-1143720" y="642960"/>
            <a:ext cx="5715000" cy="557208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sosceles Triangle 5"/>
          <p:cNvSpPr/>
          <p:nvPr/>
        </p:nvSpPr>
        <p:spPr>
          <a:xfrm flipH="1" flipV="1">
            <a:off x="4570920" y="642960"/>
            <a:ext cx="5715000" cy="557208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sosceles Triangle 6"/>
          <p:cNvSpPr/>
          <p:nvPr/>
        </p:nvSpPr>
        <p:spPr>
          <a:xfrm flipH="1" flipV="1">
            <a:off x="1713600" y="6072120"/>
            <a:ext cx="5715000" cy="557208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-28440" y="0"/>
            <a:ext cx="920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214280" y="81000"/>
            <a:ext cx="66535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Kleurenil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ijk naar het rooster. Je ziet heel duidelijk grijze spookstippen tussen de zwarte blokken, terwijl die stippen er niet zij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384120" y="642960"/>
            <a:ext cx="8375760" cy="557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8366040" cy="557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Kleurenil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f goed naar de blauwe stip in het midden van de groene cirkel kijken. Wat gebeurt er met de sti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t heeft te maken met de vermoeidheid van je o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571760" y="428760"/>
            <a:ext cx="61434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Illusies: vorm en groot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 poten heeft deze olif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00000" y="2163600"/>
            <a:ext cx="690876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Ambigue figu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mbigue figuren zijn figuren die je op twee manieren kan bekijken. Je kan er twee dingen in zi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286000" y="285840"/>
            <a:ext cx="4857840" cy="63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357200" y="885960"/>
            <a:ext cx="64645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357200" y="928800"/>
            <a:ext cx="64296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20:20:57Z</dcterms:created>
  <dc:creator>Rutger Smit</dc:creator>
  <dc:description/>
  <dc:language>en-US</dc:language>
  <cp:lastModifiedBy>Kraats, van de J.B.</cp:lastModifiedBy>
  <dcterms:modified xsi:type="dcterms:W3CDTF">2019-03-12T19:38:49Z</dcterms:modified>
  <cp:revision>99</cp:revision>
  <dc:subject/>
  <dc:title>Maaike</dc:title>
</cp:coreProperties>
</file>