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9F00-039F-421E-BC1D-3590464C3B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07D-DB72-4117-8AE3-00FE85028B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8290-55D3-4236-9718-5273406782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8B2-587E-42B2-AE2F-A9FD149D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8D3-A703-4921-828C-F38461A2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A824-FC4F-471D-AEC3-6B3AD8F9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A44-D7D9-4723-BEA9-19E24E9F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A94-689E-4112-902C-C4B2FBEC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B17-CF99-4279-AAB2-26661C29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8E1-4F58-460C-B5F8-1C9BC2CF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224-AAA4-47F8-B0A6-A6E2E7E2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0C3-8319-4A1C-9D5D-F0CC89DF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B03D-4A60-4B65-8A7A-361AAA16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D4C-7158-42D3-B634-862A7303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725A-362B-4DAF-AC25-C0F1186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D7EF-A635-400B-A2E2-8F375E096F84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Onmogelijk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20960" y="1417680"/>
            <a:ext cx="530208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216080" y="214200"/>
            <a:ext cx="66373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8072280" y="0"/>
            <a:ext cx="1714680" cy="7358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00016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Magische plaatj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1476360" y="1600200"/>
            <a:ext cx="5950080" cy="5011560"/>
            <a:chOff x="1476360" y="1600200"/>
            <a:chExt cx="5950080" cy="5011560"/>
          </a:xfrm>
        </p:grpSpPr>
        <p:sp>
          <p:nvSpPr>
            <p:cNvPr id="89" name="Oval 4"/>
            <p:cNvSpPr/>
            <p:nvPr/>
          </p:nvSpPr>
          <p:spPr>
            <a:xfrm>
              <a:off x="580968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8"/>
            <p:cNvSpPr/>
            <p:nvPr/>
          </p:nvSpPr>
          <p:spPr>
            <a:xfrm>
              <a:off x="1476360" y="508392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"/>
            <p:cNvSpPr/>
            <p:nvPr/>
          </p:nvSpPr>
          <p:spPr>
            <a:xfrm>
              <a:off x="3724200" y="1600200"/>
              <a:ext cx="1616760" cy="1527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Isosceles Triangle 6"/>
            <p:cNvSpPr/>
            <p:nvPr/>
          </p:nvSpPr>
          <p:spPr>
            <a:xfrm>
              <a:off x="2236680" y="2174400"/>
              <a:ext cx="4592160" cy="3740400"/>
            </a:xfrm>
            <a:prstGeom prst="triangle">
              <a:avLst>
                <a:gd name="adj" fmla="val 50000"/>
              </a:avLst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84520" y="717480"/>
            <a:ext cx="5574960" cy="5423040"/>
          </a:xfrm>
          <a:prstGeom prst="rect">
            <a:avLst/>
          </a:prstGeom>
          <a:ln w="0">
            <a:noFill/>
          </a:ln>
        </p:spPr>
      </p:pic>
      <p:sp>
        <p:nvSpPr>
          <p:cNvPr id="96" name="Isosceles Triangle 4"/>
          <p:cNvSpPr/>
          <p:nvPr/>
        </p:nvSpPr>
        <p:spPr>
          <a:xfrm flipH="1" flipV="1">
            <a:off x="-11437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Isosceles Triangle 5"/>
          <p:cNvSpPr/>
          <p:nvPr/>
        </p:nvSpPr>
        <p:spPr>
          <a:xfrm flipH="1" flipV="1">
            <a:off x="4570920" y="64296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Isosceles Triangle 6"/>
          <p:cNvSpPr/>
          <p:nvPr/>
        </p:nvSpPr>
        <p:spPr>
          <a:xfrm flipH="1" flipV="1">
            <a:off x="1713600" y="6072120"/>
            <a:ext cx="5715000" cy="55720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214280" y="81000"/>
            <a:ext cx="66535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jk naar het rooster. Je ziet heel duidelijk grijze spookstippen tussen de zwarte blokken, terwijl die stippen er niet zij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4120" y="642960"/>
            <a:ext cx="837576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366040" cy="557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Kleurenillus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f goed naar de blauwe stip in het midden van de groene cirkel kijken. Wat gebeurt er met de stip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ft te maken met de vermoeidheid van je o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571760" y="42876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Illusies: vorm en groot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poten heeft deze olif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00000" y="2163600"/>
            <a:ext cx="69087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Calibri"/>
              </a:rPr>
              <a:t>Ambigue figur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mbigue figuren zijn figuren die je op twee manieren kan bekijken. Je kan er twee dingen in zi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86000" y="285840"/>
            <a:ext cx="4857840" cy="63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357200" y="885960"/>
            <a:ext cx="6464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928800"/>
            <a:ext cx="64296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20:20:57Z</dcterms:created>
  <dc:creator>Rutger Smit</dc:creator>
  <dc:description/>
  <dc:language>en-US</dc:language>
  <cp:lastModifiedBy>Kraats, van de J.B.</cp:lastModifiedBy>
  <dcterms:modified xsi:type="dcterms:W3CDTF">2019-03-12T19:38:49Z</dcterms:modified>
  <cp:revision>99</cp:revision>
  <dc:subject/>
  <dc:title>Maaike</dc:title>
</cp:coreProperties>
</file>