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36BA-4DE6-4166-BE54-0130D7CEA6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EC08-CE6C-4CFA-BCFE-F077C51C650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1D20-F5C6-4510-AB73-76481D1EB7D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AC0-7CE1-4BE8-98E7-F04D57382AE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FF3F-EA90-48F6-925A-FDE209187BB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BDAA-E845-463F-8496-D667A01A306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A9B4-3E61-473C-A1A8-C8D5A5887BC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CC0A-1DA6-4BB3-B369-370DAD39B5A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1ECB-DA05-410E-8B36-CAA43772E92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8F2F-15CC-41E4-ACFB-1697E67BFA9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1461-2BC6-46DC-82FD-0576AE63FD9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46A-D423-4E4E-80AF-B0E44010A08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646C-A526-4838-9CA1-11345CD58EE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B4FE-C3D8-4E1C-80E2-3AA4FE41641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47BB-ACCB-47A6-904F-40F5A913CBE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45E3-29E0-4995-AB54-AE68DD8173C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056B-19C3-427E-B174-891ABEC19BA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9B0C-CD36-4095-A398-9E551F97443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D155-35E3-4084-934A-0E63169171A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AFA0-F284-4037-9F76-69E09DC1B45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4425-D419-44BD-B8A2-82717E7831A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A320-913A-4005-AAB9-A0BE2E65A48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C696-82E6-4499-9BD9-BABD25701D9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129-5915-4637-8B88-3BD7EF39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892-72AF-4575-82C8-2F98BDC7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B5D-747C-4C64-BEA0-C9EA2582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58B-EF5A-41A5-8A21-AEFE47F8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72BD-F247-4ABD-8132-AF0B0B75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36D0-A9E1-4989-A04E-9E08765D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67D6-E603-4E10-826C-56D56508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E7CE-53D4-497E-938D-BF5353A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0597-BA3C-4166-8FBF-05A53342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E142-6938-4A09-A6E0-4EE2023A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C01F-8B0F-4CAB-B520-2CD2A32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CDC-5586-42FD-B68D-7BC7C9A1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405B-CC0D-43B6-87C1-8EBBE0C8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FD48-BC19-487C-B580-6D0B360A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54A0-D2B9-4C09-B47D-FDB43C42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A4F3-7F89-4436-8603-3258615B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CEE4-621D-4812-AF6C-997B7BDB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C1C-7657-4E5C-AA10-AB4ADA3F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FB6-734A-40CB-9517-3FF9CB08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DF5-327A-4FCF-A821-24B9814B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4E7-F454-40B8-9CED-B2FBBA31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156-2CAA-4A3A-9018-D01963B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F94-4E76-4843-BD56-9CDAD527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476-2C10-4EE0-B792-26C9E4FC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C1AB-FF5B-4FDA-96DC-6FC82D3EA92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C82-EBE9-415A-8B44-6BB74AB4971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3B14-FF81-4F0B-9FA7-5365CAAE31BD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C55-C57F-430B-A304-6AC6E1258FE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iscali.nl/erikhemmes/documents/08FP006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mvc.machine-video.com/996397e257a4df2fe05f6469d1980499.html?bw=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CF5-0CF9-4BE7-853B-94D8ADA7DEEB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66F-D0DE-4341-A68E-9752C5AB647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Begroten en Budgetter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3: Kostprijsbereke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obbert Ooste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000D-2749-4530-9AD1-FBF4D152F46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EE57-159D-43EB-8299-655E8226D4C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 + 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bereken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C/N + V/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vast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tante)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e prod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abele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verwach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kelijke productieomv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2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C1CB-B456-4968-BE56-70B46858161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4298-D08C-4D6E-A526-2C97AC9E6B3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evenredig (proportioneel) met de productie en/of verk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inkoop van grondstoffen/goede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nauwelijks binnen een bepaalde bandbreed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afschrijving van de invent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F37A-3AB0-4EC7-A4D9-5A99B13474B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1558-33CF-4E18-B506-59D8820EBF9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kte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direct aan product gekoppeld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Grondstoffen,  productiepersoneel, productiemachines, verk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directe 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niet rechtstreeks met productie of verkoop te maken heb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Onder andere de administratie, kantoormachines en huisv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9A31-3E00-44F6-9541-613F5A7CAB8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810D-F761-4D63-A91A-5982F0D961E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groten in een organis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848720" cy="3184560"/>
        </p:xfrm>
        <a:graphic>
          <a:graphicData uri="http://schemas.openxmlformats.org/drawingml/2006/table">
            <a:tbl>
              <a:tblPr/>
              <a:tblGrid>
                <a:gridCol w="3276720"/>
                <a:gridCol w="4572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 / webwink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fijnde 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ebedrijf / fabri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plaatsen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verlenend bedrijf / maatwe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roten o.b.v. projec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D682-9750-4814-85A2-C63482EF292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9CCF-C5B6-49C4-A3EC-30B014AD942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 = brutowinst per arti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prijs + Opslag = Verkoopprij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 BT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3962520"/>
          <a:ext cx="3886200" cy="160020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0"/>
          <p:cNvSpPr/>
          <p:nvPr/>
        </p:nvSpPr>
        <p:spPr>
          <a:xfrm flipH="1">
            <a:off x="5257440" y="3124080"/>
            <a:ext cx="304920" cy="990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2362320" y="3124080"/>
            <a:ext cx="220968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2"/>
          <p:cNvSpPr/>
          <p:nvPr/>
        </p:nvSpPr>
        <p:spPr>
          <a:xfrm>
            <a:off x="3962520" y="3124080"/>
            <a:ext cx="1218960" cy="20574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EC27-FE89-427F-A200-BA4AF574580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0D02-FE21-4E09-8BB5-E51B6D76F7A0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: Nu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 de opslag moet je de bedrijfskosten terugverdie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00400" y="3124080"/>
          <a:ext cx="555480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2544120"/>
                <a:gridCol w="216000"/>
                <a:gridCol w="216000"/>
                <a:gridCol w="214704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tenrekeni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at per artike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ijfskoste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AutoShape 325"/>
          <p:cNvSpPr/>
          <p:nvPr/>
        </p:nvSpPr>
        <p:spPr>
          <a:xfrm>
            <a:off x="457200" y="4038480"/>
            <a:ext cx="2895480" cy="457200"/>
          </a:xfrm>
          <a:prstGeom prst="rightArrowCallout">
            <a:avLst>
              <a:gd name="adj1" fmla="val 25002"/>
              <a:gd name="adj2" fmla="val 25000"/>
              <a:gd name="adj3" fmla="val 50694"/>
              <a:gd name="adj4" fmla="val 77852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riabel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26"/>
          <p:cNvSpPr/>
          <p:nvPr/>
        </p:nvSpPr>
        <p:spPr>
          <a:xfrm>
            <a:off x="838080" y="5070600"/>
            <a:ext cx="2514600" cy="457200"/>
          </a:xfrm>
          <a:prstGeom prst="rightArrowCallout">
            <a:avLst>
              <a:gd name="adj1" fmla="val 21530"/>
              <a:gd name="adj2" fmla="val 25000"/>
              <a:gd name="adj3" fmla="val 50009"/>
              <a:gd name="adj4" fmla="val 74181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st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04AF-6FBF-43CF-91BF-EC25089EE5D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B427-49F2-4D01-8755-F0D9F41A55D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50 / € 3,00 = 2,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x 2,5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3,00 * 100% = 1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+ 150%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7,50 * 100% = 6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van de verkoopprijs is w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67280" y="304920"/>
          <a:ext cx="3124440" cy="1296720"/>
        </p:xfrm>
        <a:graphic>
          <a:graphicData uri="http://schemas.openxmlformats.org/drawingml/2006/table">
            <a:tbl>
              <a:tblPr/>
              <a:tblGrid>
                <a:gridCol w="2127240"/>
                <a:gridCol w="99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056F-93DC-4FD6-AA48-965BB072438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4ED4-4098-4C68-B50D-C6B7F4CD00E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efenopgave 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e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038480" y="4267080"/>
          <a:ext cx="4191120" cy="1600200"/>
        </p:xfrm>
        <a:graphic>
          <a:graphicData uri="http://schemas.openxmlformats.org/drawingml/2006/table">
            <a:tbl>
              <a:tblPr/>
              <a:tblGrid>
                <a:gridCol w="266724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D75E-EFD6-4010-98C9-F79B7FB6E30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B847-A5A5-495B-9265-01CD05DEE8E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metho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 het gewenste opslagpercentage te bepalen, kun je gebruik maken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primitiev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der product hetzelfde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verfijnd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product/categorie ander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1163-F29C-49EB-98D6-E84CC3C36F7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FC01-CBE8-4223-8E8D-4BC6C6EDD87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019400" y="22590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000680" y="5111640"/>
            <a:ext cx="20286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74680" y="3114720"/>
            <a:ext cx="128268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20680" y="30607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Indirec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4002120" y="224316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016520" y="3143160"/>
            <a:ext cx="156204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986280" y="31258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4016520" y="4029120"/>
            <a:ext cx="156204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3986280" y="40132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8"/>
          <p:cNvCxnSpPr>
            <a:endCxn id="203" idx="1"/>
          </p:cNvCxnSpPr>
          <p:nvPr/>
        </p:nvCxnSpPr>
        <p:spPr>
          <a:xfrm flipV="1">
            <a:off x="1571400" y="2596320"/>
            <a:ext cx="2431080" cy="816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Straight Arrow Connector 20"/>
          <p:cNvCxnSpPr/>
          <p:nvPr/>
        </p:nvCxnSpPr>
        <p:spPr>
          <a:xfrm>
            <a:off x="1599840" y="3733560"/>
            <a:ext cx="24390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Straight Arrow Connector 22"/>
          <p:cNvCxnSpPr/>
          <p:nvPr/>
        </p:nvCxnSpPr>
        <p:spPr>
          <a:xfrm>
            <a:off x="990360" y="4419360"/>
            <a:ext cx="2996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 rot="20479800">
            <a:off x="1544760" y="26967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16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 flipV="1">
            <a:off x="990720" y="373356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654560" y="3341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39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1259280" y="4043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45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3962520" y="4952880"/>
            <a:ext cx="1752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23640" y="4579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1425600" y="511020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Kostpri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9392-62E8-487F-8DDC-D635C249D675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4057560" y="51339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otale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 &amp; in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911320" y="493884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857680" y="5140440"/>
            <a:ext cx="74268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35560" y="491976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/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81560" y="5121360"/>
            <a:ext cx="74304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129440" y="50976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7112160" y="5081760"/>
            <a:ext cx="13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Aa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357200" y="5149800"/>
            <a:ext cx="11844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602E-E3E4-44F0-AA6E-820376B7F44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0C7D-5B67-4CEE-A611-6CF6B3E169A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 vorige we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1: vraag 9, 10, 12, 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2: vraag 2, 5, 6, 8, 10, 12, 14, 15 en 17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BC94-CAB8-48A3-A1FA-540A67357A9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9302-6E6B-4094-BA83-FA2F40D0FA5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1905120"/>
            <a:ext cx="810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Elke afdeling, direct of indirect betrokken bij de productie, wordt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plaat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producten word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drager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kostenplaa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methode is een methode om </a:t>
            </a:r>
            <a:r>
              <a:rPr b="0" lang="nl-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rec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kosten toe te rekenen aan produc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Uiteindelijk wordt de kostprijs van een product bepaald door alle bedrijfskosten (direct en indirec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5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EE3D-00AB-4CCB-8E61-05D3020DC8BD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54E3-C28C-4157-B408-5FB90AC260B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2BBE-7C9C-49B8-A085-70D5FA4EDA7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afdeling, direct of indirect betrokken bij de productie, wordt du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kostenplaat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genoem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r zijn drie soorten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elfstandige 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ofdkostenplaat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0207-AB07-4A00-8731-6C7974C84083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2EFC-ED60-4E00-8A54-31805EA75A1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20A5-5799-4394-914D-7C590346C51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dragers: 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producten dragen alle kost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CE92-4EBC-4AA7-84D7-F0F91406DDE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62840" y="2001960"/>
            <a:ext cx="156024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02360" y="201456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014640" y="2025720"/>
            <a:ext cx="178596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997360" y="2023920"/>
            <a:ext cx="18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872320" y="3486240"/>
            <a:ext cx="2442960" cy="452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11840" y="3552840"/>
            <a:ext cx="25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oofdkostenplaats(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709720" y="3243240"/>
            <a:ext cx="179100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706840" y="3262320"/>
            <a:ext cx="184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Zelfstandige kosten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61960" y="3238560"/>
            <a:ext cx="179064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558720" y="325764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ulpkosten-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own Arrow 18"/>
          <p:cNvSpPr/>
          <p:nvPr/>
        </p:nvSpPr>
        <p:spPr>
          <a:xfrm>
            <a:off x="6800760" y="2457360"/>
            <a:ext cx="243000" cy="10144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triped Right Arrow 20"/>
          <p:cNvSpPr/>
          <p:nvPr/>
        </p:nvSpPr>
        <p:spPr>
          <a:xfrm rot="1349400">
            <a:off x="4387680" y="2909520"/>
            <a:ext cx="2468880" cy="123840"/>
          </a:xfrm>
          <a:custGeom>
            <a:avLst/>
            <a:gdLst/>
            <a:ahLst/>
            <a:rect l="l" t="t" r="r" b="b"/>
            <a:pathLst>
              <a:path w="2468563" h="123825">
                <a:moveTo>
                  <a:pt x="0" y="30956"/>
                </a:moveTo>
                <a:lnTo>
                  <a:pt x="3870" y="30956"/>
                </a:lnTo>
                <a:lnTo>
                  <a:pt x="3870" y="92869"/>
                </a:lnTo>
                <a:lnTo>
                  <a:pt x="0" y="92869"/>
                </a:lnTo>
                <a:lnTo>
                  <a:pt x="0" y="30956"/>
                </a:lnTo>
                <a:close/>
                <a:moveTo>
                  <a:pt x="7739" y="30956"/>
                </a:moveTo>
                <a:lnTo>
                  <a:pt x="15478" y="30956"/>
                </a:lnTo>
                <a:lnTo>
                  <a:pt x="15478" y="92869"/>
                </a:lnTo>
                <a:lnTo>
                  <a:pt x="7739" y="92869"/>
                </a:lnTo>
                <a:lnTo>
                  <a:pt x="7739" y="30956"/>
                </a:lnTo>
                <a:close/>
                <a:moveTo>
                  <a:pt x="19348" y="30956"/>
                </a:moveTo>
                <a:lnTo>
                  <a:pt x="2406651" y="30956"/>
                </a:lnTo>
                <a:lnTo>
                  <a:pt x="2406651" y="0"/>
                </a:lnTo>
                <a:lnTo>
                  <a:pt x="2468563" y="61913"/>
                </a:lnTo>
                <a:lnTo>
                  <a:pt x="2406651" y="123825"/>
                </a:lnTo>
                <a:lnTo>
                  <a:pt x="2406651" y="92869"/>
                </a:lnTo>
                <a:lnTo>
                  <a:pt x="19348" y="92869"/>
                </a:lnTo>
                <a:lnTo>
                  <a:pt x="19348" y="30956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triped Right Arrow 21"/>
          <p:cNvSpPr/>
          <p:nvPr/>
        </p:nvSpPr>
        <p:spPr>
          <a:xfrm rot="5400000">
            <a:off x="3512880" y="2784600"/>
            <a:ext cx="742680" cy="145800"/>
          </a:xfrm>
          <a:custGeom>
            <a:avLst/>
            <a:gdLst/>
            <a:ahLst/>
            <a:rect l="l" t="t" r="r" b="b"/>
            <a:pathLst>
              <a:path w="742950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669925" y="36513"/>
                </a:lnTo>
                <a:lnTo>
                  <a:pt x="669925" y="0"/>
                </a:lnTo>
                <a:lnTo>
                  <a:pt x="742950" y="73025"/>
                </a:lnTo>
                <a:lnTo>
                  <a:pt x="669925" y="146050"/>
                </a:lnTo>
                <a:lnTo>
                  <a:pt x="669925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iped Right Arrow 22"/>
          <p:cNvSpPr/>
          <p:nvPr/>
        </p:nvSpPr>
        <p:spPr>
          <a:xfrm rot="8559000">
            <a:off x="1977840" y="2812680"/>
            <a:ext cx="1290600" cy="106200"/>
          </a:xfrm>
          <a:custGeom>
            <a:avLst/>
            <a:gdLst/>
            <a:ahLst/>
            <a:rect l="l" t="t" r="r" b="b"/>
            <a:pathLst>
              <a:path w="1290638" h="106363">
                <a:moveTo>
                  <a:pt x="0" y="26591"/>
                </a:moveTo>
                <a:lnTo>
                  <a:pt x="3324" y="26591"/>
                </a:lnTo>
                <a:lnTo>
                  <a:pt x="3324" y="79772"/>
                </a:lnTo>
                <a:lnTo>
                  <a:pt x="0" y="79772"/>
                </a:lnTo>
                <a:lnTo>
                  <a:pt x="0" y="26591"/>
                </a:lnTo>
                <a:close/>
                <a:moveTo>
                  <a:pt x="6648" y="26591"/>
                </a:moveTo>
                <a:lnTo>
                  <a:pt x="13295" y="26591"/>
                </a:lnTo>
                <a:lnTo>
                  <a:pt x="13295" y="79772"/>
                </a:lnTo>
                <a:lnTo>
                  <a:pt x="6648" y="79772"/>
                </a:lnTo>
                <a:lnTo>
                  <a:pt x="6648" y="26591"/>
                </a:lnTo>
                <a:close/>
                <a:moveTo>
                  <a:pt x="16619" y="26591"/>
                </a:moveTo>
                <a:lnTo>
                  <a:pt x="1237457" y="26591"/>
                </a:lnTo>
                <a:lnTo>
                  <a:pt x="1237457" y="0"/>
                </a:lnTo>
                <a:lnTo>
                  <a:pt x="1290638" y="53182"/>
                </a:lnTo>
                <a:lnTo>
                  <a:pt x="1237457" y="106363"/>
                </a:lnTo>
                <a:lnTo>
                  <a:pt x="1237457" y="79772"/>
                </a:lnTo>
                <a:lnTo>
                  <a:pt x="16619" y="79772"/>
                </a:lnTo>
                <a:lnTo>
                  <a:pt x="16619" y="26591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urved Right Arrow 23"/>
          <p:cNvSpPr/>
          <p:nvPr/>
        </p:nvSpPr>
        <p:spPr>
          <a:xfrm rot="16200000">
            <a:off x="2514600" y="3343320"/>
            <a:ext cx="542880" cy="1828800"/>
          </a:xfrm>
          <a:custGeom>
            <a:avLst/>
            <a:gdLst>
              <a:gd name="textAreaLeft" fmla="*/ 72720 w 542880"/>
              <a:gd name="textAreaRight" fmla="*/ 470160 w 542880"/>
              <a:gd name="textAreaTop" fmla="*/ 406080 h 1828800"/>
              <a:gd name="textAreaBottom" fmla="*/ 13546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202"/>
                </a:lnTo>
                <a:arcTo wR="21600" hR="9598" stAng="10800000" swAng="-3590351"/>
                <a:lnTo>
                  <a:pt x="16200" y="21295"/>
                </a:lnTo>
                <a:lnTo>
                  <a:pt x="21600" y="19997"/>
                </a:lnTo>
                <a:lnTo>
                  <a:pt x="16200" y="18089"/>
                </a:lnTo>
                <a:lnTo>
                  <a:pt x="16200" y="18890"/>
                </a:lnTo>
                <a:arcTo wR="21600" hR="9598" stAng="7209649" swAng="3462320"/>
                <a:lnTo>
                  <a:pt x="76" y="10400"/>
                </a:lnTo>
                <a:arcTo wR="21600" hR="9598" stAng="-10671969" swAng="5271969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28031"/>
                <a:lnTo>
                  <a:pt x="76" y="10400"/>
                </a:lnTo>
                <a:arcTo wR="21600" hR="9598" stAng="-10671969" swAng="5271969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urved Right Arrow 24"/>
          <p:cNvSpPr/>
          <p:nvPr/>
        </p:nvSpPr>
        <p:spPr>
          <a:xfrm rot="16200000">
            <a:off x="3555360" y="1383120"/>
            <a:ext cx="1214280" cy="641988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91120 h 6419880"/>
              <a:gd name="textAreaBottom" fmla="*/ 477720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34" stAng="-5400000" swAng="-5400000"/>
                <a:lnTo>
                  <a:pt x="0" y="11056"/>
                </a:lnTo>
                <a:arcTo wR="21600" hR="10034" stAng="10800000" swAng="-3655957"/>
                <a:lnTo>
                  <a:pt x="16200" y="21281"/>
                </a:lnTo>
                <a:lnTo>
                  <a:pt x="21600" y="20578"/>
                </a:lnTo>
                <a:lnTo>
                  <a:pt x="16200" y="19237"/>
                </a:lnTo>
                <a:lnTo>
                  <a:pt x="16200" y="19748"/>
                </a:lnTo>
                <a:arcTo wR="21600" hR="10034" stAng="7144043" swAng="3574538"/>
                <a:lnTo>
                  <a:pt x="28" y="10545"/>
                </a:lnTo>
                <a:arcTo wR="21600" hR="10034" stAng="-10718581" swAng="5318581"/>
                <a:close/>
              </a:path>
              <a:path fill="darkenLess" w="21600" h="21600">
                <a:moveTo>
                  <a:pt x="21600" y="0"/>
                </a:moveTo>
                <a:arcTo wR="21600" hR="10034" stAng="-5400000" swAng="-5400000"/>
                <a:lnTo>
                  <a:pt x="0" y="10034"/>
                </a:lnTo>
                <a:arcTo wR="21600" hR="10034" stAng="10800000" swAng="-81419"/>
                <a:lnTo>
                  <a:pt x="28" y="10545"/>
                </a:lnTo>
                <a:arcTo wR="21600" hR="10034" stAng="-10718581" swAng="5318581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own Arrow 25"/>
          <p:cNvSpPr/>
          <p:nvPr/>
        </p:nvSpPr>
        <p:spPr>
          <a:xfrm>
            <a:off x="7458120" y="3957480"/>
            <a:ext cx="528480" cy="10112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C:\Program Files\Microsoft Office\MEDIA\CAGCAT10\j0149627.wmf"/>
          <p:cNvPicPr/>
          <p:nvPr/>
        </p:nvPicPr>
        <p:blipFill>
          <a:blip r:embed="rId1"/>
          <a:stretch/>
        </p:blipFill>
        <p:spPr>
          <a:xfrm>
            <a:off x="6353280" y="4768920"/>
            <a:ext cx="25336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28"/>
          <p:cNvCxnSpPr/>
          <p:nvPr/>
        </p:nvCxnSpPr>
        <p:spPr>
          <a:xfrm flipV="1">
            <a:off x="5837040" y="5516280"/>
            <a:ext cx="1005480" cy="519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29"/>
          <p:cNvSpPr/>
          <p:nvPr/>
        </p:nvSpPr>
        <p:spPr>
          <a:xfrm>
            <a:off x="4770360" y="5883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Prijs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Curved Right Arrow 23"/>
          <p:cNvSpPr/>
          <p:nvPr/>
        </p:nvSpPr>
        <p:spPr>
          <a:xfrm rot="16200000">
            <a:off x="4669560" y="2878920"/>
            <a:ext cx="542880" cy="2747880"/>
          </a:xfrm>
          <a:custGeom>
            <a:avLst/>
            <a:gdLst>
              <a:gd name="textAreaLeft" fmla="*/ 72720 w 542880"/>
              <a:gd name="textAreaRight" fmla="*/ 470160 w 542880"/>
              <a:gd name="textAreaTop" fmla="*/ 636120 h 2747880"/>
              <a:gd name="textAreaBottom" fmla="*/ 20440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0" stAng="-5400000" swAng="-5400000"/>
                <a:lnTo>
                  <a:pt x="0" y="11068"/>
                </a:lnTo>
                <a:arcTo wR="21600" hR="10000" stAng="10800000" swAng="-3650997"/>
                <a:lnTo>
                  <a:pt x="16200" y="21282"/>
                </a:lnTo>
                <a:lnTo>
                  <a:pt x="21600" y="20533"/>
                </a:lnTo>
                <a:lnTo>
                  <a:pt x="16200" y="19148"/>
                </a:lnTo>
                <a:lnTo>
                  <a:pt x="16200" y="19681"/>
                </a:lnTo>
                <a:arcTo wR="21600" hR="10000" stAng="7149003" swAng="3565904"/>
                <a:lnTo>
                  <a:pt x="31" y="10534"/>
                </a:lnTo>
                <a:arcTo wR="21600" hR="10000" stAng="-10714907" swAng="5314907"/>
                <a:close/>
              </a:path>
              <a:path fill="darkenLess" w="21600" h="21600">
                <a:moveTo>
                  <a:pt x="21600" y="0"/>
                </a:moveTo>
                <a:arcTo wR="21600" hR="10000" stAng="-5400000" swAng="-5400000"/>
                <a:lnTo>
                  <a:pt x="0" y="10000"/>
                </a:lnTo>
                <a:arcTo wR="21600" hR="10000" stAng="10800000" swAng="-85093"/>
                <a:lnTo>
                  <a:pt x="31" y="10534"/>
                </a:lnTo>
                <a:arcTo wR="21600" hR="10000" stAng="-10714907" swAng="5314907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D51D-8DF1-464A-A44A-1DE10FEAF31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D7DE-C49C-4F86-915F-4AE9C112CB0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verricht diensten voor een andere kostenplaa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i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echt bestaande afde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ulp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as, water, elektra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 moeten wel een naam hebben. In dit geval b.v.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bestaande afdeling “huisvesting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5B0E-24AE-4953-A1BE-71BC99D5459C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..........</a:t>
            </a: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hulpkostenplaa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CEDB-D6AE-431F-8C66-6FC66416D3E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8D66-ABFA-4458-8E8C-2CD53D22AC2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zelfstandige kostenplaats is wel een echte afdeling en levert prestaties aan andere afdeling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zelfstandige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ministratie, magazijn en onderhou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administrati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B944-C604-42CB-A11A-531C11889C2E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zelfstandige 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8494-A8BE-432F-8599-506E847D6D9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4723-34CA-4A63-B25C-71C30D87B22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oofdkostenplaats is ook een echte afdeling en levert alleen prestaties aan het product. Houden zich dus direct met het product bezi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oofd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bricage, montage en verkoo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fabricag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034C-2CFC-4894-8AB8-52FDB0123437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hoofd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1643-1335-4EAC-88F0-F0A3EF3B3BE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612D-A6A8-4705-8682-68E767C6847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kostenplaatsen zodanig kiezen dat je alle indirecte kosten over de verschillende kostenplaatsen kunt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t is dus een methode om uiteindelijk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in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over de kostendragers te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worden rechtstreeks over de kostendragers verde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4A88-D610-4CE7-9D43-F8284CB9E530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bcbcb"/>
                </a:solidFill>
                <a:latin typeface="Times New Roman"/>
              </a:rPr>
              <a:t>Kostendrager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(= producte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AFDD-2089-45BE-8325-2B7FA488989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0E1C-3459-4D5C-AABE-13261016079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efenopdracht 4…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…..….......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786240" y="111600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Deel de volgende kosten in naar kostenpla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2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6257-61EE-462D-970C-6951D26EF18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2120" y="2133720"/>
          <a:ext cx="7189560" cy="3886200"/>
        </p:xfrm>
        <a:graphic>
          <a:graphicData uri="http://schemas.openxmlformats.org/drawingml/2006/table">
            <a:tbl>
              <a:tblPr/>
              <a:tblGrid>
                <a:gridCol w="3403440"/>
                <a:gridCol w="1133640"/>
                <a:gridCol w="1523880"/>
                <a:gridCol w="1128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derwer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lfsta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e koste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of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dran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grondstoff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magazijn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schrijvings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administratief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verkopend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produktie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onderhouds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27EC-EAD7-4D85-AFD3-0327CB2166F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5865-7D2F-48C9-8F16-C27C2355252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? Vra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501E-8595-48B3-97BD-4A0E67A673F2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82C8-0873-4165-B061-07E68E457CC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173F-54FB-4D83-8627-20119B2E970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van het bijgeleverde werkboek de volgende vrag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 hoofdstuk 3: vraag1 t/m 10,12,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de volgende les opdracht 2 van de oefenstof (leerarrangement)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CF04-3BF8-42BE-A346-18B51159AFF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45DD-C1AE-413D-82C4-386258354B2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derwerpen voor vanda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bed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stenplaatsen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5B22-6E57-4201-BB84-005BAA227F4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37CB-3290-4EB4-A844-53E28AC9868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j het begroten ga je vaak uit van normbedra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t zijn getallen die in een normale (=gemiddelde) situatie ge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bedragen krijg je vi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e v/d boekhoud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igen erva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chegegeve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t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isch nadenk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3E6E-C8BA-4825-8412-64F9C50ADB1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79D-CEB4-4F87-A85D-2A761A617D4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orbeelden van 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supermark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akt gemiddeld € 150 omzet per vierkante meter p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euwbouw kost € 500 pe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pslagfactor in een dierenspeciaalzaak is 2,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bestelauto kost € 0,60 per k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nleg van een snelweg kost 10 miljoen euro per kilom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fte kost € 60.000 per j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B53E-647E-4BBC-B75E-36401465161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2EFA-54FA-4AB0-8E10-CD22EDDD97C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 in produc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ist bindt een boeket in 5 minu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otatiegietmach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duceert 4000 flessen per u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kommerteelt in glastuinbouw levert 200 stuks per 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r jaar 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paard eet 3 kilo brok per d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F904-EAE6-4B7A-842E-885D71693C5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E0E2-6B90-45E5-870D-6DAA773B489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fwijkingen t.o.v. de no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neer je afwijkt van de norm, werk je efficienter of minder efficient dan gemidd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ardoor hou je geld over of kom je geld tekort t.o.v. je begr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8D6C-9A80-4BFC-9AB9-CBB06EEE4A9C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E087-946D-40A4-BF03-2119F6B6B06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berek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271F-AAEC-493D-B2DE-F028CEEB56F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64D3-7DD4-4CDF-AD28-5BB565D5866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e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oodzakelijke of toegestane kosten per eenhei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eveelheid grondstoffen  X  standaardprijz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dig voor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beheersing (is vóórcalculati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palen van budgetten (raming v. kosten)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jsbepaling produc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terste prijs waartegen men desnoods mag verkopen zonder verlies (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nsprij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ar de Jong</dc:creator>
  <dc:description/>
  <dc:language>en-US</dc:language>
  <cp:lastModifiedBy>Geraar de Jong</cp:lastModifiedBy>
  <dcterms:modified xsi:type="dcterms:W3CDTF">2013-01-21T22:10:57Z</dcterms:modified>
  <cp:revision>19</cp:revision>
  <dc:subject/>
  <dc:title>PowerPoint-presentatie</dc:title>
</cp:coreProperties>
</file>