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45E2-9969-4999-BAED-AB53AE493E0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8469-E980-4573-96E0-E5DA62D38B1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6E73-D9FA-40D6-8DB6-53F07C3D4E9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ACB1-286D-44B6-862E-D976C296F52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0779-E508-4589-AD4F-F6E44BD884D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BA90-E3CF-4A35-95F4-D503D030ECC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FBB8-42C7-4328-B84F-2000F199CB6D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E485-D460-4326-AF75-518A554E7ECC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0305-7B64-4FDC-B0DD-7B6C62694FB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B0A7-58FF-4CFC-B47A-C865E7ACAF6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00C9-B4DC-45C8-9778-545F966E81B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B6E8-DF90-4599-A396-3024A49019B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FC2E-23BC-4FA8-A8CD-79956A6D2DB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8221-A3DB-4503-877A-C2E8345658C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1422-7AC8-430B-A69C-818738C0C60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1812-5207-44BB-8338-3522D4CEC3A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07AF-07DF-4269-B1D3-402216F32A7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81E8-1E6E-4E84-BA10-57863B3FF88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88C7-9F57-4DAD-9860-057015D90F2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1616-3042-40B0-BD55-8AAD89BA6F4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720D-7891-4CC4-8FC5-9B858579755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FBE5-A869-45B9-91B3-3FCBAA64919C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C653-1579-41D4-8E3A-B2FEC1A2652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6FFE-A36F-4CEB-9A7C-3487F63B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510A-7A2F-4711-9E01-A72EDD9A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D18-81DF-4946-841C-2DA04555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320-13F8-495B-9A27-79C01D9F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493E-F696-4125-8045-1C984041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FAB0-A951-4DB1-B5DC-4B8ACDFE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ABE9-0A0B-4FD9-AED7-7F58010D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0730-10B4-49A4-B8F2-775213BF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2BBE-A07A-4609-8E14-A8BAFC3E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2EB0-F271-48C9-BA02-C3F72045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5501-324F-4BBE-B020-A09CA674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71C-5CE7-4922-A6CE-9E1C588E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8247-E892-484A-A28C-C9D4AAFC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76CA-45DF-4285-99A8-2F0EF7AA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F78E-5A52-4DFA-82A1-53B6D1AE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3882-DF70-4431-866E-975A40DC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0E5F-39CD-457C-83E8-5EC82490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172C-F99F-4FD5-8DD5-DF320A4D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F362-BCFA-4E46-A4A8-99314AD1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DAE7-551A-45E2-86D9-DB8C2284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2422-61FE-4AF1-A8FA-941024D6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1A6C-11D6-4077-A102-AFFE8A74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D5CC-669A-46E1-81C5-94EE9A6D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1B8E-D364-4547-909F-0836D929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D800-3506-41F6-84A4-27D3FD8B67E8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520" y="6324120"/>
            <a:ext cx="35049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F33A-F61A-4282-ACD1-7B272EDD9C94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D572-7E88-41C3-8497-2237C10A2D61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5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A049-E6C0-44C6-9851-A940B59EAB9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ome.tiscali.nl/erikhemmes/documents/08FP006.pdf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mvc.machine-video.com/996397e257a4df2fe05f6469d1980499.html?bw=h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E183-087B-4015-8F18-802FA533AA72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8195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AD7A-8C0E-4979-ADCF-CD0CCA4993E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Begroten en Budgetter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 3: Kostprijsbereke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obbert Ooste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915E-0BAD-4565-A895-03548737BC43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E2E7-1942-4E41-8180-7BB5277159DF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tandaardkostprij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ardkostprijs =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ste kosten + variabele kos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 bereken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er produ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ardkostprijs = C/N + V/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otale vaste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stante) 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male produ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otal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iabele 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verwach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kelijke productieomva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8" dur="1" fill="hold"/>
                                  <p:tgtEl>
                                    <p:spTgt spid="1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29" dur="1" fill="hold"/>
                                  <p:tgtEl>
                                    <p:spTgt spid="1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30" dur="1" fill="hold"/>
                                  <p:tgtEl>
                                    <p:spTgt spid="14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31" dur="1" fill="hold"/>
                                  <p:tgtEl>
                                    <p:spTgt spid="14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32" dur="1" fill="hold"/>
                                  <p:tgtEl>
                                    <p:spTgt spid="14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3850-6187-4C11-9CEB-ADC9E6175A4D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5283-0E44-4F82-849E-4DCFF4822117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prijs 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ele kos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eranderen evenredig (proportioneel) met de productie en/of verkoo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jv.: inkoop van grondstoffen/goeder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ste kos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eranderen nauwelijks binnen een bepaalde bandbreed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jv.: afschrijving van de invent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2B6A-EA8D-48F9-B2C7-9405D2EA4ADE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BFA8-2809-40D4-B8E6-340780A88E0B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prijs I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kte 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kost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Zijn alle kosten die direct aan product gekoppeld zij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Grondstoffen,  productiepersoneel, productiemachines, verkoo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Indirecte kost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Zijn alle kosten die niet rechtstreeks met productie of verkoop te maken hebb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Onder andere de administratie, kantoormachines en huisve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968B-5A98-4C2A-8973-AD2683C22CA1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4342-AC13-4092-A799-F043957CA783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groten in een organisat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981080"/>
          <a:ext cx="7848720" cy="3184560"/>
        </p:xfrm>
        <a:graphic>
          <a:graphicData uri="http://schemas.openxmlformats.org/drawingml/2006/table">
            <a:tbl>
              <a:tblPr/>
              <a:tblGrid>
                <a:gridCol w="3276720"/>
                <a:gridCol w="45720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kel / webwink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slagmeth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fijnde opslagmeth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iebedrijf / fabrie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plaatsenmeth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enstverlenend bedrijf / maatwe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groten o.b.v. projec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B6F2-7872-4F07-A846-6A96781654AC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A01E-73FF-4BB7-8218-A1D04296D28B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slag = brutowinst per artik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stprijs + Opslag = Verkoopprij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x BTW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gelij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495680" y="3962520"/>
          <a:ext cx="3886200" cy="1600200"/>
        </p:xfrm>
        <a:graphic>
          <a:graphicData uri="http://schemas.openxmlformats.org/drawingml/2006/table">
            <a:tbl>
              <a:tblPr/>
              <a:tblGrid>
                <a:gridCol w="2590920"/>
                <a:gridCol w="129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Line 50"/>
          <p:cNvSpPr/>
          <p:nvPr/>
        </p:nvSpPr>
        <p:spPr>
          <a:xfrm flipH="1">
            <a:off x="5257440" y="3124080"/>
            <a:ext cx="304920" cy="9907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51"/>
          <p:cNvSpPr/>
          <p:nvPr/>
        </p:nvSpPr>
        <p:spPr>
          <a:xfrm>
            <a:off x="2362320" y="3124080"/>
            <a:ext cx="2209680" cy="160020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52"/>
          <p:cNvSpPr/>
          <p:nvPr/>
        </p:nvSpPr>
        <p:spPr>
          <a:xfrm>
            <a:off x="3962520" y="3124080"/>
            <a:ext cx="1218960" cy="205740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318A-D676-44CC-8F01-79CDD5741FB9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A6E1-6983-47FA-B6E1-2AFF2A79FE27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: Nut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 de opslag moet je de bedrijfskosten terugverdien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gelij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200400" y="3124080"/>
          <a:ext cx="5554800" cy="2971800"/>
        </p:xfrm>
        <a:graphic>
          <a:graphicData uri="http://schemas.openxmlformats.org/drawingml/2006/table">
            <a:tbl>
              <a:tblPr/>
              <a:tblGrid>
                <a:gridCol w="216000"/>
                <a:gridCol w="2544120"/>
                <a:gridCol w="216000"/>
                <a:gridCol w="216000"/>
                <a:gridCol w="2147040"/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atenrekening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aat per artikel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koopprij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144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2381400"/>
                          <a:tab algn="r" pos="3144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koopwaarde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r" pos="3144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2381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prijs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r" pos="2381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sla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2381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drijfskoste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AutoShape 325"/>
          <p:cNvSpPr/>
          <p:nvPr/>
        </p:nvSpPr>
        <p:spPr>
          <a:xfrm>
            <a:off x="457200" y="4038480"/>
            <a:ext cx="2895480" cy="457200"/>
          </a:xfrm>
          <a:prstGeom prst="rightArrowCallout">
            <a:avLst>
              <a:gd name="adj1" fmla="val 25002"/>
              <a:gd name="adj2" fmla="val 25000"/>
              <a:gd name="adj3" fmla="val 50694"/>
              <a:gd name="adj4" fmla="val 77852"/>
            </a:avLst>
          </a:prstGeom>
          <a:solidFill>
            <a:srgbClr val="cbcbcb"/>
          </a:solidFill>
          <a:ln cap="sq"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Variabele 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326"/>
          <p:cNvSpPr/>
          <p:nvPr/>
        </p:nvSpPr>
        <p:spPr>
          <a:xfrm>
            <a:off x="838080" y="5070600"/>
            <a:ext cx="2514600" cy="457200"/>
          </a:xfrm>
          <a:prstGeom prst="rightArrowCallout">
            <a:avLst>
              <a:gd name="adj1" fmla="val 21530"/>
              <a:gd name="adj2" fmla="val 25000"/>
              <a:gd name="adj3" fmla="val 50009"/>
              <a:gd name="adj4" fmla="val 74181"/>
            </a:avLst>
          </a:prstGeom>
          <a:solidFill>
            <a:srgbClr val="cbcbcb"/>
          </a:solidFill>
          <a:ln cap="sq"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Vaste 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9A58-934A-4332-AAE3-C2E421AE770A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B1A5-6B99-464E-936D-9347418ABDF4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-kengetall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factor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,50 / € 3,00 = 2,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stprijs x 2,5 = Verkoop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percentag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,50 / € 3,00 * 100% = 15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stprijs + 150% = Verkoop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ruto)marg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,50 / € 7,50 * 100% = 6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% van de verkoopprijs is win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867280" y="304920"/>
          <a:ext cx="3124440" cy="1296720"/>
        </p:xfrm>
        <a:graphic>
          <a:graphicData uri="http://schemas.openxmlformats.org/drawingml/2006/table">
            <a:tbl>
              <a:tblPr/>
              <a:tblGrid>
                <a:gridCol w="2127240"/>
                <a:gridCol w="99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koopprij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prij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1" dur="1" fill="hold"/>
                                  <p:tgtEl>
                                    <p:spTgt spid="18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CF12-0A39-4FFB-94EB-837578A13FC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3061-91EB-466E-9842-29B0DBF2D274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efenopgave opslag-kengetall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ek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-320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fac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-320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percent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-320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ruto)mar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038480" y="4267080"/>
          <a:ext cx="4191120" cy="1600200"/>
        </p:xfrm>
        <a:graphic>
          <a:graphicData uri="http://schemas.openxmlformats.org/drawingml/2006/table">
            <a:tbl>
              <a:tblPr/>
              <a:tblGrid>
                <a:gridCol w="2667240"/>
                <a:gridCol w="1523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,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64DF-B6EB-4C76-96E9-43D5182798C7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8BDE-B0DA-4ECD-A33D-DA68440519CE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method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m het gewenste opslagpercentage te bepalen, kun je gebruik maken v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primitieve opslagmetho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1928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eder product hetzelfde percen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verfijnde opslagmetho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1928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 product/categorie ander percen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8644-F583-4AD6-95AF-0622C54BB0CD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F835-304D-4BFD-B3E4-33D1F9678354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enplaatsenmetho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4019400" y="2259000"/>
            <a:ext cx="156060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000680" y="5111640"/>
            <a:ext cx="2028600" cy="66060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274680" y="3114720"/>
            <a:ext cx="1282680" cy="6620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220680" y="3060720"/>
            <a:ext cx="158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Indirec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4002120" y="2243160"/>
            <a:ext cx="17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afdeling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4016520" y="3143160"/>
            <a:ext cx="1562040" cy="66060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3986280" y="3125880"/>
            <a:ext cx="17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afdeling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5"/>
          <p:cNvSpPr/>
          <p:nvPr/>
        </p:nvSpPr>
        <p:spPr>
          <a:xfrm>
            <a:off x="4016520" y="4029120"/>
            <a:ext cx="1562040" cy="6620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Box 16"/>
          <p:cNvSpPr/>
          <p:nvPr/>
        </p:nvSpPr>
        <p:spPr>
          <a:xfrm>
            <a:off x="3986280" y="4013280"/>
            <a:ext cx="17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afdeling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8" name="Straight Arrow Connector 18"/>
          <p:cNvCxnSpPr>
            <a:endCxn id="203" idx="1"/>
          </p:cNvCxnSpPr>
          <p:nvPr/>
        </p:nvCxnSpPr>
        <p:spPr>
          <a:xfrm flipV="1">
            <a:off x="1571400" y="2596320"/>
            <a:ext cx="2431080" cy="81684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09" name="Straight Arrow Connector 20"/>
          <p:cNvCxnSpPr/>
          <p:nvPr/>
        </p:nvCxnSpPr>
        <p:spPr>
          <a:xfrm>
            <a:off x="1599840" y="3733560"/>
            <a:ext cx="243900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0" name="Straight Arrow Connector 22"/>
          <p:cNvCxnSpPr/>
          <p:nvPr/>
        </p:nvCxnSpPr>
        <p:spPr>
          <a:xfrm>
            <a:off x="990360" y="4419360"/>
            <a:ext cx="299628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11" name="TextBox 26"/>
          <p:cNvSpPr/>
          <p:nvPr/>
        </p:nvSpPr>
        <p:spPr>
          <a:xfrm rot="20479800">
            <a:off x="1544760" y="269676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+ 16 % ind.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Straight Connector 32"/>
          <p:cNvSpPr/>
          <p:nvPr/>
        </p:nvSpPr>
        <p:spPr>
          <a:xfrm flipV="1">
            <a:off x="990720" y="3733560"/>
            <a:ext cx="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Box 34"/>
          <p:cNvSpPr/>
          <p:nvPr/>
        </p:nvSpPr>
        <p:spPr>
          <a:xfrm>
            <a:off x="1654560" y="334152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+ 39 % ind.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Box 35"/>
          <p:cNvSpPr/>
          <p:nvPr/>
        </p:nvSpPr>
        <p:spPr>
          <a:xfrm>
            <a:off x="1259280" y="404352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+ 45 % ind.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Straight Connector 37"/>
          <p:cNvSpPr/>
          <p:nvPr/>
        </p:nvSpPr>
        <p:spPr>
          <a:xfrm>
            <a:off x="3962520" y="4952880"/>
            <a:ext cx="1752480" cy="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Box 40"/>
          <p:cNvSpPr/>
          <p:nvPr/>
        </p:nvSpPr>
        <p:spPr>
          <a:xfrm>
            <a:off x="5723640" y="45799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Box 41"/>
          <p:cNvSpPr/>
          <p:nvPr/>
        </p:nvSpPr>
        <p:spPr>
          <a:xfrm>
            <a:off x="1425600" y="5110200"/>
            <a:ext cx="114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Kostprij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Produ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Slide Number Placeholder 2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122C-0922-4204-8D3E-0C4BF534FFDB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41"/>
          <p:cNvSpPr/>
          <p:nvPr/>
        </p:nvSpPr>
        <p:spPr>
          <a:xfrm>
            <a:off x="4057560" y="5133960"/>
            <a:ext cx="19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Totale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 &amp; in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12"/>
          <p:cNvSpPr/>
          <p:nvPr/>
        </p:nvSpPr>
        <p:spPr>
          <a:xfrm>
            <a:off x="2911320" y="4938840"/>
            <a:ext cx="9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00"/>
                </a:solidFill>
                <a:latin typeface="Times New Roman"/>
              </a:rPr>
              <a:t>=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2857680" y="5140440"/>
            <a:ext cx="74268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6235560" y="4919760"/>
            <a:ext cx="9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00"/>
                </a:solidFill>
                <a:latin typeface="Times New Roman"/>
              </a:rPr>
              <a:t>/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6181560" y="5121360"/>
            <a:ext cx="74304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7129440" y="5097600"/>
            <a:ext cx="156060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7112160" y="5081760"/>
            <a:ext cx="137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Aan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produc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1357200" y="5149800"/>
            <a:ext cx="1184400" cy="66060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DB89-5019-4AA5-BCD9-C2F79FAF59E4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21C6-C5C3-4B35-B381-B9A7EE1B4B5D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uiswerk vorige wee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a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ofdstuk 1: vraag 9, 10, 12, 1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ofdstuk 2: vraag 2, 5, 6, 8, 10, 12, 14, 15 en 17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DC40-3CC6-4C4B-8EF2-E75F47BFCBFF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E160-4877-4C24-9ECC-BBCD81DFA8D4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enplaatsenmetho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685800" y="1905120"/>
            <a:ext cx="8102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Elke afdeling, direct of indirect betrokken bij de productie, wordt e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stenplaats</a:t>
            </a: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 genoem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De producten word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stendragers</a:t>
            </a: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 genoem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De kostenplaat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n</a:t>
            </a: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methode is een methode om </a:t>
            </a:r>
            <a:r>
              <a:rPr b="0" lang="nl-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direc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kosten toe te rekenen aan produc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Uiteindelijk wordt de kostprijs van een product bepaald door alle bedrijfskosten (direct en indirec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Slide Number Placeholder 5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3F37-A194-46D8-958C-178D6F2F6683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EB7F-2E49-4647-9171-A41ACD4DCA77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5C5C-4294-4739-91D6-F19930BB01FD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kostenplaatsen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lke afdeling, direct of indirect betrokken bij de productie, wordt dus e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kostenplaats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genoem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r zijn drie soorten 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ulpkostenplaats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Zelfstandige kostenplaats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oofdkostenplaats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04AB-8880-477F-8AD2-D6AFB4FD6EE1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F415-6C48-4E4D-8273-7DB2F69B7AB3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6D91-D433-49B7-ADCE-06099AC0CEB7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Kostendragers: </a:t>
            </a:r>
            <a:r>
              <a:rPr b="0" lang="nl-NL" sz="2800" spc="-1" strike="noStrike">
                <a:solidFill>
                  <a:srgbClr val="cbcbcb"/>
                </a:solidFill>
                <a:latin typeface="Times New Roman"/>
              </a:rPr>
              <a:t>producten dragen alle koste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FDA0-190B-43E9-9749-C3897B6D7332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162840" y="2001960"/>
            <a:ext cx="1560240" cy="44136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6102360" y="2014560"/>
            <a:ext cx="17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3014640" y="2025720"/>
            <a:ext cx="1785960" cy="44136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2997360" y="2023920"/>
            <a:ext cx="184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Indirecte kost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5872320" y="3486240"/>
            <a:ext cx="2442960" cy="4525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Box 12"/>
          <p:cNvSpPr/>
          <p:nvPr/>
        </p:nvSpPr>
        <p:spPr>
          <a:xfrm>
            <a:off x="5811840" y="3552840"/>
            <a:ext cx="25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Hoofdkostenplaats(en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2709720" y="3243240"/>
            <a:ext cx="1791000" cy="7333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Box 12"/>
          <p:cNvSpPr/>
          <p:nvPr/>
        </p:nvSpPr>
        <p:spPr>
          <a:xfrm>
            <a:off x="2706840" y="3262320"/>
            <a:ext cx="184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Zelfstandige kostenplaats(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561960" y="3238560"/>
            <a:ext cx="1790640" cy="7333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Box 17"/>
          <p:cNvSpPr/>
          <p:nvPr/>
        </p:nvSpPr>
        <p:spPr>
          <a:xfrm>
            <a:off x="558720" y="3257640"/>
            <a:ext cx="184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Hulpkosten-plaats(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Down Arrow 18"/>
          <p:cNvSpPr/>
          <p:nvPr/>
        </p:nvSpPr>
        <p:spPr>
          <a:xfrm>
            <a:off x="6800760" y="2457360"/>
            <a:ext cx="243000" cy="10144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Striped Right Arrow 20"/>
          <p:cNvSpPr/>
          <p:nvPr/>
        </p:nvSpPr>
        <p:spPr>
          <a:xfrm rot="1349400">
            <a:off x="4387680" y="2909520"/>
            <a:ext cx="2468880" cy="123840"/>
          </a:xfrm>
          <a:custGeom>
            <a:avLst/>
            <a:gdLst/>
            <a:ahLst/>
            <a:rect l="l" t="t" r="r" b="b"/>
            <a:pathLst>
              <a:path w="2468563" h="123825">
                <a:moveTo>
                  <a:pt x="0" y="30956"/>
                </a:moveTo>
                <a:lnTo>
                  <a:pt x="3870" y="30956"/>
                </a:lnTo>
                <a:lnTo>
                  <a:pt x="3870" y="92869"/>
                </a:lnTo>
                <a:lnTo>
                  <a:pt x="0" y="92869"/>
                </a:lnTo>
                <a:lnTo>
                  <a:pt x="0" y="30956"/>
                </a:lnTo>
                <a:close/>
                <a:moveTo>
                  <a:pt x="7739" y="30956"/>
                </a:moveTo>
                <a:lnTo>
                  <a:pt x="15478" y="30956"/>
                </a:lnTo>
                <a:lnTo>
                  <a:pt x="15478" y="92869"/>
                </a:lnTo>
                <a:lnTo>
                  <a:pt x="7739" y="92869"/>
                </a:lnTo>
                <a:lnTo>
                  <a:pt x="7739" y="30956"/>
                </a:lnTo>
                <a:close/>
                <a:moveTo>
                  <a:pt x="19348" y="30956"/>
                </a:moveTo>
                <a:lnTo>
                  <a:pt x="2406651" y="30956"/>
                </a:lnTo>
                <a:lnTo>
                  <a:pt x="2406651" y="0"/>
                </a:lnTo>
                <a:lnTo>
                  <a:pt x="2468563" y="61913"/>
                </a:lnTo>
                <a:lnTo>
                  <a:pt x="2406651" y="123825"/>
                </a:lnTo>
                <a:lnTo>
                  <a:pt x="2406651" y="92869"/>
                </a:lnTo>
                <a:lnTo>
                  <a:pt x="19348" y="92869"/>
                </a:lnTo>
                <a:lnTo>
                  <a:pt x="19348" y="30956"/>
                </a:lnTo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Striped Right Arrow 21"/>
          <p:cNvSpPr/>
          <p:nvPr/>
        </p:nvSpPr>
        <p:spPr>
          <a:xfrm rot="5400000">
            <a:off x="3512880" y="2784600"/>
            <a:ext cx="742680" cy="145800"/>
          </a:xfrm>
          <a:custGeom>
            <a:avLst/>
            <a:gdLst/>
            <a:ahLst/>
            <a:rect l="l" t="t" r="r" b="b"/>
            <a:pathLst>
              <a:path w="742950" h="146050">
                <a:moveTo>
                  <a:pt x="0" y="36513"/>
                </a:moveTo>
                <a:lnTo>
                  <a:pt x="4564" y="36513"/>
                </a:lnTo>
                <a:lnTo>
                  <a:pt x="4564" y="109538"/>
                </a:lnTo>
                <a:lnTo>
                  <a:pt x="0" y="109538"/>
                </a:lnTo>
                <a:lnTo>
                  <a:pt x="0" y="36513"/>
                </a:lnTo>
                <a:close/>
                <a:moveTo>
                  <a:pt x="9128" y="36513"/>
                </a:moveTo>
                <a:lnTo>
                  <a:pt x="18256" y="36513"/>
                </a:lnTo>
                <a:lnTo>
                  <a:pt x="18256" y="109538"/>
                </a:lnTo>
                <a:lnTo>
                  <a:pt x="9128" y="109538"/>
                </a:lnTo>
                <a:lnTo>
                  <a:pt x="9128" y="36513"/>
                </a:lnTo>
                <a:close/>
                <a:moveTo>
                  <a:pt x="22820" y="36513"/>
                </a:moveTo>
                <a:lnTo>
                  <a:pt x="669925" y="36513"/>
                </a:lnTo>
                <a:lnTo>
                  <a:pt x="669925" y="0"/>
                </a:lnTo>
                <a:lnTo>
                  <a:pt x="742950" y="73025"/>
                </a:lnTo>
                <a:lnTo>
                  <a:pt x="669925" y="146050"/>
                </a:lnTo>
                <a:lnTo>
                  <a:pt x="669925" y="109538"/>
                </a:lnTo>
                <a:lnTo>
                  <a:pt x="22820" y="109538"/>
                </a:lnTo>
                <a:lnTo>
                  <a:pt x="22820" y="36513"/>
                </a:lnTo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Striped Right Arrow 22"/>
          <p:cNvSpPr/>
          <p:nvPr/>
        </p:nvSpPr>
        <p:spPr>
          <a:xfrm rot="8559000">
            <a:off x="1977840" y="2812680"/>
            <a:ext cx="1290600" cy="106200"/>
          </a:xfrm>
          <a:custGeom>
            <a:avLst/>
            <a:gdLst/>
            <a:ahLst/>
            <a:rect l="l" t="t" r="r" b="b"/>
            <a:pathLst>
              <a:path w="1290638" h="106363">
                <a:moveTo>
                  <a:pt x="0" y="26591"/>
                </a:moveTo>
                <a:lnTo>
                  <a:pt x="3324" y="26591"/>
                </a:lnTo>
                <a:lnTo>
                  <a:pt x="3324" y="79772"/>
                </a:lnTo>
                <a:lnTo>
                  <a:pt x="0" y="79772"/>
                </a:lnTo>
                <a:lnTo>
                  <a:pt x="0" y="26591"/>
                </a:lnTo>
                <a:close/>
                <a:moveTo>
                  <a:pt x="6648" y="26591"/>
                </a:moveTo>
                <a:lnTo>
                  <a:pt x="13295" y="26591"/>
                </a:lnTo>
                <a:lnTo>
                  <a:pt x="13295" y="79772"/>
                </a:lnTo>
                <a:lnTo>
                  <a:pt x="6648" y="79772"/>
                </a:lnTo>
                <a:lnTo>
                  <a:pt x="6648" y="26591"/>
                </a:lnTo>
                <a:close/>
                <a:moveTo>
                  <a:pt x="16619" y="26591"/>
                </a:moveTo>
                <a:lnTo>
                  <a:pt x="1237457" y="26591"/>
                </a:lnTo>
                <a:lnTo>
                  <a:pt x="1237457" y="0"/>
                </a:lnTo>
                <a:lnTo>
                  <a:pt x="1290638" y="53182"/>
                </a:lnTo>
                <a:lnTo>
                  <a:pt x="1237457" y="106363"/>
                </a:lnTo>
                <a:lnTo>
                  <a:pt x="1237457" y="79772"/>
                </a:lnTo>
                <a:lnTo>
                  <a:pt x="16619" y="79772"/>
                </a:lnTo>
                <a:lnTo>
                  <a:pt x="16619" y="26591"/>
                </a:lnTo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Curved Right Arrow 23"/>
          <p:cNvSpPr/>
          <p:nvPr/>
        </p:nvSpPr>
        <p:spPr>
          <a:xfrm rot="16200000">
            <a:off x="2514600" y="3343320"/>
            <a:ext cx="542880" cy="1828800"/>
          </a:xfrm>
          <a:custGeom>
            <a:avLst/>
            <a:gdLst>
              <a:gd name="textAreaLeft" fmla="*/ 72720 w 542880"/>
              <a:gd name="textAreaRight" fmla="*/ 470160 w 542880"/>
              <a:gd name="textAreaTop" fmla="*/ 406080 h 1828800"/>
              <a:gd name="textAreaBottom" fmla="*/ 13546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98" stAng="-5400000" swAng="-5400000"/>
                <a:lnTo>
                  <a:pt x="0" y="11202"/>
                </a:lnTo>
                <a:arcTo wR="21600" hR="9598" stAng="10800000" swAng="-3590351"/>
                <a:lnTo>
                  <a:pt x="16200" y="21295"/>
                </a:lnTo>
                <a:lnTo>
                  <a:pt x="21600" y="19997"/>
                </a:lnTo>
                <a:lnTo>
                  <a:pt x="16200" y="18089"/>
                </a:lnTo>
                <a:lnTo>
                  <a:pt x="16200" y="18890"/>
                </a:lnTo>
                <a:arcTo wR="21600" hR="9598" stAng="7209649" swAng="3462320"/>
                <a:lnTo>
                  <a:pt x="76" y="10400"/>
                </a:lnTo>
                <a:arcTo wR="21600" hR="9598" stAng="-10671969" swAng="5271969"/>
                <a:close/>
              </a:path>
              <a:path fill="darkenLess" w="21600" h="21600">
                <a:moveTo>
                  <a:pt x="21600" y="0"/>
                </a:moveTo>
                <a:arcTo wR="21600" hR="9598" stAng="-5400000" swAng="-5400000"/>
                <a:lnTo>
                  <a:pt x="0" y="9598"/>
                </a:lnTo>
                <a:arcTo wR="21600" hR="9598" stAng="10800000" swAng="-128031"/>
                <a:lnTo>
                  <a:pt x="76" y="10400"/>
                </a:lnTo>
                <a:arcTo wR="21600" hR="9598" stAng="-10671969" swAng="5271969"/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Curved Right Arrow 24"/>
          <p:cNvSpPr/>
          <p:nvPr/>
        </p:nvSpPr>
        <p:spPr>
          <a:xfrm rot="16200000">
            <a:off x="3555360" y="1383120"/>
            <a:ext cx="1214280" cy="6419880"/>
          </a:xfrm>
          <a:custGeom>
            <a:avLst/>
            <a:gdLst>
              <a:gd name="textAreaLeft" fmla="*/ 162720 w 1214280"/>
              <a:gd name="textAreaRight" fmla="*/ 1051560 w 1214280"/>
              <a:gd name="textAreaTop" fmla="*/ 1491120 h 6419880"/>
              <a:gd name="textAreaBottom" fmla="*/ 4777200 h 641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34" stAng="-5400000" swAng="-5400000"/>
                <a:lnTo>
                  <a:pt x="0" y="11056"/>
                </a:lnTo>
                <a:arcTo wR="21600" hR="10034" stAng="10800000" swAng="-3655957"/>
                <a:lnTo>
                  <a:pt x="16200" y="21281"/>
                </a:lnTo>
                <a:lnTo>
                  <a:pt x="21600" y="20578"/>
                </a:lnTo>
                <a:lnTo>
                  <a:pt x="16200" y="19237"/>
                </a:lnTo>
                <a:lnTo>
                  <a:pt x="16200" y="19748"/>
                </a:lnTo>
                <a:arcTo wR="21600" hR="10034" stAng="7144043" swAng="3574538"/>
                <a:lnTo>
                  <a:pt x="28" y="10545"/>
                </a:lnTo>
                <a:arcTo wR="21600" hR="10034" stAng="-10718581" swAng="5318581"/>
                <a:close/>
              </a:path>
              <a:path fill="darkenLess" w="21600" h="21600">
                <a:moveTo>
                  <a:pt x="21600" y="0"/>
                </a:moveTo>
                <a:arcTo wR="21600" hR="10034" stAng="-5400000" swAng="-5400000"/>
                <a:lnTo>
                  <a:pt x="0" y="10034"/>
                </a:lnTo>
                <a:arcTo wR="21600" hR="10034" stAng="10800000" swAng="-81419"/>
                <a:lnTo>
                  <a:pt x="28" y="10545"/>
                </a:lnTo>
                <a:arcTo wR="21600" hR="10034" stAng="-10718581" swAng="5318581"/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Down Arrow 25"/>
          <p:cNvSpPr/>
          <p:nvPr/>
        </p:nvSpPr>
        <p:spPr>
          <a:xfrm>
            <a:off x="7458120" y="3957480"/>
            <a:ext cx="528480" cy="1011240"/>
          </a:xfrm>
          <a:prstGeom prst="downArrow">
            <a:avLst>
              <a:gd name="adj1" fmla="val 50000"/>
              <a:gd name="adj2" fmla="val 50043"/>
            </a:avLst>
          </a:prstGeom>
          <a:solidFill>
            <a:srgbClr val="00b050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" descr="C:\Program Files\Microsoft Office\MEDIA\CAGCAT10\j0149627.wmf"/>
          <p:cNvPicPr/>
          <p:nvPr/>
        </p:nvPicPr>
        <p:blipFill>
          <a:blip r:embed="rId1"/>
          <a:stretch/>
        </p:blipFill>
        <p:spPr>
          <a:xfrm>
            <a:off x="6353280" y="4768920"/>
            <a:ext cx="2533680" cy="1800000"/>
          </a:xfrm>
          <a:prstGeom prst="rect">
            <a:avLst/>
          </a:prstGeom>
          <a:ln w="0">
            <a:noFill/>
          </a:ln>
        </p:spPr>
      </p:pic>
      <p:cxnSp>
        <p:nvCxnSpPr>
          <p:cNvPr id="262" name="Straight Arrow Connector 28"/>
          <p:cNvCxnSpPr/>
          <p:nvPr/>
        </p:nvCxnSpPr>
        <p:spPr>
          <a:xfrm flipV="1">
            <a:off x="5837040" y="5516280"/>
            <a:ext cx="1005480" cy="51984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3" name="TextBox 29"/>
          <p:cNvSpPr/>
          <p:nvPr/>
        </p:nvSpPr>
        <p:spPr>
          <a:xfrm>
            <a:off x="4770360" y="58831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Prijs 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Curved Right Arrow 23"/>
          <p:cNvSpPr/>
          <p:nvPr/>
        </p:nvSpPr>
        <p:spPr>
          <a:xfrm rot="16200000">
            <a:off x="4669560" y="2878920"/>
            <a:ext cx="542880" cy="2747880"/>
          </a:xfrm>
          <a:custGeom>
            <a:avLst/>
            <a:gdLst>
              <a:gd name="textAreaLeft" fmla="*/ 72720 w 542880"/>
              <a:gd name="textAreaRight" fmla="*/ 470160 w 542880"/>
              <a:gd name="textAreaTop" fmla="*/ 636120 h 2747880"/>
              <a:gd name="textAreaBottom" fmla="*/ 2044080 h 274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00" stAng="-5400000" swAng="-5400000"/>
                <a:lnTo>
                  <a:pt x="0" y="11068"/>
                </a:lnTo>
                <a:arcTo wR="21600" hR="10000" stAng="10800000" swAng="-3650997"/>
                <a:lnTo>
                  <a:pt x="16200" y="21282"/>
                </a:lnTo>
                <a:lnTo>
                  <a:pt x="21600" y="20533"/>
                </a:lnTo>
                <a:lnTo>
                  <a:pt x="16200" y="19148"/>
                </a:lnTo>
                <a:lnTo>
                  <a:pt x="16200" y="19681"/>
                </a:lnTo>
                <a:arcTo wR="21600" hR="10000" stAng="7149003" swAng="3565904"/>
                <a:lnTo>
                  <a:pt x="31" y="10534"/>
                </a:lnTo>
                <a:arcTo wR="21600" hR="10000" stAng="-10714907" swAng="5314907"/>
                <a:close/>
              </a:path>
              <a:path fill="darkenLess" w="21600" h="21600">
                <a:moveTo>
                  <a:pt x="21600" y="0"/>
                </a:moveTo>
                <a:arcTo wR="21600" hR="10000" stAng="-5400000" swAng="-5400000"/>
                <a:lnTo>
                  <a:pt x="0" y="10000"/>
                </a:lnTo>
                <a:arcTo wR="21600" hR="10000" stAng="10800000" swAng="-85093"/>
                <a:lnTo>
                  <a:pt x="31" y="10534"/>
                </a:lnTo>
                <a:arcTo wR="21600" hR="10000" stAng="-10714907" swAng="5314907"/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1A07-1A5E-4685-91CB-0B54BF0FB2AC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E92D-258B-4AE3-9E02-D2B2E5D280A6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hulpkostenplaats verricht diensten voor een andere kostenplaa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hulpkostenplaats is e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echt bestaande afdel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beelden van hulp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as, water, elektra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ulpkostenplaatsen moeten wel een naam hebben. In dit geval b.v. de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bestaande afdeling “huisvesting”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237E-53DA-4FB7-B4D8-776D03473516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kostenplaatsen...........</a:t>
            </a:r>
            <a:r>
              <a:rPr b="0" lang="nl-NL" sz="3200" spc="-1" strike="noStrike">
                <a:solidFill>
                  <a:srgbClr val="cbcbcb"/>
                </a:solidFill>
                <a:latin typeface="Times New Roman"/>
              </a:rPr>
              <a:t>hulpkostenplaat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12C5-959C-47D4-84C1-69C4ABB6A9B2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D5C1-B759-4F81-BA80-ADCB376C0514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zelfstandige kostenplaats is wel een echte afdeling en levert prestaties aan andere afdeling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beelden van zelfstandige 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dministratie, magazijn en onderhou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ze kostenplaatsen hebben van zichzelf al een naam, de afdeling administratie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14CB-5229-4D79-828A-4A2915CEBC07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bcbcb"/>
                </a:solidFill>
                <a:latin typeface="Times New Roman"/>
              </a:rPr>
              <a:t>kostenplaatsen</a:t>
            </a: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...........</a:t>
            </a:r>
            <a:r>
              <a:rPr b="0" lang="nl-NL" sz="2800" spc="-1" strike="noStrike">
                <a:solidFill>
                  <a:srgbClr val="cbcbcb"/>
                </a:solidFill>
                <a:latin typeface="Times New Roman"/>
              </a:rPr>
              <a:t>zelfstandige kostenplaat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5A47-E532-487D-B636-F93FBF6AFE30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AF34-C9FA-45C6-BFE5-000E0AB2C6EB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hoofdkostenplaats is ook een echte afdeling en levert alleen prestaties aan het product. Houden zich dus direct met het product bezi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beelden van hoofd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Fabricage, montage en verkoop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ze kostenplaatsen hebben van zichzelf al een naam, de afdeling fabricage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5B09-6B41-426D-9BBC-E6886F4A4E68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bcbcb"/>
                </a:solidFill>
                <a:latin typeface="Times New Roman"/>
              </a:rPr>
              <a:t>kostenplaatsen</a:t>
            </a: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..................</a:t>
            </a:r>
            <a:r>
              <a:rPr b="0" lang="nl-NL" sz="2800" spc="-1" strike="noStrike">
                <a:solidFill>
                  <a:srgbClr val="cbcbcb"/>
                </a:solidFill>
                <a:latin typeface="Times New Roman"/>
              </a:rPr>
              <a:t>hoofdkostenplaat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A8B5-CAB2-428F-84B2-CD8237384B09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2C91-4C31-4F55-8012-5D4F3FF7FB6A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 kostenplaatsen zodanig kiezen dat je alle indirecte kosten over de verschillende kostenplaatsen kunt verdel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t is dus een methode om uiteindelijk de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indirect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kosten over de kostendragers te verdel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Direct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kosten worden rechtstreeks over de kostendragers verdee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327F-CF96-4AD0-9A7D-3D577BDB3AA8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cbcbcb"/>
                </a:solidFill>
                <a:latin typeface="Times New Roman"/>
              </a:rPr>
              <a:t>Kostendragers</a:t>
            </a: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 (= producten)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23F3-B871-438C-82A6-E314E79474B7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A5FE-3CB6-4CE2-BB22-41CE270C38E6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Oefenopdracht 4…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…..….......</a:t>
            </a: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kostenplaatse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TextBox 24"/>
          <p:cNvSpPr/>
          <p:nvPr/>
        </p:nvSpPr>
        <p:spPr>
          <a:xfrm>
            <a:off x="786240" y="1116000"/>
            <a:ext cx="533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Deel de volgende kosten in naar kostenplaa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Slide Number Placeholder 2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E672-E4FE-487A-8664-9CD047625991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762120" y="2133720"/>
          <a:ext cx="7189560" cy="3886200"/>
        </p:xfrm>
        <a:graphic>
          <a:graphicData uri="http://schemas.openxmlformats.org/drawingml/2006/table">
            <a:tbl>
              <a:tblPr/>
              <a:tblGrid>
                <a:gridCol w="3403440"/>
                <a:gridCol w="1133640"/>
                <a:gridCol w="1523880"/>
                <a:gridCol w="11286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derwer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l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lfsta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ge koste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of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drank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grondstoff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magazijn 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schrijvingskos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administratief 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verkopend 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produktie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onderhouds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58F3-6D68-4226-AD96-E1F4EBE70E21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A8E5-26D7-4D1C-B338-227FC3FABC72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Les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? Vrag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D21F-2F89-4AE7-A339-24F09FB70974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6F45-90E6-4478-805F-A578EE687D41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539F-C73C-4788-A92C-7BCE7516C38F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uiswer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ak van het bijgeleverde werkboek de volgende vrag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n hoofdstuk 3: vraag1 t/m 10,12, 13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r de volgende les opdracht 2 van de oefenstof (leerarrangement) 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A7E5-7380-4407-924A-2E4B70DD4B4D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E347-689B-4A80-A261-849277110012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nderwerpen voor vandaa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bedrag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ardkostprij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slagmeth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stenplaatsenmeth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9C52-D998-4AA2-A214-F4302196A9C3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B453-9DFC-4996-B92A-C404EB835475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ormbedrag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j het begroten ga je vaak uit van normbedrag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t zijn getallen die in een normale (=gemiddelde) situatie geld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bedragen krijg je via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e v/d boekhoud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igen ervar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nchegegeve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rvaring van ander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rvaring van ander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att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ogisch nadenk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032E-D6E4-461F-AC9C-999607EC4073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5212-AA3B-4CDD-BE40-00A61F201E65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oorbeelden van normbedrag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en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supermark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aakt gemiddeld € 150 omzet per vierkante meter per we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euwbouw kost € 500 per 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pslagfactor in een dierenspeciaalzaak is 2,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en bestelauto kost € 0,60 per k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anleg van een snelweg kost 10 miljoen euro per kilome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en fte kost € 60.000 per ja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1B0A-8228-4E45-95A5-75B69557A0B8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9189-39E1-4675-9940-091BEEB8EBE2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ormbedragen in product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bloemist bindt een boeket in 5 minu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rotatiegietmachin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roduceert 4000 flessen per u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mkommerteelt in glastuinbouw levert 200 stuks per 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er jaar o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paard eet 3 kilo brok per da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B60B-EDAD-430E-A709-B33B71F2220A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8D37-F480-4193-ACEA-DBE04AF1A047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fwijkingen t.o.v. de nor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nneer je afwijkt van de norm, werk je efficienter of minder efficient dan gemiddel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ardoor hou je geld over of kom je geld tekort t.o.v. je begro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109E-D9B2-49F4-B8EF-96A93A518D9A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8195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E7D4-6954-4F10-9EC2-D663B7852AC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prijsbereke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8461-AE83-48B0-856A-6ABB4972EE9D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39EF-A15E-4803-8A47-CFC5D7A1B0F4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tandaardkostprij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le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noodzakelijke of toegestane kosten per eenheid produ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oeveelheid grondstoffen  X  standaardprijz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dig voor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ostenbeheersing (is vóórcalculatie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palen van budgetten (raming v. kosten)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ijsbepaling produc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iterste prijs waartegen men desnoods mag verkopen zonder verlies (=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rensprij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ar de Jong</dc:creator>
  <dc:description/>
  <dc:language>en-US</dc:language>
  <cp:lastModifiedBy>Geraar de Jong</cp:lastModifiedBy>
  <dcterms:modified xsi:type="dcterms:W3CDTF">2013-01-21T22:10:57Z</dcterms:modified>
  <cp:revision>19</cp:revision>
  <dc:subject/>
  <dc:title>PowerPoint-presentatie</dc:title>
</cp:coreProperties>
</file>