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0495-36DA-4DCC-A654-6DBB134827E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830A-381D-4468-B455-259E774C2C89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7FC5-CE29-4A1B-88F7-EF6545974BFC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1AD8-D70E-48EB-AD3A-569CD9B7F837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1CDA-BD40-49F5-B890-2AB466607413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5615-D7F6-49EE-BA9A-4C420D1D7E24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B44E-E8D0-46E9-B2C0-8CE17FC0DEB6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0A4A2-5DFF-46A2-9629-29F9DDB9659A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BADE-59A4-4AE8-BC0C-E8254ADB3717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32EF-D4CC-4551-A45D-37F021369251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1859-5B60-49DE-9B9C-8145FAE88A3F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C479-61EC-47D7-A3C4-52E7D2B9B563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FD2F-143E-42F2-A465-F99B86542A43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43C9-0AAC-4ABD-93D4-71FAF89AA5AE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51B19-7BC7-423C-B531-718D4BDC4758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93BE-BB61-4B41-A951-5EBB9CF0B041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DA29-2BFD-4F27-B214-EDD0775DFD57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C7A4-228B-4F5A-98D5-3A7F1406C8B7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F8A4-D798-4D3D-AB32-EB1B71B7265A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E282-B9CE-4895-A058-660F1D6C339A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2D3D-B148-41E3-9638-87769E83693A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415F-3067-4998-BA5C-AB26F2D7A0F6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7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79F2-AD01-467E-B95F-7DC020B49339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5844-D03E-4E8A-AAAC-221628654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D823-D1B7-4A59-93DD-51AFB86B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0B90-43D7-492D-B114-6FE4D615D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F03D-FD8A-43A5-86D0-64B2A48B6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2329-17DA-4D05-9C57-6DE4CCE62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4DC0-AE99-41F8-939D-055B472F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F9A3-F2BD-4F33-9A2F-44B43011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02EC-B717-4F3B-9CFB-B4A10845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1CEB-2033-42C5-9E47-AF59E777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49B0-BAAB-4AA9-BB64-7AB4C478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5E3E-F13D-45DF-B44E-55BC94FC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F26A-A90A-4A8C-A146-2A8820D4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615C-96C4-4F1F-B993-51A5E211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6B09-FAF3-4F36-8B5E-B944DBBD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843F-CCDA-41DA-9891-2449F379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F9FA-8ECE-4288-AAE9-AC988DB77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4BE09-FE3F-4C89-8F8C-84BE42602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61A1-3E1B-44A5-849B-4CDE8B7B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B210-FA53-4338-91EF-346A0E3A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3786-16FA-4E2D-8FD4-3DCF1FCA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6DB1-52E6-4E6F-BEC7-7068F208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F223-BF5F-4F11-94F0-393E4C7F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38FD-3529-453E-90E5-922EFB41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42F9-47E6-4770-880F-144E2608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D6CA-A056-4CEB-B839-578517558106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819520" y="6324120"/>
            <a:ext cx="35049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C284-8408-4CD4-8EB6-CF8FD669C1FC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1372-D798-4D50-BA51-DD3CC99C7EB5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5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9714-6085-4E95-A390-B61AD7C5201D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home.tiscali.nl/erikhemmes/documents/08FP006.pdf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mvc.machine-video.com/996397e257a4df2fe05f6469d1980499.html?bw=h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8FBF3-00AA-402B-AD5C-F7B4C777AAE5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28195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F287-21FB-4ED9-8CC7-0FAED5C477F8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Begroten en Budgetter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s 3: Kostprijsbereken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Robbert Oostero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C285-1DF5-47CB-9FCE-6390D0CDE07F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B0AC-91D7-4B95-8467-B2403AF86031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tandaardkostprij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ardkostprijs =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ste kosten + variabele kost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 berekene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er produ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ardkostprijs = C/N + V/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otale vaste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stante) kos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male product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otal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iabele kost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verwach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kelijke productieomva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8" dur="1" fill="hold"/>
                                  <p:tgtEl>
                                    <p:spTgt spid="1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  <p:animClr clrSpc="rgb">
                                <p:cBhvr>
                                  <p:cTn id="129" dur="1" fill="hold"/>
                                  <p:tgtEl>
                                    <p:spTgt spid="14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  <p:animClr clrSpc="rgb">
                                <p:cBhvr>
                                  <p:cTn id="130" dur="1" fill="hold"/>
                                  <p:tgtEl>
                                    <p:spTgt spid="14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  <p:animClr clrSpc="rgb">
                                <p:cBhvr>
                                  <p:cTn id="131" dur="1" fill="hold"/>
                                  <p:tgtEl>
                                    <p:spTgt spid="14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  <p:animClr clrSpc="rgb">
                                <p:cBhvr>
                                  <p:cTn id="132" dur="1" fill="hold"/>
                                  <p:tgtEl>
                                    <p:spTgt spid="14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771E-CD65-4EF4-A1F4-DD46FC802D95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6CF8-C8BA-431E-95B4-437AB2E59F46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ostprijs 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ele kost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eranderen evenredig (proportioneel) met de productie en/of verkoo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ijv.: inkoop van grondstoffen/goeder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ste kost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eranderen nauwelijks binnen een bepaalde bandbreed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bijv.: afschrijving van de inventar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E681-1A4F-41C9-9B30-4BC2E72C959B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8E46-9B97-467E-A446-BCF7DE47A301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ostprijs II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7360" indent="-38736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rekte </a:t>
            </a: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kosten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2779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Zijn alle kosten die direct aan product gekoppeld zij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2779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Grondstoffen,  productiepersoneel, productiemachines, verkoop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7360" indent="-38736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Indirecte kosten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2779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Zijn alle kosten die niet rechtstreeks met productie of verkoop te maken hebb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5720" indent="-27792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Onder andere de administratie, kantoormachines en huisves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1CE3-08AF-4104-A580-D3A820F8A9E5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2E5D-EF6C-4122-8EF0-0D63C412E41F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egroten in een organisati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85800" y="1981080"/>
          <a:ext cx="7848720" cy="3184560"/>
        </p:xfrm>
        <a:graphic>
          <a:graphicData uri="http://schemas.openxmlformats.org/drawingml/2006/table">
            <a:tbl>
              <a:tblPr/>
              <a:tblGrid>
                <a:gridCol w="3276720"/>
                <a:gridCol w="457200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nkel / webwinke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slagmetho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fijnde opslagmetho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tiebedrijf / fabrie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plaatsenmetho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enstverlenend bedrijf / maatwer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groten o.b.v. project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A0CD-E580-4934-AF74-FFA4B1281A19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6268-9D90-43D4-90CC-7B0F753A81D6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psla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slag = brutowinst per artik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5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stprijs + Opslag = Verkoopprij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x BTW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gelijk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495680" y="3962520"/>
          <a:ext cx="3886200" cy="1600200"/>
        </p:xfrm>
        <a:graphic>
          <a:graphicData uri="http://schemas.openxmlformats.org/drawingml/2006/table">
            <a:tbl>
              <a:tblPr/>
              <a:tblGrid>
                <a:gridCol w="2590920"/>
                <a:gridCol w="1295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koopwaar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utowin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Line 50"/>
          <p:cNvSpPr/>
          <p:nvPr/>
        </p:nvSpPr>
        <p:spPr>
          <a:xfrm flipH="1">
            <a:off x="5257440" y="3124080"/>
            <a:ext cx="304920" cy="99072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51"/>
          <p:cNvSpPr/>
          <p:nvPr/>
        </p:nvSpPr>
        <p:spPr>
          <a:xfrm>
            <a:off x="2362320" y="3124080"/>
            <a:ext cx="2209680" cy="160020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52"/>
          <p:cNvSpPr/>
          <p:nvPr/>
        </p:nvSpPr>
        <p:spPr>
          <a:xfrm>
            <a:off x="3962520" y="3124080"/>
            <a:ext cx="1218960" cy="205740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6AAB-581F-4909-90B9-CA1F24B99DC2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5679-4E26-4B1A-B7CD-2BB268BE6DE3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pslag: Nut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 de opslag moet je de bedrijfskosten terugverdien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ergelijk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200400" y="3124080"/>
          <a:ext cx="5554800" cy="2971800"/>
        </p:xfrm>
        <a:graphic>
          <a:graphicData uri="http://schemas.openxmlformats.org/drawingml/2006/table">
            <a:tbl>
              <a:tblPr/>
              <a:tblGrid>
                <a:gridCol w="216000"/>
                <a:gridCol w="2544120"/>
                <a:gridCol w="216000"/>
                <a:gridCol w="216000"/>
                <a:gridCol w="2147040"/>
                <a:gridCol w="216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ultatenrekening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ultaat per artikel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koopprij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 w="5760">
                      <a:solidFill>
                        <a:srgbClr val="ff33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31449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2381400"/>
                          <a:tab algn="r" pos="31449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koopwaarde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r" pos="31449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2381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prijs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r" pos="2381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utowin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sla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r" pos="2381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drijfskosten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towin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33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3300"/>
                      </a:solidFill>
                    </a:lnR>
                    <a:lnT>
                      <a:noFill/>
                    </a:lnT>
                    <a:lnB w="5760">
                      <a:solidFill>
                        <a:srgbClr val="ff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AutoShape 325"/>
          <p:cNvSpPr/>
          <p:nvPr/>
        </p:nvSpPr>
        <p:spPr>
          <a:xfrm>
            <a:off x="457200" y="4038480"/>
            <a:ext cx="2895480" cy="457200"/>
          </a:xfrm>
          <a:prstGeom prst="rightArrowCallout">
            <a:avLst>
              <a:gd name="adj1" fmla="val 25002"/>
              <a:gd name="adj2" fmla="val 25000"/>
              <a:gd name="adj3" fmla="val 50694"/>
              <a:gd name="adj4" fmla="val 77852"/>
            </a:avLst>
          </a:prstGeom>
          <a:solidFill>
            <a:srgbClr val="cbcbcb"/>
          </a:solidFill>
          <a:ln cap="sq"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Variabele kos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AutoShape 326"/>
          <p:cNvSpPr/>
          <p:nvPr/>
        </p:nvSpPr>
        <p:spPr>
          <a:xfrm>
            <a:off x="838080" y="5070600"/>
            <a:ext cx="2514600" cy="457200"/>
          </a:xfrm>
          <a:prstGeom prst="rightArrowCallout">
            <a:avLst>
              <a:gd name="adj1" fmla="val 21530"/>
              <a:gd name="adj2" fmla="val 25000"/>
              <a:gd name="adj3" fmla="val 50009"/>
              <a:gd name="adj4" fmla="val 74181"/>
            </a:avLst>
          </a:prstGeom>
          <a:solidFill>
            <a:srgbClr val="cbcbcb"/>
          </a:solidFill>
          <a:ln cap="sq"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Vaste kos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95D0-5815-427A-8C7D-E7B4AD9601B9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5D36-7B76-40D9-8304-C980CEBB5AEC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pslag-kengetall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slagfactor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€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,50 / € 3,00 = 2,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stprijs x 2,5 = Verkoopprij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slagpercentag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€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,50 / € 3,00 * 100% = 150%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stprijs + 150% = Verkoopprij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Bruto)marg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€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,50 / € 7,50 * 100% = 60%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2168640" indent="-22608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% van de verkoopprijs is win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5867280" y="304920"/>
          <a:ext cx="3124440" cy="1296720"/>
        </p:xfrm>
        <a:graphic>
          <a:graphicData uri="http://schemas.openxmlformats.org/drawingml/2006/table">
            <a:tbl>
              <a:tblPr/>
              <a:tblGrid>
                <a:gridCol w="2127240"/>
                <a:gridCol w="997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koopprij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prij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utowin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1" dur="1" fill="hold"/>
                                  <p:tgtEl>
                                    <p:spTgt spid="18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85FA-5FF1-40B7-A58F-765E4C9C6D60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DBFC-E4E2-4808-840F-8B9D37654A54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efenopgave opslag-kengetall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reken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3920" indent="-3204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slagfac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3920" indent="-3204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pslagpercent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53920" indent="-3204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Bruto)mar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038480" y="4267080"/>
          <a:ext cx="4191120" cy="1600200"/>
        </p:xfrm>
        <a:graphic>
          <a:graphicData uri="http://schemas.openxmlformats.org/drawingml/2006/table">
            <a:tbl>
              <a:tblPr/>
              <a:tblGrid>
                <a:gridCol w="2667240"/>
                <a:gridCol w="1523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,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koopwaar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utowin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€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,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4A64-E486-42DE-ABA1-B7669D3618A2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2F5B-F604-4247-A813-69933CB58C3D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pslagmethod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m het gewenste opslagpercentage te bepalen, kun je gebruik maken va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primitieve opslagmetho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619280" indent="-2286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eder product hetzelfde percent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verfijnde opslagmetho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619280" indent="-228600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 product/categorie ander percent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A096-2BBD-4F27-8DA9-48FCFBB6EB35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C799-8FE2-4B29-BA9D-0D73D4E002F2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ostenplaatsenmetho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4019400" y="2259000"/>
            <a:ext cx="1560600" cy="6602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4000680" y="5111640"/>
            <a:ext cx="2028600" cy="66060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274680" y="3114720"/>
            <a:ext cx="1282680" cy="6620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220680" y="3060720"/>
            <a:ext cx="158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Indirec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kost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Box 12"/>
          <p:cNvSpPr/>
          <p:nvPr/>
        </p:nvSpPr>
        <p:spPr>
          <a:xfrm>
            <a:off x="4002120" y="2243160"/>
            <a:ext cx="177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directe kosten afdeling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4016520" y="3143160"/>
            <a:ext cx="1562040" cy="66060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Box 14"/>
          <p:cNvSpPr/>
          <p:nvPr/>
        </p:nvSpPr>
        <p:spPr>
          <a:xfrm>
            <a:off x="3986280" y="3125880"/>
            <a:ext cx="177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directe kosten afdeling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15"/>
          <p:cNvSpPr/>
          <p:nvPr/>
        </p:nvSpPr>
        <p:spPr>
          <a:xfrm>
            <a:off x="4016520" y="4029120"/>
            <a:ext cx="1562040" cy="6620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TextBox 16"/>
          <p:cNvSpPr/>
          <p:nvPr/>
        </p:nvSpPr>
        <p:spPr>
          <a:xfrm>
            <a:off x="3986280" y="4013280"/>
            <a:ext cx="177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directe kosten afdeling 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8" name="Straight Arrow Connector 18"/>
          <p:cNvCxnSpPr>
            <a:endCxn id="203" idx="1"/>
          </p:cNvCxnSpPr>
          <p:nvPr/>
        </p:nvCxnSpPr>
        <p:spPr>
          <a:xfrm flipV="1">
            <a:off x="1571400" y="2596320"/>
            <a:ext cx="2431080" cy="81684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09" name="Straight Arrow Connector 20"/>
          <p:cNvCxnSpPr/>
          <p:nvPr/>
        </p:nvCxnSpPr>
        <p:spPr>
          <a:xfrm>
            <a:off x="1599840" y="3733560"/>
            <a:ext cx="2439000" cy="10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10" name="Straight Arrow Connector 22"/>
          <p:cNvCxnSpPr/>
          <p:nvPr/>
        </p:nvCxnSpPr>
        <p:spPr>
          <a:xfrm>
            <a:off x="990360" y="4419360"/>
            <a:ext cx="2996280" cy="108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11" name="TextBox 26"/>
          <p:cNvSpPr/>
          <p:nvPr/>
        </p:nvSpPr>
        <p:spPr>
          <a:xfrm rot="20479800">
            <a:off x="1544760" y="269676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+ 16 % ind. kos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Straight Connector 32"/>
          <p:cNvSpPr/>
          <p:nvPr/>
        </p:nvSpPr>
        <p:spPr>
          <a:xfrm flipV="1">
            <a:off x="990720" y="3733560"/>
            <a:ext cx="0" cy="685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Box 34"/>
          <p:cNvSpPr/>
          <p:nvPr/>
        </p:nvSpPr>
        <p:spPr>
          <a:xfrm>
            <a:off x="1654560" y="334152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+ 39 % ind. kos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Box 35"/>
          <p:cNvSpPr/>
          <p:nvPr/>
        </p:nvSpPr>
        <p:spPr>
          <a:xfrm>
            <a:off x="1259280" y="404352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+ 45 % ind. kos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Straight Connector 37"/>
          <p:cNvSpPr/>
          <p:nvPr/>
        </p:nvSpPr>
        <p:spPr>
          <a:xfrm>
            <a:off x="3962520" y="4952880"/>
            <a:ext cx="1752480" cy="0"/>
          </a:xfrm>
          <a:prstGeom prst="line">
            <a:avLst/>
          </a:prstGeom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Box 40"/>
          <p:cNvSpPr/>
          <p:nvPr/>
        </p:nvSpPr>
        <p:spPr>
          <a:xfrm>
            <a:off x="5723640" y="457992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Box 41"/>
          <p:cNvSpPr/>
          <p:nvPr/>
        </p:nvSpPr>
        <p:spPr>
          <a:xfrm>
            <a:off x="1425600" y="5110200"/>
            <a:ext cx="114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Kostprij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Produ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Slide Number Placeholder 2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0E59-2DDF-4F3F-B197-43C3FE5BC860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Box 41"/>
          <p:cNvSpPr/>
          <p:nvPr/>
        </p:nvSpPr>
        <p:spPr>
          <a:xfrm>
            <a:off x="4057560" y="5133960"/>
            <a:ext cx="194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Totale kos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Direct &amp; indi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Box 12"/>
          <p:cNvSpPr/>
          <p:nvPr/>
        </p:nvSpPr>
        <p:spPr>
          <a:xfrm>
            <a:off x="2911320" y="4938840"/>
            <a:ext cx="90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00"/>
                </a:solidFill>
                <a:latin typeface="Times New Roman"/>
              </a:rPr>
              <a:t>=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2857680" y="5140440"/>
            <a:ext cx="742680" cy="6602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Box 12"/>
          <p:cNvSpPr/>
          <p:nvPr/>
        </p:nvSpPr>
        <p:spPr>
          <a:xfrm>
            <a:off x="6235560" y="4919760"/>
            <a:ext cx="90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00"/>
                </a:solidFill>
                <a:latin typeface="Times New Roman"/>
              </a:rPr>
              <a:t>/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6181560" y="5121360"/>
            <a:ext cx="743040" cy="6602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7129440" y="5097600"/>
            <a:ext cx="1560600" cy="66024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Box 12"/>
          <p:cNvSpPr/>
          <p:nvPr/>
        </p:nvSpPr>
        <p:spPr>
          <a:xfrm>
            <a:off x="7112160" y="5081760"/>
            <a:ext cx="137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Aan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product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1357200" y="5149800"/>
            <a:ext cx="1184400" cy="66060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43C9-3AA8-4196-93B0-F4BAF323DBA9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0D01-D05D-41C1-8418-B5C1378887AF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Huiswerk vorige wee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ak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ofdstuk 1: vraag 9, 10, 12, 1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ofdstuk 2: vraag 2, 5, 6, 8, 10, 12, 14, 15 en 17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B2C8-783A-4EE2-B845-052D3D62BE62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FA16-1B41-47B5-8D38-686EFD0C4E63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ostenplaatsenmetho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685800" y="1905120"/>
            <a:ext cx="8102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Elke afdeling, direct of indirect betrokken bij de productie, wordt een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kostenplaats</a:t>
            </a: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 genoem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De producten worden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kostendragers</a:t>
            </a: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 genoem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De kostenplaat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n</a:t>
            </a: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methode is een methode om </a:t>
            </a:r>
            <a:r>
              <a:rPr b="0" lang="nl-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indirec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kosten toe te rekenen aan product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Times New Roman"/>
              </a:rPr>
              <a:t>Uiteindelijk wordt de kostprijs van een product bepaald door alle bedrijfskosten (direct en indirect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Slide Number Placeholder 5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73AC-1DE3-4DDE-AAF0-7224930B5688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F4596-DEA2-4B91-BC39-B28AC06A7F26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2167-8BBB-4377-86CD-4EF5003D3218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kostenplaatsen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lke afdeling, direct of indirect betrokken bij de productie, wordt dus een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kostenplaats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genoem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r zijn drie soorten kostenplaatse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ulpkostenplaats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Zelfstandige kostenplaats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oofdkostenplaats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38BF-9B99-4E7F-A304-D0E547FFF03A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47DB-462A-41E6-9184-A462F77491A4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AE94-15A8-4C7C-8896-21040DEEBC88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Kostendragers: </a:t>
            </a:r>
            <a:r>
              <a:rPr b="0" lang="nl-NL" sz="2800" spc="-1" strike="noStrike">
                <a:solidFill>
                  <a:srgbClr val="cbcbcb"/>
                </a:solidFill>
                <a:latin typeface="Times New Roman"/>
              </a:rPr>
              <a:t>producten dragen alle koste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9185-5375-432E-8280-FA104FC4EACE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162840" y="2001960"/>
            <a:ext cx="1560240" cy="44136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Box 12"/>
          <p:cNvSpPr/>
          <p:nvPr/>
        </p:nvSpPr>
        <p:spPr>
          <a:xfrm>
            <a:off x="6102360" y="2014560"/>
            <a:ext cx="17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Directe kost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3014640" y="2025720"/>
            <a:ext cx="1785960" cy="44136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Box 12"/>
          <p:cNvSpPr/>
          <p:nvPr/>
        </p:nvSpPr>
        <p:spPr>
          <a:xfrm>
            <a:off x="2997360" y="2023920"/>
            <a:ext cx="184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Indirecte kost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5872320" y="3486240"/>
            <a:ext cx="2442960" cy="45252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TextBox 12"/>
          <p:cNvSpPr/>
          <p:nvPr/>
        </p:nvSpPr>
        <p:spPr>
          <a:xfrm>
            <a:off x="5811840" y="3552840"/>
            <a:ext cx="25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Hoofdkostenplaats(en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2709720" y="3243240"/>
            <a:ext cx="1791000" cy="73332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Box 12"/>
          <p:cNvSpPr/>
          <p:nvPr/>
        </p:nvSpPr>
        <p:spPr>
          <a:xfrm>
            <a:off x="2706840" y="3262320"/>
            <a:ext cx="184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Zelfstandige kostenplaats(e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561960" y="3238560"/>
            <a:ext cx="1790640" cy="733320"/>
          </a:xfrm>
          <a:prstGeom prst="rect">
            <a:avLst/>
          </a:prstGeom>
          <a:noFill/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Box 17"/>
          <p:cNvSpPr/>
          <p:nvPr/>
        </p:nvSpPr>
        <p:spPr>
          <a:xfrm>
            <a:off x="558720" y="3257640"/>
            <a:ext cx="1846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Times New Roman"/>
              </a:rPr>
              <a:t>Hulpkosten-plaats(e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Down Arrow 18"/>
          <p:cNvSpPr/>
          <p:nvPr/>
        </p:nvSpPr>
        <p:spPr>
          <a:xfrm>
            <a:off x="6800760" y="2457360"/>
            <a:ext cx="243000" cy="101448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ff0000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Striped Right Arrow 20"/>
          <p:cNvSpPr/>
          <p:nvPr/>
        </p:nvSpPr>
        <p:spPr>
          <a:xfrm rot="1349400">
            <a:off x="4387680" y="2909520"/>
            <a:ext cx="2468880" cy="123840"/>
          </a:xfrm>
          <a:custGeom>
            <a:avLst/>
            <a:gdLst/>
            <a:ahLst/>
            <a:rect l="l" t="t" r="r" b="b"/>
            <a:pathLst>
              <a:path w="2468563" h="123825">
                <a:moveTo>
                  <a:pt x="0" y="30956"/>
                </a:moveTo>
                <a:lnTo>
                  <a:pt x="3870" y="30956"/>
                </a:lnTo>
                <a:lnTo>
                  <a:pt x="3870" y="92869"/>
                </a:lnTo>
                <a:lnTo>
                  <a:pt x="0" y="92869"/>
                </a:lnTo>
                <a:lnTo>
                  <a:pt x="0" y="30956"/>
                </a:lnTo>
                <a:close/>
                <a:moveTo>
                  <a:pt x="7739" y="30956"/>
                </a:moveTo>
                <a:lnTo>
                  <a:pt x="15478" y="30956"/>
                </a:lnTo>
                <a:lnTo>
                  <a:pt x="15478" y="92869"/>
                </a:lnTo>
                <a:lnTo>
                  <a:pt x="7739" y="92869"/>
                </a:lnTo>
                <a:lnTo>
                  <a:pt x="7739" y="30956"/>
                </a:lnTo>
                <a:close/>
                <a:moveTo>
                  <a:pt x="19348" y="30956"/>
                </a:moveTo>
                <a:lnTo>
                  <a:pt x="2406651" y="30956"/>
                </a:lnTo>
                <a:lnTo>
                  <a:pt x="2406651" y="0"/>
                </a:lnTo>
                <a:lnTo>
                  <a:pt x="2468563" y="61913"/>
                </a:lnTo>
                <a:lnTo>
                  <a:pt x="2406651" y="123825"/>
                </a:lnTo>
                <a:lnTo>
                  <a:pt x="2406651" y="92869"/>
                </a:lnTo>
                <a:lnTo>
                  <a:pt x="19348" y="92869"/>
                </a:lnTo>
                <a:lnTo>
                  <a:pt x="19348" y="30956"/>
                </a:lnTo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Striped Right Arrow 21"/>
          <p:cNvSpPr/>
          <p:nvPr/>
        </p:nvSpPr>
        <p:spPr>
          <a:xfrm rot="5400000">
            <a:off x="3512880" y="2784600"/>
            <a:ext cx="742680" cy="145800"/>
          </a:xfrm>
          <a:custGeom>
            <a:avLst/>
            <a:gdLst/>
            <a:ahLst/>
            <a:rect l="l" t="t" r="r" b="b"/>
            <a:pathLst>
              <a:path w="742950" h="146050">
                <a:moveTo>
                  <a:pt x="0" y="36513"/>
                </a:moveTo>
                <a:lnTo>
                  <a:pt x="4564" y="36513"/>
                </a:lnTo>
                <a:lnTo>
                  <a:pt x="4564" y="109538"/>
                </a:lnTo>
                <a:lnTo>
                  <a:pt x="0" y="109538"/>
                </a:lnTo>
                <a:lnTo>
                  <a:pt x="0" y="36513"/>
                </a:lnTo>
                <a:close/>
                <a:moveTo>
                  <a:pt x="9128" y="36513"/>
                </a:moveTo>
                <a:lnTo>
                  <a:pt x="18256" y="36513"/>
                </a:lnTo>
                <a:lnTo>
                  <a:pt x="18256" y="109538"/>
                </a:lnTo>
                <a:lnTo>
                  <a:pt x="9128" y="109538"/>
                </a:lnTo>
                <a:lnTo>
                  <a:pt x="9128" y="36513"/>
                </a:lnTo>
                <a:close/>
                <a:moveTo>
                  <a:pt x="22820" y="36513"/>
                </a:moveTo>
                <a:lnTo>
                  <a:pt x="669925" y="36513"/>
                </a:lnTo>
                <a:lnTo>
                  <a:pt x="669925" y="0"/>
                </a:lnTo>
                <a:lnTo>
                  <a:pt x="742950" y="73025"/>
                </a:lnTo>
                <a:lnTo>
                  <a:pt x="669925" y="146050"/>
                </a:lnTo>
                <a:lnTo>
                  <a:pt x="669925" y="109538"/>
                </a:lnTo>
                <a:lnTo>
                  <a:pt x="22820" y="109538"/>
                </a:lnTo>
                <a:lnTo>
                  <a:pt x="22820" y="36513"/>
                </a:lnTo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Striped Right Arrow 22"/>
          <p:cNvSpPr/>
          <p:nvPr/>
        </p:nvSpPr>
        <p:spPr>
          <a:xfrm rot="8559000">
            <a:off x="1977840" y="2812680"/>
            <a:ext cx="1290600" cy="106200"/>
          </a:xfrm>
          <a:custGeom>
            <a:avLst/>
            <a:gdLst/>
            <a:ahLst/>
            <a:rect l="l" t="t" r="r" b="b"/>
            <a:pathLst>
              <a:path w="1290638" h="106363">
                <a:moveTo>
                  <a:pt x="0" y="26591"/>
                </a:moveTo>
                <a:lnTo>
                  <a:pt x="3324" y="26591"/>
                </a:lnTo>
                <a:lnTo>
                  <a:pt x="3324" y="79772"/>
                </a:lnTo>
                <a:lnTo>
                  <a:pt x="0" y="79772"/>
                </a:lnTo>
                <a:lnTo>
                  <a:pt x="0" y="26591"/>
                </a:lnTo>
                <a:close/>
                <a:moveTo>
                  <a:pt x="6648" y="26591"/>
                </a:moveTo>
                <a:lnTo>
                  <a:pt x="13295" y="26591"/>
                </a:lnTo>
                <a:lnTo>
                  <a:pt x="13295" y="79772"/>
                </a:lnTo>
                <a:lnTo>
                  <a:pt x="6648" y="79772"/>
                </a:lnTo>
                <a:lnTo>
                  <a:pt x="6648" y="26591"/>
                </a:lnTo>
                <a:close/>
                <a:moveTo>
                  <a:pt x="16619" y="26591"/>
                </a:moveTo>
                <a:lnTo>
                  <a:pt x="1237457" y="26591"/>
                </a:lnTo>
                <a:lnTo>
                  <a:pt x="1237457" y="0"/>
                </a:lnTo>
                <a:lnTo>
                  <a:pt x="1290638" y="53182"/>
                </a:lnTo>
                <a:lnTo>
                  <a:pt x="1237457" y="106363"/>
                </a:lnTo>
                <a:lnTo>
                  <a:pt x="1237457" y="79772"/>
                </a:lnTo>
                <a:lnTo>
                  <a:pt x="16619" y="79772"/>
                </a:lnTo>
                <a:lnTo>
                  <a:pt x="16619" y="26591"/>
                </a:lnTo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Curved Right Arrow 23"/>
          <p:cNvSpPr/>
          <p:nvPr/>
        </p:nvSpPr>
        <p:spPr>
          <a:xfrm rot="16200000">
            <a:off x="2514600" y="3343320"/>
            <a:ext cx="542880" cy="1828800"/>
          </a:xfrm>
          <a:custGeom>
            <a:avLst/>
            <a:gdLst>
              <a:gd name="textAreaLeft" fmla="*/ 72720 w 542880"/>
              <a:gd name="textAreaRight" fmla="*/ 470160 w 542880"/>
              <a:gd name="textAreaTop" fmla="*/ 406080 h 1828800"/>
              <a:gd name="textAreaBottom" fmla="*/ 13546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598" stAng="-5400000" swAng="-5400000"/>
                <a:lnTo>
                  <a:pt x="0" y="11202"/>
                </a:lnTo>
                <a:arcTo wR="21600" hR="9598" stAng="10800000" swAng="-3590351"/>
                <a:lnTo>
                  <a:pt x="16200" y="21295"/>
                </a:lnTo>
                <a:lnTo>
                  <a:pt x="21600" y="19997"/>
                </a:lnTo>
                <a:lnTo>
                  <a:pt x="16200" y="18089"/>
                </a:lnTo>
                <a:lnTo>
                  <a:pt x="16200" y="18890"/>
                </a:lnTo>
                <a:arcTo wR="21600" hR="9598" stAng="7209649" swAng="3462320"/>
                <a:lnTo>
                  <a:pt x="76" y="10400"/>
                </a:lnTo>
                <a:arcTo wR="21600" hR="9598" stAng="-10671969" swAng="5271969"/>
                <a:close/>
              </a:path>
              <a:path fill="darkenLess" w="21600" h="21600">
                <a:moveTo>
                  <a:pt x="21600" y="0"/>
                </a:moveTo>
                <a:arcTo wR="21600" hR="9598" stAng="-5400000" swAng="-5400000"/>
                <a:lnTo>
                  <a:pt x="0" y="9598"/>
                </a:lnTo>
                <a:arcTo wR="21600" hR="9598" stAng="10800000" swAng="-128031"/>
                <a:lnTo>
                  <a:pt x="76" y="10400"/>
                </a:lnTo>
                <a:arcTo wR="21600" hR="9598" stAng="-10671969" swAng="5271969"/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Curved Right Arrow 24"/>
          <p:cNvSpPr/>
          <p:nvPr/>
        </p:nvSpPr>
        <p:spPr>
          <a:xfrm rot="16200000">
            <a:off x="3555360" y="1383120"/>
            <a:ext cx="1214280" cy="6419880"/>
          </a:xfrm>
          <a:custGeom>
            <a:avLst/>
            <a:gdLst>
              <a:gd name="textAreaLeft" fmla="*/ 162720 w 1214280"/>
              <a:gd name="textAreaRight" fmla="*/ 1051560 w 1214280"/>
              <a:gd name="textAreaTop" fmla="*/ 1491120 h 6419880"/>
              <a:gd name="textAreaBottom" fmla="*/ 4777200 h 641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034" stAng="-5400000" swAng="-5400000"/>
                <a:lnTo>
                  <a:pt x="0" y="11056"/>
                </a:lnTo>
                <a:arcTo wR="21600" hR="10034" stAng="10800000" swAng="-3655957"/>
                <a:lnTo>
                  <a:pt x="16200" y="21281"/>
                </a:lnTo>
                <a:lnTo>
                  <a:pt x="21600" y="20578"/>
                </a:lnTo>
                <a:lnTo>
                  <a:pt x="16200" y="19237"/>
                </a:lnTo>
                <a:lnTo>
                  <a:pt x="16200" y="19748"/>
                </a:lnTo>
                <a:arcTo wR="21600" hR="10034" stAng="7144043" swAng="3574538"/>
                <a:lnTo>
                  <a:pt x="28" y="10545"/>
                </a:lnTo>
                <a:arcTo wR="21600" hR="10034" stAng="-10718581" swAng="5318581"/>
                <a:close/>
              </a:path>
              <a:path fill="darkenLess" w="21600" h="21600">
                <a:moveTo>
                  <a:pt x="21600" y="0"/>
                </a:moveTo>
                <a:arcTo wR="21600" hR="10034" stAng="-5400000" swAng="-5400000"/>
                <a:lnTo>
                  <a:pt x="0" y="10034"/>
                </a:lnTo>
                <a:arcTo wR="21600" hR="10034" stAng="10800000" swAng="-81419"/>
                <a:lnTo>
                  <a:pt x="28" y="10545"/>
                </a:lnTo>
                <a:arcTo wR="21600" hR="10034" stAng="-10718581" swAng="5318581"/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Down Arrow 25"/>
          <p:cNvSpPr/>
          <p:nvPr/>
        </p:nvSpPr>
        <p:spPr>
          <a:xfrm>
            <a:off x="7458120" y="3957480"/>
            <a:ext cx="528480" cy="1011240"/>
          </a:xfrm>
          <a:prstGeom prst="downArrow">
            <a:avLst>
              <a:gd name="adj1" fmla="val 50000"/>
              <a:gd name="adj2" fmla="val 50043"/>
            </a:avLst>
          </a:prstGeom>
          <a:solidFill>
            <a:srgbClr val="00b050"/>
          </a:solidFill>
          <a:ln cap="sq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Picture 2" descr="C:\Program Files\Microsoft Office\MEDIA\CAGCAT10\j0149627.wmf"/>
          <p:cNvPicPr/>
          <p:nvPr/>
        </p:nvPicPr>
        <p:blipFill>
          <a:blip r:embed="rId1"/>
          <a:stretch/>
        </p:blipFill>
        <p:spPr>
          <a:xfrm>
            <a:off x="6353280" y="4768920"/>
            <a:ext cx="2533680" cy="1800000"/>
          </a:xfrm>
          <a:prstGeom prst="rect">
            <a:avLst/>
          </a:prstGeom>
          <a:ln w="0">
            <a:noFill/>
          </a:ln>
        </p:spPr>
      </p:pic>
      <p:cxnSp>
        <p:nvCxnSpPr>
          <p:cNvPr id="262" name="Straight Arrow Connector 28"/>
          <p:cNvCxnSpPr/>
          <p:nvPr/>
        </p:nvCxnSpPr>
        <p:spPr>
          <a:xfrm flipV="1">
            <a:off x="5837040" y="5516280"/>
            <a:ext cx="1005480" cy="519840"/>
          </a:xfrm>
          <a:prstGeom prst="straightConnector1">
            <a:avLst/>
          </a:prstGeom>
          <a:ln cap="sq" w="1260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63" name="TextBox 29"/>
          <p:cNvSpPr/>
          <p:nvPr/>
        </p:nvSpPr>
        <p:spPr>
          <a:xfrm>
            <a:off x="4770360" y="5883120"/>
            <a:ext cx="17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Prijs Produ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Curved Right Arrow 23"/>
          <p:cNvSpPr/>
          <p:nvPr/>
        </p:nvSpPr>
        <p:spPr>
          <a:xfrm rot="16200000">
            <a:off x="4669560" y="2878920"/>
            <a:ext cx="542880" cy="2747880"/>
          </a:xfrm>
          <a:custGeom>
            <a:avLst/>
            <a:gdLst>
              <a:gd name="textAreaLeft" fmla="*/ 72720 w 542880"/>
              <a:gd name="textAreaRight" fmla="*/ 470160 w 542880"/>
              <a:gd name="textAreaTop" fmla="*/ 636120 h 2747880"/>
              <a:gd name="textAreaBottom" fmla="*/ 2044080 h 2747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10000" stAng="-5400000" swAng="-5400000"/>
                <a:lnTo>
                  <a:pt x="0" y="11068"/>
                </a:lnTo>
                <a:arcTo wR="21600" hR="10000" stAng="10800000" swAng="-3650997"/>
                <a:lnTo>
                  <a:pt x="16200" y="21282"/>
                </a:lnTo>
                <a:lnTo>
                  <a:pt x="21600" y="20533"/>
                </a:lnTo>
                <a:lnTo>
                  <a:pt x="16200" y="19148"/>
                </a:lnTo>
                <a:lnTo>
                  <a:pt x="16200" y="19681"/>
                </a:lnTo>
                <a:arcTo wR="21600" hR="10000" stAng="7149003" swAng="3565904"/>
                <a:lnTo>
                  <a:pt x="31" y="10534"/>
                </a:lnTo>
                <a:arcTo wR="21600" hR="10000" stAng="-10714907" swAng="5314907"/>
                <a:close/>
              </a:path>
              <a:path fill="darkenLess" w="21600" h="21600">
                <a:moveTo>
                  <a:pt x="21600" y="0"/>
                </a:moveTo>
                <a:arcTo wR="21600" hR="10000" stAng="-5400000" swAng="-5400000"/>
                <a:lnTo>
                  <a:pt x="0" y="10000"/>
                </a:lnTo>
                <a:arcTo wR="21600" hR="10000" stAng="10800000" swAng="-85093"/>
                <a:lnTo>
                  <a:pt x="31" y="10534"/>
                </a:lnTo>
                <a:arcTo wR="21600" hR="10000" stAng="-10714907" swAng="5314907"/>
                <a:close/>
              </a:path>
            </a:pathLst>
          </a:custGeom>
          <a:solidFill>
            <a:srgbClr val="002060"/>
          </a:solidFill>
          <a:ln cap="sq" w="12600">
            <a:solidFill>
              <a:srgbClr val="ffffff"/>
            </a:solidFill>
            <a:custDash>
              <a:ds d="400000" sp="3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EC27-F798-443F-A6B2-C1D74144A2B3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9CBC-CE57-4FD4-85C6-FECA6416FD78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85800" y="1809720"/>
            <a:ext cx="7772400" cy="42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en hulpkostenplaats verricht diensten voor een andere kostenplaat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en hulpkostenplaats is een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echt bestaande afdelin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oorbeelden van hulpkostenplaatse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Gas, water, elektra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ulpkostenplaatsen moeten wel een naam hebben. In dit geval b.v. de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bestaande afdeling “huisvesting”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2140-1D65-4F71-9613-65608356EB67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kostenplaatsen...........</a:t>
            </a:r>
            <a:r>
              <a:rPr b="0" lang="nl-NL" sz="3200" spc="-1" strike="noStrike">
                <a:solidFill>
                  <a:srgbClr val="cbcbcb"/>
                </a:solidFill>
                <a:latin typeface="Times New Roman"/>
              </a:rPr>
              <a:t>hulpkostenplaats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39F7-4AEA-4FCA-BB38-34CC8474D0A8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9E9F-C3C5-45C4-A05F-10098C407D86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1809720"/>
            <a:ext cx="7772400" cy="42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en zelfstandige kostenplaats is wel een echte afdeling en levert prestaties aan andere afdeling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oorbeelden van zelfstandige kostenplaatse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dministratie, magazijn en onderhou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eze kostenplaatsen hebben van zichzelf al een naam, de afdeling administratie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7CD9-BB70-4EA6-B7B6-7E8FE8A17495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bcbcb"/>
                </a:solidFill>
                <a:latin typeface="Times New Roman"/>
              </a:rPr>
              <a:t>kostenplaatsen</a:t>
            </a: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...........</a:t>
            </a:r>
            <a:r>
              <a:rPr b="0" lang="nl-NL" sz="2800" spc="-1" strike="noStrike">
                <a:solidFill>
                  <a:srgbClr val="cbcbcb"/>
                </a:solidFill>
                <a:latin typeface="Times New Roman"/>
              </a:rPr>
              <a:t>zelfstandige kostenplaat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04FE-B1E2-4445-9A5B-E4359F9DF948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C8C1-EBA5-4C58-A0A9-DC982F016B93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85800" y="1809720"/>
            <a:ext cx="7772400" cy="42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en hoofdkostenplaats is ook een echte afdeling en levert alleen prestaties aan het product. Houden zich dus direct met het product bezig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oorbeelden van hoofdkostenplaatsen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ffcc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Fabricage, montage en verkoop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eze kostenplaatsen hebben van zichzelf al een naam, de afdeling fabricage etc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71B6-BE69-4196-886D-A4E2A96CC066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bcbcb"/>
                </a:solidFill>
                <a:latin typeface="Times New Roman"/>
              </a:rPr>
              <a:t>kostenplaatsen</a:t>
            </a: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..................</a:t>
            </a:r>
            <a:r>
              <a:rPr b="0" lang="nl-NL" sz="2800" spc="-1" strike="noStrike">
                <a:solidFill>
                  <a:srgbClr val="cbcbcb"/>
                </a:solidFill>
                <a:latin typeface="Times New Roman"/>
              </a:rPr>
              <a:t>hoofdkostenplaat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7B13-6BA5-4B9F-8827-CD7171E317CD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F37C-3D0D-4917-8C0F-0B2D8B63D77D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85800" y="1809720"/>
            <a:ext cx="7772400" cy="42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De kostenplaatsen zodanig kiezen dat je alle indirecte kosten over de verschillende kostenplaatsen kunt verdel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et is dus een methode om uiteindelijk de </a:t>
            </a:r>
            <a:r>
              <a:rPr b="0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indirecte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kosten over de kostendragers te verdel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ffffff"/>
                </a:solidFill>
                <a:uFillTx/>
                <a:latin typeface="Arial"/>
              </a:rPr>
              <a:t>Directe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kosten worden rechtstreeks over de kostendragers verdeeld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Slide Number Placeholder 4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1B8E-45BA-4C04-8CEB-CE4A54788021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cbcbcb"/>
                </a:solidFill>
                <a:latin typeface="Times New Roman"/>
              </a:rPr>
              <a:t>Kostendragers</a:t>
            </a: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 (= producten)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B4E7-B3C7-4D7A-A09E-B8761EF80CCE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38C6-9061-4ABD-9217-33860CAF700B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bcbcb"/>
                </a:solidFill>
                <a:latin typeface="Times New Roman"/>
              </a:rPr>
              <a:t>Oefenopdracht 4…</a:t>
            </a: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…..….......</a:t>
            </a:r>
            <a:r>
              <a:rPr b="0" lang="en-US" sz="2800" spc="-1" strike="noStrike">
                <a:solidFill>
                  <a:srgbClr val="cbcbcb"/>
                </a:solidFill>
                <a:latin typeface="Times New Roman"/>
              </a:rPr>
              <a:t>kostenplaatsen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3" name="TextBox 24"/>
          <p:cNvSpPr/>
          <p:nvPr/>
        </p:nvSpPr>
        <p:spPr>
          <a:xfrm>
            <a:off x="786240" y="1116000"/>
            <a:ext cx="533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00"/>
                </a:solidFill>
                <a:latin typeface="Arial"/>
              </a:rPr>
              <a:t>Deel de volgende kosten in naar kostenplaa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Slide Number Placeholder 2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4594-9443-4158-A977-45B0F1052861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762120" y="2133720"/>
          <a:ext cx="7189560" cy="3886200"/>
        </p:xfrm>
        <a:graphic>
          <a:graphicData uri="http://schemas.openxmlformats.org/drawingml/2006/table">
            <a:tbl>
              <a:tblPr/>
              <a:tblGrid>
                <a:gridCol w="3403440"/>
                <a:gridCol w="1133640"/>
                <a:gridCol w="1523880"/>
                <a:gridCol w="11286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derwer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ul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elfstan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ge kosten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of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a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drank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grondstoff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magazijn persone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fschrijvingskost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administratief persone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verkopend persone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produktiepersone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en onderhoudspersone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ijdelijke aanduiding voor datum 1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CF97-19CB-4A31-A774-0C60FDB92795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ijdelijke aanduiding voor voettekst 2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ijdelijke aanduiding voor dianummer 3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9559-7741-469F-A1CE-86E940091D89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bcbcb"/>
                </a:solidFill>
                <a:latin typeface="Times New Roman"/>
              </a:rPr>
              <a:t>Les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? Vrage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Slide Number Placehold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D3FA-3400-4E39-A923-4B7281A5EFA3}" type="slidenum">
              <a:rPr b="0" lang="nl-NL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3BEC-3693-47BB-8C39-3383FE8C07AF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1719-27B8-40CD-BE08-06A803861916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Huiswerk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ak van het bijgeleverde werkboek de volgende vragen: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n hoofdstuk 3: vraag1 t/m 10,12, 13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ver de volgende les opdracht 2 van de oefenstof (leerarrangement) i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F146-45F2-4169-8B0E-458B8B28DF13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251B-4D35-42D8-BC61-BE398893FE4D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nderwerpen voor vandaa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rmbedrag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ardkostprij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slagmetho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stenplaatsenmetho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2130-30CF-4EBF-9232-D41AD17B1E8C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2DDF-C1D8-49B4-9E0B-ED000EBECAB6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Normbedrag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j het begroten ga je vaak uit van normbedrag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t zijn getallen die in een normale (=gemiddelde) situatie gelde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rmbedragen krijg je via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yse v/d boekhoud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igen ervaring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anchegegeven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rvaring van ander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e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rvaring van ander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5264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att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logisch nadenk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6AEF-B70F-4A3F-B651-E27D8FF81835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0431-1DCA-47B7-AE2E-AA67CDC38C18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oorbeelden van normbedrage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en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supermark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aakt gemiddeld € 150 omzet per vierkante meter per week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ieuwbouw kost € 500 per 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opslagfactor in een dierenspeciaalzaak is 2,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en bestelauto kost € 0,60 per k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anleg van een snelweg kost 10 miljoen euro per kilome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en fte kost € 60.000 per ja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" dur="1" fill="hold"/>
                                  <p:tgtEl>
                                    <p:spTgt spid="1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F5E6-6923-4FC6-A9D8-6E2BC3B30AE5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43E1-0C5F-454A-AD3C-FD6A032876EB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Normbedragen in producti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en bloemist bindt een boeket in 5 minut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en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rotatiegietmachin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produceert 4000 flessen per uu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mkommerteelt in glastuinbouw levert 200 stuks per m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per jaar o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en paard eet 3 kilo brok per da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" dur="1" fill="hold"/>
                                  <p:tgtEl>
                                    <p:spTgt spid="1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E6249-85D7-41E3-A290-B2CE34B15373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8D0C-E72E-4EC2-A4C9-F6BA5CE6FE83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fwijkingen t.o.v. de norm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nneer je afwijkt van de norm, werk je efficienter of minder efficient dan gemiddel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ardoor hou je geld over of kom je geld tekort t.o.v. je begro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B5F2-373B-43F8-BA94-851F7A473A5E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2819520" y="617220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493A-C68C-4B54-B479-BE3F26588C27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Kostprijsberekening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atum 3"/>
          <p:cNvSpPr/>
          <p:nvPr/>
        </p:nvSpPr>
        <p:spPr>
          <a:xfrm>
            <a:off x="68580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2A975-10E4-4CFF-9B5B-C03F200B59D2}" type="datetime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ijdelijke aanduiding voor voettekst 4"/>
          <p:cNvSpPr/>
          <p:nvPr/>
        </p:nvSpPr>
        <p:spPr>
          <a:xfrm>
            <a:off x="2819520" y="6324480"/>
            <a:ext cx="350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Basisberekeningen voor begrot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ijdelijke aanduiding voor dianummer 5"/>
          <p:cNvSpPr/>
          <p:nvPr/>
        </p:nvSpPr>
        <p:spPr>
          <a:xfrm>
            <a:off x="6553080" y="632448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ADFA-AF9E-4009-8843-8F3694C88DFB}" type="slidenum">
              <a:rPr b="0" lang="nl-NL" sz="1400" spc="-1" strike="noStrike">
                <a:solidFill>
                  <a:srgbClr val="00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tandaardkostprij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lle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noodzakelijke of toegestane kosten per eenheid produc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oeveelheid grondstoffen  X  standaardprijz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odig voor</a:t>
            </a:r>
            <a:r>
              <a:rPr b="1" lang="nl-NL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: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kostenbeheersing (is vóórcalculatie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epalen van budgetten (raming v. kosten)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rijsbepaling producten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uiterste prijs waartegen men desnoods mag verkopen zonder verlies (=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grensprij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raar de Jong</dc:creator>
  <dc:description/>
  <dc:language>en-US</dc:language>
  <cp:lastModifiedBy>Geraar de Jong</cp:lastModifiedBy>
  <dcterms:modified xsi:type="dcterms:W3CDTF">2013-01-21T22:10:57Z</dcterms:modified>
  <cp:revision>19</cp:revision>
  <dc:subject/>
  <dc:title>PowerPoint-presentatie</dc:title>
</cp:coreProperties>
</file>