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6753-007B-4D09-82D2-61FBFDD95A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B6CF-CD5B-4B96-8B0A-86B815AD077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ADB4-7173-4873-B86A-EE7AE20A13E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AC38-A326-4A46-B2D7-D1B99A2193F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D057-DE1C-4D72-9C3C-15718E68095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1DB0-8C7A-4435-8346-4FCAC139817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EAE2-7401-4D8C-B138-4ADDC974784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B7A6-FA93-4DD9-A9DC-13323697549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001D-5340-497F-84F7-3BCC06B6B21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8A18-F168-42A3-BFAA-961EBC59314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4BB3-8341-4BC1-981D-CA07942D8DE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9F47-964D-4457-B401-8BA332BE7D7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D9A8-08E3-4134-B4C3-D621B8F716F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ABAA-62CF-4E5F-A210-1F44EAAFDBB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A63E-0BB8-4450-9D33-B7A816B36A0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D0A7-4816-4D0B-9F6B-B02C5C0C82B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2B25-6E44-4380-8691-C3C3B0B2123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8BBE-CE0F-4156-8257-9AC9259286A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C2F4-3D9F-4100-BADC-4125B36729C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187A-D302-4A02-B1F9-5BA76D0EA3A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4995-F4A9-47DF-9CF4-1179BF00F47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53BA-0DD0-4E82-B813-666BCE449D2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9979-5D39-4DE5-9F53-584AE247B7F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391-2F42-4B3C-BD05-AE5FB877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F7B-C286-4A22-A84F-83191359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78B-73E3-4563-8099-99DB8CD5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C7C-7F19-4AE7-B249-15C72063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5078-3045-4B25-9ABC-CAAF38B0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3394-5BB8-4B28-9502-A7662DD6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80A2-98CB-4FCD-8605-266A8D79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1985-DEA1-4D8A-83EC-9D99F4CE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C321-28A2-4DAC-9682-7356EDD3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2D6A-22E6-4C3D-AC2D-00FA6014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C00B-C84F-4B35-86C0-43879076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08D-5813-4FBB-8331-95A36879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7127-3FAA-4B67-9E6A-30D95ABD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1F52-69C1-4D8E-9068-47E000FC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D231-48BD-4E2C-A6A3-83426280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F9C0-4E72-4689-BD9F-86C464FA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F1F6-35BE-46A2-ABE9-ED1B8F5F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49A-06A0-459E-9841-C3D140A7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AA2-6929-4DC0-9C0B-EF206CFD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15E-321C-4DD1-94B3-B9EF7E12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E55-1EA7-497C-B7D0-1BDD9CDF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982-FE72-41F3-9FCB-DADA9B78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89B-4944-44B1-AC5C-617BA3A7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0B7-1A96-4F49-A99C-5A9AB79E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FB0B-D19D-4BB2-A160-6C071BF6CB3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32412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C9CA-C611-4824-B3D6-841662D9DDC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4FB4-2348-4740-A738-11816F7513F4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C994-616C-4479-B59B-DFF583E9ED4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ome.tiscali.nl/erikhemmes/documents/08FP006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mvc.machine-video.com/996397e257a4df2fe05f6469d1980499.html?bw=h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41A2-AF6B-4C8A-B7C4-621136B288E2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574D-49ED-4282-A491-5C6FA5C2BF6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Begroten en Budgetter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 3: Kostprijsbereke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obbert Ooste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8AC1-87D2-4A5F-A6CD-46E68D587AF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FCBD-0E3E-4999-A976-26BAD67E387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 + 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 bereken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r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C/N + V/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vaste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tante)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male prod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abele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verwach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kelijke productieomva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" dur="1" fill="hold"/>
                                  <p:tgtEl>
                                    <p:spTgt spid="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9" dur="1" fill="hold"/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0" dur="1" fill="hold"/>
                                  <p:tgtEl>
                                    <p:spTgt spid="14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1" dur="1" fill="hold"/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2" dur="1" fill="hold"/>
                                  <p:tgtEl>
                                    <p:spTgt spid="14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A8CA-3870-4804-A89C-B9DBF0E5722C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F960-C0D4-45B6-806D-18DA8FC1F29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evenredig (proportioneel) met de productie en/of verko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inkoop van grondstoffen/goede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nauwelijks binnen een bepaalde bandbreed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afschrijving van de invent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D9D7-EF47-41DB-8058-AB0A33F99A20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3163-E12A-45BD-ACA0-334B192FF0E6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kte 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direct aan product gekoppeld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Grondstoffen,  productiepersoneel, productiemachines, verko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Indirecte 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niet rechtstreeks met productie of verkoop te maken heb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Onder andere de administratie, kantoormachines en huisve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0BB2-4D3B-405A-923A-22BFA3B55D26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2B06-E044-42C9-A025-C4F697F40A5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groten in een organisa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848720" cy="3184560"/>
        </p:xfrm>
        <a:graphic>
          <a:graphicData uri="http://schemas.openxmlformats.org/drawingml/2006/table">
            <a:tbl>
              <a:tblPr/>
              <a:tblGrid>
                <a:gridCol w="3276720"/>
                <a:gridCol w="4572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kel / webwink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fijnde 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iebedrijf / fabri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plaatsen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enstverlenend bedrijf / maatwe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groten o.b.v. projec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2202-3EBC-4A7E-9FF5-5580229E7BDE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3DA2-2804-4796-BD6F-0C5E93497AF1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 = brutowinst per artik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stprijs + Opslag = Verkoopprij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x BTW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95680" y="3962520"/>
          <a:ext cx="3886200" cy="1600200"/>
        </p:xfrm>
        <a:graphic>
          <a:graphicData uri="http://schemas.openxmlformats.org/drawingml/2006/table">
            <a:tbl>
              <a:tblPr/>
              <a:tblGrid>
                <a:gridCol w="259092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Line 50"/>
          <p:cNvSpPr/>
          <p:nvPr/>
        </p:nvSpPr>
        <p:spPr>
          <a:xfrm flipH="1">
            <a:off x="5257440" y="3124080"/>
            <a:ext cx="304920" cy="9907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51"/>
          <p:cNvSpPr/>
          <p:nvPr/>
        </p:nvSpPr>
        <p:spPr>
          <a:xfrm>
            <a:off x="2362320" y="3124080"/>
            <a:ext cx="2209680" cy="16002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52"/>
          <p:cNvSpPr/>
          <p:nvPr/>
        </p:nvSpPr>
        <p:spPr>
          <a:xfrm>
            <a:off x="3962520" y="3124080"/>
            <a:ext cx="1218960" cy="20574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BD74-0A94-46BA-AEF5-1C615040DCDD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5F93-7463-4254-A2FC-3548B2AE6E9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: Nu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 de opslag moet je de bedrijfskosten terugverdien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00400" y="3124080"/>
          <a:ext cx="5554800" cy="2971800"/>
        </p:xfrm>
        <a:graphic>
          <a:graphicData uri="http://schemas.openxmlformats.org/drawingml/2006/table">
            <a:tbl>
              <a:tblPr/>
              <a:tblGrid>
                <a:gridCol w="216000"/>
                <a:gridCol w="2544120"/>
                <a:gridCol w="216000"/>
                <a:gridCol w="216000"/>
                <a:gridCol w="214704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tenrekening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at per artikel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ijfskoste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AutoShape 325"/>
          <p:cNvSpPr/>
          <p:nvPr/>
        </p:nvSpPr>
        <p:spPr>
          <a:xfrm>
            <a:off x="457200" y="4038480"/>
            <a:ext cx="2895480" cy="457200"/>
          </a:xfrm>
          <a:prstGeom prst="rightArrowCallout">
            <a:avLst>
              <a:gd name="adj1" fmla="val 25002"/>
              <a:gd name="adj2" fmla="val 25000"/>
              <a:gd name="adj3" fmla="val 50694"/>
              <a:gd name="adj4" fmla="val 77852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riabel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326"/>
          <p:cNvSpPr/>
          <p:nvPr/>
        </p:nvSpPr>
        <p:spPr>
          <a:xfrm>
            <a:off x="838080" y="5070600"/>
            <a:ext cx="2514600" cy="457200"/>
          </a:xfrm>
          <a:prstGeom prst="rightArrowCallout">
            <a:avLst>
              <a:gd name="adj1" fmla="val 21530"/>
              <a:gd name="adj2" fmla="val 25000"/>
              <a:gd name="adj3" fmla="val 50009"/>
              <a:gd name="adj4" fmla="val 74181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st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AC5F-791D-41D9-A4BF-0DF26FC99546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7066-E843-4120-88F9-F3304C526CD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,50 / € 3,00 = 2,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x 2,5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3,00 * 100% = 15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+ 150%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7,50 * 100% = 6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% van de verkoopprijs is win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867280" y="304920"/>
          <a:ext cx="3124440" cy="1296720"/>
        </p:xfrm>
        <a:graphic>
          <a:graphicData uri="http://schemas.openxmlformats.org/drawingml/2006/table">
            <a:tbl>
              <a:tblPr/>
              <a:tblGrid>
                <a:gridCol w="2127240"/>
                <a:gridCol w="99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1" dur="1" fill="hold"/>
                                  <p:tgtEl>
                                    <p:spTgt spid="18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D06E-31B5-4449-B40F-63ED32329A1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5777-0796-4E9F-9B3A-015B31E1DD6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efenopgave 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ek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038480" y="4267080"/>
          <a:ext cx="4191120" cy="1600200"/>
        </p:xfrm>
        <a:graphic>
          <a:graphicData uri="http://schemas.openxmlformats.org/drawingml/2006/table">
            <a:tbl>
              <a:tblPr/>
              <a:tblGrid>
                <a:gridCol w="2667240"/>
                <a:gridCol w="1523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6A7F-B882-40B2-9BF5-7080F2ED5F4C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B89C-308A-4AE1-AD89-D12BA61E481B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method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m het gewenste opslagpercentage te bepalen, kun je gebruik maken v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primitiev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eder product hetzelfde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verfijnd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 product/categorie ander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76D2-4D0D-4E70-8E72-774C1BA31B0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990C-873F-4CA6-9930-064894C3BFF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019400" y="22590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000680" y="5111640"/>
            <a:ext cx="20286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74680" y="3114720"/>
            <a:ext cx="128268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220680" y="3060720"/>
            <a:ext cx="15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Indirec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4002120" y="224316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4016520" y="3143160"/>
            <a:ext cx="156204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3986280" y="31258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4016520" y="4029120"/>
            <a:ext cx="156204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3986280" y="40132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8" name="Straight Arrow Connector 18"/>
          <p:cNvCxnSpPr>
            <a:endCxn id="203" idx="1"/>
          </p:cNvCxnSpPr>
          <p:nvPr/>
        </p:nvCxnSpPr>
        <p:spPr>
          <a:xfrm flipV="1">
            <a:off x="1571400" y="2596320"/>
            <a:ext cx="2431080" cy="816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9" name="Straight Arrow Connector 20"/>
          <p:cNvCxnSpPr/>
          <p:nvPr/>
        </p:nvCxnSpPr>
        <p:spPr>
          <a:xfrm>
            <a:off x="1599840" y="3733560"/>
            <a:ext cx="243900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0" name="Straight Arrow Connector 22"/>
          <p:cNvCxnSpPr/>
          <p:nvPr/>
        </p:nvCxnSpPr>
        <p:spPr>
          <a:xfrm>
            <a:off x="990360" y="4419360"/>
            <a:ext cx="299628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 rot="20479800">
            <a:off x="1544760" y="269676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16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traight Connector 32"/>
          <p:cNvSpPr/>
          <p:nvPr/>
        </p:nvSpPr>
        <p:spPr>
          <a:xfrm flipV="1">
            <a:off x="990720" y="373356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654560" y="3341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39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1259280" y="4043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45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Straight Connector 37"/>
          <p:cNvSpPr/>
          <p:nvPr/>
        </p:nvSpPr>
        <p:spPr>
          <a:xfrm>
            <a:off x="3962520" y="4952880"/>
            <a:ext cx="175248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Box 40"/>
          <p:cNvSpPr/>
          <p:nvPr/>
        </p:nvSpPr>
        <p:spPr>
          <a:xfrm>
            <a:off x="5723640" y="4579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Box 41"/>
          <p:cNvSpPr/>
          <p:nvPr/>
        </p:nvSpPr>
        <p:spPr>
          <a:xfrm>
            <a:off x="1425600" y="5110200"/>
            <a:ext cx="11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Kostprij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2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4E00-C84F-4D50-8A50-6F5371BD6F4A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41"/>
          <p:cNvSpPr/>
          <p:nvPr/>
        </p:nvSpPr>
        <p:spPr>
          <a:xfrm>
            <a:off x="4057560" y="513396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Totale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 &amp; in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2911320" y="493884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=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857680" y="5140440"/>
            <a:ext cx="74268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6235560" y="491976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/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181560" y="5121360"/>
            <a:ext cx="74304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129440" y="50976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7112160" y="5081760"/>
            <a:ext cx="137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Aa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357200" y="5149800"/>
            <a:ext cx="11844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4656-EFEB-4607-B6FE-286605B7FE30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95FF-1044-451C-9617-365A28F236F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 vorige we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a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1: vraag 9, 10, 12, 1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2: vraag 2, 5, 6, 8, 10, 12, 14, 15 en 17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46DE-667C-49BB-8E42-03579EACBC6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BD26-DF0E-4C1C-9F8E-A24EC8C2E895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85800" y="1905120"/>
            <a:ext cx="8102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Elke afdeling, direct of indirect betrokken bij de productie, wordt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plaat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producten word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drager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kostenplaa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methode is een methode om </a:t>
            </a:r>
            <a:r>
              <a:rPr b="0" lang="nl-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direc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kosten toe te rekenen aan produc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Uiteindelijk wordt de kostprijs van een product bepaald door alle bedrijfskosten (direct en indirec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Slide Number Placeholder 5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F006-26B0-4ECB-B738-897165F1FFBA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2E88-E19B-4B66-AE9D-E63EACEFA5A6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44BA-911F-4D29-B85A-D5FDAE37C378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ke afdeling, direct of indirect betrokken bij de productie, wordt du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kostenplaats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genoem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r zijn drie soorten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Zelfstandige 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ofdkostenplaats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1E86-96FA-4A9F-9CC3-4DD787C82540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681D-AD0E-4E03-9B18-B15B1415EE2F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B7AC-20DF-4238-B380-83129B7421A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dragers: 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producten dragen alle kost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4B3F-1F5D-43EC-9CC3-859818E48091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162840" y="2001960"/>
            <a:ext cx="156024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6102360" y="201456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014640" y="2025720"/>
            <a:ext cx="178596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2997360" y="2023920"/>
            <a:ext cx="18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n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872320" y="3486240"/>
            <a:ext cx="2442960" cy="4525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5811840" y="3552840"/>
            <a:ext cx="25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oofdkostenplaats(e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709720" y="3243240"/>
            <a:ext cx="179100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2706840" y="3262320"/>
            <a:ext cx="184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Zelfstandige kosten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561960" y="3238560"/>
            <a:ext cx="179064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17"/>
          <p:cNvSpPr/>
          <p:nvPr/>
        </p:nvSpPr>
        <p:spPr>
          <a:xfrm>
            <a:off x="558720" y="3257640"/>
            <a:ext cx="18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ulpkosten-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Down Arrow 18"/>
          <p:cNvSpPr/>
          <p:nvPr/>
        </p:nvSpPr>
        <p:spPr>
          <a:xfrm>
            <a:off x="6800760" y="2457360"/>
            <a:ext cx="243000" cy="10144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Striped Right Arrow 20"/>
          <p:cNvSpPr/>
          <p:nvPr/>
        </p:nvSpPr>
        <p:spPr>
          <a:xfrm rot="1349400">
            <a:off x="4387680" y="2909520"/>
            <a:ext cx="2468880" cy="123840"/>
          </a:xfrm>
          <a:custGeom>
            <a:avLst/>
            <a:gdLst/>
            <a:ahLst/>
            <a:rect l="l" t="t" r="r" b="b"/>
            <a:pathLst>
              <a:path w="2468563" h="123825">
                <a:moveTo>
                  <a:pt x="0" y="30956"/>
                </a:moveTo>
                <a:lnTo>
                  <a:pt x="3870" y="30956"/>
                </a:lnTo>
                <a:lnTo>
                  <a:pt x="3870" y="92869"/>
                </a:lnTo>
                <a:lnTo>
                  <a:pt x="0" y="92869"/>
                </a:lnTo>
                <a:lnTo>
                  <a:pt x="0" y="30956"/>
                </a:lnTo>
                <a:close/>
                <a:moveTo>
                  <a:pt x="7739" y="30956"/>
                </a:moveTo>
                <a:lnTo>
                  <a:pt x="15478" y="30956"/>
                </a:lnTo>
                <a:lnTo>
                  <a:pt x="15478" y="92869"/>
                </a:lnTo>
                <a:lnTo>
                  <a:pt x="7739" y="92869"/>
                </a:lnTo>
                <a:lnTo>
                  <a:pt x="7739" y="30956"/>
                </a:lnTo>
                <a:close/>
                <a:moveTo>
                  <a:pt x="19348" y="30956"/>
                </a:moveTo>
                <a:lnTo>
                  <a:pt x="2406651" y="30956"/>
                </a:lnTo>
                <a:lnTo>
                  <a:pt x="2406651" y="0"/>
                </a:lnTo>
                <a:lnTo>
                  <a:pt x="2468563" y="61913"/>
                </a:lnTo>
                <a:lnTo>
                  <a:pt x="2406651" y="123825"/>
                </a:lnTo>
                <a:lnTo>
                  <a:pt x="2406651" y="92869"/>
                </a:lnTo>
                <a:lnTo>
                  <a:pt x="19348" y="92869"/>
                </a:lnTo>
                <a:lnTo>
                  <a:pt x="19348" y="30956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triped Right Arrow 21"/>
          <p:cNvSpPr/>
          <p:nvPr/>
        </p:nvSpPr>
        <p:spPr>
          <a:xfrm rot="5400000">
            <a:off x="3512880" y="2784600"/>
            <a:ext cx="742680" cy="145800"/>
          </a:xfrm>
          <a:custGeom>
            <a:avLst/>
            <a:gdLst/>
            <a:ahLst/>
            <a:rect l="l" t="t" r="r" b="b"/>
            <a:pathLst>
              <a:path w="742950" h="146050">
                <a:moveTo>
                  <a:pt x="0" y="36513"/>
                </a:moveTo>
                <a:lnTo>
                  <a:pt x="4564" y="36513"/>
                </a:lnTo>
                <a:lnTo>
                  <a:pt x="4564" y="109538"/>
                </a:lnTo>
                <a:lnTo>
                  <a:pt x="0" y="109538"/>
                </a:lnTo>
                <a:lnTo>
                  <a:pt x="0" y="36513"/>
                </a:lnTo>
                <a:close/>
                <a:moveTo>
                  <a:pt x="9128" y="36513"/>
                </a:moveTo>
                <a:lnTo>
                  <a:pt x="18256" y="36513"/>
                </a:lnTo>
                <a:lnTo>
                  <a:pt x="18256" y="109538"/>
                </a:lnTo>
                <a:lnTo>
                  <a:pt x="9128" y="109538"/>
                </a:lnTo>
                <a:lnTo>
                  <a:pt x="9128" y="36513"/>
                </a:lnTo>
                <a:close/>
                <a:moveTo>
                  <a:pt x="22820" y="36513"/>
                </a:moveTo>
                <a:lnTo>
                  <a:pt x="669925" y="36513"/>
                </a:lnTo>
                <a:lnTo>
                  <a:pt x="669925" y="0"/>
                </a:lnTo>
                <a:lnTo>
                  <a:pt x="742950" y="73025"/>
                </a:lnTo>
                <a:lnTo>
                  <a:pt x="669925" y="146050"/>
                </a:lnTo>
                <a:lnTo>
                  <a:pt x="669925" y="109538"/>
                </a:lnTo>
                <a:lnTo>
                  <a:pt x="22820" y="109538"/>
                </a:lnTo>
                <a:lnTo>
                  <a:pt x="22820" y="36513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triped Right Arrow 22"/>
          <p:cNvSpPr/>
          <p:nvPr/>
        </p:nvSpPr>
        <p:spPr>
          <a:xfrm rot="8559000">
            <a:off x="1977840" y="2812680"/>
            <a:ext cx="1290600" cy="106200"/>
          </a:xfrm>
          <a:custGeom>
            <a:avLst/>
            <a:gdLst/>
            <a:ahLst/>
            <a:rect l="l" t="t" r="r" b="b"/>
            <a:pathLst>
              <a:path w="1290638" h="106363">
                <a:moveTo>
                  <a:pt x="0" y="26591"/>
                </a:moveTo>
                <a:lnTo>
                  <a:pt x="3324" y="26591"/>
                </a:lnTo>
                <a:lnTo>
                  <a:pt x="3324" y="79772"/>
                </a:lnTo>
                <a:lnTo>
                  <a:pt x="0" y="79772"/>
                </a:lnTo>
                <a:lnTo>
                  <a:pt x="0" y="26591"/>
                </a:lnTo>
                <a:close/>
                <a:moveTo>
                  <a:pt x="6648" y="26591"/>
                </a:moveTo>
                <a:lnTo>
                  <a:pt x="13295" y="26591"/>
                </a:lnTo>
                <a:lnTo>
                  <a:pt x="13295" y="79772"/>
                </a:lnTo>
                <a:lnTo>
                  <a:pt x="6648" y="79772"/>
                </a:lnTo>
                <a:lnTo>
                  <a:pt x="6648" y="26591"/>
                </a:lnTo>
                <a:close/>
                <a:moveTo>
                  <a:pt x="16619" y="26591"/>
                </a:moveTo>
                <a:lnTo>
                  <a:pt x="1237457" y="26591"/>
                </a:lnTo>
                <a:lnTo>
                  <a:pt x="1237457" y="0"/>
                </a:lnTo>
                <a:lnTo>
                  <a:pt x="1290638" y="53182"/>
                </a:lnTo>
                <a:lnTo>
                  <a:pt x="1237457" y="106363"/>
                </a:lnTo>
                <a:lnTo>
                  <a:pt x="1237457" y="79772"/>
                </a:lnTo>
                <a:lnTo>
                  <a:pt x="16619" y="79772"/>
                </a:lnTo>
                <a:lnTo>
                  <a:pt x="16619" y="26591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Curved Right Arrow 23"/>
          <p:cNvSpPr/>
          <p:nvPr/>
        </p:nvSpPr>
        <p:spPr>
          <a:xfrm rot="16200000">
            <a:off x="2514600" y="3343320"/>
            <a:ext cx="542880" cy="1828800"/>
          </a:xfrm>
          <a:custGeom>
            <a:avLst/>
            <a:gdLst>
              <a:gd name="textAreaLeft" fmla="*/ 72720 w 542880"/>
              <a:gd name="textAreaRight" fmla="*/ 470160 w 542880"/>
              <a:gd name="textAreaTop" fmla="*/ 406080 h 1828800"/>
              <a:gd name="textAreaBottom" fmla="*/ 13546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98" stAng="-5400000" swAng="-5400000"/>
                <a:lnTo>
                  <a:pt x="0" y="11202"/>
                </a:lnTo>
                <a:arcTo wR="21600" hR="9598" stAng="10800000" swAng="-3590351"/>
                <a:lnTo>
                  <a:pt x="16200" y="21295"/>
                </a:lnTo>
                <a:lnTo>
                  <a:pt x="21600" y="19997"/>
                </a:lnTo>
                <a:lnTo>
                  <a:pt x="16200" y="18089"/>
                </a:lnTo>
                <a:lnTo>
                  <a:pt x="16200" y="18890"/>
                </a:lnTo>
                <a:arcTo wR="21600" hR="9598" stAng="7209649" swAng="3462320"/>
                <a:lnTo>
                  <a:pt x="76" y="10400"/>
                </a:lnTo>
                <a:arcTo wR="21600" hR="9598" stAng="-10671969" swAng="5271969"/>
                <a:close/>
              </a:path>
              <a:path fill="darkenLess" w="21600" h="21600">
                <a:moveTo>
                  <a:pt x="21600" y="0"/>
                </a:moveTo>
                <a:arcTo wR="21600" hR="9598" stAng="-5400000" swAng="-5400000"/>
                <a:lnTo>
                  <a:pt x="0" y="9598"/>
                </a:lnTo>
                <a:arcTo wR="21600" hR="9598" stAng="10800000" swAng="-128031"/>
                <a:lnTo>
                  <a:pt x="76" y="10400"/>
                </a:lnTo>
                <a:arcTo wR="21600" hR="9598" stAng="-10671969" swAng="5271969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Curved Right Arrow 24"/>
          <p:cNvSpPr/>
          <p:nvPr/>
        </p:nvSpPr>
        <p:spPr>
          <a:xfrm rot="16200000">
            <a:off x="3555360" y="1383120"/>
            <a:ext cx="1214280" cy="6419880"/>
          </a:xfrm>
          <a:custGeom>
            <a:avLst/>
            <a:gdLst>
              <a:gd name="textAreaLeft" fmla="*/ 162720 w 1214280"/>
              <a:gd name="textAreaRight" fmla="*/ 1051560 w 1214280"/>
              <a:gd name="textAreaTop" fmla="*/ 1491120 h 6419880"/>
              <a:gd name="textAreaBottom" fmla="*/ 4777200 h 641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34" stAng="-5400000" swAng="-5400000"/>
                <a:lnTo>
                  <a:pt x="0" y="11056"/>
                </a:lnTo>
                <a:arcTo wR="21600" hR="10034" stAng="10800000" swAng="-3655957"/>
                <a:lnTo>
                  <a:pt x="16200" y="21281"/>
                </a:lnTo>
                <a:lnTo>
                  <a:pt x="21600" y="20578"/>
                </a:lnTo>
                <a:lnTo>
                  <a:pt x="16200" y="19237"/>
                </a:lnTo>
                <a:lnTo>
                  <a:pt x="16200" y="19748"/>
                </a:lnTo>
                <a:arcTo wR="21600" hR="10034" stAng="7144043" swAng="3574538"/>
                <a:lnTo>
                  <a:pt x="28" y="10545"/>
                </a:lnTo>
                <a:arcTo wR="21600" hR="10034" stAng="-10718581" swAng="5318581"/>
                <a:close/>
              </a:path>
              <a:path fill="darkenLess" w="21600" h="21600">
                <a:moveTo>
                  <a:pt x="21600" y="0"/>
                </a:moveTo>
                <a:arcTo wR="21600" hR="10034" stAng="-5400000" swAng="-5400000"/>
                <a:lnTo>
                  <a:pt x="0" y="10034"/>
                </a:lnTo>
                <a:arcTo wR="21600" hR="10034" stAng="10800000" swAng="-81419"/>
                <a:lnTo>
                  <a:pt x="28" y="10545"/>
                </a:lnTo>
                <a:arcTo wR="21600" hR="10034" stAng="-10718581" swAng="5318581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Down Arrow 25"/>
          <p:cNvSpPr/>
          <p:nvPr/>
        </p:nvSpPr>
        <p:spPr>
          <a:xfrm>
            <a:off x="7458120" y="3957480"/>
            <a:ext cx="528480" cy="101124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C:\Program Files\Microsoft Office\MEDIA\CAGCAT10\j0149627.wmf"/>
          <p:cNvPicPr/>
          <p:nvPr/>
        </p:nvPicPr>
        <p:blipFill>
          <a:blip r:embed="rId1"/>
          <a:stretch/>
        </p:blipFill>
        <p:spPr>
          <a:xfrm>
            <a:off x="6353280" y="4768920"/>
            <a:ext cx="2533680" cy="1800000"/>
          </a:xfrm>
          <a:prstGeom prst="rect">
            <a:avLst/>
          </a:prstGeom>
          <a:ln w="0">
            <a:noFill/>
          </a:ln>
        </p:spPr>
      </p:pic>
      <p:cxnSp>
        <p:nvCxnSpPr>
          <p:cNvPr id="262" name="Straight Arrow Connector 28"/>
          <p:cNvCxnSpPr/>
          <p:nvPr/>
        </p:nvCxnSpPr>
        <p:spPr>
          <a:xfrm flipV="1">
            <a:off x="5837040" y="5516280"/>
            <a:ext cx="1005480" cy="519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3" name="TextBox 29"/>
          <p:cNvSpPr/>
          <p:nvPr/>
        </p:nvSpPr>
        <p:spPr>
          <a:xfrm>
            <a:off x="4770360" y="58831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Prijs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Curved Right Arrow 23"/>
          <p:cNvSpPr/>
          <p:nvPr/>
        </p:nvSpPr>
        <p:spPr>
          <a:xfrm rot="16200000">
            <a:off x="4669560" y="2878920"/>
            <a:ext cx="542880" cy="2747880"/>
          </a:xfrm>
          <a:custGeom>
            <a:avLst/>
            <a:gdLst>
              <a:gd name="textAreaLeft" fmla="*/ 72720 w 542880"/>
              <a:gd name="textAreaRight" fmla="*/ 470160 w 542880"/>
              <a:gd name="textAreaTop" fmla="*/ 636120 h 2747880"/>
              <a:gd name="textAreaBottom" fmla="*/ 2044080 h 274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0" stAng="-5400000" swAng="-5400000"/>
                <a:lnTo>
                  <a:pt x="0" y="11068"/>
                </a:lnTo>
                <a:arcTo wR="21600" hR="10000" stAng="10800000" swAng="-3650997"/>
                <a:lnTo>
                  <a:pt x="16200" y="21282"/>
                </a:lnTo>
                <a:lnTo>
                  <a:pt x="21600" y="20533"/>
                </a:lnTo>
                <a:lnTo>
                  <a:pt x="16200" y="19148"/>
                </a:lnTo>
                <a:lnTo>
                  <a:pt x="16200" y="19681"/>
                </a:lnTo>
                <a:arcTo wR="21600" hR="10000" stAng="7149003" swAng="3565904"/>
                <a:lnTo>
                  <a:pt x="31" y="10534"/>
                </a:lnTo>
                <a:arcTo wR="21600" hR="10000" stAng="-10714907" swAng="5314907"/>
                <a:close/>
              </a:path>
              <a:path fill="darkenLess" w="21600" h="21600">
                <a:moveTo>
                  <a:pt x="21600" y="0"/>
                </a:moveTo>
                <a:arcTo wR="21600" hR="10000" stAng="-5400000" swAng="-5400000"/>
                <a:lnTo>
                  <a:pt x="0" y="10000"/>
                </a:lnTo>
                <a:arcTo wR="21600" hR="10000" stAng="10800000" swAng="-85093"/>
                <a:lnTo>
                  <a:pt x="31" y="10534"/>
                </a:lnTo>
                <a:arcTo wR="21600" hR="10000" stAng="-10714907" swAng="5314907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B9D7-D88C-4A94-80AA-B74546C5E082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750E-4379-4606-B1C1-713C4176C4C5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verricht diensten voor een andere kostenplaa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i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echt bestaande afdel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ulp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as, water, elektra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 moeten wel een naam hebben. In dit geval b.v.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bestaande afdeling “huisvesting”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6EA4-7001-48EA-969B-418863952F3F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..........</a:t>
            </a: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hulpkostenplaat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241B-D8E8-4621-8488-24E2BCD1B8E4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6893-2CC5-4B19-83C6-33AD891DEEC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zelfstandige kostenplaats is wel een echte afdeling en levert prestaties aan andere afdeling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zelfstandige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ministratie, magazijn en onderhou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administrati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F96E-5C88-48D7-96CF-141CE6EC9C79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zelfstandige 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605A-0E80-4EE2-A946-7A16AFB70872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8056-DCDB-43BA-8385-6BDC7A9B86F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oofdkostenplaats is ook een echte afdeling en levert alleen prestaties aan het product. Houden zich dus direct met het product bezi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oofd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abricage, montage en verkoop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fabricag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8387-6497-4FF0-8407-DBAD5B692108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hoofd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0BBC-89C8-475E-B330-3B6C181E792A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502B-6969-4CB6-B502-3F0EA4E0E9C9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kostenplaatsen zodanig kiezen dat je alle indirecte kosten over de verschillende kostenplaatsen kunt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t is dus een methode om uiteindelijk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in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over de kostendragers te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worden rechtstreeks over de kostendragers verde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C11D-D196-4086-899C-82707505B6E3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cbcbcb"/>
                </a:solidFill>
                <a:latin typeface="Times New Roman"/>
              </a:rPr>
              <a:t>Kostendragers</a:t>
            </a: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 (= producten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579C-1EC3-4A73-B529-5E22137CA79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B803-4AE6-49FD-B855-E0ED424EB6C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efenopdracht 4…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…..….......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786240" y="1116000"/>
            <a:ext cx="533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Deel de volgende kosten in naar kostenpla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Slide Number Placeholder 2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3616-D776-4E74-B824-CB6031C4C424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762120" y="2133720"/>
          <a:ext cx="7189560" cy="3886200"/>
        </p:xfrm>
        <a:graphic>
          <a:graphicData uri="http://schemas.openxmlformats.org/drawingml/2006/table">
            <a:tbl>
              <a:tblPr/>
              <a:tblGrid>
                <a:gridCol w="3403440"/>
                <a:gridCol w="1133640"/>
                <a:gridCol w="1523880"/>
                <a:gridCol w="1128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derwer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l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lfsta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e koste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of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drank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grondstoff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magazijn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schrijvings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administratief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verkopend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produktie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onderhouds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60D3-4D82-4F50-AA0A-BE008AD6226A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C5EE-C485-4304-AB6D-0D7924CBF27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Les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? Vra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5A22-B0CB-4D78-B7A2-20B31D9F4571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56A1-7F0D-4028-AC27-17A80E1E962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22F4-10B0-4767-A7FE-7443068C437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ak van het bijgeleverde werkboek de volgende vrag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n hoofdstuk 3: vraag1 t/m 10,12, 13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 de volgende les opdracht 2 van de oefenstof (leerarrangement) 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33F8-78B1-4CC9-A0D8-9827101E328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A6D1-BE00-45E2-B9F3-D0608A622D6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nderwerpen voor vanda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bedrag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stenplaatsen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6234-7C4E-431D-BFBA-39BAC62E902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E6DC-E9D7-4095-A67E-0256F61C89AE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j het begroten ga je vaak uit van normbedra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t zijn getallen die in een normale (=gemiddelde) situatie geld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bedragen krijg je vi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e v/d boekhoud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igen ervar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nchegegeve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at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ogisch nadenk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7B90-073E-4F71-B29E-A0E3CE831FD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82F9-1BE6-4772-9542-8BD77A422AF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oorbeelden van 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supermark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aakt gemiddeld € 150 omzet per vierkante meter per we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euwbouw kost € 500 per 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pslagfactor in een dierenspeciaalzaak is 2,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bestelauto kost € 0,60 per k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anleg van een snelweg kost 10 miljoen euro per kilome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fte kost € 60.000 per ja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C6CA-C5F6-4D80-B21D-77E6BE842D4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DB06-BE5B-43CB-A235-EAD235611289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 in produc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bloemist bindt een boeket in 5 minu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rotatiegietmach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duceert 4000 flessen per u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mkommerteelt in glastuinbouw levert 200 stuks per 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er jaar o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paard eet 3 kilo brok per da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06F4-D4BE-4A5F-BF2A-2C5BA3DA19CA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37E9-F911-4343-BF5E-E0C90D9D45C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fwijkingen t.o.v. de nor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nneer je afwijkt van de norm, werk je efficienter of minder efficient dan gemidde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ardoor hou je geld over of kom je geld tekort t.o.v. je begro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10EB-E8AE-418A-B179-4FDF050DED78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8BF2-F4F7-47B6-9BE5-1281FF02475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bereke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C23B-706A-4C3D-AB76-393C51E091D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6B59-46C2-4253-AD2B-B3406052F6B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e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oodzakelijke of toegestane kosten per eenheid produ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eveelheid grondstoffen  X  standaardprijz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dig voor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beheersing (is vóórcalculatie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palen van budgetten (raming v. kosten)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ijsbepaling produc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iterste prijs waartegen men desnoods mag verkopen zonder verlies (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rensprij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ar de Jong</dc:creator>
  <dc:description/>
  <dc:language>en-US</dc:language>
  <cp:lastModifiedBy>Geraar de Jong</cp:lastModifiedBy>
  <dcterms:modified xsi:type="dcterms:W3CDTF">2013-01-21T22:10:57Z</dcterms:modified>
  <cp:revision>19</cp:revision>
  <dc:subject/>
  <dc:title>PowerPoint-presentatie</dc:title>
</cp:coreProperties>
</file>