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2AF2-D1CC-4C05-B45F-B866CB97A3A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70B0-912A-4E37-BE8A-187314264F7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A49C-A365-4D2D-AF3F-4F761C4E70B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740D-7C66-4891-A236-9DD907ECB99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57E3-26E4-4AC0-8B49-30B0A385E78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F75C-724E-4F31-A59E-75E38D860F8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1697-4113-4796-B4BF-1C0E2248E78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873E-5F82-4162-A16D-7504FD11324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6ADE-EF0E-4CD5-B987-1E59FEDAA61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71CD-35F9-4835-B154-A4196066B23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2238-5021-4F48-93A7-3C79A393E79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50E5-64EE-48E5-AE50-2B0DC431C0A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F65C-253C-4E22-A9B6-2976C55D00D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6744-2F00-4532-98AB-35E81636675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856E-D266-480F-8131-172C7052E7D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E892-9B5C-492A-92AB-2739259CED3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E916-BAA8-4042-AEDE-86D0E7154BD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AB98-F7FC-426D-98BF-D62559DE66A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D86F-6FAA-4E5D-A8BD-AE2D1B45024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F93B-8936-4D84-8F19-90792E733B4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E175-D7EA-4C40-B197-B9EB6007860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1A9D-3625-4365-A789-A67F4491C0D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2102-0EF5-4F64-9922-B25AA3B7DA8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980-3BB1-4611-A0AD-25729711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9CF-39F2-4860-A290-7A5AB4BF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D03-CA2E-494B-9410-12567093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996-3917-4492-BAC5-1D7269C4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B76E-7F94-4F8C-903B-84515766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F4B9-4014-497A-BEE3-A5437336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F56E-7A53-43EF-9836-5FB80424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D385-E425-4D14-9ECB-665E88D5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3378-94B8-45E5-9F6F-AA0AD01F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0DB7-A4BC-418E-A942-343DDBCB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B5F5-4627-4935-96B6-17D67E86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2A8-884C-4D84-996A-EAEA6D7A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345C-AEF8-4BD6-8B1F-D4DB6BD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1C04-963D-4758-99E3-8D67C184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1A1D-C4F8-40F5-95CF-013610BE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7F8B-098E-4998-BCA3-D4437563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0AA4-E7E0-4E2B-894C-310F2A1C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672-5FDB-4B6A-9CE4-BB5B8E37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51C-5441-447D-A1AE-209B3F8E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C49-ACA1-4D30-B730-B3BEF496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FBA-8D05-4A4A-AA5E-D12F26C4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870-64D3-40AE-8180-B613DC5F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22F-AE89-42B6-B133-5BBCA71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E50-2292-4F58-86DD-4813400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1F4D-946D-4F47-B07E-709C9EFABDFF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32412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BA4C-7E89-4648-98B1-7AE2D7A3E32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EE00-5833-4088-ADCF-CE593A97BF79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DF5C-33E9-48ED-8BEB-9890DBB4D71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tiscali.nl/erikhemmes/documents/08FP006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mvc.machine-video.com/996397e257a4df2fe05f6469d1980499.html?bw=h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3345-D492-4324-B5FA-64E8301CA5B7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20F2-9839-45B9-B5EC-5FB901BC3C7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Begroten en Budgetter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3: Kostprijsbereke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obbert Ooste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5B50-9349-4CC1-93F0-5E7CE2C4519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10A0-9DE7-4E95-9520-3B254ACE606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 + 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bereken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C/N + V/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vast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tante)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male prod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abele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verwach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kelijke productieomva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9" dur="1" fill="hold"/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0" dur="1" fill="hold"/>
                                  <p:tgtEl>
                                    <p:spTgt spid="1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1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2" dur="1" fill="hold"/>
                                  <p:tgtEl>
                                    <p:spTgt spid="1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54E8-7F61-4A54-8A5F-D2668BBC70E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98CA-40FD-45D7-A29A-DA0B6356937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evenredig (proportioneel) met de productie en/of verko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inkoop van grondstoffen/goede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nauwelijks binnen een bepaalde bandbreed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afschrijving van de invent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8943-3F16-420B-88FF-B7F960E8F68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DA2-D246-44EF-B2A4-AF5B09147E5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kte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direct aan product gekoppeld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Grondstoffen,  productiepersoneel, productiemachines, verk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directe 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niet rechtstreeks met productie of verkoop te maken heb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Onder andere de administratie, kantoormachines en huisv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FDE2-BE31-470E-BA62-04A1D41CEB8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B119-D41F-4B08-BD27-15E06CA9C5E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groten in een organis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848720" cy="3184560"/>
        </p:xfrm>
        <a:graphic>
          <a:graphicData uri="http://schemas.openxmlformats.org/drawingml/2006/table">
            <a:tbl>
              <a:tblPr/>
              <a:tblGrid>
                <a:gridCol w="3276720"/>
                <a:gridCol w="4572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 / webwink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fijnde 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ebedrijf / fabri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plaatsen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nstverlenend bedrijf / maatwe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roten o.b.v. projec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9892-0DC5-40A2-8A59-CA9124857DC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314F-6F2E-4650-8E6B-78819AD3A84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 = brutowinst per arti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prijs + Opslag = Verkoopprij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 BT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3962520"/>
          <a:ext cx="3886200" cy="160020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Line 50"/>
          <p:cNvSpPr/>
          <p:nvPr/>
        </p:nvSpPr>
        <p:spPr>
          <a:xfrm flipH="1">
            <a:off x="5257440" y="3124080"/>
            <a:ext cx="304920" cy="9907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2362320" y="3124080"/>
            <a:ext cx="220968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52"/>
          <p:cNvSpPr/>
          <p:nvPr/>
        </p:nvSpPr>
        <p:spPr>
          <a:xfrm>
            <a:off x="3962520" y="3124080"/>
            <a:ext cx="1218960" cy="20574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7697-A312-435D-ABF4-15E917ED892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F805-C613-4D01-9CAB-32ED5F84340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: Nu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 de opslag moet je de bedrijfskosten terugverdien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00400" y="3124080"/>
          <a:ext cx="5554800" cy="2971800"/>
        </p:xfrm>
        <a:graphic>
          <a:graphicData uri="http://schemas.openxmlformats.org/drawingml/2006/table">
            <a:tbl>
              <a:tblPr/>
              <a:tblGrid>
                <a:gridCol w="216000"/>
                <a:gridCol w="2544120"/>
                <a:gridCol w="216000"/>
                <a:gridCol w="216000"/>
                <a:gridCol w="214704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tenrekeni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at per artike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ijfskoste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AutoShape 325"/>
          <p:cNvSpPr/>
          <p:nvPr/>
        </p:nvSpPr>
        <p:spPr>
          <a:xfrm>
            <a:off x="457200" y="4038480"/>
            <a:ext cx="2895480" cy="457200"/>
          </a:xfrm>
          <a:prstGeom prst="rightArrowCallout">
            <a:avLst>
              <a:gd name="adj1" fmla="val 25002"/>
              <a:gd name="adj2" fmla="val 25000"/>
              <a:gd name="adj3" fmla="val 50694"/>
              <a:gd name="adj4" fmla="val 77852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riabel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26"/>
          <p:cNvSpPr/>
          <p:nvPr/>
        </p:nvSpPr>
        <p:spPr>
          <a:xfrm>
            <a:off x="838080" y="5070600"/>
            <a:ext cx="2514600" cy="457200"/>
          </a:xfrm>
          <a:prstGeom prst="rightArrowCallout">
            <a:avLst>
              <a:gd name="adj1" fmla="val 21530"/>
              <a:gd name="adj2" fmla="val 25000"/>
              <a:gd name="adj3" fmla="val 50009"/>
              <a:gd name="adj4" fmla="val 74181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st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6E74-BFFB-4CF2-AEE7-2ABC912F2B5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880C-8348-441D-9465-AC894539989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,50 / € 3,00 = 2,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x 2,5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3,00 * 100% = 1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+ 150%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7,50 * 100% = 6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 van de verkoopprijs is w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867280" y="304920"/>
          <a:ext cx="3124440" cy="1296720"/>
        </p:xfrm>
        <a:graphic>
          <a:graphicData uri="http://schemas.openxmlformats.org/drawingml/2006/table">
            <a:tbl>
              <a:tblPr/>
              <a:tblGrid>
                <a:gridCol w="2127240"/>
                <a:gridCol w="99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1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1212-5EB1-4DAA-8D47-F12C8F2FD77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E515-E174-4592-829E-CE5905E0E27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efenopgave 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ek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038480" y="4267080"/>
          <a:ext cx="4191120" cy="1600200"/>
        </p:xfrm>
        <a:graphic>
          <a:graphicData uri="http://schemas.openxmlformats.org/drawingml/2006/table">
            <a:tbl>
              <a:tblPr/>
              <a:tblGrid>
                <a:gridCol w="2667240"/>
                <a:gridCol w="15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6A0F-CCA1-47C1-A280-9BC26DE6285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53B3-0270-4D4D-A5EC-21323044ADF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method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 het gewenste opslagpercentage te bepalen, kun je gebruik maken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primitiev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der product hetzelfde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verfijnd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product/categorie ander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6B87-DEC1-4AC8-AED0-C6FF4990233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3D46-7086-4B5E-A988-3C969802FDA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019400" y="22590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000680" y="5111640"/>
            <a:ext cx="20286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74680" y="3114720"/>
            <a:ext cx="128268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20680" y="30607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Indirec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4002120" y="224316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4016520" y="3143160"/>
            <a:ext cx="156204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986280" y="31258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4016520" y="4029120"/>
            <a:ext cx="156204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3986280" y="40132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Straight Arrow Connector 18"/>
          <p:cNvCxnSpPr>
            <a:endCxn id="203" idx="1"/>
          </p:cNvCxnSpPr>
          <p:nvPr/>
        </p:nvCxnSpPr>
        <p:spPr>
          <a:xfrm flipV="1">
            <a:off x="1571400" y="2596320"/>
            <a:ext cx="2431080" cy="816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9" name="Straight Arrow Connector 20"/>
          <p:cNvCxnSpPr/>
          <p:nvPr/>
        </p:nvCxnSpPr>
        <p:spPr>
          <a:xfrm>
            <a:off x="1599840" y="3733560"/>
            <a:ext cx="243900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Straight Arrow Connector 22"/>
          <p:cNvCxnSpPr/>
          <p:nvPr/>
        </p:nvCxnSpPr>
        <p:spPr>
          <a:xfrm>
            <a:off x="990360" y="4419360"/>
            <a:ext cx="2996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 rot="20479800">
            <a:off x="1544760" y="26967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16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traight Connector 32"/>
          <p:cNvSpPr/>
          <p:nvPr/>
        </p:nvSpPr>
        <p:spPr>
          <a:xfrm flipV="1">
            <a:off x="990720" y="373356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654560" y="3341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39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1259280" y="4043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45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traight Connector 37"/>
          <p:cNvSpPr/>
          <p:nvPr/>
        </p:nvSpPr>
        <p:spPr>
          <a:xfrm>
            <a:off x="3962520" y="4952880"/>
            <a:ext cx="1752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40"/>
          <p:cNvSpPr/>
          <p:nvPr/>
        </p:nvSpPr>
        <p:spPr>
          <a:xfrm>
            <a:off x="5723640" y="4579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1425600" y="5110200"/>
            <a:ext cx="11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Kostprij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2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4E94-50DE-4ED8-8105-74EFDFA17723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1"/>
          <p:cNvSpPr/>
          <p:nvPr/>
        </p:nvSpPr>
        <p:spPr>
          <a:xfrm>
            <a:off x="4057560" y="513396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Totale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 &amp; in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911320" y="493884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=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857680" y="5140440"/>
            <a:ext cx="74268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235560" y="491976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/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81560" y="5121360"/>
            <a:ext cx="74304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129440" y="50976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7112160" y="5081760"/>
            <a:ext cx="13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Aa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357200" y="5149800"/>
            <a:ext cx="11844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DA52-04AB-4B29-A7A8-AD0F2E0B050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30EA-F5D6-469E-91D4-C5F1601E65F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 vorige we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a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1: vraag 9, 10, 12, 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2: vraag 2, 5, 6, 8, 10, 12, 14, 15 en 17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AF81-2C63-4BA8-8121-5CBC8F4A67F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68C1-F75A-4D42-8A0E-FE4E80CE7B30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5800" y="1905120"/>
            <a:ext cx="810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Elke afdeling, direct of indirect betrokken bij de productie, wordt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plaat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producten word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drager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kostenplaa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methode is een methode om </a:t>
            </a:r>
            <a:r>
              <a:rPr b="0" lang="nl-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direc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kosten toe te rekenen aan produc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Uiteindelijk wordt de kostprijs van een product bepaald door alle bedrijfskosten (direct en indirec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5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BD5D-59B0-404F-BECE-DD3D62AA0BB0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A212-63E1-424C-82A8-E8730958B5E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FD64-9164-4690-B0BC-A4DED30F1E4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afdeling, direct of indirect betrokken bij de productie, wordt du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kostenplaats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genoem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r zijn drie soorten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Zelfstandige 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ofdkostenplaats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54ED-E27F-4078-ADEC-66BE9EE4388A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7B9D-60FC-42D8-BA42-01E58406279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2BA9-7600-4649-BC52-A062E4433F79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dragers: 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producten dragen alle kost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6806-FF4D-46C8-A7C7-724385098992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62840" y="2001960"/>
            <a:ext cx="156024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6102360" y="201456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014640" y="2025720"/>
            <a:ext cx="178596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2997360" y="2023920"/>
            <a:ext cx="18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n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872320" y="3486240"/>
            <a:ext cx="2442960" cy="4525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811840" y="3552840"/>
            <a:ext cx="25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oofdkostenplaats(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709720" y="3243240"/>
            <a:ext cx="179100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706840" y="3262320"/>
            <a:ext cx="184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Zelfstandige kosten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61960" y="3238560"/>
            <a:ext cx="179064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558720" y="3257640"/>
            <a:ext cx="18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ulpkosten-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Down Arrow 18"/>
          <p:cNvSpPr/>
          <p:nvPr/>
        </p:nvSpPr>
        <p:spPr>
          <a:xfrm>
            <a:off x="6800760" y="2457360"/>
            <a:ext cx="243000" cy="10144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triped Right Arrow 20"/>
          <p:cNvSpPr/>
          <p:nvPr/>
        </p:nvSpPr>
        <p:spPr>
          <a:xfrm rot="1349400">
            <a:off x="4387680" y="2909520"/>
            <a:ext cx="2468880" cy="123840"/>
          </a:xfrm>
          <a:custGeom>
            <a:avLst/>
            <a:gdLst/>
            <a:ahLst/>
            <a:rect l="l" t="t" r="r" b="b"/>
            <a:pathLst>
              <a:path w="2468563" h="123825">
                <a:moveTo>
                  <a:pt x="0" y="30956"/>
                </a:moveTo>
                <a:lnTo>
                  <a:pt x="3870" y="30956"/>
                </a:lnTo>
                <a:lnTo>
                  <a:pt x="3870" y="92869"/>
                </a:lnTo>
                <a:lnTo>
                  <a:pt x="0" y="92869"/>
                </a:lnTo>
                <a:lnTo>
                  <a:pt x="0" y="30956"/>
                </a:lnTo>
                <a:close/>
                <a:moveTo>
                  <a:pt x="7739" y="30956"/>
                </a:moveTo>
                <a:lnTo>
                  <a:pt x="15478" y="30956"/>
                </a:lnTo>
                <a:lnTo>
                  <a:pt x="15478" y="92869"/>
                </a:lnTo>
                <a:lnTo>
                  <a:pt x="7739" y="92869"/>
                </a:lnTo>
                <a:lnTo>
                  <a:pt x="7739" y="30956"/>
                </a:lnTo>
                <a:close/>
                <a:moveTo>
                  <a:pt x="19348" y="30956"/>
                </a:moveTo>
                <a:lnTo>
                  <a:pt x="2406651" y="30956"/>
                </a:lnTo>
                <a:lnTo>
                  <a:pt x="2406651" y="0"/>
                </a:lnTo>
                <a:lnTo>
                  <a:pt x="2468563" y="61913"/>
                </a:lnTo>
                <a:lnTo>
                  <a:pt x="2406651" y="123825"/>
                </a:lnTo>
                <a:lnTo>
                  <a:pt x="2406651" y="92869"/>
                </a:lnTo>
                <a:lnTo>
                  <a:pt x="19348" y="92869"/>
                </a:lnTo>
                <a:lnTo>
                  <a:pt x="19348" y="30956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triped Right Arrow 21"/>
          <p:cNvSpPr/>
          <p:nvPr/>
        </p:nvSpPr>
        <p:spPr>
          <a:xfrm rot="5400000">
            <a:off x="3512880" y="2784600"/>
            <a:ext cx="742680" cy="145800"/>
          </a:xfrm>
          <a:custGeom>
            <a:avLst/>
            <a:gdLst/>
            <a:ahLst/>
            <a:rect l="l" t="t" r="r" b="b"/>
            <a:pathLst>
              <a:path w="742950" h="146050">
                <a:moveTo>
                  <a:pt x="0" y="36513"/>
                </a:moveTo>
                <a:lnTo>
                  <a:pt x="4564" y="36513"/>
                </a:lnTo>
                <a:lnTo>
                  <a:pt x="4564" y="109538"/>
                </a:lnTo>
                <a:lnTo>
                  <a:pt x="0" y="109538"/>
                </a:lnTo>
                <a:lnTo>
                  <a:pt x="0" y="36513"/>
                </a:lnTo>
                <a:close/>
                <a:moveTo>
                  <a:pt x="9128" y="36513"/>
                </a:moveTo>
                <a:lnTo>
                  <a:pt x="18256" y="36513"/>
                </a:lnTo>
                <a:lnTo>
                  <a:pt x="18256" y="109538"/>
                </a:lnTo>
                <a:lnTo>
                  <a:pt x="9128" y="109538"/>
                </a:lnTo>
                <a:lnTo>
                  <a:pt x="9128" y="36513"/>
                </a:lnTo>
                <a:close/>
                <a:moveTo>
                  <a:pt x="22820" y="36513"/>
                </a:moveTo>
                <a:lnTo>
                  <a:pt x="669925" y="36513"/>
                </a:lnTo>
                <a:lnTo>
                  <a:pt x="669925" y="0"/>
                </a:lnTo>
                <a:lnTo>
                  <a:pt x="742950" y="73025"/>
                </a:lnTo>
                <a:lnTo>
                  <a:pt x="669925" y="146050"/>
                </a:lnTo>
                <a:lnTo>
                  <a:pt x="669925" y="109538"/>
                </a:lnTo>
                <a:lnTo>
                  <a:pt x="22820" y="109538"/>
                </a:lnTo>
                <a:lnTo>
                  <a:pt x="22820" y="36513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triped Right Arrow 22"/>
          <p:cNvSpPr/>
          <p:nvPr/>
        </p:nvSpPr>
        <p:spPr>
          <a:xfrm rot="8559000">
            <a:off x="1977840" y="2812680"/>
            <a:ext cx="1290600" cy="106200"/>
          </a:xfrm>
          <a:custGeom>
            <a:avLst/>
            <a:gdLst/>
            <a:ahLst/>
            <a:rect l="l" t="t" r="r" b="b"/>
            <a:pathLst>
              <a:path w="1290638" h="106363">
                <a:moveTo>
                  <a:pt x="0" y="26591"/>
                </a:moveTo>
                <a:lnTo>
                  <a:pt x="3324" y="26591"/>
                </a:lnTo>
                <a:lnTo>
                  <a:pt x="3324" y="79772"/>
                </a:lnTo>
                <a:lnTo>
                  <a:pt x="0" y="79772"/>
                </a:lnTo>
                <a:lnTo>
                  <a:pt x="0" y="26591"/>
                </a:lnTo>
                <a:close/>
                <a:moveTo>
                  <a:pt x="6648" y="26591"/>
                </a:moveTo>
                <a:lnTo>
                  <a:pt x="13295" y="26591"/>
                </a:lnTo>
                <a:lnTo>
                  <a:pt x="13295" y="79772"/>
                </a:lnTo>
                <a:lnTo>
                  <a:pt x="6648" y="79772"/>
                </a:lnTo>
                <a:lnTo>
                  <a:pt x="6648" y="26591"/>
                </a:lnTo>
                <a:close/>
                <a:moveTo>
                  <a:pt x="16619" y="26591"/>
                </a:moveTo>
                <a:lnTo>
                  <a:pt x="1237457" y="26591"/>
                </a:lnTo>
                <a:lnTo>
                  <a:pt x="1237457" y="0"/>
                </a:lnTo>
                <a:lnTo>
                  <a:pt x="1290638" y="53182"/>
                </a:lnTo>
                <a:lnTo>
                  <a:pt x="1237457" y="106363"/>
                </a:lnTo>
                <a:lnTo>
                  <a:pt x="1237457" y="79772"/>
                </a:lnTo>
                <a:lnTo>
                  <a:pt x="16619" y="79772"/>
                </a:lnTo>
                <a:lnTo>
                  <a:pt x="16619" y="26591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Curved Right Arrow 23"/>
          <p:cNvSpPr/>
          <p:nvPr/>
        </p:nvSpPr>
        <p:spPr>
          <a:xfrm rot="16200000">
            <a:off x="2514600" y="3343320"/>
            <a:ext cx="542880" cy="1828800"/>
          </a:xfrm>
          <a:custGeom>
            <a:avLst/>
            <a:gdLst>
              <a:gd name="textAreaLeft" fmla="*/ 72720 w 542880"/>
              <a:gd name="textAreaRight" fmla="*/ 470160 w 542880"/>
              <a:gd name="textAreaTop" fmla="*/ 406080 h 1828800"/>
              <a:gd name="textAreaBottom" fmla="*/ 13546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98" stAng="-5400000" swAng="-5400000"/>
                <a:lnTo>
                  <a:pt x="0" y="11202"/>
                </a:lnTo>
                <a:arcTo wR="21600" hR="9598" stAng="10800000" swAng="-3590351"/>
                <a:lnTo>
                  <a:pt x="16200" y="21295"/>
                </a:lnTo>
                <a:lnTo>
                  <a:pt x="21600" y="19997"/>
                </a:lnTo>
                <a:lnTo>
                  <a:pt x="16200" y="18089"/>
                </a:lnTo>
                <a:lnTo>
                  <a:pt x="16200" y="18890"/>
                </a:lnTo>
                <a:arcTo wR="21600" hR="9598" stAng="7209649" swAng="3462320"/>
                <a:lnTo>
                  <a:pt x="76" y="10400"/>
                </a:lnTo>
                <a:arcTo wR="21600" hR="9598" stAng="-10671969" swAng="5271969"/>
                <a:close/>
              </a:path>
              <a:path fill="darkenLess" w="21600" h="21600">
                <a:moveTo>
                  <a:pt x="21600" y="0"/>
                </a:moveTo>
                <a:arcTo wR="21600" hR="9598" stAng="-5400000" swAng="-5400000"/>
                <a:lnTo>
                  <a:pt x="0" y="9598"/>
                </a:lnTo>
                <a:arcTo wR="21600" hR="9598" stAng="10800000" swAng="-128031"/>
                <a:lnTo>
                  <a:pt x="76" y="10400"/>
                </a:lnTo>
                <a:arcTo wR="21600" hR="9598" stAng="-10671969" swAng="5271969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Curved Right Arrow 24"/>
          <p:cNvSpPr/>
          <p:nvPr/>
        </p:nvSpPr>
        <p:spPr>
          <a:xfrm rot="16200000">
            <a:off x="3555360" y="1383120"/>
            <a:ext cx="1214280" cy="641988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1491120 h 6419880"/>
              <a:gd name="textAreaBottom" fmla="*/ 4777200 h 641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34" stAng="-5400000" swAng="-5400000"/>
                <a:lnTo>
                  <a:pt x="0" y="11056"/>
                </a:lnTo>
                <a:arcTo wR="21600" hR="10034" stAng="10800000" swAng="-3655957"/>
                <a:lnTo>
                  <a:pt x="16200" y="21281"/>
                </a:lnTo>
                <a:lnTo>
                  <a:pt x="21600" y="20578"/>
                </a:lnTo>
                <a:lnTo>
                  <a:pt x="16200" y="19237"/>
                </a:lnTo>
                <a:lnTo>
                  <a:pt x="16200" y="19748"/>
                </a:lnTo>
                <a:arcTo wR="21600" hR="10034" stAng="7144043" swAng="3574538"/>
                <a:lnTo>
                  <a:pt x="28" y="10545"/>
                </a:lnTo>
                <a:arcTo wR="21600" hR="10034" stAng="-10718581" swAng="5318581"/>
                <a:close/>
              </a:path>
              <a:path fill="darkenLess" w="21600" h="21600">
                <a:moveTo>
                  <a:pt x="21600" y="0"/>
                </a:moveTo>
                <a:arcTo wR="21600" hR="10034" stAng="-5400000" swAng="-5400000"/>
                <a:lnTo>
                  <a:pt x="0" y="10034"/>
                </a:lnTo>
                <a:arcTo wR="21600" hR="10034" stAng="10800000" swAng="-81419"/>
                <a:lnTo>
                  <a:pt x="28" y="10545"/>
                </a:lnTo>
                <a:arcTo wR="21600" hR="10034" stAng="-10718581" swAng="5318581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Down Arrow 25"/>
          <p:cNvSpPr/>
          <p:nvPr/>
        </p:nvSpPr>
        <p:spPr>
          <a:xfrm>
            <a:off x="7458120" y="3957480"/>
            <a:ext cx="528480" cy="101124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C:\Program Files\Microsoft Office\MEDIA\CAGCAT10\j0149627.wmf"/>
          <p:cNvPicPr/>
          <p:nvPr/>
        </p:nvPicPr>
        <p:blipFill>
          <a:blip r:embed="rId1"/>
          <a:stretch/>
        </p:blipFill>
        <p:spPr>
          <a:xfrm>
            <a:off x="6353280" y="4768920"/>
            <a:ext cx="2533680" cy="1800000"/>
          </a:xfrm>
          <a:prstGeom prst="rect">
            <a:avLst/>
          </a:prstGeom>
          <a:ln w="0">
            <a:noFill/>
          </a:ln>
        </p:spPr>
      </p:pic>
      <p:cxnSp>
        <p:nvCxnSpPr>
          <p:cNvPr id="262" name="Straight Arrow Connector 28"/>
          <p:cNvCxnSpPr/>
          <p:nvPr/>
        </p:nvCxnSpPr>
        <p:spPr>
          <a:xfrm flipV="1">
            <a:off x="5837040" y="5516280"/>
            <a:ext cx="1005480" cy="519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3" name="TextBox 29"/>
          <p:cNvSpPr/>
          <p:nvPr/>
        </p:nvSpPr>
        <p:spPr>
          <a:xfrm>
            <a:off x="4770360" y="58831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Prijs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Curved Right Arrow 23"/>
          <p:cNvSpPr/>
          <p:nvPr/>
        </p:nvSpPr>
        <p:spPr>
          <a:xfrm rot="16200000">
            <a:off x="4669560" y="2878920"/>
            <a:ext cx="542880" cy="2747880"/>
          </a:xfrm>
          <a:custGeom>
            <a:avLst/>
            <a:gdLst>
              <a:gd name="textAreaLeft" fmla="*/ 72720 w 542880"/>
              <a:gd name="textAreaRight" fmla="*/ 470160 w 542880"/>
              <a:gd name="textAreaTop" fmla="*/ 636120 h 2747880"/>
              <a:gd name="textAreaBottom" fmla="*/ 2044080 h 27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0" stAng="-5400000" swAng="-5400000"/>
                <a:lnTo>
                  <a:pt x="0" y="11068"/>
                </a:lnTo>
                <a:arcTo wR="21600" hR="10000" stAng="10800000" swAng="-3650997"/>
                <a:lnTo>
                  <a:pt x="16200" y="21282"/>
                </a:lnTo>
                <a:lnTo>
                  <a:pt x="21600" y="20533"/>
                </a:lnTo>
                <a:lnTo>
                  <a:pt x="16200" y="19148"/>
                </a:lnTo>
                <a:lnTo>
                  <a:pt x="16200" y="19681"/>
                </a:lnTo>
                <a:arcTo wR="21600" hR="10000" stAng="7149003" swAng="3565904"/>
                <a:lnTo>
                  <a:pt x="31" y="10534"/>
                </a:lnTo>
                <a:arcTo wR="21600" hR="10000" stAng="-10714907" swAng="5314907"/>
                <a:close/>
              </a:path>
              <a:path fill="darkenLess" w="21600" h="21600">
                <a:moveTo>
                  <a:pt x="21600" y="0"/>
                </a:moveTo>
                <a:arcTo wR="21600" hR="10000" stAng="-5400000" swAng="-5400000"/>
                <a:lnTo>
                  <a:pt x="0" y="10000"/>
                </a:lnTo>
                <a:arcTo wR="21600" hR="10000" stAng="10800000" swAng="-85093"/>
                <a:lnTo>
                  <a:pt x="31" y="10534"/>
                </a:lnTo>
                <a:arcTo wR="21600" hR="10000" stAng="-10714907" swAng="5314907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16CD-4B6A-4DE2-A4D3-209AB080031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24F4-8017-4903-95FA-C6BC40FF202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verricht diensten voor een andere kostenplaa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i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echt bestaande afde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ulp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as, water, elektra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 moeten wel een naam hebben. In dit geval b.v.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bestaande afdeling “huisvesting”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A314-FB1C-4F9E-B44E-59EC0B61A8E3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..........</a:t>
            </a: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hulpkostenplaat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C8DB-CAF8-47D4-B445-968D42DCD09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9AD0-C5CA-4B41-B0E4-F1F70A05191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zelfstandige kostenplaats is wel een echte afdeling en levert prestaties aan andere afdeling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zelfstandige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ministratie, magazijn en onderhou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administrati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FB4C-A4EE-48B2-BE21-AFF442732D4F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zelfstandige 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6929-D8F4-4D8E-8316-E3130091381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0E7F-C40F-4C46-A38F-9FE71813BE8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oofdkostenplaats is ook een echte afdeling en levert alleen prestaties aan het product. Houden zich dus direct met het product bezi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oofd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bricage, montage en verkoo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fabricag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0056-38AE-471C-9457-933D976A1515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hoofd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BE43-11A7-4807-BEEF-BAEEBF4EFB9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834A-21A5-4EEA-812B-4A2D34602E3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kostenplaatsen zodanig kiezen dat je alle indirecte kosten over de verschillende kostenplaatsen kunt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t is dus een methode om uiteindelijk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in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over de kostendragers te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worden rechtstreeks over de kostendragers verde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D145-B090-4155-A689-266A32F36C4C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bcbcb"/>
                </a:solidFill>
                <a:latin typeface="Times New Roman"/>
              </a:rPr>
              <a:t>Kostendragers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 (= producten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B430-630F-40D8-8581-3B37FC02C8E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97DE-BD2D-4E77-87DA-6EC98612B81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efenopdracht 4…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…..….......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786240" y="1116000"/>
            <a:ext cx="53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Deel de volgende kosten in naar kostenpla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Slide Number Placeholder 2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0D3-8DF2-4E17-ABA5-74EA7120150D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62120" y="2133720"/>
          <a:ext cx="7189560" cy="3886200"/>
        </p:xfrm>
        <a:graphic>
          <a:graphicData uri="http://schemas.openxmlformats.org/drawingml/2006/table">
            <a:tbl>
              <a:tblPr/>
              <a:tblGrid>
                <a:gridCol w="3403440"/>
                <a:gridCol w="1133640"/>
                <a:gridCol w="1523880"/>
                <a:gridCol w="1128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derwer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l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lfsta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e koste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of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drank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grondstoff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magazijn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schrijvings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administratief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verkopend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produktie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onderhouds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0FC-269E-42CD-9203-2B210349475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2639-D159-417E-8FD0-F604DF77A09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Les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? Vra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3D74-79C8-453E-9620-43E6FCF9B31B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ED01-07F8-498E-B02D-E41E426F013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8576-9C2A-4378-A004-24F87CE39DE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ak van het bijgeleverde werkboek de volgende vrag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 hoofdstuk 3: vraag1 t/m 10,12, 1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 de volgende les opdracht 2 van de oefenstof (leerarrangement)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D234-465C-4A55-ABE6-2A8E4D6CA89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B547-0135-4BA5-A062-821E80D963D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derwerpen voor vanda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bedra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stenplaatsen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AF58-EA1B-4252-9DA4-F2CE98DE210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3F09-EA61-445B-BADF-74B41FB0D98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j het begroten ga je vaak uit van normbedra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t zijn getallen die in een normale (=gemiddelde) situatie gel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bedragen krijg je vi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e v/d boekhoud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igen ervar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chegegeve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at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gisch nadenk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9364-8010-476B-8DBB-B50B5541B4F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A97D-676F-4EC7-AD85-4B28ABEBF94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oorbeelden van 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supermark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akt gemiddeld € 150 omzet per vierkante meter per we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euwbouw kost € 500 pe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pslagfactor in een dierenspeciaalzaak is 2,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bestelauto kost € 0,60 per k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nleg van een snelweg kost 10 miljoen euro per kilom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fte kost € 60.000 per ja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57BF-5D9C-466A-AA87-0F4198A85AC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73B4-4E93-479C-9B48-A7020968F2B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 in produc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bloemist bindt een boeket in 5 minu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rotatiegietmach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duceert 4000 flessen per u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mkommerteelt in glastuinbouw levert 200 stuks per 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r jaar 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paard eet 3 kilo brok per d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CA26-1395-470B-B5F8-897A794DD59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F97A-5253-4BD7-97AE-3B318EC9873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fwijkingen t.o.v. de no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nneer je afwijkt van de norm, werk je efficienter of minder efficient dan gemidde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ardoor hou je geld over of kom je geld tekort t.o.v. je begro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8840-22F3-4D85-9C8C-942AA66EB517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54AC-E9EA-48A2-96F8-849ECE4D364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bereke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1EC8-0B04-4C21-B39D-4FD7D2D2A72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A3FD-F511-4587-B40C-25BF0F6C850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e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oodzakelijke of toegestane kosten per eenheid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eveelheid grondstoffen  X  standaardprijz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dig voor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beheersing (is vóórcalculatie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palen van budgetten (raming v. kosten)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ijsbepaling produc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iterste prijs waartegen men desnoods mag verkopen zonder verlies (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ensprij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ar de Jong</dc:creator>
  <dc:description/>
  <dc:language>en-US</dc:language>
  <cp:lastModifiedBy>Geraar de Jong</cp:lastModifiedBy>
  <dcterms:modified xsi:type="dcterms:W3CDTF">2013-01-21T22:10:57Z</dcterms:modified>
  <cp:revision>19</cp:revision>
  <dc:subject/>
  <dc:title>PowerPoint-presentatie</dc:title>
</cp:coreProperties>
</file>