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E2DD-4583-411A-9075-477EF184372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3F16-FACF-498B-A626-65F17102266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52D6-14F6-4B04-95FA-B457AE708F4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3035-470D-4134-A2DD-159ACE55E11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D450-9A44-4520-AD2E-62E9AA71424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BCD9-C18B-45C6-AD50-1E84CD5CEBE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F326-B0B4-4AF3-B9C0-E4BFA8289B3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5043-361B-43CC-99B0-9DD2740161E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EB03-5289-4F92-9426-FECF2097C35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5B6D-4770-4C01-9B5B-16CCB227052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7BF4-B5F1-434D-8FD9-404406202D8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CFC2-8E7C-4CF4-A22D-21EE9D1CA74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E3B1-E64B-4BA1-98E4-C6CE2DCF731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C7B3-00E4-4B40-BC3E-0BFA01FB002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95B8-BD92-4B05-AC2E-A0537F6DD89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383F-0542-4A90-A707-3540811C201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6E97-B75E-4034-86C6-38811872974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4D41-B837-4D2F-8EB1-84731323CF1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468F-48E3-4681-9E19-3B1F2711814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0AEE-9222-4C41-A884-7DC1C936AAC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022F-BFA8-434B-B91A-D4D134B2BEF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3752-7998-4855-A2E7-456A8B215FA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BEDC-462B-4612-9EB5-880F41B3389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ACE-2D9F-44CA-A643-99C13950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2C61-D0B5-4114-8FF1-85CEAFC9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7BA-8093-40D9-B6A4-3093FF70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2D1-52CA-4346-B32C-CFE5A676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AAAB-A8BC-4987-A0DC-1DC1BBFB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39D7-72BA-4834-AD4F-5439FDD1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E2AE-94C1-4980-8456-26CDE134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A2E2-BD4F-4790-A3A3-40EEFC2D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69B4-AE36-4F16-8A0F-F291D18E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B01C-165D-40C7-A206-C45AE5BE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34CF-8F04-4D8B-A83C-6E398B3A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992-CC8B-4167-B9EF-6D9FA9B0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5CE3-F4C9-48FB-88F2-E26C9E1D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668D-9BEB-49F4-9D27-041C113E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8BA9-3849-4003-B0D9-72A10A76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64DE-B1B4-4225-BD20-B1FD22A2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1179-BD4B-4D59-BE20-E671B33C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A85-61EA-4D93-9DD0-A1C70010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692-B1E2-48A5-8EE3-C51A6EF8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644-391A-4B80-9A4E-B8DAB85E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57D-AFF2-4747-AB21-E33CDE2C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379-EDFF-449D-AF5A-D4561D14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7F4-4332-45CF-A923-64DF2858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A8D-2101-44AA-8856-E116645B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8025-4194-4355-8C37-A63B233F509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32412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BE82-7CAB-4210-8373-90E3A3B932A7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C84F-80B7-4B26-81F2-B6E73BB6E7F6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4CBF-C384-490A-8241-673A406AB6A2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me.tiscali.nl/erikhemmes/documents/08FP006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mvc.machine-video.com/996397e257a4df2fe05f6469d1980499.html?bw=h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AC73-1F39-4B7D-9AB8-380DE1814088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C241-960F-4248-B92E-174BFBDBD15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Begroten en Budgetter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 3: Kostprijsbereke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obbert Ooste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96C5-9BA3-436A-A176-ECDA7797132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29CC-160A-4A38-BCB6-23FB122D499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 + 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bereken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C/N + V/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vaste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tante)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male prod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abele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verwach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kelijke productieomva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" dur="1" fill="hold"/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9" dur="1" fill="hold"/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0" dur="1" fill="hold"/>
                                  <p:tgtEl>
                                    <p:spTgt spid="1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1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2" dur="1" fill="hold"/>
                                  <p:tgtEl>
                                    <p:spTgt spid="14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1FC0-1334-4322-9D0B-E7949566AC5F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5EF7-201C-4727-825B-88BF6795C9D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evenredig (proportioneel) met de productie en/of verko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inkoop van grondstoffen/goede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nauwelijks binnen een bepaalde bandbreed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afschrijving van de invent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17FE-D2E0-43F0-A627-CA0EA0B6F39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83D2-D660-4118-830F-261F0E50FB8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kte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direct aan product gekoppeld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Grondstoffen,  productiepersoneel, productiemachines, verko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directe 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niet rechtstreeks met productie of verkoop te maken heb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Onder andere de administratie, kantoormachines en huisv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D814-E5F4-42FF-8542-8AD37FD4764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141B-CDD5-41CF-B23B-0E02FA263D5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groten in een organisa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848720" cy="3184560"/>
        </p:xfrm>
        <a:graphic>
          <a:graphicData uri="http://schemas.openxmlformats.org/drawingml/2006/table">
            <a:tbl>
              <a:tblPr/>
              <a:tblGrid>
                <a:gridCol w="3276720"/>
                <a:gridCol w="4572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 / webwink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fijnde 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iebedrijf / fabri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plaatsen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nstverlenend bedrijf / maatwe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roten o.b.v. projec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2BDB-3AF4-4D2F-A87E-C197D834E2D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5B10-F392-4110-9809-03D23204638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 = brutowinst per arti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stprijs + Opslag = Verkoopprij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 BTW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95680" y="3962520"/>
          <a:ext cx="3886200" cy="1600200"/>
        </p:xfrm>
        <a:graphic>
          <a:graphicData uri="http://schemas.openxmlformats.org/drawingml/2006/table">
            <a:tbl>
              <a:tblPr/>
              <a:tblGrid>
                <a:gridCol w="259092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Line 50"/>
          <p:cNvSpPr/>
          <p:nvPr/>
        </p:nvSpPr>
        <p:spPr>
          <a:xfrm flipH="1">
            <a:off x="5257440" y="3124080"/>
            <a:ext cx="304920" cy="9907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1"/>
          <p:cNvSpPr/>
          <p:nvPr/>
        </p:nvSpPr>
        <p:spPr>
          <a:xfrm>
            <a:off x="2362320" y="3124080"/>
            <a:ext cx="2209680" cy="16002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52"/>
          <p:cNvSpPr/>
          <p:nvPr/>
        </p:nvSpPr>
        <p:spPr>
          <a:xfrm>
            <a:off x="3962520" y="3124080"/>
            <a:ext cx="1218960" cy="20574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DEC3-C0AD-403C-A0A3-C9330B58A08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4BA9-F0AD-4040-97D2-E71FBB5E010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: Nu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 de opslag moet je de bedrijfskosten terugverdien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00400" y="3124080"/>
          <a:ext cx="5554800" cy="2971800"/>
        </p:xfrm>
        <a:graphic>
          <a:graphicData uri="http://schemas.openxmlformats.org/drawingml/2006/table">
            <a:tbl>
              <a:tblPr/>
              <a:tblGrid>
                <a:gridCol w="216000"/>
                <a:gridCol w="2544120"/>
                <a:gridCol w="216000"/>
                <a:gridCol w="216000"/>
                <a:gridCol w="214704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tenrekening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at per artikel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ijfskoste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AutoShape 325"/>
          <p:cNvSpPr/>
          <p:nvPr/>
        </p:nvSpPr>
        <p:spPr>
          <a:xfrm>
            <a:off x="457200" y="4038480"/>
            <a:ext cx="2895480" cy="457200"/>
          </a:xfrm>
          <a:prstGeom prst="rightArrowCallout">
            <a:avLst>
              <a:gd name="adj1" fmla="val 25002"/>
              <a:gd name="adj2" fmla="val 25000"/>
              <a:gd name="adj3" fmla="val 50694"/>
              <a:gd name="adj4" fmla="val 77852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riabel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26"/>
          <p:cNvSpPr/>
          <p:nvPr/>
        </p:nvSpPr>
        <p:spPr>
          <a:xfrm>
            <a:off x="838080" y="5070600"/>
            <a:ext cx="2514600" cy="457200"/>
          </a:xfrm>
          <a:prstGeom prst="rightArrowCallout">
            <a:avLst>
              <a:gd name="adj1" fmla="val 21530"/>
              <a:gd name="adj2" fmla="val 25000"/>
              <a:gd name="adj3" fmla="val 50009"/>
              <a:gd name="adj4" fmla="val 74181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st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2F18-0EA9-489B-B454-DF96AC98CDFD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BC76-8FCF-4567-8E37-634A7CB9FDD9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,50 / € 3,00 = 2,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x 2,5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3,00 * 100% = 15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+ 150%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7,50 * 100% = 6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 van de verkoopprijs is win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867280" y="304920"/>
          <a:ext cx="3124440" cy="1296720"/>
        </p:xfrm>
        <a:graphic>
          <a:graphicData uri="http://schemas.openxmlformats.org/drawingml/2006/table">
            <a:tbl>
              <a:tblPr/>
              <a:tblGrid>
                <a:gridCol w="2127240"/>
                <a:gridCol w="99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18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5F05-2537-4ADE-9AB3-D83161EDBAFC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115A-6AAC-4D85-A34F-20169EAC6C5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efenopgave 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ek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038480" y="4267080"/>
          <a:ext cx="4191120" cy="1600200"/>
        </p:xfrm>
        <a:graphic>
          <a:graphicData uri="http://schemas.openxmlformats.org/drawingml/2006/table">
            <a:tbl>
              <a:tblPr/>
              <a:tblGrid>
                <a:gridCol w="2667240"/>
                <a:gridCol w="15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C3E8-88EF-4857-9780-7A8730E960EC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EF25-6A2E-4FDC-9F3A-1F1BCD0E70B0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method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 het gewenste opslagpercentage te bepalen, kun je gebruik maken v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primitiev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der product hetzelfde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verfijnd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 product/categorie ander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E4CC-E457-4A06-B082-824A3003677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A8F7-DA95-44B8-BDC4-6E4B690E7A75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019400" y="22590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000680" y="5111640"/>
            <a:ext cx="20286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74680" y="3114720"/>
            <a:ext cx="128268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220680" y="306072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Indirec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4002120" y="224316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4016520" y="3143160"/>
            <a:ext cx="156204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3986280" y="31258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4016520" y="4029120"/>
            <a:ext cx="156204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3986280" y="40132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8" name="Straight Arrow Connector 18"/>
          <p:cNvCxnSpPr>
            <a:endCxn id="203" idx="1"/>
          </p:cNvCxnSpPr>
          <p:nvPr/>
        </p:nvCxnSpPr>
        <p:spPr>
          <a:xfrm flipV="1">
            <a:off x="1571400" y="2596320"/>
            <a:ext cx="2431080" cy="816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9" name="Straight Arrow Connector 20"/>
          <p:cNvCxnSpPr/>
          <p:nvPr/>
        </p:nvCxnSpPr>
        <p:spPr>
          <a:xfrm>
            <a:off x="1599840" y="3733560"/>
            <a:ext cx="243900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0" name="Straight Arrow Connector 22"/>
          <p:cNvCxnSpPr/>
          <p:nvPr/>
        </p:nvCxnSpPr>
        <p:spPr>
          <a:xfrm>
            <a:off x="990360" y="4419360"/>
            <a:ext cx="2996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 rot="20479800">
            <a:off x="1544760" y="26967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16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traight Connector 32"/>
          <p:cNvSpPr/>
          <p:nvPr/>
        </p:nvSpPr>
        <p:spPr>
          <a:xfrm flipV="1">
            <a:off x="990720" y="373356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654560" y="3341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39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1259280" y="4043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45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traight Connector 37"/>
          <p:cNvSpPr/>
          <p:nvPr/>
        </p:nvSpPr>
        <p:spPr>
          <a:xfrm>
            <a:off x="3962520" y="4952880"/>
            <a:ext cx="17524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40"/>
          <p:cNvSpPr/>
          <p:nvPr/>
        </p:nvSpPr>
        <p:spPr>
          <a:xfrm>
            <a:off x="5723640" y="4579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41"/>
          <p:cNvSpPr/>
          <p:nvPr/>
        </p:nvSpPr>
        <p:spPr>
          <a:xfrm>
            <a:off x="1425600" y="5110200"/>
            <a:ext cx="11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Kostprij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2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A8FB-7958-497D-B376-EE528E7406E4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1"/>
          <p:cNvSpPr/>
          <p:nvPr/>
        </p:nvSpPr>
        <p:spPr>
          <a:xfrm>
            <a:off x="4057560" y="513396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Totale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 &amp; in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2911320" y="493884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=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857680" y="5140440"/>
            <a:ext cx="74268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235560" y="491976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/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181560" y="5121360"/>
            <a:ext cx="74304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129440" y="50976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7112160" y="5081760"/>
            <a:ext cx="137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Aa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357200" y="5149800"/>
            <a:ext cx="11844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3DB-6DFE-49E8-9080-2FD629AC79F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79B3-27DC-4411-9653-6D96683A6EEF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 vorige we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a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1: vraag 9, 10, 12, 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2: vraag 2, 5, 6, 8, 10, 12, 14, 15 en 17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069F-E601-4F38-8257-A0CF0E65C7A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ABF3-1096-4E7D-9814-D06BA8A94CE0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85800" y="1905120"/>
            <a:ext cx="8102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Elke afdeling, direct of indirect betrokken bij de productie, wordt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plaat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producten word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drager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kostenplaa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methode is een methode om </a:t>
            </a:r>
            <a:r>
              <a:rPr b="0" lang="nl-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direc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kosten toe te rekenen aan produc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Uiteindelijk wordt de kostprijs van een product bepaald door alle bedrijfskosten (direct en indirec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5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B89B-41E7-4CA3-A5C6-FFBDB97488F5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3386-FA97-4E66-B0B7-CE24B4E56BAD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85CB-0C53-4F6A-9519-5D53B3E34E21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afdeling, direct of indirect betrokken bij de productie, wordt du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kostenplaats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genoem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r zijn drie soorten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Zelfstandige 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ofdkostenplaats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457E-7D09-4E27-851B-95F63C05DD04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F926-9477-440A-93A7-840D8B563B6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C85D-6F67-4939-9B5C-434219AEFB5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dragers: 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producten dragen alle kost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70A6-1540-42BC-BA1D-6A657439E3C5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62840" y="2001960"/>
            <a:ext cx="156024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6102360" y="201456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014640" y="2025720"/>
            <a:ext cx="178596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2997360" y="2023920"/>
            <a:ext cx="18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n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872320" y="3486240"/>
            <a:ext cx="2442960" cy="4525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811840" y="3552840"/>
            <a:ext cx="25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oofdkostenplaats(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709720" y="3243240"/>
            <a:ext cx="179100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2706840" y="3262320"/>
            <a:ext cx="184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Zelfstandige kosten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61960" y="3238560"/>
            <a:ext cx="179064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558720" y="3257640"/>
            <a:ext cx="18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ulpkosten-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Down Arrow 18"/>
          <p:cNvSpPr/>
          <p:nvPr/>
        </p:nvSpPr>
        <p:spPr>
          <a:xfrm>
            <a:off x="6800760" y="2457360"/>
            <a:ext cx="243000" cy="10144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triped Right Arrow 20"/>
          <p:cNvSpPr/>
          <p:nvPr/>
        </p:nvSpPr>
        <p:spPr>
          <a:xfrm rot="1349400">
            <a:off x="4387680" y="2909520"/>
            <a:ext cx="2468880" cy="123840"/>
          </a:xfrm>
          <a:custGeom>
            <a:avLst/>
            <a:gdLst/>
            <a:ahLst/>
            <a:rect l="l" t="t" r="r" b="b"/>
            <a:pathLst>
              <a:path w="2468563" h="123825">
                <a:moveTo>
                  <a:pt x="0" y="30956"/>
                </a:moveTo>
                <a:lnTo>
                  <a:pt x="3870" y="30956"/>
                </a:lnTo>
                <a:lnTo>
                  <a:pt x="3870" y="92869"/>
                </a:lnTo>
                <a:lnTo>
                  <a:pt x="0" y="92869"/>
                </a:lnTo>
                <a:lnTo>
                  <a:pt x="0" y="30956"/>
                </a:lnTo>
                <a:close/>
                <a:moveTo>
                  <a:pt x="7739" y="30956"/>
                </a:moveTo>
                <a:lnTo>
                  <a:pt x="15478" y="30956"/>
                </a:lnTo>
                <a:lnTo>
                  <a:pt x="15478" y="92869"/>
                </a:lnTo>
                <a:lnTo>
                  <a:pt x="7739" y="92869"/>
                </a:lnTo>
                <a:lnTo>
                  <a:pt x="7739" y="30956"/>
                </a:lnTo>
                <a:close/>
                <a:moveTo>
                  <a:pt x="19348" y="30956"/>
                </a:moveTo>
                <a:lnTo>
                  <a:pt x="2406651" y="30956"/>
                </a:lnTo>
                <a:lnTo>
                  <a:pt x="2406651" y="0"/>
                </a:lnTo>
                <a:lnTo>
                  <a:pt x="2468563" y="61913"/>
                </a:lnTo>
                <a:lnTo>
                  <a:pt x="2406651" y="123825"/>
                </a:lnTo>
                <a:lnTo>
                  <a:pt x="2406651" y="92869"/>
                </a:lnTo>
                <a:lnTo>
                  <a:pt x="19348" y="92869"/>
                </a:lnTo>
                <a:lnTo>
                  <a:pt x="19348" y="30956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triped Right Arrow 21"/>
          <p:cNvSpPr/>
          <p:nvPr/>
        </p:nvSpPr>
        <p:spPr>
          <a:xfrm rot="5400000">
            <a:off x="3512880" y="2784600"/>
            <a:ext cx="742680" cy="145800"/>
          </a:xfrm>
          <a:custGeom>
            <a:avLst/>
            <a:gdLst/>
            <a:ahLst/>
            <a:rect l="l" t="t" r="r" b="b"/>
            <a:pathLst>
              <a:path w="742950" h="146050">
                <a:moveTo>
                  <a:pt x="0" y="36513"/>
                </a:moveTo>
                <a:lnTo>
                  <a:pt x="4564" y="36513"/>
                </a:lnTo>
                <a:lnTo>
                  <a:pt x="4564" y="109538"/>
                </a:lnTo>
                <a:lnTo>
                  <a:pt x="0" y="109538"/>
                </a:lnTo>
                <a:lnTo>
                  <a:pt x="0" y="36513"/>
                </a:lnTo>
                <a:close/>
                <a:moveTo>
                  <a:pt x="9128" y="36513"/>
                </a:moveTo>
                <a:lnTo>
                  <a:pt x="18256" y="36513"/>
                </a:lnTo>
                <a:lnTo>
                  <a:pt x="18256" y="109538"/>
                </a:lnTo>
                <a:lnTo>
                  <a:pt x="9128" y="109538"/>
                </a:lnTo>
                <a:lnTo>
                  <a:pt x="9128" y="36513"/>
                </a:lnTo>
                <a:close/>
                <a:moveTo>
                  <a:pt x="22820" y="36513"/>
                </a:moveTo>
                <a:lnTo>
                  <a:pt x="669925" y="36513"/>
                </a:lnTo>
                <a:lnTo>
                  <a:pt x="669925" y="0"/>
                </a:lnTo>
                <a:lnTo>
                  <a:pt x="742950" y="73025"/>
                </a:lnTo>
                <a:lnTo>
                  <a:pt x="669925" y="146050"/>
                </a:lnTo>
                <a:lnTo>
                  <a:pt x="669925" y="109538"/>
                </a:lnTo>
                <a:lnTo>
                  <a:pt x="22820" y="109538"/>
                </a:lnTo>
                <a:lnTo>
                  <a:pt x="22820" y="36513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triped Right Arrow 22"/>
          <p:cNvSpPr/>
          <p:nvPr/>
        </p:nvSpPr>
        <p:spPr>
          <a:xfrm rot="8559000">
            <a:off x="1977840" y="2812680"/>
            <a:ext cx="1290600" cy="106200"/>
          </a:xfrm>
          <a:custGeom>
            <a:avLst/>
            <a:gdLst/>
            <a:ahLst/>
            <a:rect l="l" t="t" r="r" b="b"/>
            <a:pathLst>
              <a:path w="1290638" h="106363">
                <a:moveTo>
                  <a:pt x="0" y="26591"/>
                </a:moveTo>
                <a:lnTo>
                  <a:pt x="3324" y="26591"/>
                </a:lnTo>
                <a:lnTo>
                  <a:pt x="3324" y="79772"/>
                </a:lnTo>
                <a:lnTo>
                  <a:pt x="0" y="79772"/>
                </a:lnTo>
                <a:lnTo>
                  <a:pt x="0" y="26591"/>
                </a:lnTo>
                <a:close/>
                <a:moveTo>
                  <a:pt x="6648" y="26591"/>
                </a:moveTo>
                <a:lnTo>
                  <a:pt x="13295" y="26591"/>
                </a:lnTo>
                <a:lnTo>
                  <a:pt x="13295" y="79772"/>
                </a:lnTo>
                <a:lnTo>
                  <a:pt x="6648" y="79772"/>
                </a:lnTo>
                <a:lnTo>
                  <a:pt x="6648" y="26591"/>
                </a:lnTo>
                <a:close/>
                <a:moveTo>
                  <a:pt x="16619" y="26591"/>
                </a:moveTo>
                <a:lnTo>
                  <a:pt x="1237457" y="26591"/>
                </a:lnTo>
                <a:lnTo>
                  <a:pt x="1237457" y="0"/>
                </a:lnTo>
                <a:lnTo>
                  <a:pt x="1290638" y="53182"/>
                </a:lnTo>
                <a:lnTo>
                  <a:pt x="1237457" y="106363"/>
                </a:lnTo>
                <a:lnTo>
                  <a:pt x="1237457" y="79772"/>
                </a:lnTo>
                <a:lnTo>
                  <a:pt x="16619" y="79772"/>
                </a:lnTo>
                <a:lnTo>
                  <a:pt x="16619" y="26591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Curved Right Arrow 23"/>
          <p:cNvSpPr/>
          <p:nvPr/>
        </p:nvSpPr>
        <p:spPr>
          <a:xfrm rot="16200000">
            <a:off x="2514600" y="3343320"/>
            <a:ext cx="542880" cy="1828800"/>
          </a:xfrm>
          <a:custGeom>
            <a:avLst/>
            <a:gdLst>
              <a:gd name="textAreaLeft" fmla="*/ 72720 w 542880"/>
              <a:gd name="textAreaRight" fmla="*/ 470160 w 542880"/>
              <a:gd name="textAreaTop" fmla="*/ 406080 h 1828800"/>
              <a:gd name="textAreaBottom" fmla="*/ 13546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98" stAng="-5400000" swAng="-5400000"/>
                <a:lnTo>
                  <a:pt x="0" y="11202"/>
                </a:lnTo>
                <a:arcTo wR="21600" hR="9598" stAng="10800000" swAng="-3590351"/>
                <a:lnTo>
                  <a:pt x="16200" y="21295"/>
                </a:lnTo>
                <a:lnTo>
                  <a:pt x="21600" y="19997"/>
                </a:lnTo>
                <a:lnTo>
                  <a:pt x="16200" y="18089"/>
                </a:lnTo>
                <a:lnTo>
                  <a:pt x="16200" y="18890"/>
                </a:lnTo>
                <a:arcTo wR="21600" hR="9598" stAng="7209649" swAng="3462320"/>
                <a:lnTo>
                  <a:pt x="76" y="10400"/>
                </a:lnTo>
                <a:arcTo wR="21600" hR="9598" stAng="-10671969" swAng="5271969"/>
                <a:close/>
              </a:path>
              <a:path fill="darkenLess" w="21600" h="21600">
                <a:moveTo>
                  <a:pt x="21600" y="0"/>
                </a:moveTo>
                <a:arcTo wR="21600" hR="9598" stAng="-5400000" swAng="-5400000"/>
                <a:lnTo>
                  <a:pt x="0" y="9598"/>
                </a:lnTo>
                <a:arcTo wR="21600" hR="9598" stAng="10800000" swAng="-128031"/>
                <a:lnTo>
                  <a:pt x="76" y="10400"/>
                </a:lnTo>
                <a:arcTo wR="21600" hR="9598" stAng="-10671969" swAng="5271969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Curved Right Arrow 24"/>
          <p:cNvSpPr/>
          <p:nvPr/>
        </p:nvSpPr>
        <p:spPr>
          <a:xfrm rot="16200000">
            <a:off x="3555360" y="1383120"/>
            <a:ext cx="1214280" cy="641988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1491120 h 6419880"/>
              <a:gd name="textAreaBottom" fmla="*/ 4777200 h 641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34" stAng="-5400000" swAng="-5400000"/>
                <a:lnTo>
                  <a:pt x="0" y="11056"/>
                </a:lnTo>
                <a:arcTo wR="21600" hR="10034" stAng="10800000" swAng="-3655957"/>
                <a:lnTo>
                  <a:pt x="16200" y="21281"/>
                </a:lnTo>
                <a:lnTo>
                  <a:pt x="21600" y="20578"/>
                </a:lnTo>
                <a:lnTo>
                  <a:pt x="16200" y="19237"/>
                </a:lnTo>
                <a:lnTo>
                  <a:pt x="16200" y="19748"/>
                </a:lnTo>
                <a:arcTo wR="21600" hR="10034" stAng="7144043" swAng="3574538"/>
                <a:lnTo>
                  <a:pt x="28" y="10545"/>
                </a:lnTo>
                <a:arcTo wR="21600" hR="10034" stAng="-10718581" swAng="5318581"/>
                <a:close/>
              </a:path>
              <a:path fill="darkenLess" w="21600" h="21600">
                <a:moveTo>
                  <a:pt x="21600" y="0"/>
                </a:moveTo>
                <a:arcTo wR="21600" hR="10034" stAng="-5400000" swAng="-5400000"/>
                <a:lnTo>
                  <a:pt x="0" y="10034"/>
                </a:lnTo>
                <a:arcTo wR="21600" hR="10034" stAng="10800000" swAng="-81419"/>
                <a:lnTo>
                  <a:pt x="28" y="10545"/>
                </a:lnTo>
                <a:arcTo wR="21600" hR="10034" stAng="-10718581" swAng="5318581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Down Arrow 25"/>
          <p:cNvSpPr/>
          <p:nvPr/>
        </p:nvSpPr>
        <p:spPr>
          <a:xfrm>
            <a:off x="7458120" y="3957480"/>
            <a:ext cx="528480" cy="101124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C:\Program Files\Microsoft Office\MEDIA\CAGCAT10\j0149627.wmf"/>
          <p:cNvPicPr/>
          <p:nvPr/>
        </p:nvPicPr>
        <p:blipFill>
          <a:blip r:embed="rId1"/>
          <a:stretch/>
        </p:blipFill>
        <p:spPr>
          <a:xfrm>
            <a:off x="6353280" y="4768920"/>
            <a:ext cx="2533680" cy="1800000"/>
          </a:xfrm>
          <a:prstGeom prst="rect">
            <a:avLst/>
          </a:prstGeom>
          <a:ln w="0">
            <a:noFill/>
          </a:ln>
        </p:spPr>
      </p:pic>
      <p:cxnSp>
        <p:nvCxnSpPr>
          <p:cNvPr id="262" name="Straight Arrow Connector 28"/>
          <p:cNvCxnSpPr/>
          <p:nvPr/>
        </p:nvCxnSpPr>
        <p:spPr>
          <a:xfrm flipV="1">
            <a:off x="5837040" y="5516280"/>
            <a:ext cx="1005480" cy="519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3" name="TextBox 29"/>
          <p:cNvSpPr/>
          <p:nvPr/>
        </p:nvSpPr>
        <p:spPr>
          <a:xfrm>
            <a:off x="4770360" y="58831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Prijs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Curved Right Arrow 23"/>
          <p:cNvSpPr/>
          <p:nvPr/>
        </p:nvSpPr>
        <p:spPr>
          <a:xfrm rot="16200000">
            <a:off x="4669560" y="2878920"/>
            <a:ext cx="542880" cy="2747880"/>
          </a:xfrm>
          <a:custGeom>
            <a:avLst/>
            <a:gdLst>
              <a:gd name="textAreaLeft" fmla="*/ 72720 w 542880"/>
              <a:gd name="textAreaRight" fmla="*/ 470160 w 542880"/>
              <a:gd name="textAreaTop" fmla="*/ 636120 h 2747880"/>
              <a:gd name="textAreaBottom" fmla="*/ 2044080 h 27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0" stAng="-5400000" swAng="-5400000"/>
                <a:lnTo>
                  <a:pt x="0" y="11068"/>
                </a:lnTo>
                <a:arcTo wR="21600" hR="10000" stAng="10800000" swAng="-3650997"/>
                <a:lnTo>
                  <a:pt x="16200" y="21282"/>
                </a:lnTo>
                <a:lnTo>
                  <a:pt x="21600" y="20533"/>
                </a:lnTo>
                <a:lnTo>
                  <a:pt x="16200" y="19148"/>
                </a:lnTo>
                <a:lnTo>
                  <a:pt x="16200" y="19681"/>
                </a:lnTo>
                <a:arcTo wR="21600" hR="10000" stAng="7149003" swAng="3565904"/>
                <a:lnTo>
                  <a:pt x="31" y="10534"/>
                </a:lnTo>
                <a:arcTo wR="21600" hR="10000" stAng="-10714907" swAng="5314907"/>
                <a:close/>
              </a:path>
              <a:path fill="darkenLess" w="21600" h="21600">
                <a:moveTo>
                  <a:pt x="21600" y="0"/>
                </a:moveTo>
                <a:arcTo wR="21600" hR="10000" stAng="-5400000" swAng="-5400000"/>
                <a:lnTo>
                  <a:pt x="0" y="10000"/>
                </a:lnTo>
                <a:arcTo wR="21600" hR="10000" stAng="10800000" swAng="-85093"/>
                <a:lnTo>
                  <a:pt x="31" y="10534"/>
                </a:lnTo>
                <a:arcTo wR="21600" hR="10000" stAng="-10714907" swAng="5314907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9124-FF90-40D8-985F-71D7A872B197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C1B2-2867-4A52-AD02-BA32BDDF0531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verricht diensten voor een andere kostenplaa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i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echt bestaande afdel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ulp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as, water, elektra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 moeten wel een naam hebben. In dit geval b.v.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bestaande afdeling “huisvesting”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496E-629A-41EE-8D8E-27D6E5B9F356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..........</a:t>
            </a: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hulpkostenplaat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5B1C-B95A-4B1F-8ABF-BE62708EC8C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5C72-EA88-494E-A1F2-66F6D708D7F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zelfstandige kostenplaats is wel een echte afdeling en levert prestaties aan andere afdeling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zelfstandige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ministratie, magazijn en onderhou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administrati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058C-7D6C-4C6C-9CCC-EEEA51ED3628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zelfstandige 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3E88-A939-476C-B975-AE7FFF97FFD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658A-2C5A-412A-8745-F678F27D5A9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oofdkostenplaats is ook een echte afdeling en levert alleen prestaties aan het product. Houden zich dus direct met het product bezi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oofd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abricage, montage en verkoop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fabricag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E4D9-FADD-4D57-80D1-91F29DFDA4B5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hoofd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46FD-1ED0-4AF4-8BF5-2DFF9D669801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8515-5EDD-415D-AB64-47A9F3E66FDE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kostenplaatsen zodanig kiezen dat je alle indirecte kosten over de verschillende kostenplaatsen kunt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t is dus een methode om uiteindelijk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in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over de kostendragers te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worden rechtstreeks over de kostendragers verde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23DB-43E0-4682-AFA5-80524EFEEFFD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cbcbcb"/>
                </a:solidFill>
                <a:latin typeface="Times New Roman"/>
              </a:rPr>
              <a:t>Kostendragers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 (= producten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9091-D62F-49BC-B9F0-033A899E909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FCD8-8F50-4EED-9C25-D8D417A71115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efenopdracht 4…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…..….......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786240" y="1116000"/>
            <a:ext cx="533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Deel de volgende kosten in naar kostenpla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Slide Number Placeholder 2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9F16-2D81-4D11-B028-FDC015DEBF20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62120" y="2133720"/>
          <a:ext cx="7189560" cy="3886200"/>
        </p:xfrm>
        <a:graphic>
          <a:graphicData uri="http://schemas.openxmlformats.org/drawingml/2006/table">
            <a:tbl>
              <a:tblPr/>
              <a:tblGrid>
                <a:gridCol w="3403440"/>
                <a:gridCol w="1133640"/>
                <a:gridCol w="1523880"/>
                <a:gridCol w="1128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derwer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l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lfsta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e koste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of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drank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grondstoff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magazijn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schrijvings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administratief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verkopend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produktie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onderhouds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B60C-A8A3-477E-A630-986FD82A9B9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949A-7F11-40F9-8F6E-BCC91D9537F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Les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? Vra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1612-56E3-492D-8FF6-12368470B636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E0C2-DFD4-4F50-BE77-5F88DFE25C1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1545-7E06-4E33-9181-6FB2959C090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ak van het bijgeleverde werkboek de volgende vrag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 hoofdstuk 3: vraag1 t/m 10,12, 1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 de volgende les opdracht 2 van de oefenstof (leerarrangement) 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34C4-2CDB-43A3-AA31-BCB0A52AAC5F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ED20-46B3-4376-9642-510299485DA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derwerpen voor vanda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bedra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stenplaatsen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2F12-225D-4B70-B160-8E2C3C0EA63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CEB2-416A-4356-B213-A023ECC599B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j het begroten ga je vaak uit van normbedra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t zijn getallen die in een normale (=gemiddelde) situatie gel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bedragen krijg je vi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e v/d boekhoud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igen ervar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chegegeve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at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ogisch nadenk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942A-10BC-488B-B54D-BE8E0E936A6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CBA8-ABAA-4285-894A-498C96CEA15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oorbeelden van 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supermark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aakt gemiddeld € 150 omzet per vierkante meter per we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euwbouw kost € 500 pe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pslagfactor in een dierenspeciaalzaak is 2,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bestelauto kost € 0,60 per k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anleg van een snelweg kost 10 miljoen euro per kilome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fte kost € 60.000 per ja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4BBB-C5AE-4775-8EF2-08D23946FA1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4832-F9E5-4BD0-B946-C338A73A246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 in produc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bloemist bindt een boeket in 5 minu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rotatiegietmach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duceert 4000 flessen per u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mkommerteelt in glastuinbouw levert 200 stuks per 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er jaar 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paard eet 3 kilo brok per da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7EF6-394E-4D9F-B8B1-3E1772322BB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CA32-8EBE-461E-B111-A9CC0405074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fwijkingen t.o.v. de nor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nneer je afwijkt van de norm, werk je efficienter of minder efficient dan gemidde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ardoor hou je geld over of kom je geld tekort t.o.v. je begro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6A15-A2E4-49DB-9609-C891693B0D3E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6DB9-9918-49B8-896E-EFF81AFE49E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bereke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BD7B-77EA-414E-B64C-10B901D1520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1438-E702-4301-A68A-B58BCD7826F0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e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oodzakelijke of toegestane kosten per eenheid produ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eveelheid grondstoffen  X  standaardprijz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dig voor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beheersing (is vóórcalculatie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palen van budgetten (raming v. kosten)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ijsbepaling produc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iterste prijs waartegen men desnoods mag verkopen zonder verlies (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ensprij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ar de Jong</dc:creator>
  <dc:description/>
  <dc:language>en-US</dc:language>
  <cp:lastModifiedBy>Geraar de Jong</cp:lastModifiedBy>
  <dcterms:modified xsi:type="dcterms:W3CDTF">2013-01-21T22:10:57Z</dcterms:modified>
  <cp:revision>19</cp:revision>
  <dc:subject/>
  <dc:title>PowerPoint-presentatie</dc:title>
</cp:coreProperties>
</file>