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9E2F-0D4D-4652-96D3-D1C78E45B43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752A-5E27-4449-BA30-9175BA6E604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6432-984F-40E0-9F32-B201D0B1DF32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3234-E023-40B6-91F4-5AC8F3C39B13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CBC3-D694-460F-A119-9071C8D58BB2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636D-20E2-4C1C-B292-FD99D112A8D8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1DB0-2429-465F-849D-D1F383213F90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6B07-22A6-46ED-B6D4-8CECC73F1934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AB12-9A1E-4F9E-98A4-BA049616C75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B77C-1711-4DAA-A40A-321E04F3B45C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A338-95A1-4F49-B27E-AF6488340570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9D2F-14EA-4762-8C84-8BC4F4313DF8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FB13-8B85-4530-9ABF-AF50C63FC00A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7E0C-0752-4C2B-BB18-9CECA689E21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8058-E04C-4E20-9165-541A8B997000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6BBB-7198-4B26-BC1A-88CCC9BADCD5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6379-A1F4-47AC-BABC-D0449B42301D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3FD5-A6DD-41B8-BB26-6D3700E4CC6F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4E8D-D9DD-43DB-A085-2DB81C69D977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1737-C5AB-444E-BC5E-275B8A2B3DD3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9A69-1563-431E-A3AE-B93FCDF0CA0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B2EC-F732-420D-A17A-4F4BD8286AE4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EB72-0FC8-4B55-92CC-644BBE5325F7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84E5-8540-4E7B-8DFB-1B7C2660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447C-AF19-43F3-83C8-6DB04F14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B9D0-1E12-42AB-AACA-EE36A6973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88F3-37A0-4DD3-BDC1-AD40BD85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8E8A-136B-4E8D-822C-8DEA44EDB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6B5A-5D03-4EE9-96F0-707EC88B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15AE-1693-4E98-86FB-59DF8D76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E133-6BA4-4BA3-B61F-460796A2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13E4-042C-4878-A763-B4340304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D437-CEAA-4DC2-B730-F6FFCBA6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1D81-FC64-401A-AE72-41B2DB05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6F1C-4DEB-40B3-A5AD-00FE486E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80EE-A60A-4870-8758-E6E37795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4A88-8FB3-4230-B417-936F48EE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7DF7-1457-465A-AE9F-727B5668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EEBA-A8B1-4747-914B-A365C3606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5FEF-61DB-42AA-9957-E7472D228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F877-E6D2-460A-B1A3-B10A4DDA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59DB-5857-4F82-82C9-47BF958D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3E74-BDC7-4542-B102-DF172038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C232-4116-4004-9654-779C0AE2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048E-2D75-4E76-ADBB-DADF09DE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C2D1-003D-40F8-966F-DDF1D963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459C-A620-4F28-AC52-DD9E25FE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05B3-A8D5-406B-926E-BD776B2F63B7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19520" y="6324120"/>
            <a:ext cx="35049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F1C9-8AE4-4DEE-A108-BC1DAD0DF0F7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5F9F-F250-4CEB-BB79-29EAE53A9FFF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5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2AE7-EE46-42EA-8C45-626B341FB698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ome.tiscali.nl/erikhemmes/documents/08FP006.pdf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mvc.machine-video.com/996397e257a4df2fe05f6469d1980499.html?bw=h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FD51-0450-48EC-BFDE-DC3F58CA5B88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8195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DF65-4AAC-4A41-8371-7106B58C2440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Begroten en Budgetter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 3: Kostprijsbereken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obbert Ooster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7BD5-1611-4EA9-B1EE-2CDC13734508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5A97-ADC0-4E0F-9EFE-8009AAA214BE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tandaardkostprij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ardkostprijs =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ste kosten + variabele kos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 berekene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er produ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ardkostprijs = C/N + V/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otale vaste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stante) kos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male produ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otal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iabele kos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verwach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kelijke productieomva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8" dur="1" fill="hold"/>
                                  <p:tgtEl>
                                    <p:spTgt spid="1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29" dur="1" fill="hold"/>
                                  <p:tgtEl>
                                    <p:spTgt spid="14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30" dur="1" fill="hold"/>
                                  <p:tgtEl>
                                    <p:spTgt spid="14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31" dur="1" fill="hold"/>
                                  <p:tgtEl>
                                    <p:spTgt spid="14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32" dur="1" fill="hold"/>
                                  <p:tgtEl>
                                    <p:spTgt spid="14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96F2-24CB-4BE4-8534-BC8C19A7B22A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56DE-07C3-4FAF-8C1A-09D6965ADBCF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prijs 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ele kos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eranderen evenredig (proportioneel) met de productie en/of verkoo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ijv.: inkoop van grondstoffen/goeder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ste kos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eranderen nauwelijks binnen een bepaalde bandbreed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ijv.: afschrijving van de inventar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5AAA-468F-4881-BD02-CECD48D0EC78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186E-1B95-4AF1-A39C-611AFD332532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prijs I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kte </a:t>
            </a: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koste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2779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Zijn alle kosten die direct aan product gekoppeld zij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2779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Grondstoffen,  productiepersoneel, productiemachines, verkoo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Indirecte koste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2779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Zijn alle kosten die niet rechtstreeks met productie of verkoop te maken hebb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2779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Onder andere de administratie, kantoormachines en huisve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5CF6-FFAD-4485-BD36-351629DC610E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3EFB-5CBF-40F7-A705-97DBE1BADFB1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groten in een organisat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5800" y="1981080"/>
          <a:ext cx="7848720" cy="3184560"/>
        </p:xfrm>
        <a:graphic>
          <a:graphicData uri="http://schemas.openxmlformats.org/drawingml/2006/table">
            <a:tbl>
              <a:tblPr/>
              <a:tblGrid>
                <a:gridCol w="3276720"/>
                <a:gridCol w="457200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kel / webwink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slagmetho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fijnde opslagmetho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tiebedrijf / fabrie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plaatsenmetho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enstverlenend bedrijf / maatwer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groten o.b.v. project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19D1-3CD4-4800-BF0C-D41C1EFC726C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3BC8-9901-4E58-BE0E-F399BB151E12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sla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slag = brutowinst per artik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stprijs + Opslag = Verkoopprij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x BTW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gelijk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495680" y="3962520"/>
          <a:ext cx="3886200" cy="1600200"/>
        </p:xfrm>
        <a:graphic>
          <a:graphicData uri="http://schemas.openxmlformats.org/drawingml/2006/table">
            <a:tbl>
              <a:tblPr/>
              <a:tblGrid>
                <a:gridCol w="2590920"/>
                <a:gridCol w="1295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koopwaar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utowin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Line 50"/>
          <p:cNvSpPr/>
          <p:nvPr/>
        </p:nvSpPr>
        <p:spPr>
          <a:xfrm flipH="1">
            <a:off x="5257440" y="3124080"/>
            <a:ext cx="304920" cy="99072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51"/>
          <p:cNvSpPr/>
          <p:nvPr/>
        </p:nvSpPr>
        <p:spPr>
          <a:xfrm>
            <a:off x="2362320" y="3124080"/>
            <a:ext cx="2209680" cy="160020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52"/>
          <p:cNvSpPr/>
          <p:nvPr/>
        </p:nvSpPr>
        <p:spPr>
          <a:xfrm>
            <a:off x="3962520" y="3124080"/>
            <a:ext cx="1218960" cy="205740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F683-3B42-4B5C-B20E-E9C506B327C7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1ADD-7559-4BA0-866B-7740AD440A77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slag: Nut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 de opslag moet je de bedrijfskosten terugverdien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gelijk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200400" y="3124080"/>
          <a:ext cx="5554800" cy="2971800"/>
        </p:xfrm>
        <a:graphic>
          <a:graphicData uri="http://schemas.openxmlformats.org/drawingml/2006/table">
            <a:tbl>
              <a:tblPr/>
              <a:tblGrid>
                <a:gridCol w="216000"/>
                <a:gridCol w="2544120"/>
                <a:gridCol w="216000"/>
                <a:gridCol w="216000"/>
                <a:gridCol w="2147040"/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ltatenrekening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ltaat per artikel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koopprij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1449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2381400"/>
                          <a:tab algn="r" pos="31449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koopwaarde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r" pos="31449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2381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prijs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r" pos="2381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sla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2381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drijfskosten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AutoShape 325"/>
          <p:cNvSpPr/>
          <p:nvPr/>
        </p:nvSpPr>
        <p:spPr>
          <a:xfrm>
            <a:off x="457200" y="4038480"/>
            <a:ext cx="2895480" cy="457200"/>
          </a:xfrm>
          <a:prstGeom prst="rightArrowCallout">
            <a:avLst>
              <a:gd name="adj1" fmla="val 25002"/>
              <a:gd name="adj2" fmla="val 25000"/>
              <a:gd name="adj3" fmla="val 50694"/>
              <a:gd name="adj4" fmla="val 77852"/>
            </a:avLst>
          </a:prstGeom>
          <a:solidFill>
            <a:srgbClr val="cbcbcb"/>
          </a:solidFill>
          <a:ln cap="sq"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Variabele kos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AutoShape 326"/>
          <p:cNvSpPr/>
          <p:nvPr/>
        </p:nvSpPr>
        <p:spPr>
          <a:xfrm>
            <a:off x="838080" y="5070600"/>
            <a:ext cx="2514600" cy="457200"/>
          </a:xfrm>
          <a:prstGeom prst="rightArrowCallout">
            <a:avLst>
              <a:gd name="adj1" fmla="val 21530"/>
              <a:gd name="adj2" fmla="val 25000"/>
              <a:gd name="adj3" fmla="val 50009"/>
              <a:gd name="adj4" fmla="val 74181"/>
            </a:avLst>
          </a:prstGeom>
          <a:solidFill>
            <a:srgbClr val="cbcbcb"/>
          </a:solidFill>
          <a:ln cap="sq"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Vaste kos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8B9A-9126-4C67-8047-8FC46B068B95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A8A8-44B9-486D-9908-19437CD92AD8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slag-kengetall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slagfactor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€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,50 / € 3,00 = 2,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stprijs x 2,5 = Verkoopprij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slagpercentag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€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,50 / € 3,00 * 100% = 150%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stprijs + 150% = Verkoopprij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Bruto)marg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€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,50 / € 7,50 * 100% = 60%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% van de verkoopprijs is win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5867280" y="304920"/>
          <a:ext cx="3124440" cy="1296720"/>
        </p:xfrm>
        <a:graphic>
          <a:graphicData uri="http://schemas.openxmlformats.org/drawingml/2006/table">
            <a:tbl>
              <a:tblPr/>
              <a:tblGrid>
                <a:gridCol w="2127240"/>
                <a:gridCol w="99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koopprij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prij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utowin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1" dur="1" fill="hold"/>
                                  <p:tgtEl>
                                    <p:spTgt spid="18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743D-1BF4-4EFF-9622-D274FF10A5C9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71BC-8D33-4C86-8D6B-AEB2341503B8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efenopgave opslag-kengetall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reke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3920" indent="-3204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slagfac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3920" indent="-3204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slagpercent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3920" indent="-3204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Bruto)mar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038480" y="4267080"/>
          <a:ext cx="4191120" cy="1600200"/>
        </p:xfrm>
        <a:graphic>
          <a:graphicData uri="http://schemas.openxmlformats.org/drawingml/2006/table">
            <a:tbl>
              <a:tblPr/>
              <a:tblGrid>
                <a:gridCol w="2667240"/>
                <a:gridCol w="1523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,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koopwaar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utowin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,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CA34-1739-4F4E-8245-5D7BFEC43B24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0F6E-EBB5-41F3-AF15-46CE8110E697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slagmethod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m het gewenste opslagpercentage te bepalen, kun je gebruik maken va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primitieve opslagmetho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619280" indent="-2286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eder product hetzelfde percent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verfijnde opslagmetho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619280" indent="-2286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 product/categorie ander percent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6D3F-7CA0-4CDE-87F4-AED9E4607CAB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9C13-82A6-4BE7-9B7F-B8B9DDEBEA56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enplaatsenmetho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4019400" y="2259000"/>
            <a:ext cx="1560600" cy="6602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4000680" y="5111640"/>
            <a:ext cx="2028600" cy="66060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274680" y="3114720"/>
            <a:ext cx="1282680" cy="6620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220680" y="3060720"/>
            <a:ext cx="158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Indirec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kos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4002120" y="2243160"/>
            <a:ext cx="177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e kosten afdeling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4016520" y="3143160"/>
            <a:ext cx="1562040" cy="66060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Box 14"/>
          <p:cNvSpPr/>
          <p:nvPr/>
        </p:nvSpPr>
        <p:spPr>
          <a:xfrm>
            <a:off x="3986280" y="3125880"/>
            <a:ext cx="177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e kosten afdeling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15"/>
          <p:cNvSpPr/>
          <p:nvPr/>
        </p:nvSpPr>
        <p:spPr>
          <a:xfrm>
            <a:off x="4016520" y="4029120"/>
            <a:ext cx="1562040" cy="6620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Box 16"/>
          <p:cNvSpPr/>
          <p:nvPr/>
        </p:nvSpPr>
        <p:spPr>
          <a:xfrm>
            <a:off x="3986280" y="4013280"/>
            <a:ext cx="177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e kosten afdeling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8" name="Straight Arrow Connector 18"/>
          <p:cNvCxnSpPr>
            <a:endCxn id="203" idx="1"/>
          </p:cNvCxnSpPr>
          <p:nvPr/>
        </p:nvCxnSpPr>
        <p:spPr>
          <a:xfrm flipV="1">
            <a:off x="1571400" y="2596320"/>
            <a:ext cx="2431080" cy="81684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09" name="Straight Arrow Connector 20"/>
          <p:cNvCxnSpPr/>
          <p:nvPr/>
        </p:nvCxnSpPr>
        <p:spPr>
          <a:xfrm>
            <a:off x="1599840" y="3733560"/>
            <a:ext cx="2439000" cy="10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10" name="Straight Arrow Connector 22"/>
          <p:cNvCxnSpPr/>
          <p:nvPr/>
        </p:nvCxnSpPr>
        <p:spPr>
          <a:xfrm>
            <a:off x="990360" y="4419360"/>
            <a:ext cx="2996280" cy="10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11" name="TextBox 26"/>
          <p:cNvSpPr/>
          <p:nvPr/>
        </p:nvSpPr>
        <p:spPr>
          <a:xfrm rot="20479800">
            <a:off x="1544760" y="269676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+ 16 % ind. ko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Straight Connector 32"/>
          <p:cNvSpPr/>
          <p:nvPr/>
        </p:nvSpPr>
        <p:spPr>
          <a:xfrm flipV="1">
            <a:off x="990720" y="3733560"/>
            <a:ext cx="0" cy="685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Box 34"/>
          <p:cNvSpPr/>
          <p:nvPr/>
        </p:nvSpPr>
        <p:spPr>
          <a:xfrm>
            <a:off x="1654560" y="334152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+ 39 % ind. ko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Box 35"/>
          <p:cNvSpPr/>
          <p:nvPr/>
        </p:nvSpPr>
        <p:spPr>
          <a:xfrm>
            <a:off x="1259280" y="404352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+ 45 % ind. ko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Straight Connector 37"/>
          <p:cNvSpPr/>
          <p:nvPr/>
        </p:nvSpPr>
        <p:spPr>
          <a:xfrm>
            <a:off x="3962520" y="4952880"/>
            <a:ext cx="1752480" cy="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Box 40"/>
          <p:cNvSpPr/>
          <p:nvPr/>
        </p:nvSpPr>
        <p:spPr>
          <a:xfrm>
            <a:off x="5723640" y="457992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Box 41"/>
          <p:cNvSpPr/>
          <p:nvPr/>
        </p:nvSpPr>
        <p:spPr>
          <a:xfrm>
            <a:off x="1425600" y="5110200"/>
            <a:ext cx="114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Kostprij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Produ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Slide Number Placeholder 2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217F-F786-4E79-88EB-44A08ECA75F0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Box 41"/>
          <p:cNvSpPr/>
          <p:nvPr/>
        </p:nvSpPr>
        <p:spPr>
          <a:xfrm>
            <a:off x="4057560" y="5133960"/>
            <a:ext cx="19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Totale ko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 &amp; in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Box 12"/>
          <p:cNvSpPr/>
          <p:nvPr/>
        </p:nvSpPr>
        <p:spPr>
          <a:xfrm>
            <a:off x="2911320" y="4938840"/>
            <a:ext cx="90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00"/>
                </a:solidFill>
                <a:latin typeface="Times New Roman"/>
              </a:rPr>
              <a:t>=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2857680" y="5140440"/>
            <a:ext cx="742680" cy="6602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Box 12"/>
          <p:cNvSpPr/>
          <p:nvPr/>
        </p:nvSpPr>
        <p:spPr>
          <a:xfrm>
            <a:off x="6235560" y="4919760"/>
            <a:ext cx="90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00"/>
                </a:solidFill>
                <a:latin typeface="Times New Roman"/>
              </a:rPr>
              <a:t>/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6181560" y="5121360"/>
            <a:ext cx="743040" cy="6602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7129440" y="5097600"/>
            <a:ext cx="1560600" cy="6602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Box 12"/>
          <p:cNvSpPr/>
          <p:nvPr/>
        </p:nvSpPr>
        <p:spPr>
          <a:xfrm>
            <a:off x="7112160" y="5081760"/>
            <a:ext cx="137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Aan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produc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1357200" y="5149800"/>
            <a:ext cx="1184400" cy="66060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4125-61BB-4F3E-94CB-6DD948B76DB4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EB7C-7EB6-4327-99FB-C1E61544D238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uiswerk vorige wee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ak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ofdstuk 1: vraag 9, 10, 12, 1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ofdstuk 2: vraag 2, 5, 6, 8, 10, 12, 14, 15 en 17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AF32-6F4B-4C8A-AE57-9C4E78B8BBB7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EAE0-8215-43DD-9537-B5FF002090AA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enplaatsenmetho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685800" y="1905120"/>
            <a:ext cx="8102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Elke afdeling, direct of indirect betrokken bij de productie, wordt een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kostenplaats</a:t>
            </a: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 genoem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De producten worden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kostendragers</a:t>
            </a: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 genoem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De kostenplaat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n</a:t>
            </a: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methode is een methode om </a:t>
            </a:r>
            <a:r>
              <a:rPr b="0" lang="nl-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indirec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kosten toe te rekenen aan product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Uiteindelijk wordt de kostprijs van een product bepaald door alle bedrijfskosten (direct en indirec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Slide Number Placeholder 5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5C10-C389-43CD-9B9B-3CE4BC2560FF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1C4E-15F6-4DC2-9B64-E184A3876F6B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5829-93A9-4F85-B9EC-23A1DA923F05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kostenplaatsen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lke afdeling, direct of indirect betrokken bij de productie, wordt dus een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kostenplaats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genoem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r zijn drie soorten kostenplaatse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ulpkostenplaats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Zelfstandige kostenplaats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oofdkostenplaats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00BC-763E-4FE1-B025-42312C61E5A5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1FDF-7C9D-4A5A-B914-E1C616755F04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4E30-ACC8-4FC0-A3B0-8A4B2E78B6CC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Kostendragers: </a:t>
            </a:r>
            <a:r>
              <a:rPr b="0" lang="nl-NL" sz="2800" spc="-1" strike="noStrike">
                <a:solidFill>
                  <a:srgbClr val="cbcbcb"/>
                </a:solidFill>
                <a:latin typeface="Times New Roman"/>
              </a:rPr>
              <a:t>producten dragen alle koste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E14A-0204-451F-B586-49F7746817A9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162840" y="2001960"/>
            <a:ext cx="1560240" cy="44136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Box 12"/>
          <p:cNvSpPr/>
          <p:nvPr/>
        </p:nvSpPr>
        <p:spPr>
          <a:xfrm>
            <a:off x="6102360" y="2014560"/>
            <a:ext cx="17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e kost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3014640" y="2025720"/>
            <a:ext cx="1785960" cy="44136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Box 12"/>
          <p:cNvSpPr/>
          <p:nvPr/>
        </p:nvSpPr>
        <p:spPr>
          <a:xfrm>
            <a:off x="2997360" y="2023920"/>
            <a:ext cx="184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Indirecte kost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5872320" y="3486240"/>
            <a:ext cx="2442960" cy="45252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Box 12"/>
          <p:cNvSpPr/>
          <p:nvPr/>
        </p:nvSpPr>
        <p:spPr>
          <a:xfrm>
            <a:off x="5811840" y="3552840"/>
            <a:ext cx="25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Hoofdkostenplaats(en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2709720" y="3243240"/>
            <a:ext cx="1791000" cy="73332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Box 12"/>
          <p:cNvSpPr/>
          <p:nvPr/>
        </p:nvSpPr>
        <p:spPr>
          <a:xfrm>
            <a:off x="2706840" y="3262320"/>
            <a:ext cx="184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Zelfstandige kostenplaats(e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561960" y="3238560"/>
            <a:ext cx="1790640" cy="73332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Box 17"/>
          <p:cNvSpPr/>
          <p:nvPr/>
        </p:nvSpPr>
        <p:spPr>
          <a:xfrm>
            <a:off x="558720" y="3257640"/>
            <a:ext cx="184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Hulpkosten-plaats(e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Down Arrow 18"/>
          <p:cNvSpPr/>
          <p:nvPr/>
        </p:nvSpPr>
        <p:spPr>
          <a:xfrm>
            <a:off x="6800760" y="2457360"/>
            <a:ext cx="243000" cy="101448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Striped Right Arrow 20"/>
          <p:cNvSpPr/>
          <p:nvPr/>
        </p:nvSpPr>
        <p:spPr>
          <a:xfrm rot="1349400">
            <a:off x="4387680" y="2909520"/>
            <a:ext cx="2468880" cy="123840"/>
          </a:xfrm>
          <a:custGeom>
            <a:avLst/>
            <a:gdLst/>
            <a:ahLst/>
            <a:rect l="l" t="t" r="r" b="b"/>
            <a:pathLst>
              <a:path w="2468563" h="123825">
                <a:moveTo>
                  <a:pt x="0" y="30956"/>
                </a:moveTo>
                <a:lnTo>
                  <a:pt x="3870" y="30956"/>
                </a:lnTo>
                <a:lnTo>
                  <a:pt x="3870" y="92869"/>
                </a:lnTo>
                <a:lnTo>
                  <a:pt x="0" y="92869"/>
                </a:lnTo>
                <a:lnTo>
                  <a:pt x="0" y="30956"/>
                </a:lnTo>
                <a:close/>
                <a:moveTo>
                  <a:pt x="7739" y="30956"/>
                </a:moveTo>
                <a:lnTo>
                  <a:pt x="15478" y="30956"/>
                </a:lnTo>
                <a:lnTo>
                  <a:pt x="15478" y="92869"/>
                </a:lnTo>
                <a:lnTo>
                  <a:pt x="7739" y="92869"/>
                </a:lnTo>
                <a:lnTo>
                  <a:pt x="7739" y="30956"/>
                </a:lnTo>
                <a:close/>
                <a:moveTo>
                  <a:pt x="19348" y="30956"/>
                </a:moveTo>
                <a:lnTo>
                  <a:pt x="2406651" y="30956"/>
                </a:lnTo>
                <a:lnTo>
                  <a:pt x="2406651" y="0"/>
                </a:lnTo>
                <a:lnTo>
                  <a:pt x="2468563" y="61913"/>
                </a:lnTo>
                <a:lnTo>
                  <a:pt x="2406651" y="123825"/>
                </a:lnTo>
                <a:lnTo>
                  <a:pt x="2406651" y="92869"/>
                </a:lnTo>
                <a:lnTo>
                  <a:pt x="19348" y="92869"/>
                </a:lnTo>
                <a:lnTo>
                  <a:pt x="19348" y="30956"/>
                </a:lnTo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Striped Right Arrow 21"/>
          <p:cNvSpPr/>
          <p:nvPr/>
        </p:nvSpPr>
        <p:spPr>
          <a:xfrm rot="5400000">
            <a:off x="3512880" y="2784600"/>
            <a:ext cx="742680" cy="145800"/>
          </a:xfrm>
          <a:custGeom>
            <a:avLst/>
            <a:gdLst/>
            <a:ahLst/>
            <a:rect l="l" t="t" r="r" b="b"/>
            <a:pathLst>
              <a:path w="742950" h="146050">
                <a:moveTo>
                  <a:pt x="0" y="36513"/>
                </a:moveTo>
                <a:lnTo>
                  <a:pt x="4564" y="36513"/>
                </a:lnTo>
                <a:lnTo>
                  <a:pt x="4564" y="109538"/>
                </a:lnTo>
                <a:lnTo>
                  <a:pt x="0" y="109538"/>
                </a:lnTo>
                <a:lnTo>
                  <a:pt x="0" y="36513"/>
                </a:lnTo>
                <a:close/>
                <a:moveTo>
                  <a:pt x="9128" y="36513"/>
                </a:moveTo>
                <a:lnTo>
                  <a:pt x="18256" y="36513"/>
                </a:lnTo>
                <a:lnTo>
                  <a:pt x="18256" y="109538"/>
                </a:lnTo>
                <a:lnTo>
                  <a:pt x="9128" y="109538"/>
                </a:lnTo>
                <a:lnTo>
                  <a:pt x="9128" y="36513"/>
                </a:lnTo>
                <a:close/>
                <a:moveTo>
                  <a:pt x="22820" y="36513"/>
                </a:moveTo>
                <a:lnTo>
                  <a:pt x="669925" y="36513"/>
                </a:lnTo>
                <a:lnTo>
                  <a:pt x="669925" y="0"/>
                </a:lnTo>
                <a:lnTo>
                  <a:pt x="742950" y="73025"/>
                </a:lnTo>
                <a:lnTo>
                  <a:pt x="669925" y="146050"/>
                </a:lnTo>
                <a:lnTo>
                  <a:pt x="669925" y="109538"/>
                </a:lnTo>
                <a:lnTo>
                  <a:pt x="22820" y="109538"/>
                </a:lnTo>
                <a:lnTo>
                  <a:pt x="22820" y="36513"/>
                </a:lnTo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Striped Right Arrow 22"/>
          <p:cNvSpPr/>
          <p:nvPr/>
        </p:nvSpPr>
        <p:spPr>
          <a:xfrm rot="8559000">
            <a:off x="1977840" y="2812680"/>
            <a:ext cx="1290600" cy="106200"/>
          </a:xfrm>
          <a:custGeom>
            <a:avLst/>
            <a:gdLst/>
            <a:ahLst/>
            <a:rect l="l" t="t" r="r" b="b"/>
            <a:pathLst>
              <a:path w="1290638" h="106363">
                <a:moveTo>
                  <a:pt x="0" y="26591"/>
                </a:moveTo>
                <a:lnTo>
                  <a:pt x="3324" y="26591"/>
                </a:lnTo>
                <a:lnTo>
                  <a:pt x="3324" y="79772"/>
                </a:lnTo>
                <a:lnTo>
                  <a:pt x="0" y="79772"/>
                </a:lnTo>
                <a:lnTo>
                  <a:pt x="0" y="26591"/>
                </a:lnTo>
                <a:close/>
                <a:moveTo>
                  <a:pt x="6648" y="26591"/>
                </a:moveTo>
                <a:lnTo>
                  <a:pt x="13295" y="26591"/>
                </a:lnTo>
                <a:lnTo>
                  <a:pt x="13295" y="79772"/>
                </a:lnTo>
                <a:lnTo>
                  <a:pt x="6648" y="79772"/>
                </a:lnTo>
                <a:lnTo>
                  <a:pt x="6648" y="26591"/>
                </a:lnTo>
                <a:close/>
                <a:moveTo>
                  <a:pt x="16619" y="26591"/>
                </a:moveTo>
                <a:lnTo>
                  <a:pt x="1237457" y="26591"/>
                </a:lnTo>
                <a:lnTo>
                  <a:pt x="1237457" y="0"/>
                </a:lnTo>
                <a:lnTo>
                  <a:pt x="1290638" y="53182"/>
                </a:lnTo>
                <a:lnTo>
                  <a:pt x="1237457" y="106363"/>
                </a:lnTo>
                <a:lnTo>
                  <a:pt x="1237457" y="79772"/>
                </a:lnTo>
                <a:lnTo>
                  <a:pt x="16619" y="79772"/>
                </a:lnTo>
                <a:lnTo>
                  <a:pt x="16619" y="26591"/>
                </a:lnTo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Curved Right Arrow 23"/>
          <p:cNvSpPr/>
          <p:nvPr/>
        </p:nvSpPr>
        <p:spPr>
          <a:xfrm rot="16200000">
            <a:off x="2514600" y="3343320"/>
            <a:ext cx="542880" cy="1828800"/>
          </a:xfrm>
          <a:custGeom>
            <a:avLst/>
            <a:gdLst>
              <a:gd name="textAreaLeft" fmla="*/ 72720 w 542880"/>
              <a:gd name="textAreaRight" fmla="*/ 470160 w 542880"/>
              <a:gd name="textAreaTop" fmla="*/ 406080 h 1828800"/>
              <a:gd name="textAreaBottom" fmla="*/ 13546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598" stAng="-5400000" swAng="-5400000"/>
                <a:lnTo>
                  <a:pt x="0" y="11202"/>
                </a:lnTo>
                <a:arcTo wR="21600" hR="9598" stAng="10800000" swAng="-3590351"/>
                <a:lnTo>
                  <a:pt x="16200" y="21295"/>
                </a:lnTo>
                <a:lnTo>
                  <a:pt x="21600" y="19997"/>
                </a:lnTo>
                <a:lnTo>
                  <a:pt x="16200" y="18089"/>
                </a:lnTo>
                <a:lnTo>
                  <a:pt x="16200" y="18890"/>
                </a:lnTo>
                <a:arcTo wR="21600" hR="9598" stAng="7209649" swAng="3462320"/>
                <a:lnTo>
                  <a:pt x="76" y="10400"/>
                </a:lnTo>
                <a:arcTo wR="21600" hR="9598" stAng="-10671969" swAng="5271969"/>
                <a:close/>
              </a:path>
              <a:path fill="darkenLess" w="21600" h="21600">
                <a:moveTo>
                  <a:pt x="21600" y="0"/>
                </a:moveTo>
                <a:arcTo wR="21600" hR="9598" stAng="-5400000" swAng="-5400000"/>
                <a:lnTo>
                  <a:pt x="0" y="9598"/>
                </a:lnTo>
                <a:arcTo wR="21600" hR="9598" stAng="10800000" swAng="-128031"/>
                <a:lnTo>
                  <a:pt x="76" y="10400"/>
                </a:lnTo>
                <a:arcTo wR="21600" hR="9598" stAng="-10671969" swAng="5271969"/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Curved Right Arrow 24"/>
          <p:cNvSpPr/>
          <p:nvPr/>
        </p:nvSpPr>
        <p:spPr>
          <a:xfrm rot="16200000">
            <a:off x="3555360" y="1383120"/>
            <a:ext cx="1214280" cy="6419880"/>
          </a:xfrm>
          <a:custGeom>
            <a:avLst/>
            <a:gdLst>
              <a:gd name="textAreaLeft" fmla="*/ 162720 w 1214280"/>
              <a:gd name="textAreaRight" fmla="*/ 1051560 w 1214280"/>
              <a:gd name="textAreaTop" fmla="*/ 1491120 h 6419880"/>
              <a:gd name="textAreaBottom" fmla="*/ 4777200 h 641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34" stAng="-5400000" swAng="-5400000"/>
                <a:lnTo>
                  <a:pt x="0" y="11056"/>
                </a:lnTo>
                <a:arcTo wR="21600" hR="10034" stAng="10800000" swAng="-3655957"/>
                <a:lnTo>
                  <a:pt x="16200" y="21281"/>
                </a:lnTo>
                <a:lnTo>
                  <a:pt x="21600" y="20578"/>
                </a:lnTo>
                <a:lnTo>
                  <a:pt x="16200" y="19237"/>
                </a:lnTo>
                <a:lnTo>
                  <a:pt x="16200" y="19748"/>
                </a:lnTo>
                <a:arcTo wR="21600" hR="10034" stAng="7144043" swAng="3574538"/>
                <a:lnTo>
                  <a:pt x="28" y="10545"/>
                </a:lnTo>
                <a:arcTo wR="21600" hR="10034" stAng="-10718581" swAng="5318581"/>
                <a:close/>
              </a:path>
              <a:path fill="darkenLess" w="21600" h="21600">
                <a:moveTo>
                  <a:pt x="21600" y="0"/>
                </a:moveTo>
                <a:arcTo wR="21600" hR="10034" stAng="-5400000" swAng="-5400000"/>
                <a:lnTo>
                  <a:pt x="0" y="10034"/>
                </a:lnTo>
                <a:arcTo wR="21600" hR="10034" stAng="10800000" swAng="-81419"/>
                <a:lnTo>
                  <a:pt x="28" y="10545"/>
                </a:lnTo>
                <a:arcTo wR="21600" hR="10034" stAng="-10718581" swAng="5318581"/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Down Arrow 25"/>
          <p:cNvSpPr/>
          <p:nvPr/>
        </p:nvSpPr>
        <p:spPr>
          <a:xfrm>
            <a:off x="7458120" y="3957480"/>
            <a:ext cx="528480" cy="1011240"/>
          </a:xfrm>
          <a:prstGeom prst="downArrow">
            <a:avLst>
              <a:gd name="adj1" fmla="val 50000"/>
              <a:gd name="adj2" fmla="val 50043"/>
            </a:avLst>
          </a:prstGeom>
          <a:solidFill>
            <a:srgbClr val="00b050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Picture 2" descr="C:\Program Files\Microsoft Office\MEDIA\CAGCAT10\j0149627.wmf"/>
          <p:cNvPicPr/>
          <p:nvPr/>
        </p:nvPicPr>
        <p:blipFill>
          <a:blip r:embed="rId1"/>
          <a:stretch/>
        </p:blipFill>
        <p:spPr>
          <a:xfrm>
            <a:off x="6353280" y="4768920"/>
            <a:ext cx="2533680" cy="1800000"/>
          </a:xfrm>
          <a:prstGeom prst="rect">
            <a:avLst/>
          </a:prstGeom>
          <a:ln w="0">
            <a:noFill/>
          </a:ln>
        </p:spPr>
      </p:pic>
      <p:cxnSp>
        <p:nvCxnSpPr>
          <p:cNvPr id="262" name="Straight Arrow Connector 28"/>
          <p:cNvCxnSpPr/>
          <p:nvPr/>
        </p:nvCxnSpPr>
        <p:spPr>
          <a:xfrm flipV="1">
            <a:off x="5837040" y="5516280"/>
            <a:ext cx="1005480" cy="51984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63" name="TextBox 29"/>
          <p:cNvSpPr/>
          <p:nvPr/>
        </p:nvSpPr>
        <p:spPr>
          <a:xfrm>
            <a:off x="4770360" y="588312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Prijs Pro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Curved Right Arrow 23"/>
          <p:cNvSpPr/>
          <p:nvPr/>
        </p:nvSpPr>
        <p:spPr>
          <a:xfrm rot="16200000">
            <a:off x="4669560" y="2878920"/>
            <a:ext cx="542880" cy="2747880"/>
          </a:xfrm>
          <a:custGeom>
            <a:avLst/>
            <a:gdLst>
              <a:gd name="textAreaLeft" fmla="*/ 72720 w 542880"/>
              <a:gd name="textAreaRight" fmla="*/ 470160 w 542880"/>
              <a:gd name="textAreaTop" fmla="*/ 636120 h 2747880"/>
              <a:gd name="textAreaBottom" fmla="*/ 2044080 h 2747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00" stAng="-5400000" swAng="-5400000"/>
                <a:lnTo>
                  <a:pt x="0" y="11068"/>
                </a:lnTo>
                <a:arcTo wR="21600" hR="10000" stAng="10800000" swAng="-3650997"/>
                <a:lnTo>
                  <a:pt x="16200" y="21282"/>
                </a:lnTo>
                <a:lnTo>
                  <a:pt x="21600" y="20533"/>
                </a:lnTo>
                <a:lnTo>
                  <a:pt x="16200" y="19148"/>
                </a:lnTo>
                <a:lnTo>
                  <a:pt x="16200" y="19681"/>
                </a:lnTo>
                <a:arcTo wR="21600" hR="10000" stAng="7149003" swAng="3565904"/>
                <a:lnTo>
                  <a:pt x="31" y="10534"/>
                </a:lnTo>
                <a:arcTo wR="21600" hR="10000" stAng="-10714907" swAng="5314907"/>
                <a:close/>
              </a:path>
              <a:path fill="darkenLess" w="21600" h="21600">
                <a:moveTo>
                  <a:pt x="21600" y="0"/>
                </a:moveTo>
                <a:arcTo wR="21600" hR="10000" stAng="-5400000" swAng="-5400000"/>
                <a:lnTo>
                  <a:pt x="0" y="10000"/>
                </a:lnTo>
                <a:arcTo wR="21600" hR="10000" stAng="10800000" swAng="-85093"/>
                <a:lnTo>
                  <a:pt x="31" y="10534"/>
                </a:lnTo>
                <a:arcTo wR="21600" hR="10000" stAng="-10714907" swAng="5314907"/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57FD-0513-4305-8EFE-E7806109007C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DD2C-01C4-47CD-B7BD-4123FBB3F91B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85800" y="1809720"/>
            <a:ext cx="7772400" cy="42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en hulpkostenplaats verricht diensten voor een andere kostenplaat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en hulpkostenplaats is een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echt bestaande afdel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oorbeelden van hulpkostenplaatse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as, water, elektra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ulpkostenplaatsen moeten wel een naam hebben. In dit geval b.v. de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bestaande afdeling “huisvesting”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2606-7EFB-4AF2-870E-D80C3B077BCE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kostenplaatsen...........</a:t>
            </a:r>
            <a:r>
              <a:rPr b="0" lang="nl-NL" sz="3200" spc="-1" strike="noStrike">
                <a:solidFill>
                  <a:srgbClr val="cbcbcb"/>
                </a:solidFill>
                <a:latin typeface="Times New Roman"/>
              </a:rPr>
              <a:t>hulpkostenplaat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3792-F78A-4223-862D-53AD01C34825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2C6A-E569-49C6-B8D1-7CA0F84A41CC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1809720"/>
            <a:ext cx="7772400" cy="42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en zelfstandige kostenplaats is wel een echte afdeling en levert prestaties aan andere afdeling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oorbeelden van zelfstandige kostenplaatse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dministratie, magazijn en onderhou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ze kostenplaatsen hebben van zichzelf al een naam, de afdeling administratie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F60C-1330-4686-A079-63743AB43E3C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bcbcb"/>
                </a:solidFill>
                <a:latin typeface="Times New Roman"/>
              </a:rPr>
              <a:t>kostenplaatsen</a:t>
            </a: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...........</a:t>
            </a:r>
            <a:r>
              <a:rPr b="0" lang="nl-NL" sz="2800" spc="-1" strike="noStrike">
                <a:solidFill>
                  <a:srgbClr val="cbcbcb"/>
                </a:solidFill>
                <a:latin typeface="Times New Roman"/>
              </a:rPr>
              <a:t>zelfstandige kostenplaat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7510-087F-49DC-8464-500447DB0C32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913C-137C-4C80-8353-EE60748C3976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5800" y="1809720"/>
            <a:ext cx="7772400" cy="42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en hoofdkostenplaats is ook een echte afdeling en levert alleen prestaties aan het product. Houden zich dus direct met het product bezi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oorbeelden van hoofdkostenplaatse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Fabricage, montage en verkoop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ze kostenplaatsen hebben van zichzelf al een naam, de afdeling fabricage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03D3-3B88-474E-AB20-D3E6911B87A6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bcbcb"/>
                </a:solidFill>
                <a:latin typeface="Times New Roman"/>
              </a:rPr>
              <a:t>kostenplaatsen</a:t>
            </a: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..................</a:t>
            </a:r>
            <a:r>
              <a:rPr b="0" lang="nl-NL" sz="2800" spc="-1" strike="noStrike">
                <a:solidFill>
                  <a:srgbClr val="cbcbcb"/>
                </a:solidFill>
                <a:latin typeface="Times New Roman"/>
              </a:rPr>
              <a:t>hoofdkostenplaat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B25E-120B-4C76-8AD1-435721E9FBDA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3E6E-723A-4D7F-A44D-F8DBAC0C44B4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85800" y="1809720"/>
            <a:ext cx="7772400" cy="42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 kostenplaatsen zodanig kiezen dat je alle indirecte kosten over de verschillende kostenplaatsen kunt verdel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et is dus een methode om uiteindelijk de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indirecte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kosten over de kostendragers te verdel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Directe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kosten worden rechtstreeks over de kostendragers verdeel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AC1F-28E4-4400-9842-DDF511175ECD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cbcbcb"/>
                </a:solidFill>
                <a:latin typeface="Times New Roman"/>
              </a:rPr>
              <a:t>Kostendragers</a:t>
            </a: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 (= producten)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E1DD-C66C-430B-AF44-F75C2AA9AAB8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2B46-749F-4F87-A5B5-CB9A6958FFE2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Oefenopdracht 4…</a:t>
            </a: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…..….......</a:t>
            </a:r>
            <a:r>
              <a:rPr b="0" lang="en-US" sz="2800" spc="-1" strike="noStrike">
                <a:solidFill>
                  <a:srgbClr val="cbcbcb"/>
                </a:solidFill>
                <a:latin typeface="Times New Roman"/>
              </a:rPr>
              <a:t>kostenplaatse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TextBox 24"/>
          <p:cNvSpPr/>
          <p:nvPr/>
        </p:nvSpPr>
        <p:spPr>
          <a:xfrm>
            <a:off x="786240" y="1116000"/>
            <a:ext cx="533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Deel de volgende kosten in naar kostenplaa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Slide Number Placeholder 2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88A1-4707-4896-B121-C257E5099EFC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762120" y="2133720"/>
          <a:ext cx="7189560" cy="3886200"/>
        </p:xfrm>
        <a:graphic>
          <a:graphicData uri="http://schemas.openxmlformats.org/drawingml/2006/table">
            <a:tbl>
              <a:tblPr/>
              <a:tblGrid>
                <a:gridCol w="3403440"/>
                <a:gridCol w="1133640"/>
                <a:gridCol w="1523880"/>
                <a:gridCol w="11286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derwer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l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lfstan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ge kosten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of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drank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grondstoff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magazijn 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schrijvingskost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administratief 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verkopend 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produktie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onderhouds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1BB2-354F-486B-AF54-54A16721F2D0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A999-D4F2-4915-8F0E-794B8D997B5E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Les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? Vrag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E20A-A86E-4C63-84B1-1C309E20E863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C247-F077-422F-8003-4E20D45656C1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3F22-7AC9-4C59-828C-C5BC58A3EDE7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uiswer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ak van het bijgeleverde werkboek de volgende vrage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n hoofdstuk 3: vraag1 t/m 10,12, 13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ver de volgende les opdracht 2 van de oefenstof (leerarrangement) 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E70F-38C4-48EB-95F4-7E0D6FC1F0BE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DDB7-7295-407B-9228-BCC9192DC391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nderwerpen voor vandaa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rmbedrag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ardkostprij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slagmetho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stenplaatsenmetho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9DFB-7449-4B94-83F3-ECA66AA843C5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98CE-ED1B-4C6B-9311-5598D0A93449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Normbedrag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j het begroten ga je vaak uit van normbedrag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t zijn getallen die in een normale (=gemiddelde) situatie geld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mbedragen krijg je via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se v/d boekhoud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igen ervaring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anchegegeven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rvaring van ander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e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rvaring van ander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att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logisch nadenk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6866-E78A-4AAB-9746-29105B1B6A4B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4F47-1E21-4697-88B9-A016E6C6FC6F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oorbeelden van normbedrag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en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supermark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aakt gemiddeld € 150 omzet per vierkante meter per we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ieuwbouw kost € 500 per 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opslagfactor in een dierenspeciaalzaak is 2,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en bestelauto kost € 0,60 per k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anleg van een snelweg kost 10 miljoen euro per kilome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en fte kost € 60.000 per ja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" dur="1" fill="hold"/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6584-BBBD-4020-B295-7D8E512C60A0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77CC-2A65-4485-917A-22D31FBA18CA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Normbedragen in product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en bloemist bindt een boeket in 5 minu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en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rotatiegietmachin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produceert 4000 flessen per uu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mkommerteelt in glastuinbouw levert 200 stuks per m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per jaar o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en paard eet 3 kilo brok per da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" dur="1" fill="hold"/>
                                  <p:tgtEl>
                                    <p:spTgt spid="1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6968-C9E7-4018-8496-6153CA65450E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58BF-40CE-4942-AE3A-A01B82BDC78A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fwijkingen t.o.v. de norm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nneer je afwijkt van de norm, werk je efficienter of minder efficient dan gemiddel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ardoor hou je geld over of kom je geld tekort t.o.v. je begro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9A31-E935-459E-A031-B46489FB9A57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8195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5C04-AC95-4943-9E2D-685F1A4DF555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prijsbereken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7CFC-1E50-404A-8913-324921543BDE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3121-1FB6-4D80-BDF1-B03172BC5302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tandaardkostprij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le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noodzakelijke of toegestane kosten per eenheid produ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oeveelheid grondstoffen  X  standaardprijz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odig voor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ostenbeheersing (is vóórcalculatie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epalen van budgetten (raming v. kosten)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ijsbepaling product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iterste prijs waartegen men desnoods mag verkopen zonder verlies (=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rensprij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raar de Jong</dc:creator>
  <dc:description/>
  <dc:language>en-US</dc:language>
  <cp:lastModifiedBy>Geraar de Jong</cp:lastModifiedBy>
  <dcterms:modified xsi:type="dcterms:W3CDTF">2013-01-21T22:10:57Z</dcterms:modified>
  <cp:revision>19</cp:revision>
  <dc:subject/>
  <dc:title>PowerPoint-presentatie</dc:title>
</cp:coreProperties>
</file>