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306F3-6BA3-4DC2-9DB9-F9820485A975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2323D-5E0B-48EF-BE41-461FC2D21FB5}" type="slidenum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E9613-073B-4059-8FE9-F1C59B60183F}" type="slidenum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704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21447-E5B1-4197-82ED-C0DD5CA833E1}" type="slidenum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7526F-C7D3-439F-BF45-C8409539BABA}" type="slidenum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C9ABC-2983-41C5-84ED-BDD4585409B0}" type="slidenum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704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698F6-58C5-4CB5-93F7-2ED81870B72F}" type="slidenum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E2B0F-D710-477A-82AB-DDF3174EA371}" type="slidenum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704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1C4C8-9D95-4CCC-9278-A9AD2F845125}" type="slidenum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B810C-4CD0-4B85-85BF-A301BF36CFB3}" type="slidenum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704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D0D72-72B1-4C22-81C1-8317986102DB}" type="slidenum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0453E-EDAF-4D94-BB93-CFC7A69CE639}" type="slidenum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704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2F087-0A65-4431-B410-E24197B3B328}" type="slidenum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6D127-AE48-4BC1-BEF6-A7E3E626326E}" type="slidenum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704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84A74-23D6-41B2-9D43-D70BC35EA542}" type="slidenum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FED9E-1212-4C4D-9220-66D5214CAB5B}" type="slidenum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704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3E298-E171-4F62-AB28-DB5E6ED2A484}" type="slidenum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0895D-E903-4C0A-97B4-16931D3C1010}" type="slidenum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704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2EA39-3607-418A-B23F-87B55FF76854}" type="slidenum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9663B-D42E-464C-955D-4E8CB8F00844}" type="slidenum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704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B9762-A33B-4CB2-9755-20B468F63BE1}" type="slidenum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0C377-3CEB-4F7A-925E-5F32F1816A7E}" type="slidenum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704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C54B3-762B-48E0-AB46-C35B3952C87F}" type="slidenum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CC7A7-A887-46FA-972C-F866342AE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7DFFA-D2D3-4F05-B929-FC2C7A91C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0EA93-1D59-4D3B-9E06-BA86D5FD9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F64A0-3999-44C0-B925-31D9551C8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0B7CC-8770-4497-A3EC-E16B03CFC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6887D-F9CE-44DD-8F10-F8D2BCD3F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358F6-46C0-4355-B6DA-8855D9CAC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B210F-6449-41CC-84B5-F9AA1539D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9A28C-7722-48A9-AB2A-203821D9C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5F27A-FBE8-47D8-9191-1B4309C09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63FCB-E091-48AB-8984-78E77C551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87184-CDFD-43CD-9529-908CEA862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9CA37-0D2D-4F78-AC63-FF601C064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E2955-1F8D-4489-83B9-750DD8EE1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DE883-1607-41F4-B1C8-8285A3881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C5967-FBFA-4F49-AC89-3C65FCC06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9EBC3-6C55-4020-99F7-B9415792D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E9561-CE61-4C6E-B52A-1BD928302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E9F8B-59A9-4BDD-8F35-036D9C81F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4B70E-8528-443B-8B16-352E68EF7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5A177-4A54-44F9-904B-EE131C27F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1A756-3D7C-4A00-B613-357D8390D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E50A8-FB0B-46FC-9EB3-D22F73AEB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A2877-C23F-4B03-802C-AC86598E0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3241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c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E9436-FBAA-4200-B41A-DBD507584E05}" type="datetime"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31-07-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2819520" y="6324120"/>
            <a:ext cx="350496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cc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Basisberekeningen voor begrote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1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cc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E324C-6566-4C4B-AA4E-F9CA8BD1A151}" type="slidenum"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A493D-0494-445D-ADB6-EB48F4B8FF99}" type="datetime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31-07-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520" y="6172200"/>
            <a:ext cx="3504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Basisberekeningen voor begrote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F71DF-BBFB-4DFF-80A0-B64D8006B870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home.tiscali.nl/erikhemmes/documents/08FP006.pdf" TargetMode="Externa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enmvc.machine-video.com/996397e257a4df2fe05f6469d1980499.html?bw=h" TargetMode="Externa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6"/>
          <p:cNvSpPr/>
          <p:nvPr/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7B990-7FCF-428C-B1A4-77DE176642BE}" type="datetime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31-07-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Rectangle 7"/>
          <p:cNvSpPr/>
          <p:nvPr/>
        </p:nvSpPr>
        <p:spPr>
          <a:xfrm>
            <a:off x="2819520" y="617220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Basisberekeningen voor begrote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Rectangle 8"/>
          <p:cNvSpPr/>
          <p:nvPr/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AD606-829A-4836-A262-BCB99D947C0D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bcbcb"/>
                </a:solidFill>
                <a:latin typeface="Times New Roman"/>
              </a:rPr>
              <a:t>Begroten en Budgetteren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20574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es 3: Kostprijsbereken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Robbert Oostero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ijdelijke aanduiding voor datum 3"/>
          <p:cNvSpPr/>
          <p:nvPr/>
        </p:nvSpPr>
        <p:spPr>
          <a:xfrm>
            <a:off x="68580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69C47-6445-4166-83C9-0274F9388EAA}" type="datetime"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31-07-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Tijdelijke aanduiding voor voettekst 4"/>
          <p:cNvSpPr/>
          <p:nvPr/>
        </p:nvSpPr>
        <p:spPr>
          <a:xfrm>
            <a:off x="2819520" y="6324480"/>
            <a:ext cx="3504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Basisberekeningen voor begrote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Tijdelijke aanduiding voor dianummer 5"/>
          <p:cNvSpPr/>
          <p:nvPr/>
        </p:nvSpPr>
        <p:spPr>
          <a:xfrm>
            <a:off x="655308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16651-5071-4A67-A171-3FB92E96713F}" type="slidenum"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Standaardkostprij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tandaardkostprijs =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aste kosten + variabele koste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 berekenen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per produc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tandaardkostprijs = C/N + V/W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= totale vaste (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nstante) kost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rmale producti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= total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riabele kost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= verwach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rkelijke productieomva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ff"/>
                                </p:to>
                              </p:animClr>
                              <p:animClr clrSpc="rgb">
                                <p:cBhvr>
                                  <p:cTn id="1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28" dur="1" fill="hold"/>
                                  <p:tgtEl>
                                    <p:spTgt spid="145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ff"/>
                                </p:to>
                              </p:animClr>
                              <p:animClr clrSpc="rgb">
                                <p:cBhvr>
                                  <p:cTn id="129" dur="1" fill="hold"/>
                                  <p:tgtEl>
                                    <p:spTgt spid="145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ff"/>
                                </p:to>
                              </p:animClr>
                              <p:animClr clrSpc="rgb">
                                <p:cBhvr>
                                  <p:cTn id="130" dur="1" fill="hold"/>
                                  <p:tgtEl>
                                    <p:spTgt spid="145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ff"/>
                                </p:to>
                              </p:animClr>
                              <p:animClr clrSpc="rgb">
                                <p:cBhvr>
                                  <p:cTn id="131" dur="1" fill="hold"/>
                                  <p:tgtEl>
                                    <p:spTgt spid="145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ff"/>
                                </p:to>
                              </p:animClr>
                              <p:animClr clrSpc="rgb">
                                <p:cBhvr>
                                  <p:cTn id="132" dur="1" fill="hold"/>
                                  <p:tgtEl>
                                    <p:spTgt spid="145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ijdelijke aanduiding voor datum 3"/>
          <p:cNvSpPr/>
          <p:nvPr/>
        </p:nvSpPr>
        <p:spPr>
          <a:xfrm>
            <a:off x="68580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9BE79-32EF-496C-98B9-09DE05A14057}" type="datetime"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31-07-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Tijdelijke aanduiding voor voettekst 4"/>
          <p:cNvSpPr/>
          <p:nvPr/>
        </p:nvSpPr>
        <p:spPr>
          <a:xfrm>
            <a:off x="2819520" y="6324480"/>
            <a:ext cx="3504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Basisberekeningen voor begrote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Tijdelijke aanduiding voor dianummer 5"/>
          <p:cNvSpPr/>
          <p:nvPr/>
        </p:nvSpPr>
        <p:spPr>
          <a:xfrm>
            <a:off x="655308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727E9-2175-47EA-8B6D-B09FFE31B954}" type="slidenum"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Kostprijs I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ariabele koste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veranderen evenredig (proportioneel) met de productie en/of verkoop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bijv.: inkoop van grondstoffen/goedere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aste koste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veranderen nauwelijks binnen een bepaalde bandbreed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bijv.: afschrijving van de inventari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ijdelijke aanduiding voor datum 3"/>
          <p:cNvSpPr/>
          <p:nvPr/>
        </p:nvSpPr>
        <p:spPr>
          <a:xfrm>
            <a:off x="68580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139DE-08DC-4B43-A14C-5E0E966F8046}" type="datetime"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31-07-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Tijdelijke aanduiding voor voettekst 4"/>
          <p:cNvSpPr/>
          <p:nvPr/>
        </p:nvSpPr>
        <p:spPr>
          <a:xfrm>
            <a:off x="2819520" y="6324480"/>
            <a:ext cx="3504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Basisberekeningen voor begrote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Tijdelijke aanduiding voor dianummer 5"/>
          <p:cNvSpPr/>
          <p:nvPr/>
        </p:nvSpPr>
        <p:spPr>
          <a:xfrm>
            <a:off x="655308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05E04-BE25-45BF-877E-3F9950C2FDCA}" type="slidenum"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Kostprijs II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rekte </a:t>
            </a:r>
            <a:r>
              <a:rPr b="1" lang="nl-NL" sz="3200" spc="-1" strike="noStrike">
                <a:solidFill>
                  <a:srgbClr val="ffffff"/>
                </a:solidFill>
                <a:latin typeface="Arial"/>
              </a:rPr>
              <a:t>kosten: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55720" indent="-277920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00"/>
                </a:solidFill>
                <a:latin typeface="Times New Roman"/>
              </a:rPr>
              <a:t>Zijn alle kosten die direct aan product gekoppeld zij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55720" indent="-277920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00"/>
                </a:solidFill>
                <a:latin typeface="Times New Roman"/>
              </a:rPr>
              <a:t>Grondstoffen,  productiepersoneel, productiemachines, verkoop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Arial"/>
              </a:rPr>
              <a:t>Indirecte kosten: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55720" indent="-277920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00"/>
                </a:solidFill>
                <a:latin typeface="Times New Roman"/>
              </a:rPr>
              <a:t>Zijn alle kosten die niet rechtstreeks met productie of verkoop te maken hebb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55720" indent="-277920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00"/>
                </a:solidFill>
                <a:latin typeface="Times New Roman"/>
              </a:rPr>
              <a:t>Onder andere de administratie, kantoormachines en huisvest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ijdelijke aanduiding voor datum 3"/>
          <p:cNvSpPr/>
          <p:nvPr/>
        </p:nvSpPr>
        <p:spPr>
          <a:xfrm>
            <a:off x="68580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AC5F2-80DB-40D9-A37C-D6A57E0489CA}" type="datetime"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31-07-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Tijdelijke aanduiding voor voettekst 4"/>
          <p:cNvSpPr/>
          <p:nvPr/>
        </p:nvSpPr>
        <p:spPr>
          <a:xfrm>
            <a:off x="2819520" y="6324480"/>
            <a:ext cx="3504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Basisberekeningen voor begrote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Tijdelijke aanduiding voor dianummer 5"/>
          <p:cNvSpPr/>
          <p:nvPr/>
        </p:nvSpPr>
        <p:spPr>
          <a:xfrm>
            <a:off x="655308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87768-B0C9-4327-84AC-4BFFD1A14AB0}" type="slidenum"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Begroten in een organisatie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685800" y="1981080"/>
          <a:ext cx="7848720" cy="3184560"/>
        </p:xfrm>
        <a:graphic>
          <a:graphicData uri="http://schemas.openxmlformats.org/drawingml/2006/table">
            <a:tbl>
              <a:tblPr/>
              <a:tblGrid>
                <a:gridCol w="3276720"/>
                <a:gridCol w="4572000"/>
              </a:tblGrid>
              <a:tr h="5205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inkel / webwinke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slagmethod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erfijnde opslagmethod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ductiebedrijf / fabrie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ostenplaatsenmethod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enstverlenend bedrijf / maatwer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egroten o.b.v. projecte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ijdelijke aanduiding voor datum 3"/>
          <p:cNvSpPr/>
          <p:nvPr/>
        </p:nvSpPr>
        <p:spPr>
          <a:xfrm>
            <a:off x="68580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F6FE9-EA9D-423D-8E8E-2B01AC296B5E}" type="datetime"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31-07-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Tijdelijke aanduiding voor voettekst 4"/>
          <p:cNvSpPr/>
          <p:nvPr/>
        </p:nvSpPr>
        <p:spPr>
          <a:xfrm>
            <a:off x="2819520" y="6324480"/>
            <a:ext cx="3504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Basisberekeningen voor begrote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Tijdelijke aanduiding voor dianummer 5"/>
          <p:cNvSpPr/>
          <p:nvPr/>
        </p:nvSpPr>
        <p:spPr>
          <a:xfrm>
            <a:off x="655308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A2DEB-FB50-45AC-BAB1-62ECF7A1EFF7}" type="slidenum"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Opslag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pslag = brutowinst per artik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65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ostprijs + Opslag = Verkoopprij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ex BTW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ergelijk: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4495680" y="3962520"/>
          <a:ext cx="3886200" cy="1600200"/>
        </p:xfrm>
        <a:graphic>
          <a:graphicData uri="http://schemas.openxmlformats.org/drawingml/2006/table">
            <a:tbl>
              <a:tblPr/>
              <a:tblGrid>
                <a:gridCol w="2590920"/>
                <a:gridCol w="12952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mze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€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,5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4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koopwaard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€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,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rutowins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€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,5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7" name="Line 50"/>
          <p:cNvSpPr/>
          <p:nvPr/>
        </p:nvSpPr>
        <p:spPr>
          <a:xfrm flipH="1">
            <a:off x="5257440" y="3124080"/>
            <a:ext cx="304920" cy="990720"/>
          </a:xfrm>
          <a:prstGeom prst="line">
            <a:avLst/>
          </a:prstGeom>
          <a:ln cap="sq"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Line 51"/>
          <p:cNvSpPr/>
          <p:nvPr/>
        </p:nvSpPr>
        <p:spPr>
          <a:xfrm>
            <a:off x="2362320" y="3124080"/>
            <a:ext cx="2209680" cy="1600200"/>
          </a:xfrm>
          <a:prstGeom prst="line">
            <a:avLst/>
          </a:prstGeom>
          <a:ln cap="sq"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Line 52"/>
          <p:cNvSpPr/>
          <p:nvPr/>
        </p:nvSpPr>
        <p:spPr>
          <a:xfrm>
            <a:off x="3962520" y="3124080"/>
            <a:ext cx="1218960" cy="2057400"/>
          </a:xfrm>
          <a:prstGeom prst="line">
            <a:avLst/>
          </a:prstGeom>
          <a:ln cap="sq"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ijdelijke aanduiding voor datum 3"/>
          <p:cNvSpPr/>
          <p:nvPr/>
        </p:nvSpPr>
        <p:spPr>
          <a:xfrm>
            <a:off x="68580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6CA1E-37ED-419D-961F-3A2B7A642B73}" type="datetime"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31-07-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Tijdelijke aanduiding voor voettekst 4"/>
          <p:cNvSpPr/>
          <p:nvPr/>
        </p:nvSpPr>
        <p:spPr>
          <a:xfrm>
            <a:off x="2819520" y="6324480"/>
            <a:ext cx="3504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Basisberekeningen voor begrote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Tijdelijke aanduiding voor dianummer 5"/>
          <p:cNvSpPr/>
          <p:nvPr/>
        </p:nvSpPr>
        <p:spPr>
          <a:xfrm>
            <a:off x="655308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22C3F-370D-41BF-839E-BF54E898A4DC}" type="slidenum"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Opslag: Nut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et de opslag moet je de bedrijfskosten terugverdiene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ergelijk: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3200400" y="3124080"/>
          <a:ext cx="5554800" cy="2971800"/>
        </p:xfrm>
        <a:graphic>
          <a:graphicData uri="http://schemas.openxmlformats.org/drawingml/2006/table">
            <a:tbl>
              <a:tblPr/>
              <a:tblGrid>
                <a:gridCol w="216000"/>
                <a:gridCol w="2544120"/>
                <a:gridCol w="216000"/>
                <a:gridCol w="216000"/>
                <a:gridCol w="2147040"/>
                <a:gridCol w="2160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sultatenrekening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sultaat per artikel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>
                      <a:noFill/>
                    </a:lnR>
                    <a:lnT w="5760">
                      <a:solidFill>
                        <a:srgbClr val="ff3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mze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3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>
                      <a:noFill/>
                    </a:lnR>
                    <a:lnT w="5760">
                      <a:solidFill>
                        <a:srgbClr val="ff3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erkoopprij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3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r" pos="31449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r" pos="2381400"/>
                          <a:tab algn="r" pos="31449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koopwaarde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	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r" pos="31449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3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r" pos="23814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ostprijs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	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r" pos="23814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3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rutowins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3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sla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3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r" pos="23814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edrijfskosten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	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3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3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towins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3300"/>
                      </a:solidFill>
                    </a:lnR>
                    <a:lnT>
                      <a:noFill/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3300"/>
                      </a:solidFill>
                    </a:lnR>
                    <a:lnT>
                      <a:noFill/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6" name="AutoShape 325"/>
          <p:cNvSpPr/>
          <p:nvPr/>
        </p:nvSpPr>
        <p:spPr>
          <a:xfrm>
            <a:off x="457200" y="4038480"/>
            <a:ext cx="2895480" cy="457200"/>
          </a:xfrm>
          <a:prstGeom prst="rightArrowCallout">
            <a:avLst>
              <a:gd name="adj1" fmla="val 25002"/>
              <a:gd name="adj2" fmla="val 25000"/>
              <a:gd name="adj3" fmla="val 50694"/>
              <a:gd name="adj4" fmla="val 77852"/>
            </a:avLst>
          </a:prstGeom>
          <a:solidFill>
            <a:srgbClr val="cbcbcb"/>
          </a:solidFill>
          <a:ln cap="sq" w="1260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Variabele kost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AutoShape 326"/>
          <p:cNvSpPr/>
          <p:nvPr/>
        </p:nvSpPr>
        <p:spPr>
          <a:xfrm>
            <a:off x="838080" y="5070600"/>
            <a:ext cx="2514600" cy="457200"/>
          </a:xfrm>
          <a:prstGeom prst="rightArrowCallout">
            <a:avLst>
              <a:gd name="adj1" fmla="val 21530"/>
              <a:gd name="adj2" fmla="val 25000"/>
              <a:gd name="adj3" fmla="val 50009"/>
              <a:gd name="adj4" fmla="val 74181"/>
            </a:avLst>
          </a:prstGeom>
          <a:solidFill>
            <a:srgbClr val="cbcbcb"/>
          </a:solidFill>
          <a:ln cap="sq" w="1260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Vaste kost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ijdelijke aanduiding voor datum 3"/>
          <p:cNvSpPr/>
          <p:nvPr/>
        </p:nvSpPr>
        <p:spPr>
          <a:xfrm>
            <a:off x="68580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8ADC2-A0E3-4301-BACE-EE03B562F7AB}" type="datetime"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31-07-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Tijdelijke aanduiding voor voettekst 4"/>
          <p:cNvSpPr/>
          <p:nvPr/>
        </p:nvSpPr>
        <p:spPr>
          <a:xfrm>
            <a:off x="2819520" y="6324480"/>
            <a:ext cx="3504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Basisberekeningen voor begrote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Tijdelijke aanduiding voor dianummer 5"/>
          <p:cNvSpPr/>
          <p:nvPr/>
        </p:nvSpPr>
        <p:spPr>
          <a:xfrm>
            <a:off x="655308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0859C-5FE0-4074-899B-00BA49DD404E}" type="slidenum"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Opslag-kengetallen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pslagfactor: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2168640" indent="-226080">
              <a:spcBef>
                <a:spcPts val="601"/>
              </a:spcBef>
              <a:buClr>
                <a:srgbClr val="00ffcc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€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7,50 / € 3,00 = 2,5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2168640" indent="-226080">
              <a:spcBef>
                <a:spcPts val="601"/>
              </a:spcBef>
              <a:buClr>
                <a:srgbClr val="00ffcc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ostprijs x 2,5 = Verkoopprij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pslagpercentage: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2168640" indent="-226080">
              <a:spcBef>
                <a:spcPts val="601"/>
              </a:spcBef>
              <a:buClr>
                <a:srgbClr val="00ffcc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€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,50 / € 3,00 * 100% = 150%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2168640" indent="-226080">
              <a:spcBef>
                <a:spcPts val="601"/>
              </a:spcBef>
              <a:buClr>
                <a:srgbClr val="00ffcc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ostprijs + 150% = Verkoopprij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Bruto)marge: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2168640" indent="-226080">
              <a:spcBef>
                <a:spcPts val="601"/>
              </a:spcBef>
              <a:buClr>
                <a:srgbClr val="00ffcc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€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,50 / € 7,50 * 100% = 60%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2168640" indent="-226080">
              <a:spcBef>
                <a:spcPts val="601"/>
              </a:spcBef>
              <a:buClr>
                <a:srgbClr val="00ffcc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0% van de verkoopprijs is win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5867280" y="304920"/>
          <a:ext cx="3124440" cy="1296720"/>
        </p:xfrm>
        <a:graphic>
          <a:graphicData uri="http://schemas.openxmlformats.org/drawingml/2006/table">
            <a:tbl>
              <a:tblPr/>
              <a:tblGrid>
                <a:gridCol w="2127240"/>
                <a:gridCol w="9972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erkoopprij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€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,5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4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ostprij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€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,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rutowins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€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,5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0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1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2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2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2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2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2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2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3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2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41" dur="1" fill="hold"/>
                                  <p:tgtEl>
                                    <p:spTgt spid="182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Tijdelijke aanduiding voor datum 3"/>
          <p:cNvSpPr/>
          <p:nvPr/>
        </p:nvSpPr>
        <p:spPr>
          <a:xfrm>
            <a:off x="68580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A7D2B-F28D-46FC-85E3-75B54AAD9E76}" type="datetime"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31-07-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Tijdelijke aanduiding voor voettekst 4"/>
          <p:cNvSpPr/>
          <p:nvPr/>
        </p:nvSpPr>
        <p:spPr>
          <a:xfrm>
            <a:off x="2819520" y="6324480"/>
            <a:ext cx="3504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Basisberekeningen voor begrote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Tijdelijke aanduiding voor dianummer 5"/>
          <p:cNvSpPr/>
          <p:nvPr/>
        </p:nvSpPr>
        <p:spPr>
          <a:xfrm>
            <a:off x="655308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F8E18-2C9B-46B6-9E40-4254E1B39525}" type="slidenum"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Oefenopgave opslag-kengetallen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ereken: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53920" indent="-3204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pslagfacto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53920" indent="-3204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pslagpercentag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53920" indent="-3204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Bruto)marg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4038480" y="4267080"/>
          <a:ext cx="4191120" cy="1600200"/>
        </p:xfrm>
        <a:graphic>
          <a:graphicData uri="http://schemas.openxmlformats.org/drawingml/2006/table">
            <a:tbl>
              <a:tblPr/>
              <a:tblGrid>
                <a:gridCol w="2667240"/>
                <a:gridCol w="15238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mze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€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,7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4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koopwaard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€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,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rutowins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€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,7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ijdelijke aanduiding voor datum 3"/>
          <p:cNvSpPr/>
          <p:nvPr/>
        </p:nvSpPr>
        <p:spPr>
          <a:xfrm>
            <a:off x="68580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2B833-2719-46D0-ACEF-7A3513367848}" type="datetime"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31-07-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Tijdelijke aanduiding voor voettekst 4"/>
          <p:cNvSpPr/>
          <p:nvPr/>
        </p:nvSpPr>
        <p:spPr>
          <a:xfrm>
            <a:off x="2819520" y="6324480"/>
            <a:ext cx="3504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Basisberekeningen voor begrote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Tijdelijke aanduiding voor dianummer 5"/>
          <p:cNvSpPr/>
          <p:nvPr/>
        </p:nvSpPr>
        <p:spPr>
          <a:xfrm>
            <a:off x="655308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E96C1-AE1D-41E2-92C3-46D11FF7F04A}" type="slidenum"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Opslagmethode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spcAft>
                <a:spcPts val="799"/>
              </a:spcAft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m het gewenste opslagpercentage te bepalen, kun je gebruik maken va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 primitieve opslagmethod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619280" indent="-228600">
              <a:spcBef>
                <a:spcPts val="601"/>
              </a:spcBef>
              <a:buClr>
                <a:srgbClr val="00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eder product hetzelfde percentag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 verfijnde opslagmethod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619280" indent="-228600">
              <a:spcBef>
                <a:spcPts val="601"/>
              </a:spcBef>
              <a:buClr>
                <a:srgbClr val="00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er product/categorie ander percentag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ijdelijke aanduiding voor datum 1"/>
          <p:cNvSpPr/>
          <p:nvPr/>
        </p:nvSpPr>
        <p:spPr>
          <a:xfrm>
            <a:off x="68580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E5762-1F59-4EB9-BE81-32897096EB0A}" type="datetime"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31-07-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Tijdelijke aanduiding voor voettekst 2"/>
          <p:cNvSpPr/>
          <p:nvPr/>
        </p:nvSpPr>
        <p:spPr>
          <a:xfrm>
            <a:off x="2819520" y="6324480"/>
            <a:ext cx="3504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Basisberekeningen voor begrote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Tijdelijke aanduiding voor dianummer 3"/>
          <p:cNvSpPr/>
          <p:nvPr/>
        </p:nvSpPr>
        <p:spPr>
          <a:xfrm>
            <a:off x="655308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FD74B-3E8D-4E1C-8140-7514F9B0D6E9}" type="slidenum"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Kostenplaatsenmethode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9" name="Rectangle 6"/>
          <p:cNvSpPr/>
          <p:nvPr/>
        </p:nvSpPr>
        <p:spPr>
          <a:xfrm>
            <a:off x="4019400" y="2259000"/>
            <a:ext cx="1560600" cy="660240"/>
          </a:xfrm>
          <a:prstGeom prst="rect">
            <a:avLst/>
          </a:prstGeom>
          <a:noFill/>
          <a:ln cap="sq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Rectangle 8"/>
          <p:cNvSpPr/>
          <p:nvPr/>
        </p:nvSpPr>
        <p:spPr>
          <a:xfrm>
            <a:off x="4000680" y="5111640"/>
            <a:ext cx="2028600" cy="660600"/>
          </a:xfrm>
          <a:prstGeom prst="rect">
            <a:avLst/>
          </a:prstGeom>
          <a:noFill/>
          <a:ln cap="sq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274680" y="3114720"/>
            <a:ext cx="1282680" cy="662040"/>
          </a:xfrm>
          <a:prstGeom prst="rect">
            <a:avLst/>
          </a:prstGeom>
          <a:noFill/>
          <a:ln cap="sq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TextBox 11"/>
          <p:cNvSpPr/>
          <p:nvPr/>
        </p:nvSpPr>
        <p:spPr>
          <a:xfrm>
            <a:off x="220680" y="3060720"/>
            <a:ext cx="1582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00"/>
                </a:solidFill>
                <a:latin typeface="Times New Roman"/>
              </a:rPr>
              <a:t>Indirec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00"/>
                </a:solidFill>
                <a:latin typeface="Times New Roman"/>
              </a:rPr>
              <a:t>kost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TextBox 12"/>
          <p:cNvSpPr/>
          <p:nvPr/>
        </p:nvSpPr>
        <p:spPr>
          <a:xfrm>
            <a:off x="4002120" y="2243160"/>
            <a:ext cx="177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00"/>
                </a:solidFill>
                <a:latin typeface="Times New Roman"/>
              </a:rPr>
              <a:t>directe kosten afdeling 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4016520" y="3143160"/>
            <a:ext cx="1562040" cy="660600"/>
          </a:xfrm>
          <a:prstGeom prst="rect">
            <a:avLst/>
          </a:prstGeom>
          <a:noFill/>
          <a:ln cap="sq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TextBox 14"/>
          <p:cNvSpPr/>
          <p:nvPr/>
        </p:nvSpPr>
        <p:spPr>
          <a:xfrm>
            <a:off x="3986280" y="3125880"/>
            <a:ext cx="177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00"/>
                </a:solidFill>
                <a:latin typeface="Times New Roman"/>
              </a:rPr>
              <a:t>directe kosten afdeling 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Rectangle 15"/>
          <p:cNvSpPr/>
          <p:nvPr/>
        </p:nvSpPr>
        <p:spPr>
          <a:xfrm>
            <a:off x="4016520" y="4029120"/>
            <a:ext cx="1562040" cy="662040"/>
          </a:xfrm>
          <a:prstGeom prst="rect">
            <a:avLst/>
          </a:prstGeom>
          <a:noFill/>
          <a:ln cap="sq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TextBox 16"/>
          <p:cNvSpPr/>
          <p:nvPr/>
        </p:nvSpPr>
        <p:spPr>
          <a:xfrm>
            <a:off x="3986280" y="4013280"/>
            <a:ext cx="177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00"/>
                </a:solidFill>
                <a:latin typeface="Times New Roman"/>
              </a:rPr>
              <a:t>directe kosten afdeling 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08" name="Straight Arrow Connector 18"/>
          <p:cNvCxnSpPr>
            <a:endCxn id="203" idx="1"/>
          </p:cNvCxnSpPr>
          <p:nvPr/>
        </p:nvCxnSpPr>
        <p:spPr>
          <a:xfrm flipV="1">
            <a:off x="1571400" y="2596320"/>
            <a:ext cx="2431080" cy="816840"/>
          </a:xfrm>
          <a:prstGeom prst="straightConnector1">
            <a:avLst/>
          </a:prstGeom>
          <a:ln cap="sq" w="1260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209" name="Straight Arrow Connector 20"/>
          <p:cNvCxnSpPr/>
          <p:nvPr/>
        </p:nvCxnSpPr>
        <p:spPr>
          <a:xfrm>
            <a:off x="1599840" y="3733560"/>
            <a:ext cx="2439000" cy="1080"/>
          </a:xfrm>
          <a:prstGeom prst="straightConnector1">
            <a:avLst/>
          </a:prstGeom>
          <a:ln cap="sq" w="1260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210" name="Straight Arrow Connector 22"/>
          <p:cNvCxnSpPr/>
          <p:nvPr/>
        </p:nvCxnSpPr>
        <p:spPr>
          <a:xfrm>
            <a:off x="990360" y="4419360"/>
            <a:ext cx="2996280" cy="1080"/>
          </a:xfrm>
          <a:prstGeom prst="straightConnector1">
            <a:avLst/>
          </a:prstGeom>
          <a:ln cap="sq" w="1260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211" name="TextBox 26"/>
          <p:cNvSpPr/>
          <p:nvPr/>
        </p:nvSpPr>
        <p:spPr>
          <a:xfrm rot="20479800">
            <a:off x="1544760" y="2696760"/>
            <a:ext cx="210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00"/>
                </a:solidFill>
                <a:latin typeface="Times New Roman"/>
              </a:rPr>
              <a:t>+ 16 % ind. koste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Straight Connector 32"/>
          <p:cNvSpPr/>
          <p:nvPr/>
        </p:nvSpPr>
        <p:spPr>
          <a:xfrm flipV="1">
            <a:off x="990720" y="3733560"/>
            <a:ext cx="0" cy="68580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TextBox 34"/>
          <p:cNvSpPr/>
          <p:nvPr/>
        </p:nvSpPr>
        <p:spPr>
          <a:xfrm>
            <a:off x="1654560" y="3341520"/>
            <a:ext cx="210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00"/>
                </a:solidFill>
                <a:latin typeface="Times New Roman"/>
              </a:rPr>
              <a:t>+ 39 % ind. koste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TextBox 35"/>
          <p:cNvSpPr/>
          <p:nvPr/>
        </p:nvSpPr>
        <p:spPr>
          <a:xfrm>
            <a:off x="1259280" y="4043520"/>
            <a:ext cx="210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00"/>
                </a:solidFill>
                <a:latin typeface="Times New Roman"/>
              </a:rPr>
              <a:t>+ 45 % ind. koste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Straight Connector 37"/>
          <p:cNvSpPr/>
          <p:nvPr/>
        </p:nvSpPr>
        <p:spPr>
          <a:xfrm>
            <a:off x="3962520" y="4952880"/>
            <a:ext cx="1752480" cy="0"/>
          </a:xfrm>
          <a:prstGeom prst="line">
            <a:avLst/>
          </a:prstGeom>
          <a:ln cap="sq"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TextBox 40"/>
          <p:cNvSpPr/>
          <p:nvPr/>
        </p:nvSpPr>
        <p:spPr>
          <a:xfrm>
            <a:off x="5723640" y="4579920"/>
            <a:ext cx="44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ffff00"/>
                </a:solidFill>
                <a:latin typeface="Times New Roman"/>
              </a:rPr>
              <a:t>+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TextBox 41"/>
          <p:cNvSpPr/>
          <p:nvPr/>
        </p:nvSpPr>
        <p:spPr>
          <a:xfrm>
            <a:off x="1425600" y="5110200"/>
            <a:ext cx="1146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00"/>
                </a:solidFill>
                <a:latin typeface="Times New Roman"/>
              </a:rPr>
              <a:t>Kostprij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00"/>
                </a:solidFill>
                <a:latin typeface="Times New Roman"/>
              </a:rPr>
              <a:t>Produc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Slide Number Placeholder 24"/>
          <p:cNvSpPr/>
          <p:nvPr/>
        </p:nvSpPr>
        <p:spPr>
          <a:xfrm>
            <a:off x="655308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C6072-B6BA-4D35-9D58-BF1E546A2308}" type="slidenum">
              <a:rPr b="0" lang="nl-NL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TextBox 41"/>
          <p:cNvSpPr/>
          <p:nvPr/>
        </p:nvSpPr>
        <p:spPr>
          <a:xfrm>
            <a:off x="4057560" y="5133960"/>
            <a:ext cx="1943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00"/>
                </a:solidFill>
                <a:latin typeface="Times New Roman"/>
              </a:rPr>
              <a:t>Totale koste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00"/>
                </a:solidFill>
                <a:latin typeface="Times New Roman"/>
              </a:rPr>
              <a:t>Direct &amp; indirec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TextBox 12"/>
          <p:cNvSpPr/>
          <p:nvPr/>
        </p:nvSpPr>
        <p:spPr>
          <a:xfrm>
            <a:off x="2911320" y="4938840"/>
            <a:ext cx="903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0" spc="-1" strike="noStrike">
                <a:solidFill>
                  <a:srgbClr val="ffff00"/>
                </a:solidFill>
                <a:latin typeface="Times New Roman"/>
              </a:rPr>
              <a:t>= 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Rectangle 6"/>
          <p:cNvSpPr/>
          <p:nvPr/>
        </p:nvSpPr>
        <p:spPr>
          <a:xfrm>
            <a:off x="2857680" y="5140440"/>
            <a:ext cx="742680" cy="660240"/>
          </a:xfrm>
          <a:prstGeom prst="rect">
            <a:avLst/>
          </a:prstGeom>
          <a:noFill/>
          <a:ln cap="sq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TextBox 12"/>
          <p:cNvSpPr/>
          <p:nvPr/>
        </p:nvSpPr>
        <p:spPr>
          <a:xfrm>
            <a:off x="6235560" y="4919760"/>
            <a:ext cx="903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0" spc="-1" strike="noStrike">
                <a:solidFill>
                  <a:srgbClr val="ffff00"/>
                </a:solidFill>
                <a:latin typeface="Times New Roman"/>
              </a:rPr>
              <a:t>/ 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Rectangle 6"/>
          <p:cNvSpPr/>
          <p:nvPr/>
        </p:nvSpPr>
        <p:spPr>
          <a:xfrm>
            <a:off x="6181560" y="5121360"/>
            <a:ext cx="743040" cy="660240"/>
          </a:xfrm>
          <a:prstGeom prst="rect">
            <a:avLst/>
          </a:prstGeom>
          <a:noFill/>
          <a:ln cap="sq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Rectangle 6"/>
          <p:cNvSpPr/>
          <p:nvPr/>
        </p:nvSpPr>
        <p:spPr>
          <a:xfrm>
            <a:off x="7129440" y="5097600"/>
            <a:ext cx="1560600" cy="660240"/>
          </a:xfrm>
          <a:prstGeom prst="rect">
            <a:avLst/>
          </a:prstGeom>
          <a:noFill/>
          <a:ln cap="sq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TextBox 12"/>
          <p:cNvSpPr/>
          <p:nvPr/>
        </p:nvSpPr>
        <p:spPr>
          <a:xfrm>
            <a:off x="7112160" y="5081760"/>
            <a:ext cx="137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00"/>
                </a:solidFill>
                <a:latin typeface="Times New Roman"/>
              </a:rPr>
              <a:t>Aant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00"/>
                </a:solidFill>
                <a:latin typeface="Times New Roman"/>
              </a:rPr>
              <a:t>producte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Rectangle 6"/>
          <p:cNvSpPr/>
          <p:nvPr/>
        </p:nvSpPr>
        <p:spPr>
          <a:xfrm>
            <a:off x="1357200" y="5149800"/>
            <a:ext cx="1184400" cy="660600"/>
          </a:xfrm>
          <a:prstGeom prst="rect">
            <a:avLst/>
          </a:prstGeom>
          <a:noFill/>
          <a:ln cap="sq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ijdelijke aanduiding voor datum 3"/>
          <p:cNvSpPr/>
          <p:nvPr/>
        </p:nvSpPr>
        <p:spPr>
          <a:xfrm>
            <a:off x="68580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FAFF5-1B30-4DAF-AA92-7B9AE1075537}" type="datetime"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31-07-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Tijdelijke aanduiding voor voettekst 4"/>
          <p:cNvSpPr/>
          <p:nvPr/>
        </p:nvSpPr>
        <p:spPr>
          <a:xfrm>
            <a:off x="2819520" y="6324480"/>
            <a:ext cx="3504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Basisberekeningen voor begrote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Tijdelijke aanduiding voor dianummer 5"/>
          <p:cNvSpPr/>
          <p:nvPr/>
        </p:nvSpPr>
        <p:spPr>
          <a:xfrm>
            <a:off x="655308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A3BA4-37F2-4C61-A0EE-21E47F1FF05A}" type="slidenum"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Huiswerk vorige week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ak: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ofdstuk 1: vraag 9, 10, 12, 14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ofdstuk 2: vraag 2, 5, 6, 8, 10, 12, 14, 15 en 17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Tijdelijke aanduiding voor datum 1"/>
          <p:cNvSpPr/>
          <p:nvPr/>
        </p:nvSpPr>
        <p:spPr>
          <a:xfrm>
            <a:off x="68580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A80FA-EDC3-45C7-AABB-BCDCA20AFCF1}" type="datetime"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31-07-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Tijdelijke aanduiding voor voettekst 2"/>
          <p:cNvSpPr/>
          <p:nvPr/>
        </p:nvSpPr>
        <p:spPr>
          <a:xfrm>
            <a:off x="2819520" y="6324480"/>
            <a:ext cx="3504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Basisberekeningen voor begrote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Tijdelijke aanduiding voor dianummer 3"/>
          <p:cNvSpPr/>
          <p:nvPr/>
        </p:nvSpPr>
        <p:spPr>
          <a:xfrm>
            <a:off x="655308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AB96D-87C4-437C-B2A5-0C5448871D42}" type="slidenum"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Kostenplaatsenmethode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1" name="Rectangle 5"/>
          <p:cNvSpPr/>
          <p:nvPr/>
        </p:nvSpPr>
        <p:spPr>
          <a:xfrm>
            <a:off x="685800" y="1905120"/>
            <a:ext cx="81025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00"/>
                </a:solidFill>
                <a:latin typeface="Times New Roman"/>
              </a:rPr>
              <a:t>Elke afdeling, direct of indirect betrokken bij de productie, wordt een </a:t>
            </a:r>
            <a:r>
              <a:rPr b="0" lang="nl-NL" sz="2800" spc="-1" strike="noStrike" u="sng">
                <a:solidFill>
                  <a:srgbClr val="ffffff"/>
                </a:solidFill>
                <a:uFillTx/>
                <a:latin typeface="Times New Roman"/>
              </a:rPr>
              <a:t>kostenplaats</a:t>
            </a:r>
            <a:r>
              <a:rPr b="0" lang="nl-NL" sz="2800" spc="-1" strike="noStrike">
                <a:solidFill>
                  <a:srgbClr val="ffff00"/>
                </a:solidFill>
                <a:latin typeface="Times New Roman"/>
              </a:rPr>
              <a:t> genoem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00"/>
                </a:solidFill>
                <a:latin typeface="Times New Roman"/>
              </a:rPr>
              <a:t>De producten worden </a:t>
            </a:r>
            <a:r>
              <a:rPr b="0" lang="nl-NL" sz="2800" spc="-1" strike="noStrike" u="sng">
                <a:solidFill>
                  <a:srgbClr val="ffffff"/>
                </a:solidFill>
                <a:uFillTx/>
                <a:latin typeface="Times New Roman"/>
              </a:rPr>
              <a:t>kostendragers</a:t>
            </a:r>
            <a:r>
              <a:rPr b="0" lang="nl-NL" sz="2800" spc="-1" strike="noStrike">
                <a:solidFill>
                  <a:srgbClr val="ffff00"/>
                </a:solidFill>
                <a:latin typeface="Times New Roman"/>
              </a:rPr>
              <a:t> genoem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00"/>
                </a:solidFill>
                <a:latin typeface="Times New Roman"/>
              </a:rPr>
              <a:t>De kostenplaats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en</a:t>
            </a:r>
            <a:r>
              <a:rPr b="0" lang="nl-NL" sz="2800" spc="-1" strike="noStrike">
                <a:solidFill>
                  <a:srgbClr val="ffff00"/>
                </a:solidFill>
                <a:latin typeface="Times New Roman"/>
              </a:rPr>
              <a:t>methode is een methode om </a:t>
            </a:r>
            <a:r>
              <a:rPr b="0" lang="nl-NL" sz="2800" spc="-1" strike="noStrike" u="sng">
                <a:solidFill>
                  <a:srgbClr val="ffff00"/>
                </a:solidFill>
                <a:uFillTx/>
                <a:latin typeface="Times New Roman"/>
              </a:rPr>
              <a:t>indirec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00"/>
                </a:solidFill>
                <a:latin typeface="Times New Roman"/>
              </a:rPr>
              <a:t>kosten toe te rekenen aan producte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00"/>
                </a:solidFill>
                <a:latin typeface="Times New Roman"/>
              </a:rPr>
              <a:t>Uiteindelijk wordt de kostprijs van een product bepaald door alle bedrijfskosten (direct en indirect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Slide Number Placeholder 55"/>
          <p:cNvSpPr/>
          <p:nvPr/>
        </p:nvSpPr>
        <p:spPr>
          <a:xfrm>
            <a:off x="655308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32CF9-0A90-4A11-8199-2E8A99A3406F}" type="slidenum">
              <a:rPr b="0" lang="nl-NL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Tijdelijke aanduiding voor datum 1"/>
          <p:cNvSpPr/>
          <p:nvPr/>
        </p:nvSpPr>
        <p:spPr>
          <a:xfrm>
            <a:off x="68580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A37BC-49ED-4238-A861-33EDE748BAAE}" type="datetime"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31-07-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Tijdelijke aanduiding voor voettekst 2"/>
          <p:cNvSpPr/>
          <p:nvPr/>
        </p:nvSpPr>
        <p:spPr>
          <a:xfrm>
            <a:off x="2819520" y="6324480"/>
            <a:ext cx="3504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Basisberekeningen voor begrote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Tijdelijke aanduiding voor dianummer 3"/>
          <p:cNvSpPr/>
          <p:nvPr/>
        </p:nvSpPr>
        <p:spPr>
          <a:xfrm>
            <a:off x="655308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8692A-2B1E-4F48-B984-0F10F968790C}" type="slidenum"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bcbcb"/>
                </a:solidFill>
                <a:latin typeface="Times New Roman"/>
              </a:rPr>
              <a:t>kostenplaatsen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Elke afdeling, direct of indirect betrokken bij de productie, wordt dus een </a:t>
            </a:r>
            <a:r>
              <a:rPr b="0" lang="nl-NL" sz="2800" spc="-1" strike="noStrike" u="sng">
                <a:solidFill>
                  <a:srgbClr val="ffffff"/>
                </a:solidFill>
                <a:uFillTx/>
                <a:latin typeface="Arial"/>
              </a:rPr>
              <a:t>kostenplaats</a:t>
            </a: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 genoemd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Er zijn drie soorten kostenplaatsen: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ffcc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Hulpkostenplaatsen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ffcc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Zelfstandige kostenplaatsen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ffcc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Hoofdkostenplaatse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Slide Number Placeholder 4"/>
          <p:cNvSpPr/>
          <p:nvPr/>
        </p:nvSpPr>
        <p:spPr>
          <a:xfrm>
            <a:off x="655308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06913-AB98-49D7-BC51-29EFBA1D9FBE}" type="slidenum">
              <a:rPr b="0" lang="nl-NL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Tijdelijke aanduiding voor datum 1"/>
          <p:cNvSpPr/>
          <p:nvPr/>
        </p:nvSpPr>
        <p:spPr>
          <a:xfrm>
            <a:off x="68580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399A8-D745-4A68-911D-65DC349960D5}" type="datetime"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31-07-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Tijdelijke aanduiding voor voettekst 2"/>
          <p:cNvSpPr/>
          <p:nvPr/>
        </p:nvSpPr>
        <p:spPr>
          <a:xfrm>
            <a:off x="2819520" y="6324480"/>
            <a:ext cx="3504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Basisberekeningen voor begrote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Tijdelijke aanduiding voor dianummer 3"/>
          <p:cNvSpPr/>
          <p:nvPr/>
        </p:nvSpPr>
        <p:spPr>
          <a:xfrm>
            <a:off x="655308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4737D-ED6D-4BD3-94AB-8C1F84BAB80A}" type="slidenum"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143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bcbcb"/>
                </a:solidFill>
                <a:latin typeface="Times New Roman"/>
              </a:rPr>
              <a:t>Kostendragers: </a:t>
            </a:r>
            <a:r>
              <a:rPr b="0" lang="nl-NL" sz="2800" spc="-1" strike="noStrike">
                <a:solidFill>
                  <a:srgbClr val="cbcbcb"/>
                </a:solidFill>
                <a:latin typeface="Times New Roman"/>
              </a:rPr>
              <a:t>producten dragen alle kosten</a:t>
            </a:r>
            <a:endParaRPr b="0" lang="en-US" sz="28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43" name="Slide Number Placeholder 4"/>
          <p:cNvSpPr/>
          <p:nvPr/>
        </p:nvSpPr>
        <p:spPr>
          <a:xfrm>
            <a:off x="655308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2FF77-9BBF-40F5-8F38-FA066589A151}" type="slidenum">
              <a:rPr b="0" lang="nl-NL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Rectangle 6"/>
          <p:cNvSpPr/>
          <p:nvPr/>
        </p:nvSpPr>
        <p:spPr>
          <a:xfrm>
            <a:off x="6162840" y="2001960"/>
            <a:ext cx="1560240" cy="441360"/>
          </a:xfrm>
          <a:prstGeom prst="rect">
            <a:avLst/>
          </a:prstGeom>
          <a:noFill/>
          <a:ln cap="sq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TextBox 12"/>
          <p:cNvSpPr/>
          <p:nvPr/>
        </p:nvSpPr>
        <p:spPr>
          <a:xfrm>
            <a:off x="6102360" y="2014560"/>
            <a:ext cx="177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00"/>
                </a:solidFill>
                <a:latin typeface="Times New Roman"/>
              </a:rPr>
              <a:t>Directe kosten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Rectangle 6"/>
          <p:cNvSpPr/>
          <p:nvPr/>
        </p:nvSpPr>
        <p:spPr>
          <a:xfrm>
            <a:off x="3014640" y="2025720"/>
            <a:ext cx="1785960" cy="441360"/>
          </a:xfrm>
          <a:prstGeom prst="rect">
            <a:avLst/>
          </a:prstGeom>
          <a:noFill/>
          <a:ln cap="sq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TextBox 12"/>
          <p:cNvSpPr/>
          <p:nvPr/>
        </p:nvSpPr>
        <p:spPr>
          <a:xfrm>
            <a:off x="2997360" y="2023920"/>
            <a:ext cx="184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00"/>
                </a:solidFill>
                <a:latin typeface="Times New Roman"/>
              </a:rPr>
              <a:t>Indirecte kosten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Rectangle 6"/>
          <p:cNvSpPr/>
          <p:nvPr/>
        </p:nvSpPr>
        <p:spPr>
          <a:xfrm>
            <a:off x="5872320" y="3486240"/>
            <a:ext cx="2442960" cy="452520"/>
          </a:xfrm>
          <a:prstGeom prst="rect">
            <a:avLst/>
          </a:prstGeom>
          <a:noFill/>
          <a:ln cap="sq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TextBox 12"/>
          <p:cNvSpPr/>
          <p:nvPr/>
        </p:nvSpPr>
        <p:spPr>
          <a:xfrm>
            <a:off x="5811840" y="3552840"/>
            <a:ext cx="254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00"/>
                </a:solidFill>
                <a:latin typeface="Times New Roman"/>
              </a:rPr>
              <a:t>Hoofdkostenplaats(en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Rectangle 6"/>
          <p:cNvSpPr/>
          <p:nvPr/>
        </p:nvSpPr>
        <p:spPr>
          <a:xfrm>
            <a:off x="2709720" y="3243240"/>
            <a:ext cx="1791000" cy="733320"/>
          </a:xfrm>
          <a:prstGeom prst="rect">
            <a:avLst/>
          </a:prstGeom>
          <a:noFill/>
          <a:ln cap="sq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TextBox 12"/>
          <p:cNvSpPr/>
          <p:nvPr/>
        </p:nvSpPr>
        <p:spPr>
          <a:xfrm>
            <a:off x="2706840" y="3262320"/>
            <a:ext cx="1846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00"/>
                </a:solidFill>
                <a:latin typeface="Times New Roman"/>
              </a:rPr>
              <a:t>Zelfstandige kostenplaats(en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Rectangle 6"/>
          <p:cNvSpPr/>
          <p:nvPr/>
        </p:nvSpPr>
        <p:spPr>
          <a:xfrm>
            <a:off x="561960" y="3238560"/>
            <a:ext cx="1790640" cy="733320"/>
          </a:xfrm>
          <a:prstGeom prst="rect">
            <a:avLst/>
          </a:prstGeom>
          <a:noFill/>
          <a:ln cap="sq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TextBox 17"/>
          <p:cNvSpPr/>
          <p:nvPr/>
        </p:nvSpPr>
        <p:spPr>
          <a:xfrm>
            <a:off x="558720" y="3257640"/>
            <a:ext cx="1846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00"/>
                </a:solidFill>
                <a:latin typeface="Times New Roman"/>
              </a:rPr>
              <a:t>Hulpkosten-plaats(en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Down Arrow 18"/>
          <p:cNvSpPr/>
          <p:nvPr/>
        </p:nvSpPr>
        <p:spPr>
          <a:xfrm>
            <a:off x="6800760" y="2457360"/>
            <a:ext cx="243000" cy="1014480"/>
          </a:xfrm>
          <a:prstGeom prst="downArrow">
            <a:avLst>
              <a:gd name="adj1" fmla="val 50000"/>
              <a:gd name="adj2" fmla="val 49982"/>
            </a:avLst>
          </a:prstGeom>
          <a:solidFill>
            <a:srgbClr val="ff0000"/>
          </a:solidFill>
          <a:ln cap="sq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Striped Right Arrow 20"/>
          <p:cNvSpPr/>
          <p:nvPr/>
        </p:nvSpPr>
        <p:spPr>
          <a:xfrm rot="1349400">
            <a:off x="4387680" y="2909520"/>
            <a:ext cx="2468880" cy="123840"/>
          </a:xfrm>
          <a:custGeom>
            <a:avLst/>
            <a:gdLst/>
            <a:ahLst/>
            <a:rect l="l" t="t" r="r" b="b"/>
            <a:pathLst>
              <a:path w="2468563" h="123825">
                <a:moveTo>
                  <a:pt x="0" y="30956"/>
                </a:moveTo>
                <a:lnTo>
                  <a:pt x="3870" y="30956"/>
                </a:lnTo>
                <a:lnTo>
                  <a:pt x="3870" y="92869"/>
                </a:lnTo>
                <a:lnTo>
                  <a:pt x="0" y="92869"/>
                </a:lnTo>
                <a:lnTo>
                  <a:pt x="0" y="30956"/>
                </a:lnTo>
                <a:close/>
                <a:moveTo>
                  <a:pt x="7739" y="30956"/>
                </a:moveTo>
                <a:lnTo>
                  <a:pt x="15478" y="30956"/>
                </a:lnTo>
                <a:lnTo>
                  <a:pt x="15478" y="92869"/>
                </a:lnTo>
                <a:lnTo>
                  <a:pt x="7739" y="92869"/>
                </a:lnTo>
                <a:lnTo>
                  <a:pt x="7739" y="30956"/>
                </a:lnTo>
                <a:close/>
                <a:moveTo>
                  <a:pt x="19348" y="30956"/>
                </a:moveTo>
                <a:lnTo>
                  <a:pt x="2406651" y="30956"/>
                </a:lnTo>
                <a:lnTo>
                  <a:pt x="2406651" y="0"/>
                </a:lnTo>
                <a:lnTo>
                  <a:pt x="2468563" y="61913"/>
                </a:lnTo>
                <a:lnTo>
                  <a:pt x="2406651" y="123825"/>
                </a:lnTo>
                <a:lnTo>
                  <a:pt x="2406651" y="92869"/>
                </a:lnTo>
                <a:lnTo>
                  <a:pt x="19348" y="92869"/>
                </a:lnTo>
                <a:lnTo>
                  <a:pt x="19348" y="30956"/>
                </a:lnTo>
                <a:close/>
              </a:path>
            </a:pathLst>
          </a:custGeom>
          <a:solidFill>
            <a:srgbClr val="002060"/>
          </a:solidFill>
          <a:ln cap="sq" w="12600">
            <a:solidFill>
              <a:srgbClr val="ffffff"/>
            </a:solidFill>
            <a:custDash>
              <a:ds d="400000" sp="3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Striped Right Arrow 21"/>
          <p:cNvSpPr/>
          <p:nvPr/>
        </p:nvSpPr>
        <p:spPr>
          <a:xfrm rot="5400000">
            <a:off x="3512880" y="2784600"/>
            <a:ext cx="742680" cy="145800"/>
          </a:xfrm>
          <a:custGeom>
            <a:avLst/>
            <a:gdLst/>
            <a:ahLst/>
            <a:rect l="l" t="t" r="r" b="b"/>
            <a:pathLst>
              <a:path w="742950" h="146050">
                <a:moveTo>
                  <a:pt x="0" y="36513"/>
                </a:moveTo>
                <a:lnTo>
                  <a:pt x="4564" y="36513"/>
                </a:lnTo>
                <a:lnTo>
                  <a:pt x="4564" y="109538"/>
                </a:lnTo>
                <a:lnTo>
                  <a:pt x="0" y="109538"/>
                </a:lnTo>
                <a:lnTo>
                  <a:pt x="0" y="36513"/>
                </a:lnTo>
                <a:close/>
                <a:moveTo>
                  <a:pt x="9128" y="36513"/>
                </a:moveTo>
                <a:lnTo>
                  <a:pt x="18256" y="36513"/>
                </a:lnTo>
                <a:lnTo>
                  <a:pt x="18256" y="109538"/>
                </a:lnTo>
                <a:lnTo>
                  <a:pt x="9128" y="109538"/>
                </a:lnTo>
                <a:lnTo>
                  <a:pt x="9128" y="36513"/>
                </a:lnTo>
                <a:close/>
                <a:moveTo>
                  <a:pt x="22820" y="36513"/>
                </a:moveTo>
                <a:lnTo>
                  <a:pt x="669925" y="36513"/>
                </a:lnTo>
                <a:lnTo>
                  <a:pt x="669925" y="0"/>
                </a:lnTo>
                <a:lnTo>
                  <a:pt x="742950" y="73025"/>
                </a:lnTo>
                <a:lnTo>
                  <a:pt x="669925" y="146050"/>
                </a:lnTo>
                <a:lnTo>
                  <a:pt x="669925" y="109538"/>
                </a:lnTo>
                <a:lnTo>
                  <a:pt x="22820" y="109538"/>
                </a:lnTo>
                <a:lnTo>
                  <a:pt x="22820" y="36513"/>
                </a:lnTo>
                <a:close/>
              </a:path>
            </a:pathLst>
          </a:custGeom>
          <a:solidFill>
            <a:srgbClr val="002060"/>
          </a:solidFill>
          <a:ln cap="sq" w="12600">
            <a:solidFill>
              <a:srgbClr val="ffffff"/>
            </a:solidFill>
            <a:custDash>
              <a:ds d="400000" sp="3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Striped Right Arrow 22"/>
          <p:cNvSpPr/>
          <p:nvPr/>
        </p:nvSpPr>
        <p:spPr>
          <a:xfrm rot="8559000">
            <a:off x="1977840" y="2812680"/>
            <a:ext cx="1290600" cy="106200"/>
          </a:xfrm>
          <a:custGeom>
            <a:avLst/>
            <a:gdLst/>
            <a:ahLst/>
            <a:rect l="l" t="t" r="r" b="b"/>
            <a:pathLst>
              <a:path w="1290638" h="106363">
                <a:moveTo>
                  <a:pt x="0" y="26591"/>
                </a:moveTo>
                <a:lnTo>
                  <a:pt x="3324" y="26591"/>
                </a:lnTo>
                <a:lnTo>
                  <a:pt x="3324" y="79772"/>
                </a:lnTo>
                <a:lnTo>
                  <a:pt x="0" y="79772"/>
                </a:lnTo>
                <a:lnTo>
                  <a:pt x="0" y="26591"/>
                </a:lnTo>
                <a:close/>
                <a:moveTo>
                  <a:pt x="6648" y="26591"/>
                </a:moveTo>
                <a:lnTo>
                  <a:pt x="13295" y="26591"/>
                </a:lnTo>
                <a:lnTo>
                  <a:pt x="13295" y="79772"/>
                </a:lnTo>
                <a:lnTo>
                  <a:pt x="6648" y="79772"/>
                </a:lnTo>
                <a:lnTo>
                  <a:pt x="6648" y="26591"/>
                </a:lnTo>
                <a:close/>
                <a:moveTo>
                  <a:pt x="16619" y="26591"/>
                </a:moveTo>
                <a:lnTo>
                  <a:pt x="1237457" y="26591"/>
                </a:lnTo>
                <a:lnTo>
                  <a:pt x="1237457" y="0"/>
                </a:lnTo>
                <a:lnTo>
                  <a:pt x="1290638" y="53182"/>
                </a:lnTo>
                <a:lnTo>
                  <a:pt x="1237457" y="106363"/>
                </a:lnTo>
                <a:lnTo>
                  <a:pt x="1237457" y="79772"/>
                </a:lnTo>
                <a:lnTo>
                  <a:pt x="16619" y="79772"/>
                </a:lnTo>
                <a:lnTo>
                  <a:pt x="16619" y="26591"/>
                </a:lnTo>
                <a:close/>
              </a:path>
            </a:pathLst>
          </a:custGeom>
          <a:solidFill>
            <a:srgbClr val="002060"/>
          </a:solidFill>
          <a:ln cap="sq" w="12600">
            <a:solidFill>
              <a:srgbClr val="ffffff"/>
            </a:solidFill>
            <a:custDash>
              <a:ds d="400000" sp="3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Curved Right Arrow 23"/>
          <p:cNvSpPr/>
          <p:nvPr/>
        </p:nvSpPr>
        <p:spPr>
          <a:xfrm rot="16200000">
            <a:off x="2514600" y="3343320"/>
            <a:ext cx="542880" cy="1828800"/>
          </a:xfrm>
          <a:custGeom>
            <a:avLst/>
            <a:gdLst>
              <a:gd name="textAreaLeft" fmla="*/ 72720 w 542880"/>
              <a:gd name="textAreaRight" fmla="*/ 470160 w 542880"/>
              <a:gd name="textAreaTop" fmla="*/ 406080 h 1828800"/>
              <a:gd name="textAreaBottom" fmla="*/ 13546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9598" stAng="-5400000" swAng="-5400000"/>
                <a:lnTo>
                  <a:pt x="0" y="11202"/>
                </a:lnTo>
                <a:arcTo wR="21600" hR="9598" stAng="10800000" swAng="-3590351"/>
                <a:lnTo>
                  <a:pt x="16200" y="21295"/>
                </a:lnTo>
                <a:lnTo>
                  <a:pt x="21600" y="19997"/>
                </a:lnTo>
                <a:lnTo>
                  <a:pt x="16200" y="18089"/>
                </a:lnTo>
                <a:lnTo>
                  <a:pt x="16200" y="18890"/>
                </a:lnTo>
                <a:arcTo wR="21600" hR="9598" stAng="7209649" swAng="3462320"/>
                <a:lnTo>
                  <a:pt x="76" y="10400"/>
                </a:lnTo>
                <a:arcTo wR="21600" hR="9598" stAng="-10671969" swAng="5271969"/>
                <a:close/>
              </a:path>
              <a:path fill="darkenLess" w="21600" h="21600">
                <a:moveTo>
                  <a:pt x="21600" y="0"/>
                </a:moveTo>
                <a:arcTo wR="21600" hR="9598" stAng="-5400000" swAng="-5400000"/>
                <a:lnTo>
                  <a:pt x="0" y="9598"/>
                </a:lnTo>
                <a:arcTo wR="21600" hR="9598" stAng="10800000" swAng="-128031"/>
                <a:lnTo>
                  <a:pt x="76" y="10400"/>
                </a:lnTo>
                <a:arcTo wR="21600" hR="9598" stAng="-10671969" swAng="5271969"/>
                <a:close/>
              </a:path>
            </a:pathLst>
          </a:custGeom>
          <a:solidFill>
            <a:srgbClr val="002060"/>
          </a:solidFill>
          <a:ln cap="sq" w="12600">
            <a:solidFill>
              <a:srgbClr val="ffffff"/>
            </a:solidFill>
            <a:custDash>
              <a:ds d="400000" sp="3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Curved Right Arrow 24"/>
          <p:cNvSpPr/>
          <p:nvPr/>
        </p:nvSpPr>
        <p:spPr>
          <a:xfrm rot="16200000">
            <a:off x="3555360" y="1383120"/>
            <a:ext cx="1214280" cy="6419880"/>
          </a:xfrm>
          <a:custGeom>
            <a:avLst/>
            <a:gdLst>
              <a:gd name="textAreaLeft" fmla="*/ 162720 w 1214280"/>
              <a:gd name="textAreaRight" fmla="*/ 1051560 w 1214280"/>
              <a:gd name="textAreaTop" fmla="*/ 1491120 h 6419880"/>
              <a:gd name="textAreaBottom" fmla="*/ 4777200 h 6419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10034" stAng="-5400000" swAng="-5400000"/>
                <a:lnTo>
                  <a:pt x="0" y="11056"/>
                </a:lnTo>
                <a:arcTo wR="21600" hR="10034" stAng="10800000" swAng="-3655957"/>
                <a:lnTo>
                  <a:pt x="16200" y="21281"/>
                </a:lnTo>
                <a:lnTo>
                  <a:pt x="21600" y="20578"/>
                </a:lnTo>
                <a:lnTo>
                  <a:pt x="16200" y="19237"/>
                </a:lnTo>
                <a:lnTo>
                  <a:pt x="16200" y="19748"/>
                </a:lnTo>
                <a:arcTo wR="21600" hR="10034" stAng="7144043" swAng="3574538"/>
                <a:lnTo>
                  <a:pt x="28" y="10545"/>
                </a:lnTo>
                <a:arcTo wR="21600" hR="10034" stAng="-10718581" swAng="5318581"/>
                <a:close/>
              </a:path>
              <a:path fill="darkenLess" w="21600" h="21600">
                <a:moveTo>
                  <a:pt x="21600" y="0"/>
                </a:moveTo>
                <a:arcTo wR="21600" hR="10034" stAng="-5400000" swAng="-5400000"/>
                <a:lnTo>
                  <a:pt x="0" y="10034"/>
                </a:lnTo>
                <a:arcTo wR="21600" hR="10034" stAng="10800000" swAng="-81419"/>
                <a:lnTo>
                  <a:pt x="28" y="10545"/>
                </a:lnTo>
                <a:arcTo wR="21600" hR="10034" stAng="-10718581" swAng="5318581"/>
                <a:close/>
              </a:path>
            </a:pathLst>
          </a:custGeom>
          <a:solidFill>
            <a:srgbClr val="002060"/>
          </a:solidFill>
          <a:ln cap="sq" w="12600">
            <a:solidFill>
              <a:srgbClr val="ffffff"/>
            </a:solidFill>
            <a:custDash>
              <a:ds d="400000" sp="3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Down Arrow 25"/>
          <p:cNvSpPr/>
          <p:nvPr/>
        </p:nvSpPr>
        <p:spPr>
          <a:xfrm>
            <a:off x="7458120" y="3957480"/>
            <a:ext cx="528480" cy="1011240"/>
          </a:xfrm>
          <a:prstGeom prst="downArrow">
            <a:avLst>
              <a:gd name="adj1" fmla="val 50000"/>
              <a:gd name="adj2" fmla="val 50043"/>
            </a:avLst>
          </a:prstGeom>
          <a:solidFill>
            <a:srgbClr val="00b050"/>
          </a:solidFill>
          <a:ln cap="sq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1" name="Picture 2" descr="C:\Program Files\Microsoft Office\MEDIA\CAGCAT10\j0149627.wmf"/>
          <p:cNvPicPr/>
          <p:nvPr/>
        </p:nvPicPr>
        <p:blipFill>
          <a:blip r:embed="rId1"/>
          <a:stretch/>
        </p:blipFill>
        <p:spPr>
          <a:xfrm>
            <a:off x="6353280" y="4768920"/>
            <a:ext cx="2533680" cy="1800000"/>
          </a:xfrm>
          <a:prstGeom prst="rect">
            <a:avLst/>
          </a:prstGeom>
          <a:ln w="0">
            <a:noFill/>
          </a:ln>
        </p:spPr>
      </p:pic>
      <p:cxnSp>
        <p:nvCxnSpPr>
          <p:cNvPr id="262" name="Straight Arrow Connector 28"/>
          <p:cNvCxnSpPr/>
          <p:nvPr/>
        </p:nvCxnSpPr>
        <p:spPr>
          <a:xfrm flipV="1">
            <a:off x="5837040" y="5516280"/>
            <a:ext cx="1005480" cy="519840"/>
          </a:xfrm>
          <a:prstGeom prst="straightConnector1">
            <a:avLst/>
          </a:prstGeom>
          <a:ln cap="sq" w="1260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263" name="TextBox 29"/>
          <p:cNvSpPr/>
          <p:nvPr/>
        </p:nvSpPr>
        <p:spPr>
          <a:xfrm>
            <a:off x="4770360" y="5883120"/>
            <a:ext cx="17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00"/>
                </a:solidFill>
                <a:latin typeface="Times New Roman"/>
              </a:rPr>
              <a:t>Prijs Produc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Curved Right Arrow 23"/>
          <p:cNvSpPr/>
          <p:nvPr/>
        </p:nvSpPr>
        <p:spPr>
          <a:xfrm rot="16200000">
            <a:off x="4669560" y="2878920"/>
            <a:ext cx="542880" cy="2747880"/>
          </a:xfrm>
          <a:custGeom>
            <a:avLst/>
            <a:gdLst>
              <a:gd name="textAreaLeft" fmla="*/ 72720 w 542880"/>
              <a:gd name="textAreaRight" fmla="*/ 470160 w 542880"/>
              <a:gd name="textAreaTop" fmla="*/ 636120 h 2747880"/>
              <a:gd name="textAreaBottom" fmla="*/ 2044080 h 2747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10000" stAng="-5400000" swAng="-5400000"/>
                <a:lnTo>
                  <a:pt x="0" y="11068"/>
                </a:lnTo>
                <a:arcTo wR="21600" hR="10000" stAng="10800000" swAng="-3650997"/>
                <a:lnTo>
                  <a:pt x="16200" y="21282"/>
                </a:lnTo>
                <a:lnTo>
                  <a:pt x="21600" y="20533"/>
                </a:lnTo>
                <a:lnTo>
                  <a:pt x="16200" y="19148"/>
                </a:lnTo>
                <a:lnTo>
                  <a:pt x="16200" y="19681"/>
                </a:lnTo>
                <a:arcTo wR="21600" hR="10000" stAng="7149003" swAng="3565904"/>
                <a:lnTo>
                  <a:pt x="31" y="10534"/>
                </a:lnTo>
                <a:arcTo wR="21600" hR="10000" stAng="-10714907" swAng="5314907"/>
                <a:close/>
              </a:path>
              <a:path fill="darkenLess" w="21600" h="21600">
                <a:moveTo>
                  <a:pt x="21600" y="0"/>
                </a:moveTo>
                <a:arcTo wR="21600" hR="10000" stAng="-5400000" swAng="-5400000"/>
                <a:lnTo>
                  <a:pt x="0" y="10000"/>
                </a:lnTo>
                <a:arcTo wR="21600" hR="10000" stAng="10800000" swAng="-85093"/>
                <a:lnTo>
                  <a:pt x="31" y="10534"/>
                </a:lnTo>
                <a:arcTo wR="21600" hR="10000" stAng="-10714907" swAng="5314907"/>
                <a:close/>
              </a:path>
            </a:pathLst>
          </a:custGeom>
          <a:solidFill>
            <a:srgbClr val="002060"/>
          </a:solidFill>
          <a:ln cap="sq" w="12600">
            <a:solidFill>
              <a:srgbClr val="ffffff"/>
            </a:solidFill>
            <a:custDash>
              <a:ds d="400000" sp="3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Tijdelijke aanduiding voor datum 1"/>
          <p:cNvSpPr/>
          <p:nvPr/>
        </p:nvSpPr>
        <p:spPr>
          <a:xfrm>
            <a:off x="68580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CC092-57F5-4978-AAF8-E691F805BA73}" type="datetime"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31-07-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Tijdelijke aanduiding voor voettekst 2"/>
          <p:cNvSpPr/>
          <p:nvPr/>
        </p:nvSpPr>
        <p:spPr>
          <a:xfrm>
            <a:off x="2819520" y="6324480"/>
            <a:ext cx="3504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Basisberekeningen voor begrote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Tijdelijke aanduiding voor dianummer 3"/>
          <p:cNvSpPr/>
          <p:nvPr/>
        </p:nvSpPr>
        <p:spPr>
          <a:xfrm>
            <a:off x="655308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1727E-AAD5-4319-9DB8-0E2C05600646}" type="slidenum"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685800" y="1809720"/>
            <a:ext cx="7772400" cy="4291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Een hulpkostenplaats verricht diensten voor een andere kostenplaats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Een hulpkostenplaats is een </a:t>
            </a:r>
            <a:r>
              <a:rPr b="0" lang="nl-NL" sz="2800" spc="-1" strike="noStrike" u="sng">
                <a:solidFill>
                  <a:srgbClr val="ffffff"/>
                </a:solidFill>
                <a:uFillTx/>
                <a:latin typeface="Arial"/>
              </a:rPr>
              <a:t>niet</a:t>
            </a: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 echt bestaande afdeling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Voorbeelden van hulpkostenplaatsen: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ffcc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Gas, water, elektra etc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Hulpkostenplaatsen moeten wel een naam hebben. In dit geval b.v. de </a:t>
            </a:r>
            <a:r>
              <a:rPr b="0" lang="nl-NL" sz="2800" spc="-1" strike="noStrike" u="sng">
                <a:solidFill>
                  <a:srgbClr val="ffffff"/>
                </a:solidFill>
                <a:uFillTx/>
                <a:latin typeface="Arial"/>
              </a:rPr>
              <a:t>niet</a:t>
            </a: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 bestaande afdeling “huisvesting”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Slide Number Placeholder 4"/>
          <p:cNvSpPr/>
          <p:nvPr/>
        </p:nvSpPr>
        <p:spPr>
          <a:xfrm>
            <a:off x="655308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AD5BC-4976-4001-B09C-E583B88C34DD}" type="slidenum">
              <a:rPr b="0" lang="nl-NL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bcbcb"/>
                </a:solidFill>
                <a:latin typeface="Times New Roman"/>
              </a:rPr>
              <a:t>kostenplaatsen...........</a:t>
            </a:r>
            <a:r>
              <a:rPr b="0" lang="nl-NL" sz="3200" spc="-1" strike="noStrike">
                <a:solidFill>
                  <a:srgbClr val="cbcbcb"/>
                </a:solidFill>
                <a:latin typeface="Times New Roman"/>
              </a:rPr>
              <a:t>hulpkostenplaats</a:t>
            </a:r>
            <a:endParaRPr b="0" lang="en-US" sz="3200" spc="-1" strike="noStrike">
              <a:solidFill>
                <a:srgbClr val="cbcbc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Tijdelijke aanduiding voor datum 1"/>
          <p:cNvSpPr/>
          <p:nvPr/>
        </p:nvSpPr>
        <p:spPr>
          <a:xfrm>
            <a:off x="68580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88B41-9AF1-48CE-88B8-01380D6C06D4}" type="datetime"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31-07-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Tijdelijke aanduiding voor voettekst 2"/>
          <p:cNvSpPr/>
          <p:nvPr/>
        </p:nvSpPr>
        <p:spPr>
          <a:xfrm>
            <a:off x="2819520" y="6324480"/>
            <a:ext cx="3504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Basisberekeningen voor begrote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Tijdelijke aanduiding voor dianummer 3"/>
          <p:cNvSpPr/>
          <p:nvPr/>
        </p:nvSpPr>
        <p:spPr>
          <a:xfrm>
            <a:off x="655308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7B1C7-BD43-48BA-ACE3-07A51238C84F}" type="slidenum"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1809720"/>
            <a:ext cx="7772400" cy="4291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Een zelfstandige kostenplaats is wel een echte afdeling en levert prestaties aan andere afdelingen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Voorbeelden van zelfstandige kostenplaatsen: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ffcc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administratie, magazijn en onderhoud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Deze kostenplaatsen hebben van zichzelf al een naam, de afdeling administratie etc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Slide Number Placeholder 4"/>
          <p:cNvSpPr/>
          <p:nvPr/>
        </p:nvSpPr>
        <p:spPr>
          <a:xfrm>
            <a:off x="655308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4F7A9-A319-44AA-A674-6ACF75F66D44}" type="slidenum">
              <a:rPr b="0" lang="nl-NL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bcbcb"/>
                </a:solidFill>
                <a:latin typeface="Times New Roman"/>
              </a:rPr>
              <a:t>kostenplaatsen</a:t>
            </a:r>
            <a:r>
              <a:rPr b="0" lang="nl-NL" sz="4400" spc="-1" strike="noStrike">
                <a:solidFill>
                  <a:srgbClr val="cbcbcb"/>
                </a:solidFill>
                <a:latin typeface="Times New Roman"/>
              </a:rPr>
              <a:t>...........</a:t>
            </a:r>
            <a:r>
              <a:rPr b="0" lang="nl-NL" sz="2800" spc="-1" strike="noStrike">
                <a:solidFill>
                  <a:srgbClr val="cbcbcb"/>
                </a:solidFill>
                <a:latin typeface="Times New Roman"/>
              </a:rPr>
              <a:t>zelfstandige kostenplaats</a:t>
            </a:r>
            <a:endParaRPr b="0" lang="en-US" sz="2800" spc="-1" strike="noStrike">
              <a:solidFill>
                <a:srgbClr val="cbcbc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Tijdelijke aanduiding voor datum 1"/>
          <p:cNvSpPr/>
          <p:nvPr/>
        </p:nvSpPr>
        <p:spPr>
          <a:xfrm>
            <a:off x="68580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A3B52-456D-41F7-ACCA-0D6CAB65EDA2}" type="datetime"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31-07-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Tijdelijke aanduiding voor voettekst 2"/>
          <p:cNvSpPr/>
          <p:nvPr/>
        </p:nvSpPr>
        <p:spPr>
          <a:xfrm>
            <a:off x="2819520" y="6324480"/>
            <a:ext cx="3504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Basisberekeningen voor begrote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Tijdelijke aanduiding voor dianummer 3"/>
          <p:cNvSpPr/>
          <p:nvPr/>
        </p:nvSpPr>
        <p:spPr>
          <a:xfrm>
            <a:off x="655308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B26E1-0345-45A9-967A-18CAE1335EFD}" type="slidenum"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85800" y="1809720"/>
            <a:ext cx="7772400" cy="4291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Een hoofdkostenplaats is ook een echte afdeling en levert alleen prestaties aan het product. Houden zich dus direct met het product bezig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Voorbeelden van hoofdkostenplaatsen: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ffcc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Fabricage, montage en verkoop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Deze kostenplaatsen hebben van zichzelf al een naam, de afdeling fabricage etc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Slide Number Placeholder 4"/>
          <p:cNvSpPr/>
          <p:nvPr/>
        </p:nvSpPr>
        <p:spPr>
          <a:xfrm>
            <a:off x="655308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3E932-6C1A-4AFB-86EB-635378FEFCC7}" type="slidenum">
              <a:rPr b="0" lang="nl-NL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bcbcb"/>
                </a:solidFill>
                <a:latin typeface="Times New Roman"/>
              </a:rPr>
              <a:t>kostenplaatsen</a:t>
            </a:r>
            <a:r>
              <a:rPr b="0" lang="nl-NL" sz="4400" spc="-1" strike="noStrike">
                <a:solidFill>
                  <a:srgbClr val="cbcbcb"/>
                </a:solidFill>
                <a:latin typeface="Times New Roman"/>
              </a:rPr>
              <a:t>..................</a:t>
            </a:r>
            <a:r>
              <a:rPr b="0" lang="nl-NL" sz="2800" spc="-1" strike="noStrike">
                <a:solidFill>
                  <a:srgbClr val="cbcbcb"/>
                </a:solidFill>
                <a:latin typeface="Times New Roman"/>
              </a:rPr>
              <a:t>hoofdkostenplaats</a:t>
            </a:r>
            <a:endParaRPr b="0" lang="en-US" sz="2800" spc="-1" strike="noStrike">
              <a:solidFill>
                <a:srgbClr val="cbcbc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Tijdelijke aanduiding voor datum 1"/>
          <p:cNvSpPr/>
          <p:nvPr/>
        </p:nvSpPr>
        <p:spPr>
          <a:xfrm>
            <a:off x="68580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991ED-E3E6-4CC4-A34C-67C21C6EE1D8}" type="datetime"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31-07-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Tijdelijke aanduiding voor voettekst 2"/>
          <p:cNvSpPr/>
          <p:nvPr/>
        </p:nvSpPr>
        <p:spPr>
          <a:xfrm>
            <a:off x="2819520" y="6324480"/>
            <a:ext cx="3504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Basisberekeningen voor begrote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Tijdelijke aanduiding voor dianummer 3"/>
          <p:cNvSpPr/>
          <p:nvPr/>
        </p:nvSpPr>
        <p:spPr>
          <a:xfrm>
            <a:off x="655308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BADB6-866C-4AA9-A617-A5F9AF51691C}" type="slidenum"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685800" y="1809720"/>
            <a:ext cx="7772400" cy="4291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De kostenplaatsen zodanig kiezen dat je alle indirecte kosten over de verschillende kostenplaatsen kunt verdelen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Het is dus een methode om uiteindelijk de </a:t>
            </a:r>
            <a:r>
              <a:rPr b="0" lang="nl-NL" sz="2800" spc="-1" strike="noStrike" u="sng">
                <a:solidFill>
                  <a:srgbClr val="ffffff"/>
                </a:solidFill>
                <a:uFillTx/>
                <a:latin typeface="Arial"/>
              </a:rPr>
              <a:t>indirecte</a:t>
            </a: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 kosten over de kostendragers te verdelen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ffffff"/>
                </a:solidFill>
                <a:uFillTx/>
                <a:latin typeface="Arial"/>
              </a:rPr>
              <a:t>Directe</a:t>
            </a: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 kosten worden rechtstreeks over de kostendragers verdeeld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Slide Number Placeholder 4"/>
          <p:cNvSpPr/>
          <p:nvPr/>
        </p:nvSpPr>
        <p:spPr>
          <a:xfrm>
            <a:off x="655308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259E7-CC55-4083-BA90-CDC81831C682}" type="slidenum">
              <a:rPr b="0" lang="nl-NL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cbcbcb"/>
                </a:solidFill>
                <a:latin typeface="Times New Roman"/>
              </a:rPr>
              <a:t>Kostendragers</a:t>
            </a:r>
            <a:r>
              <a:rPr b="0" lang="en-US" sz="3600" spc="-1" strike="noStrike">
                <a:solidFill>
                  <a:srgbClr val="cbcbcb"/>
                </a:solidFill>
                <a:latin typeface="Times New Roman"/>
              </a:rPr>
              <a:t> (= producten)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Tijdelijke aanduiding voor datum 1"/>
          <p:cNvSpPr/>
          <p:nvPr/>
        </p:nvSpPr>
        <p:spPr>
          <a:xfrm>
            <a:off x="68580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4E7DF-6969-41BA-A353-E7B4411FFE07}" type="datetime"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31-07-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Tijdelijke aanduiding voor voettekst 2"/>
          <p:cNvSpPr/>
          <p:nvPr/>
        </p:nvSpPr>
        <p:spPr>
          <a:xfrm>
            <a:off x="2819520" y="6324480"/>
            <a:ext cx="3504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Basisberekeningen voor begrote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Tijdelijke aanduiding voor dianummer 3"/>
          <p:cNvSpPr/>
          <p:nvPr/>
        </p:nvSpPr>
        <p:spPr>
          <a:xfrm>
            <a:off x="655308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7155B-FEB6-4A5E-BB19-A69E74A61FD2}" type="slidenum"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bcbcb"/>
                </a:solidFill>
                <a:latin typeface="Times New Roman"/>
              </a:rPr>
              <a:t>Oefenopdracht 4…</a:t>
            </a:r>
            <a:r>
              <a:rPr b="0" lang="en-US" sz="3200" spc="-1" strike="noStrike">
                <a:solidFill>
                  <a:srgbClr val="cbcbcb"/>
                </a:solidFill>
                <a:latin typeface="Times New Roman"/>
              </a:rPr>
              <a:t>…..….......</a:t>
            </a:r>
            <a:r>
              <a:rPr b="0" lang="en-US" sz="2800" spc="-1" strike="noStrike">
                <a:solidFill>
                  <a:srgbClr val="cbcbcb"/>
                </a:solidFill>
                <a:latin typeface="Times New Roman"/>
              </a:rPr>
              <a:t>kostenplaatsen</a:t>
            </a:r>
            <a:endParaRPr b="0" lang="en-US" sz="28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93" name="TextBox 24"/>
          <p:cNvSpPr/>
          <p:nvPr/>
        </p:nvSpPr>
        <p:spPr>
          <a:xfrm>
            <a:off x="786240" y="1116000"/>
            <a:ext cx="533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00"/>
                </a:solidFill>
                <a:latin typeface="Arial"/>
              </a:rPr>
              <a:t>Deel de volgende kosten in naar kostenplaa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Slide Number Placeholder 25"/>
          <p:cNvSpPr/>
          <p:nvPr/>
        </p:nvSpPr>
        <p:spPr>
          <a:xfrm>
            <a:off x="655308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9DAF0-7F02-4E9A-99DE-3A929171C6DB}" type="slidenum">
              <a:rPr b="0" lang="nl-NL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95" name=""/>
          <p:cNvGraphicFramePr/>
          <p:nvPr/>
        </p:nvGraphicFramePr>
        <p:xfrm>
          <a:off x="762120" y="2133720"/>
          <a:ext cx="7189560" cy="3886200"/>
        </p:xfrm>
        <a:graphic>
          <a:graphicData uri="http://schemas.openxmlformats.org/drawingml/2006/table">
            <a:tbl>
              <a:tblPr/>
              <a:tblGrid>
                <a:gridCol w="3403440"/>
                <a:gridCol w="1133640"/>
                <a:gridCol w="1523880"/>
                <a:gridCol w="112860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nderwerp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ulp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oste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laat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Zelfstan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ge kosten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laat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oof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oste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laat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osten dranke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osten grondstoffe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osten magazijn personee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fschrijvingskoste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osten administratief personee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osten verkopend personee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osten produktiepersonee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osten onderhoudspersonee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Tijdelijke aanduiding voor datum 1"/>
          <p:cNvSpPr/>
          <p:nvPr/>
        </p:nvSpPr>
        <p:spPr>
          <a:xfrm>
            <a:off x="68580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FA0FC-DF80-4F30-B323-8FC00B126CB5}" type="datetime"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31-07-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Tijdelijke aanduiding voor voettekst 2"/>
          <p:cNvSpPr/>
          <p:nvPr/>
        </p:nvSpPr>
        <p:spPr>
          <a:xfrm>
            <a:off x="2819520" y="6324480"/>
            <a:ext cx="3504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Basisberekeningen voor begrote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Tijdelijke aanduiding voor dianummer 3"/>
          <p:cNvSpPr/>
          <p:nvPr/>
        </p:nvSpPr>
        <p:spPr>
          <a:xfrm>
            <a:off x="655308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2A511-2E21-4828-9BD1-EB328CE61D2A}" type="slidenum"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bcbcb"/>
                </a:solidFill>
                <a:latin typeface="Times New Roman"/>
              </a:rPr>
              <a:t>Les 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3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11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nl-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nl-NL" sz="4400" spc="-1" strike="noStrike">
                <a:solidFill>
                  <a:srgbClr val="ffffff"/>
                </a:solidFill>
                <a:latin typeface="Arial"/>
              </a:rPr>
              <a:t>? Vragen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Slide Number Placeholder 5"/>
          <p:cNvSpPr/>
          <p:nvPr/>
        </p:nvSpPr>
        <p:spPr>
          <a:xfrm>
            <a:off x="655308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8AA45-4D83-4009-ADA0-B5EFC444A754}" type="slidenum">
              <a:rPr b="0" lang="nl-NL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Tijdelijke aanduiding voor datum 3"/>
          <p:cNvSpPr/>
          <p:nvPr/>
        </p:nvSpPr>
        <p:spPr>
          <a:xfrm>
            <a:off x="68580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A8594-07C0-4A03-9BBE-74DD56956C89}" type="datetime"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31-07-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Tijdelijke aanduiding voor voettekst 4"/>
          <p:cNvSpPr/>
          <p:nvPr/>
        </p:nvSpPr>
        <p:spPr>
          <a:xfrm>
            <a:off x="2819520" y="6324480"/>
            <a:ext cx="3504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Basisberekeningen voor begrote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Tijdelijke aanduiding voor dianummer 5"/>
          <p:cNvSpPr/>
          <p:nvPr/>
        </p:nvSpPr>
        <p:spPr>
          <a:xfrm>
            <a:off x="655308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E8F25-C2F6-4E36-B814-866CC1156257}" type="slidenum"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Huiswerk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ak van het bijgeleverde werkboek de volgende vragen: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an hoofdstuk 3: vraag1 t/m 10,12, 13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ver de volgende les opdracht 2 van de oefenstof (leerarrangement) i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ijdelijke aanduiding voor datum 3"/>
          <p:cNvSpPr/>
          <p:nvPr/>
        </p:nvSpPr>
        <p:spPr>
          <a:xfrm>
            <a:off x="68580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F2FF8-B3CA-41DA-9BDF-3909900AD393}" type="datetime"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31-07-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Tijdelijke aanduiding voor voettekst 4"/>
          <p:cNvSpPr/>
          <p:nvPr/>
        </p:nvSpPr>
        <p:spPr>
          <a:xfrm>
            <a:off x="2819520" y="6324480"/>
            <a:ext cx="3504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Basisberekeningen voor begrote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Tijdelijke aanduiding voor dianummer 5"/>
          <p:cNvSpPr/>
          <p:nvPr/>
        </p:nvSpPr>
        <p:spPr>
          <a:xfrm>
            <a:off x="655308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51C60-32CA-4AA9-824A-18E4A4359170}" type="slidenum"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Onderwerpen voor vandaag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rmbedrage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tandaardkostprij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pslagmetho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Kostenplaatsenmetho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ijdelijke aanduiding voor datum 3"/>
          <p:cNvSpPr/>
          <p:nvPr/>
        </p:nvSpPr>
        <p:spPr>
          <a:xfrm>
            <a:off x="68580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81F55-89D0-4E31-A107-B0575EE00C01}" type="datetime"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31-07-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Tijdelijke aanduiding voor voettekst 4"/>
          <p:cNvSpPr/>
          <p:nvPr/>
        </p:nvSpPr>
        <p:spPr>
          <a:xfrm>
            <a:off x="2819520" y="6324480"/>
            <a:ext cx="3504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Basisberekeningen voor begrote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Tijdelijke aanduiding voor dianummer 5"/>
          <p:cNvSpPr/>
          <p:nvPr/>
        </p:nvSpPr>
        <p:spPr>
          <a:xfrm>
            <a:off x="655308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C0D41-6C0E-4529-9FEB-3E11309CE717}" type="slidenum"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Normbedragen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78000" indent="-37800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ij het begroten ga je vaak uit van normbedrage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8000" indent="-37800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t zijn getallen die in een normale (=gemiddelde) situatie gelde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8000" indent="-37800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rmbedragen krijg je via: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52640" indent="-45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lyse v/d boekhouding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eigen ervaring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52640" indent="-45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ranchegegevens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ervaring van anderen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52640" indent="-45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ternet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ervaring van anderen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52640" indent="-45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atting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logisch nadenken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ijdelijke aanduiding voor datum 3"/>
          <p:cNvSpPr/>
          <p:nvPr/>
        </p:nvSpPr>
        <p:spPr>
          <a:xfrm>
            <a:off x="68580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C665E-4AF6-43D2-9E34-9DF4E8336F77}" type="datetime"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31-07-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Tijdelijke aanduiding voor voettekst 4"/>
          <p:cNvSpPr/>
          <p:nvPr/>
        </p:nvSpPr>
        <p:spPr>
          <a:xfrm>
            <a:off x="2819520" y="6324480"/>
            <a:ext cx="3504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Basisberekeningen voor begrote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Tijdelijke aanduiding voor dianummer 5"/>
          <p:cNvSpPr/>
          <p:nvPr/>
        </p:nvSpPr>
        <p:spPr>
          <a:xfrm>
            <a:off x="655308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943F4-617C-44C5-83D0-17B6D61EF34D}" type="slidenum"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oorbeelden van normbedragen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en </a:t>
            </a:r>
            <a:r>
              <a:rPr b="1" lang="en-US" sz="2800" spc="-1" strike="noStrike" u="sng">
                <a:solidFill>
                  <a:srgbClr val="ff3300"/>
                </a:solidFill>
                <a:uFillTx/>
                <a:latin typeface="Arial"/>
                <a:hlinkClick r:id="rId1"/>
              </a:rPr>
              <a:t>supermarkt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maakt gemiddeld € 150 omzet per vierkante meter per week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ieuwbouw kost € 500 per m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 opslagfactor in een dierenspeciaalzaak is 2,2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en bestelauto kost € 0,60 per k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anleg van een snelweg kost 10 miljoen euro per kilomete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en fte kost € 60.000 per jaa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0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0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74" dur="1" fill="hold"/>
                                  <p:tgtEl>
                                    <p:spTgt spid="120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ijdelijke aanduiding voor datum 3"/>
          <p:cNvSpPr/>
          <p:nvPr/>
        </p:nvSpPr>
        <p:spPr>
          <a:xfrm>
            <a:off x="68580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C6D60-8B74-4880-B03B-FBE963CF5A71}" type="datetime"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31-07-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Tijdelijke aanduiding voor voettekst 4"/>
          <p:cNvSpPr/>
          <p:nvPr/>
        </p:nvSpPr>
        <p:spPr>
          <a:xfrm>
            <a:off x="2819520" y="6324480"/>
            <a:ext cx="3504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Basisberekeningen voor begrote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Tijdelijke aanduiding voor dianummer 5"/>
          <p:cNvSpPr/>
          <p:nvPr/>
        </p:nvSpPr>
        <p:spPr>
          <a:xfrm>
            <a:off x="655308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4032D-9D20-4EAA-80F0-43F88C162D56}" type="slidenum"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Normbedragen in productie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en bloemist bindt een boeket in 5 minute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en </a:t>
            </a:r>
            <a:r>
              <a:rPr b="1" lang="en-US" sz="3200" spc="-1" strike="noStrike" u="sng">
                <a:solidFill>
                  <a:srgbClr val="ff3300"/>
                </a:solidFill>
                <a:uFillTx/>
                <a:latin typeface="Arial"/>
                <a:hlinkClick r:id="rId1"/>
              </a:rPr>
              <a:t>rotatiegietmachine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produceert 4000 flessen per uur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Komkommerteelt in glastuinbouw levert 200 stuks per m</a:t>
            </a:r>
            <a:r>
              <a:rPr b="1" lang="en-US" sz="32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per jaar op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en paard eet 3 kilo brok per da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5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8" dur="1" fill="hold"/>
                                  <p:tgtEl>
                                    <p:spTgt spid="12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ijdelijke aanduiding voor datum 3"/>
          <p:cNvSpPr/>
          <p:nvPr/>
        </p:nvSpPr>
        <p:spPr>
          <a:xfrm>
            <a:off x="68580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8E268-245B-49FE-9853-07AA4497794F}" type="datetime"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31-07-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Tijdelijke aanduiding voor voettekst 4"/>
          <p:cNvSpPr/>
          <p:nvPr/>
        </p:nvSpPr>
        <p:spPr>
          <a:xfrm>
            <a:off x="2819520" y="6324480"/>
            <a:ext cx="3504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Basisberekeningen voor begrote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Tijdelijke aanduiding voor dianummer 5"/>
          <p:cNvSpPr/>
          <p:nvPr/>
        </p:nvSpPr>
        <p:spPr>
          <a:xfrm>
            <a:off x="655308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78FE9-9D0D-4124-B468-AD9E4156010A}" type="slidenum"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Afwijkingen t.o.v. de norm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anneer je afwijkt van de norm, werk je efficienter of minder efficient dan gemiddel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ardoor hou je geld over of kom je geld tekort t.o.v. je begrot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6"/>
          <p:cNvSpPr/>
          <p:nvPr/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EF841-AEF4-4FE9-AFAD-D7F581D19F04}" type="datetime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31-07-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Rectangle 7"/>
          <p:cNvSpPr/>
          <p:nvPr/>
        </p:nvSpPr>
        <p:spPr>
          <a:xfrm>
            <a:off x="2819520" y="617220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Basisberekeningen voor begrote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Rectangle 8"/>
          <p:cNvSpPr/>
          <p:nvPr/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F377E-D586-4348-9D81-E95C27E47035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Kostprijsberekening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20574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ijdelijke aanduiding voor datum 3"/>
          <p:cNvSpPr/>
          <p:nvPr/>
        </p:nvSpPr>
        <p:spPr>
          <a:xfrm>
            <a:off x="68580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09002-2A2D-454E-B6D6-9FBB424C348B}" type="datetime"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31-07-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Tijdelijke aanduiding voor voettekst 4"/>
          <p:cNvSpPr/>
          <p:nvPr/>
        </p:nvSpPr>
        <p:spPr>
          <a:xfrm>
            <a:off x="2819520" y="6324480"/>
            <a:ext cx="3504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Basisberekeningen voor begrote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Tijdelijke aanduiding voor dianummer 5"/>
          <p:cNvSpPr/>
          <p:nvPr/>
        </p:nvSpPr>
        <p:spPr>
          <a:xfrm>
            <a:off x="655308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7CF60-8DCE-4D6F-901C-D389D49E0E8E}" type="slidenum"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Standaardkostprij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Alle</a:t>
            </a:r>
            <a:r>
              <a:rPr b="1" lang="nl-NL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noodzakelijke of toegestane kosten per eenheid produc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hoeveelheid grondstoffen  X  standaardprijzen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Nodig voor</a:t>
            </a:r>
            <a:r>
              <a:rPr b="1" lang="nl-NL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: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kostenbeheersing (is vóórcalculatie)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bepalen van budgetten (raming v. kosten)  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prijsbepaling producten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uiterste prijs waartegen men desnoods mag verkopen zonder verlies (=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nl-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grensprij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eraar de Jong</dc:creator>
  <dc:description/>
  <dc:language>en-US</dc:language>
  <cp:lastModifiedBy>Geraar de Jong</cp:lastModifiedBy>
  <dcterms:modified xsi:type="dcterms:W3CDTF">2013-01-21T22:10:57Z</dcterms:modified>
  <cp:revision>19</cp:revision>
  <dc:subject/>
  <dc:title>PowerPoint-presentatie</dc:title>
</cp:coreProperties>
</file>