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9E7-EDA6-419C-95EA-E4639E7F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869-977E-4875-B7C5-5FCB7F16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8A3-ACEF-496C-92F5-83B01B77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23D-0481-4507-907B-14D8986A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3B4-5406-4C79-A017-6204F44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9E-D906-484E-8484-4E13A024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128-6E55-4399-968E-EAD9136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566-4984-4C36-AE9D-CBC933E8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217-36F6-4D8A-98AA-057037E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74B-7E24-42BE-AE5B-A367128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464-1BEA-4F6B-B4BF-568D532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615-8454-4A80-ACC5-6C0E2C6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FAA9-55C1-4889-9D58-7E82EA5D72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Flag_of_the_United_States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nl.wikipedia.org/wiki/Bestand:Flag_of_the_Soviet_Union.sv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ritish_Empire_1921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indfully.org/Plastic/Napalm-Recycle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e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 -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vloedssferen i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d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70px-Flag_of_the_United_Sta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645000"/>
            <a:ext cx="257184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300px-Flag_of_the_Soviet_Un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573360"/>
            <a:ext cx="2857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tatuu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partij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schaupa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pit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-markt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 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VS-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kozen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afhankelijke rec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heid  van pers, meningsuiting, vereniging en vergadering, gods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gewezen 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benoemd door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censuur, geen kritiek op partij, alleen organisaties die door c.p. zijn goedgekeurd, godsdienst verb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 en Marshall-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van het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 en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uman = president van de V.S. tussen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5 e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 = minister van buitenland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zaken van V.S. tussen 1947 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umanleer = Truman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 = V.S. beloven ieder land, dat vecht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tegen het communisme te helpen tegen zowel tegenstanders uit  eigen land als een ande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ruman-sm"/>
          <p:cNvPicPr/>
          <p:nvPr/>
        </p:nvPicPr>
        <p:blipFill>
          <a:blip r:embed="rId1"/>
          <a:stretch/>
        </p:blipFill>
        <p:spPr>
          <a:xfrm>
            <a:off x="5292720" y="333360"/>
            <a:ext cx="27147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-plan = Marshall-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et verwoeste Europa opbouw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dmv Amerikaanse hulp, 1948-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50px-George_Catlett_Marshall,_general_of_the_US_army"/>
          <p:cNvPicPr/>
          <p:nvPr/>
        </p:nvPicPr>
        <p:blipFill>
          <a:blip r:embed="rId1"/>
          <a:stretch/>
        </p:blipFill>
        <p:spPr>
          <a:xfrm>
            <a:off x="3348000" y="3860640"/>
            <a:ext cx="2381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e doelen 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een welvarend Europa kunnen de  V.S. veel meer producten verkopen, dus meer geld verd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mensen in Europa niet in armoede leven, zullen ze ook niet snel het communisme gaan steu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03868903_c79ae45ac6"/>
          <p:cNvPicPr/>
          <p:nvPr/>
        </p:nvPicPr>
        <p:blipFill>
          <a:blip r:embed="rId1"/>
          <a:stretch/>
        </p:blipFill>
        <p:spPr>
          <a:xfrm>
            <a:off x="5499000" y="4503600"/>
            <a:ext cx="3645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latie Trumanleer - Marshall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ook een middel om de verspreiding van het communisme tegen te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dus een voorbeeld van de Trumanleer in de prakt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 van de Blokkade van Berlij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8 - 19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in wilde het westen dwingen om West-Berlijn te verlaten en over te dragen aan de Sovjet-Un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-Berlijn lag in de oostelijke bezettingszone van de Sovjet-U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rosinenbomber"/>
          <p:cNvPicPr/>
          <p:nvPr/>
        </p:nvPicPr>
        <p:blipFill>
          <a:blip r:embed="rId1"/>
          <a:stretch/>
        </p:blipFill>
        <p:spPr>
          <a:xfrm>
            <a:off x="2700360" y="4275000"/>
            <a:ext cx="28796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loop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okkade heeft geen effect door de luchtbrug van het westen.                           Na elf maanden heft Stalin de Blokkade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osinenbomber"/>
          <p:cNvPicPr/>
          <p:nvPr/>
        </p:nvPicPr>
        <p:blipFill>
          <a:blip r:embed="rId1"/>
          <a:stretch/>
        </p:blipFill>
        <p:spPr>
          <a:xfrm>
            <a:off x="2195640" y="3500280"/>
            <a:ext cx="3600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BRD = We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DDR = Oo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NAVO = we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5 oprichting Warschau-Pact = oo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ommunistische revolutie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0/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Kore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pstand arbeiders in de D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ongaarse op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0/7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Vietnam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81360"/>
            <a:ext cx="272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uw van de Berlijnse M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Cuba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aagse 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79/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vjet inval in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sjechische jongeren omringen sovjettanks.   "/>
          <p:cNvPicPr/>
          <p:nvPr/>
        </p:nvPicPr>
        <p:blipFill>
          <a:blip r:embed="rId1"/>
          <a:stretch/>
        </p:blipFill>
        <p:spPr>
          <a:xfrm>
            <a:off x="928800" y="3857760"/>
            <a:ext cx="4286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log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ea-, Vietnam- en Afghanistan-oorlog typerend voor Koude Oor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log tussen kapitalisme en commun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directe strijd tussen Amerikaanse en Russische sold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 of Amerikaanse of Russische soldaten betrok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andere land betrokken door bv. financiële steun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Wapen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wapeningsrace tussen de Sovjet-Unie en de Verenigd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bo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stofb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ev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atoombom_hiroshima_groot"/>
          <p:cNvPicPr/>
          <p:nvPr/>
        </p:nvPicPr>
        <p:blipFill>
          <a:blip r:embed="rId1"/>
          <a:stretch/>
        </p:blipFill>
        <p:spPr>
          <a:xfrm>
            <a:off x="4859280" y="2565360"/>
            <a:ext cx="286560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el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van een ‘balance of terror’ = machtsevenwicht gebaseerd op afschrikk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zijn bang om kernwapens te gebruiken uit angst voor een totale vernietiging van zichzelf en de wer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delen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 aanwezig voor totale vernietiging van de wereld, als oorlog uitbree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mage035"/>
          <p:cNvPicPr/>
          <p:nvPr/>
        </p:nvPicPr>
        <p:blipFill>
          <a:blip r:embed="rId1"/>
          <a:stretch/>
        </p:blipFill>
        <p:spPr>
          <a:xfrm>
            <a:off x="4356000" y="3068640"/>
            <a:ext cx="272412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Einde Koude Oor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Sovjet-Unie                       begin jaren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uderde machines + geen vrije markt- economie                                                Tekort aan consumptiegoederen +          Lage productiviteit werkne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apenwedloop met de V.S. wordt onbetaal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orlog in Afghanistan kost veel 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vrijheid van meningsu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916360" y="234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estrojka = Economische hervorm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plan- naar markte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snost = politieke hervorm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vrijheid voor mensen en organisaties   bv. vrijheid van menings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738036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8604360" y="5445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gorbi"/>
          <p:cNvPicPr/>
          <p:nvPr/>
        </p:nvPicPr>
        <p:blipFill>
          <a:blip r:embed="rId1"/>
          <a:stretch/>
        </p:blipFill>
        <p:spPr>
          <a:xfrm>
            <a:off x="3564000" y="2997360"/>
            <a:ext cx="14428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rbatsjov gaat nucleaire ontwapeningsbesprekingen aan met Amerikaanse president Reagan in Reykjavik (1986)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einde Koud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politiek Gorbatsj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economie verandert in vrije markt- economie          groeiende werkloos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 tussen arm en rijk gro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lijke kritiek op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eisen inspraak en democra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P. verliest haar macht en controle over SU en 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nde Communisme en Warschau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 valt uit elk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62728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nde Communisme in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 niet meer bereid o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landen militair t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en: einde communis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e macht van communistische partije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n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sjecho-Slowak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l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emenie (gew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vjet-Un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ontent_berlin_wall"/>
          <p:cNvPicPr/>
          <p:nvPr/>
        </p:nvPicPr>
        <p:blipFill>
          <a:blip r:embed="rId1"/>
          <a:stretch/>
        </p:blipFill>
        <p:spPr>
          <a:xfrm>
            <a:off x="5076720" y="321300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van Koude oorlog: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and van oorlog nog vrede waarin de vijandige partijen alle beschikbare middelen- economische, politieke, ideologische- gebruiken behalve direct wapengew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ak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na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tussen de VS en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door tegenstelling tussen kapitalisme en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willen hun ideologie verspreiden over de werel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Zij willen dus beiden het machtigste land ter wereld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erentie van J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ebruari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urchill (GB), Roosevelt (VS),   Stalin (S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tsland na oorlog verdeeld in bezettings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a verdeeld in invloedssferen door SU en 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richting Verenigde N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6156360" y="260280"/>
            <a:ext cx="17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invloedss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ieden waar Verenigde Staten of Sovjet-Unie veel invloed hebben en min of meer bepalen, wat daar gebeu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5:19Z</dcterms:created>
  <dc:creator>Cursist</dc:creator>
  <dc:description/>
  <dc:language>en-US</dc:language>
  <cp:lastModifiedBy>ottj</cp:lastModifiedBy>
  <dcterms:modified xsi:type="dcterms:W3CDTF">2013-10-08T08:31:28Z</dcterms:modified>
  <cp:revision>37</cp:revision>
  <dc:subject/>
  <dc:title>De Koude Oorlog</dc:title>
</cp:coreProperties>
</file>