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9F7-502A-4F2C-BF21-6A7EE6B8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FA0-D12F-46B7-A216-12F16A71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C27-28EB-4BF5-B2A5-42163E0B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DBC-B39D-45F5-8DD8-A8DBD168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F60-D5E9-48C7-A9A9-DB1436BF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75E-D1ED-4CBB-8A50-24357FE7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9F7-F9B5-4A04-8145-216F39C5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AB90-CDD4-4A00-896B-856376F9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A5B-9E04-4DDB-AC27-A0D93B61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FDA-DAA5-40F5-9823-E957C9DE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F7C-10BF-4345-BE0D-DF129712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176-458C-4F72-BAB2-D288D78B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EF11-78AA-4DD4-B4EF-6FA93653A9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947 en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politie werd gestuurd, maar het le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noemt het politionele acties, omdat zij Indonesië als deel van NL zien, en bij binnenlandse problemen de politie de orde moet hers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leger is er om het land tegen buitenlandse vijanden te bescher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lfstandig Indones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karno president 1945-1966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litaire staatsgreep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harto president   1966-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den willen Indonesische eenheid bevorderen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rden soms agressieve buitenlandse politiek om aandacht van binnenlandse problemen af t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z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5/49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(NL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a  (G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etnam  (F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ypte (G-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d-Afrika met als laatst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gerije (F) na bloedig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.a. Soedan/Ghana/Nigeria (G-B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ngo (B)     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ola/Mozambique 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landen sluiten zich niet aan bij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pitalisten olv V.S. 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ten olv S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vormen Derde Wereld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begrip krijgt al snel slechte naam door armoede en onderontwikkel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in Afrika, Azië en Latijns-Amer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blemen 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wegen en voorzi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grondstofprijz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us weinig opbreng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 bes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economische invloed van het We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Ma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49-19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stische revolutie olv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o Zedong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standers werden uitgeroei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meenschappelijke boerderijen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5-jarenplannen voor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nen van Ma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 Sprong Voorwaarts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ergrote boerderijen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slukk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hongersn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ulturele Revoluti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ina wordt totalitaire staat doo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zet van jongeren en het Rode Boekj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Deng Xiaoping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76 - 19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van De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privéonderne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eren mogen leven van eigen opbreng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landse bedrijven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economische groei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ina wordt in jaren 90 economische supermach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l grote verschillen arm en r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e mengvorm van communisme en 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g steeds geen democrati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communistische partij toegestaa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udentenprotest voor democrati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ig neerges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rika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 omdat bij dekolonisatie geen rekening werd gehouden met leefgebieden van stamm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s meerdere stammen in 1 lan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Nigeria, Soedan, Rwanda, Ang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e landen geen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economie: veel landen afhankelijk van 1 exportproduc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kwets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finitie = onafhankelijk worden v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begint na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met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-Brittannië, Frankrijk,Nederland, België en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350px-British_Empire_1921"/>
          <p:cNvPicPr/>
          <p:nvPr/>
        </p:nvPicPr>
        <p:blipFill>
          <a:blip r:embed="rId1"/>
          <a:stretch/>
        </p:blipFill>
        <p:spPr>
          <a:xfrm>
            <a:off x="5508720" y="3068640"/>
            <a:ext cx="3333600" cy="1542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300720" y="4869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Britse kolon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uid-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e minderheid tot 1990 aan d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=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 en zwart strikt gescheiden  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nen, bussen,parken,sch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verzet (ANC) en internationale protesten en boycotten einde aan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C wint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rije verkiezing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lson Mandela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warte president van Zuid-Afrika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andela2"/>
          <p:cNvPicPr/>
          <p:nvPr/>
        </p:nvPicPr>
        <p:blipFill>
          <a:blip r:embed="rId1"/>
          <a:stretch/>
        </p:blipFill>
        <p:spPr>
          <a:xfrm>
            <a:off x="2124000" y="5373720"/>
            <a:ext cx="981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scholing inheemse bevolking komen zij in contact met westerse ideeë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dit leidt to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ational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streven naar onafhankelijkhe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panse veroveringen geven Aziatische volkeren zelfvertrouw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-B, F en NL komen arm en verzwakt ui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uwe wereldmachten V.S. en S.U. zijn tegen kolonialis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-Ind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 in Nederlands-Indië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richting PNI door Soekarno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streeft naar onafhankelijkhei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veroordeelt leiders PNI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naar strafkampen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oekarno"/>
          <p:cNvPicPr/>
          <p:nvPr/>
        </p:nvPicPr>
        <p:blipFill>
          <a:blip r:embed="rId1"/>
          <a:stretch/>
        </p:blipFill>
        <p:spPr>
          <a:xfrm>
            <a:off x="6659640" y="3068640"/>
            <a:ext cx="1911240" cy="2730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6927840" y="5969160"/>
            <a:ext cx="15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Soeka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gdijgeda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se regering is tegen onafhankelijkhei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rs zijn niet ontwikkeld genoeg om zelf hun land te besturen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s-Indië in de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verovert Nederlands-Indië vanwege de grond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gevangen gezet in Jappenkamp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vrijgelat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hoopt zo op steun van Indonesische 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ol Soekarno in 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bevrijdt Indonesische bevolking niet, 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Soekarno en Hatta werken samen met Japanse bezetter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 hoopt zo onafhankelijkheid Indonesië te verkrij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beschouwt Soekarno en Hatta als collabor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afhank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 Japanse overgave roepen Soekarno en Hatta onafhankelijkheid uit op 17 augustus 1945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donesi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stuurt 100.000 dienstplichtige militairen om gezag te herstel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en Indonesië onderhandel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chillen zijn te gro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wil Verenigde Staten van Indonesië, dat lid blijft van Koninkrijk der NL (federale st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wil Republiek als onafhankelijke eenheid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listen = PNI beginnen vrijheidsstrijd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reageert met 2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onele ac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NL stuurt leger in juni 1947 en december 1948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verovert veel gebied en leiders PNI worden gevangen, maar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kritiek op NL door V.S. en Verenigde  Na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.S. dreigt Marshall-hulp te stopp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geeft toe en Juliana teken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evereiniteitsoverdrach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op 27 december 1949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is onafhan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18:47Z</dcterms:created>
  <dc:creator>OTTJ</dc:creator>
  <dc:description/>
  <dc:language>en-US</dc:language>
  <cp:lastModifiedBy>ottj</cp:lastModifiedBy>
  <cp:lastPrinted>2011-10-13T09:26:25Z</cp:lastPrinted>
  <dcterms:modified xsi:type="dcterms:W3CDTF">2012-10-16T08:30:12Z</dcterms:modified>
  <cp:revision>18</cp:revision>
  <dc:subject/>
  <dc:title>Dekolonisatie</dc:title>
</cp:coreProperties>
</file>