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607-991F-44E9-95AF-27A52C07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A5E-D7AE-4787-A0D8-C3D8881F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2F5-FD2D-466D-A295-7A18292E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0110-BBAE-44F5-AAAD-BC7C1E9B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D57-DA1C-4E3D-BFFE-5ED2FE2F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F1F-657F-4B82-B0D5-072B9C78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4EA-9DF9-4F69-B9A2-4A06FABA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A32-E7F3-4125-9552-57F47D47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B6A-78B0-4C87-B65A-D84B55E8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BBD3-5E7C-458D-A7D3-8733039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28A-C6A4-4A3F-80D0-3EBAF0DB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5479-7AAC-44E9-A20A-AE50C7C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E9B-DE6B-4CA2-8A8C-7C125F7FC7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Flag_of_the_United_States.svg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nl.wikipedia.org/wiki/Bestand:Flag_of_the_Soviet_Union.sv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ritish_Empire_1921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indfully.org/Plastic/Napalm-Recycle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e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 - 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vloedssferen i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uid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270px-Flag_of_the_United_Stat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645000"/>
            <a:ext cx="2571840" cy="1352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300px-Flag_of_the_Soviet_Un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573360"/>
            <a:ext cx="2857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mun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ctatuu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partijstel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rschaupac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pit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-marktecon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dere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e 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genstellingen VS-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enigd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art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kozen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afhankelijke rech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heid  van pers, meningsuiting, vereniging en vergadering, godsdi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gewezen le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chters benoemd door communist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censuur, geen kritiek op partij, alleen organisaties die door c.p. zijn goedgekeurd, godsdienst verb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 en Marshall-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rijding van het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 en Marsh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uman = president van de V.S. tussen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5 e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 = minister van buitenland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zaken van V.S. tussen 1947 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19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umanl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umanleer = Trumandoct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 = V.S. beloven ieder land, dat vecht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tegen het communisme te helpen tegen zowel tegenstanders uit  eigen land als een ande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ruman-sm"/>
          <p:cNvPicPr/>
          <p:nvPr/>
        </p:nvPicPr>
        <p:blipFill>
          <a:blip r:embed="rId1"/>
          <a:stretch/>
        </p:blipFill>
        <p:spPr>
          <a:xfrm>
            <a:off x="5292720" y="333360"/>
            <a:ext cx="271476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-plan = Marshall-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et verwoeste Europa opbouw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dmv Amerikaanse hulp, 1948-19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50px-George_Catlett_Marshall,_general_of_the_US_army"/>
          <p:cNvPicPr/>
          <p:nvPr/>
        </p:nvPicPr>
        <p:blipFill>
          <a:blip r:embed="rId1"/>
          <a:stretch/>
        </p:blipFill>
        <p:spPr>
          <a:xfrm>
            <a:off x="3348000" y="3860640"/>
            <a:ext cx="2381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e doelen Marshall-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een welvarend Europa kunnen de  V.S. veel meer producten verkopen, dus meer geld verdie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s de mensen in Europa niet in armoede leven, zullen ze ook niet snel het communisme gaan steun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203868903_c79ae45ac6"/>
          <p:cNvPicPr/>
          <p:nvPr/>
        </p:nvPicPr>
        <p:blipFill>
          <a:blip r:embed="rId1"/>
          <a:stretch/>
        </p:blipFill>
        <p:spPr>
          <a:xfrm>
            <a:off x="5499000" y="4503600"/>
            <a:ext cx="36450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latie Trumanleer - Marshall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ook een middel om de verspreiding van het communisme tegen te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rshallplan is dus een voorbeeld van de Trumanleer in de prakt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 van de Blokkade van Berlij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8 - 19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in wilde het westen dwingen om West-Berlijn te verlaten en over te dragen aan de Sovjet-Un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st-Berlijn lag in de oostelijke bezettingszone van de Sovjet-Un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rosinenbomber"/>
          <p:cNvPicPr/>
          <p:nvPr/>
        </p:nvPicPr>
        <p:blipFill>
          <a:blip r:embed="rId1"/>
          <a:stretch/>
        </p:blipFill>
        <p:spPr>
          <a:xfrm>
            <a:off x="2700360" y="4275000"/>
            <a:ext cx="28796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loop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lokkade heeft geen effect door de luchtbrug van het westen.                           Na elf maanden heft Stalin de Blokkade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rosinenbomber"/>
          <p:cNvPicPr/>
          <p:nvPr/>
        </p:nvPicPr>
        <p:blipFill>
          <a:blip r:embed="rId1"/>
          <a:stretch/>
        </p:blipFill>
        <p:spPr>
          <a:xfrm>
            <a:off x="2195640" y="3500280"/>
            <a:ext cx="36003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an de Blokk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BRD = We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DDR = Oost-Duit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 oprichting NAVO = we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5 oprichting Warschau-Pact = oostelijke verdedigings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ommunistische revolutie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0/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Kore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Opstand arbeiders in de D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ongaarse op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0/7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e Vietnam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Bekijk de afbeelding op ware groot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4581360"/>
            <a:ext cx="272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ouw van de Berlijnse M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Cuba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8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aagse L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79/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vjet inval in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sjechische jongeren omringen sovjettanks.   "/>
          <p:cNvPicPr/>
          <p:nvPr/>
        </p:nvPicPr>
        <p:blipFill>
          <a:blip r:embed="rId1"/>
          <a:stretch/>
        </p:blipFill>
        <p:spPr>
          <a:xfrm>
            <a:off x="928800" y="3857760"/>
            <a:ext cx="4286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logen in 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rea-, Vietnam- en Afghanistan-oorlog typerend voor Koude Oor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log tussen kapitalisme en commun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directe strijd tussen Amerikaanse en Russische solda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 of Amerikaanse of Russische soldaten betrok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andere land betrokken door bv. financiële steun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Wapen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wapeningsrace tussen de Sovjet-Unie en de Verenigde St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oombo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erstofb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imteva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atoombom_hiroshima_groot"/>
          <p:cNvPicPr/>
          <p:nvPr/>
        </p:nvPicPr>
        <p:blipFill>
          <a:blip r:embed="rId1"/>
          <a:stretch/>
        </p:blipFill>
        <p:spPr>
          <a:xfrm>
            <a:off x="4859280" y="2565360"/>
            <a:ext cx="286560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el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van een ‘balance of terror’ = machtsevenwicht gebaseerd op afschrikk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zijn bang om kernwapens te gebruiken uit angst voor een totale vernietiging van zichzelf en de wer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delen bewapeningswed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aar aanwezig voor totale vernietiging van de wereld, als oorlog uitbreek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ge ko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image035"/>
          <p:cNvPicPr/>
          <p:nvPr/>
        </p:nvPicPr>
        <p:blipFill>
          <a:blip r:embed="rId1"/>
          <a:stretch/>
        </p:blipFill>
        <p:spPr>
          <a:xfrm>
            <a:off x="4356000" y="3068640"/>
            <a:ext cx="272412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Einde Koude Oorlo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Sovjet-Unie                       begin jaren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uderde machines + geen vrije markt- economie                                                Tekort aan consumptiegoederen +          Lage productiviteit werkne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apenwedloop met de V.S. wordt onbetaal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orlog in Afghanistan kost veel g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vrijheid van meningsu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2916360" y="234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estrojka = Economische hervorm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plan- naar marktec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lasnost = politieke hervorm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vrijheid voor mensen en organisaties   bv. vrijheid van meningsu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7380360" y="486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8604360" y="544500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gorbi"/>
          <p:cNvPicPr/>
          <p:nvPr/>
        </p:nvPicPr>
        <p:blipFill>
          <a:blip r:embed="rId1"/>
          <a:stretch/>
        </p:blipFill>
        <p:spPr>
          <a:xfrm>
            <a:off x="3564000" y="2997360"/>
            <a:ext cx="144288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anderingen onder Gorbatsjov, 198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rbatsjov gaat nucleaire ontwapeningsbesprekingen aan met Amerikaanse president Reagan in Reykjavik (1986)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einde Koud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politiek Gorbatsj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tseconomie verandert in vrije markt- economie          groeiende werkloos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 tussen arm en rijk gro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enlijke kritiek op c.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eisen inspraak en democrat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.P. verliest haar macht en controle over SU en Oost-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nde Communisme en Warschau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-Unie valt uit elk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2627280" y="220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nde Communisme in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ost-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 niet meer bereid o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landen militair t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en: einde communis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e macht van communistische partijen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89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n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sjecho-Slowak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lgar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emenie (gew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vjet-Un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content_berlin_wall"/>
          <p:cNvPicPr/>
          <p:nvPr/>
        </p:nvPicPr>
        <p:blipFill>
          <a:blip r:embed="rId1"/>
          <a:stretch/>
        </p:blipFill>
        <p:spPr>
          <a:xfrm>
            <a:off x="5076720" y="3213000"/>
            <a:ext cx="3810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van Koude oorlog: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and van oorlog nog vrede waarin de vijandige partijen alle beschikbare middelen- economische, politieke, ideologische- gebruiken behalve direct wapengewe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ak Koude Oor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na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tussen de VS en de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ntrouwen door tegenstelling tussen kapitalisme en commun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 landen willen hun ideologie verspreiden over de werel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Zij willen dus beiden het machtigste land ter wereld wo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erentie van J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ebruari 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urchill (GB), Roosevelt (VS),   Stalin (S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itsland na oorlog verdeeld in bezettings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a verdeeld in invloedssferen door SU en 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richting Verenigde N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talin"/>
          <p:cNvPicPr/>
          <p:nvPr/>
        </p:nvPicPr>
        <p:blipFill>
          <a:blip r:embed="rId1"/>
          <a:stretch/>
        </p:blipFill>
        <p:spPr>
          <a:xfrm>
            <a:off x="6156360" y="260280"/>
            <a:ext cx="17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finitie invloedssf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ieden waar Verenigde Staten of Sovjet-Unie veel invloed hebben en min of meer bepalen, wat daar gebeu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5:19Z</dcterms:created>
  <dc:creator>Cursist</dc:creator>
  <dc:description/>
  <dc:language>en-US</dc:language>
  <cp:lastModifiedBy>ottj</cp:lastModifiedBy>
  <dcterms:modified xsi:type="dcterms:W3CDTF">2013-10-08T08:31:28Z</dcterms:modified>
  <cp:revision>37</cp:revision>
  <dc:subject/>
  <dc:title>De Koude Oorlog</dc:title>
</cp:coreProperties>
</file>