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10E-F8B6-4380-81CF-9B98336F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5FC-312C-493A-917A-64A6E093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648-1A77-4D46-8DCC-DE242954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C0D-9C43-462B-90C9-D32F77EE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332-37A8-4DD1-BF68-9CB0FDC3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AE4-62D9-45D1-AD79-8EA88BCC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5ED-F42A-4754-9390-DC2610A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93A-CD97-478C-8F1E-999C31AE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8C5-EA08-428C-8FD2-60065BB1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4AD7-FC7C-48C9-924F-050414AA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0CA-D462-41EC-8550-7AFF2C2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EB7-6F14-4B90-86BA-33C72E6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049C-F1EF-47E5-BE53-8F7C9A7410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politie werd gestuurd, maar het l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noemt het politionele acties, omdat zij Indonesië als deel van NL zien, en bij binnenlandse problemen de politie de orde moet hers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leger is er om het land tegen buitenlandse vijanden te bescher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lfstandig Indones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karno president 1945-1966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staatsgreep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harto president   1966-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den willen Indonesische eenheid bevorderen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rden soms agressieve buitenlandse politiek om aandacht van binnenlandse problemen af t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z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5/49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(NL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ia  (G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5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etnam  (F) na bloedig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 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ypte (G-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ord-Afrika met als laatst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gerije (F) na bloedige 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.a. Soedan/Ghana/Nigeria (G-B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ngo (B)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gola/Mozambique (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landen sluiten zich niet aan bij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pitalisten olv V.S. 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ten olv S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rmen Derde Wereld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begrip krijgt al snel slechte naam door armoede en onderontwik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in Afrika, Azië en Latijns-Amer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blemen Derde Wer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wegen en voorzi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grondstofprijz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dus weinig opbreng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economische invloed van het 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Mao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9-19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mmunistische revolutie olv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o Zedong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standers werden uitgeroeid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meenschappelijke boerderijen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5-jarenplannen voor indust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nen van Ma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8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te Sprong Voorwaarts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grote boerderijen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slukk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hongersn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6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ulturele Revoluti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ina wordt totalitaire staat doo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zet van jongeren en het Rode Boekj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hina onder Deng Xiaoping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76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De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privéonderne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ren mogen leven van eigen opbreng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itenlandse bedrijven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economische groei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ina wordt in jaren 90 economische supermach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l grote verschillen arm en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e mengvorm van communisme en 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g steeds geen democra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communistische partij toegestaan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dentenprotest voor democra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ig neerge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rika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burgeroorlogen omdat bij dekolonisatie geen rekening werd gehouden met leefgebieden van stamm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s meerdere stammen in 1 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Nigeria, Soedan, Rwanda, Ang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e landen geen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chte economie: veel landen afhankelijk van 1 exportproduc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kwets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finitie = onafhankelijk worden v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begint na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nden met kolonië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ot-Brittannië, Frankrijk,Nederland, België en Portu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50px-British_Empire_1921"/>
          <p:cNvPicPr/>
          <p:nvPr/>
        </p:nvPicPr>
        <p:blipFill>
          <a:blip r:embed="rId1"/>
          <a:stretch/>
        </p:blipFill>
        <p:spPr>
          <a:xfrm>
            <a:off x="5508720" y="3068640"/>
            <a:ext cx="3333600" cy="1542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300720" y="4869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Britse kolon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uid-Afr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e minderheid tot 1990 aan d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=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lank en zwart strikt gescheiden  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nen, bussen,parken,sch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verzet (ANC) en internationale protesten en boycotten einde aan apartheid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C wint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rije verkiezing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lson Mandela 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warte president van Zuid-Afrika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mandela2"/>
          <p:cNvPicPr/>
          <p:nvPr/>
        </p:nvPicPr>
        <p:blipFill>
          <a:blip r:embed="rId1"/>
          <a:stretch/>
        </p:blipFill>
        <p:spPr>
          <a:xfrm>
            <a:off x="2124000" y="5373720"/>
            <a:ext cx="981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dekolo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scholing inheemse bevolking komen zij in contact met westerse ideeë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dit leidt to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tionalism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streven naar onafhankelijkhe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panse veroveringen geven Aziatische volkeren zelfvertrouw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-B, F en NL komen arm en verzwakt ui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uwe wereldmachten V.S. en S.U. zijn tegen kolonialis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-Indi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 in Nederlands-Indië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PNI door Soekarno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streeft naar onafhankelijkhei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veroordeelt leiders PNI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naar strafkampen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oekarno"/>
          <p:cNvPicPr/>
          <p:nvPr/>
        </p:nvPicPr>
        <p:blipFill>
          <a:blip r:embed="rId1"/>
          <a:stretch/>
        </p:blipFill>
        <p:spPr>
          <a:xfrm>
            <a:off x="6659640" y="3068640"/>
            <a:ext cx="1911240" cy="273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6927840" y="5969160"/>
            <a:ext cx="15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Soeka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gdijgeda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regering is tegen onafhankelijkhei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rs zijn niet ontwikkeld genoeg om zelf hun land te besturen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s-Indië i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verovert Nederlands-Indië vanwege de grondsto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gevangen gezet in Jappenkamp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vrijgelaten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hoopt zo op steun van Indonesisch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ol Soekarno in 2</a:t>
            </a:r>
            <a:r>
              <a:rPr b="0" lang="nl-NL" sz="4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Wereldoor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bevrijdt Indonesische bevolking niet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-leiders Soekarno en Hatta werken samen met Japanse bezetter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 hoopt zo onafhankelijkheid Indonesië te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beschouwt Soekarno en Hatta als collaborat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afhank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 Japanse overgave roepen Soekarno en Hatta onafhankelijkheid uit op 17 augustus 1945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Indonesi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stuurt 100.000 dienstplichtige militairen om gezag te herste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en Indonesië onderhandel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chillen zijn te gro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wil Verenigde Staten van Indonesië, dat lid blijft van Koninkrijk der NL (federale st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il Republiek als onafhankelijke eenheid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listen = PNI beginnen vrijheidsstrijd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reageert met 2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onele ac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NL stuurt leger in juni 1947 en december 1948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verovert veel gebied en leiders PNI worden gevangen, maar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kritiek op NL door V.S. en Verenigde  Naties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.S. dreigt Marshall-hulp te stoppen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geeft toe en Juliana tekent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evereiniteitsoverdrach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op 27 december 1949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is onafhank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18:47Z</dcterms:created>
  <dc:creator>OTTJ</dc:creator>
  <dc:description/>
  <dc:language>en-US</dc:language>
  <cp:lastModifiedBy>ottj</cp:lastModifiedBy>
  <cp:lastPrinted>2011-10-13T09:26:25Z</cp:lastPrinted>
  <dcterms:modified xsi:type="dcterms:W3CDTF">2012-10-16T08:30:12Z</dcterms:modified>
  <cp:revision>18</cp:revision>
  <dc:subject/>
  <dc:title>Dekolonisatie</dc:title>
</cp:coreProperties>
</file>