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764E-83ED-4603-A741-B3C976EF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D6F5-2504-4A95-B380-B6742DC4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A758-291C-4616-B9B8-EBD5F4D1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E554-4714-49F8-A13B-BE35670B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DAEC-8353-4005-A8C6-5CE644EF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C76D-AA83-4C94-B119-5CB7ADA7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5450-BEF7-45E6-9596-DCB3616B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E411-F112-4989-9B5E-620E028F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078E-F8D1-4BB4-9652-7449AC3A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00D8-663D-410D-A1CA-2E33CC16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D07A-FEA0-444D-A6FD-C53CAE5C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C89C-8BC8-4070-9E47-E65228A7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5133-861D-449A-AF99-56325DDB8C5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.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litionele acties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947 en 19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politie werd gestuurd, maar het le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noemt het politionele acties, omdat zij Indonesië als deel van NL zien, en bij binnenlandse problemen de politie de orde moet hers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leger is er om het land tegen buitenlandse vijanden te bescher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elfstandig Indonesi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ekarno president 1945-1966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litaire staatsgreep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eharto president   1966-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den willen Indonesische eenheid bevorderen 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erden soms agressieve buitenlandse politiek om aandacht van binnenlandse problemen af te 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 Azi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5/49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onesië (NL) na bloedig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7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ia  (G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5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etnam  (F) na bloedig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 Af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2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ypte (G-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rd-Afrika met als laatst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6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gerije (F) na bloedige 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.a. Soedan/Ghana/Nigeria (G-B)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ngo (B)       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gola/Mozambique 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rde Wer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uwe landen sluiten zich niet aan bij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pitalisten olv V.S.  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ten olv S.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vormen Derde Wereld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begrip krijgt al snel slechte naam door armoede en onderontwikkeling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nden in Afrika, Azië en Latijns-Amer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blemen Derde Wer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bevo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chte wegen en voorzi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ge grondstofprijzen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dus weinig opbreng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cht bes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 burgeroorl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economische invloed van het We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hina onder Ma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1949-197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stische revolutie olv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o Zedong 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egenstanders werden uitgeroeid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meenschappelijke boerderijen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5-jarenplannen voor indust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nnen van Ma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te Sprong Voorwaarts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upergrote boerderijen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slukkin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hongersn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ulturele Revolutie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hina wordt totalitaire staat doo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zet van jongeren en het Rode Boekj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hina onder Deng Xiaoping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1976 - 199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 van De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privéondernem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eren mogen leven van eigen opbreng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itenlandse bedrijven in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ultaat = economische groei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ina wordt in jaren 90 economische supermacht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wel grote verschillen arm en r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onomie mengvorm van communisme en kapit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g steeds geen democratie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communistische partij toegestaan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udentenprotest voor democrati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ig neerges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rika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 burgeroorlogen omdat bij dekolonisatie geen rekening werd gehouden met leefgebieden van stamm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s meerdere stammen in 1 land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Nigeria, Soedan, Rwanda, Ang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ste landen geen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chte economie: veel landen afhankelijk van 1 exportproduc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kwetsb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finitie = onafhankelijk worden va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kolonië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begint na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nden met kolonië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ot-Brittannië, Frankrijk,Nederland, België en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350px-British_Empire_1921"/>
          <p:cNvPicPr/>
          <p:nvPr/>
        </p:nvPicPr>
        <p:blipFill>
          <a:blip r:embed="rId1"/>
          <a:stretch/>
        </p:blipFill>
        <p:spPr>
          <a:xfrm>
            <a:off x="5508720" y="3068640"/>
            <a:ext cx="3333600" cy="15429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6300720" y="4869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Britse kolon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uid-Af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anke minderheid tot 1990 aan d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 = Apartheid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ank en zwart strikt gescheiden  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nen, bussen,parken,sch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verzet (ANC) en internationale protesten en boycotten einde aan apartheid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994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C wint 1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rije verkiezingen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lson Mandela 1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warte president van Zuid-Afrika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mandela2"/>
          <p:cNvPicPr/>
          <p:nvPr/>
        </p:nvPicPr>
        <p:blipFill>
          <a:blip r:embed="rId1"/>
          <a:stretch/>
        </p:blipFill>
        <p:spPr>
          <a:xfrm>
            <a:off x="2124000" y="5373720"/>
            <a:ext cx="981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scholing inheemse bevolking komen zij in contact met westerse ideeë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dit leidt tot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ationalism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streven naar onafhankelijkhe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panse veroveringen geven Aziatische volkeren zelfvertrouw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-B, F en NL komen arm en verzwakt uit 2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uwe wereldmachten V.S. en S.U. zijn tegen kolonialis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derlands-Indi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 in Nederlands-Indië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27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richting PNI door Soekarno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streeft naar onafhankelijkhei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veroordeelt leiders PNI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naar strafkampen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oekarno"/>
          <p:cNvPicPr/>
          <p:nvPr/>
        </p:nvPicPr>
        <p:blipFill>
          <a:blip r:embed="rId1"/>
          <a:stretch/>
        </p:blipFill>
        <p:spPr>
          <a:xfrm>
            <a:off x="6659640" y="3068640"/>
            <a:ext cx="1911240" cy="27306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6927840" y="5969160"/>
            <a:ext cx="15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Soeka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gdijgedach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derlandse regering is tegen onafhankelijkheid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onesiërs zijn niet ontwikkeld genoeg om zelf hun land te besturen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ederlands-Indië in de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4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 verovert Nederlands-Indië vanwege de grond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derlanders gevangen gezet in Jappenkampen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I-leiders vrijgelaten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 hoopt zo op steun van Indonesische bevo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ol Soekarno in 2</a:t>
            </a:r>
            <a:r>
              <a:rPr b="0" lang="nl-NL" sz="4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 bevrijdt Indonesische bevolking niet, m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I-leiders Soekarno en Hatta werken samen met Japanse bezetter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I hoopt zo onafhankelijkheid Indonesië te verkrij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beschouwt Soekarno en Hatta als collabora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afhank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 Japanse overgave roepen Soekarno en Hatta onafhankelijkheid uit op 17 augustus 1945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Indonesi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stuurt 100.000 dienstplichtige militairen om gezag te herstell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en Indonesië onderhandel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chillen zijn te gro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L wil Verenigde Staten van Indonesië, dat lid blijft van Koninkrijk der NL (federale st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nesië wil Republiek als onafhankelijke eenheid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litionele ac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tionalisten = PNI beginnen vrijheidsstrijd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L reageert met 2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onele acties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NL stuurt leger in juni 1947 en december 1948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L verovert veel gebied en leiders PNI worden gevangen, maar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el kritiek op NL door V.S. en Verenigde  Naties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.S. dreigt Marshall-hulp te stoppen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geeft toe en Juliana tekent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oevereiniteitsoverdrach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op 27 december 1949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nesië is onafhank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18:47Z</dcterms:created>
  <dc:creator>OTTJ</dc:creator>
  <dc:description/>
  <dc:language>en-US</dc:language>
  <cp:lastModifiedBy>ottj</cp:lastModifiedBy>
  <cp:lastPrinted>2011-10-13T09:26:25Z</cp:lastPrinted>
  <dcterms:modified xsi:type="dcterms:W3CDTF">2012-10-16T08:30:12Z</dcterms:modified>
  <cp:revision>18</cp:revision>
  <dc:subject/>
  <dc:title>Dekolonisatie</dc:title>
</cp:coreProperties>
</file>