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46A-21B1-4264-8192-90A71DB5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83A-9CC9-41EA-8E50-B8524F75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F37-C34B-4146-B5DF-7E72A5EC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F67-AD6F-4D0C-AC10-1BE7EA32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C2B-1CF7-4E7E-B100-D93D8BFB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389-E013-42AB-9481-0B576EAE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A14-A03B-4032-8BC6-68E9B000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2D6-C9E2-45BB-BD16-374EAC50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DEC-2EA8-459B-9DD4-1C828A2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E02-BBF1-4786-9F4E-AADA5863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5B5-4C5F-4B1E-82A0-8C2E7BC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664-ACCB-4A4A-AE1F-6E4677E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FC0C-4372-4B6F-AE82-0C9898ACA8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Flag_of_the_United_States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nl.wikipedia.org/wiki/Bestand:Flag_of_the_Soviet_Union.sv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ritish_Empire_1921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indfully.org/Plastic/Napalm-Recycle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en 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 -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vloedssferen i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st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id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-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st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70px-Flag_of_the_United_Sta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645000"/>
            <a:ext cx="257184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300px-Flag_of_the_Soviet_Un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573360"/>
            <a:ext cx="2857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genstellingen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tatuu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-partij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schaupa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pit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e-markt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mocra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e 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genstellingen VS-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kozen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afhankelijke rech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heid  van pers, meningsuiting, vereniging en vergadering, gods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communist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gewezen 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ers benoemd door communist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censuur, geen kritiek op partij, alleen organisaties die door c.p. zijn goedgekeurd, godsdienst verb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umanleer en Marshall-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rijding van het commun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uman en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uman = president van de V.S. tussen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1945 en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 = minister van buitenlands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zaken van V.S. tussen 1947 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umanl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umanleer = Truman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 = V.S. beloven ieder land, dat vecht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tegen het communisme te helpen tegen zowel tegenstanders uit  eigen land als een ander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ruman-sm"/>
          <p:cNvPicPr/>
          <p:nvPr/>
        </p:nvPicPr>
        <p:blipFill>
          <a:blip r:embed="rId1"/>
          <a:stretch/>
        </p:blipFill>
        <p:spPr>
          <a:xfrm>
            <a:off x="5292720" y="333360"/>
            <a:ext cx="27147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rshall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-plan = Marshall-h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het verwoeste Europa opbouw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dmv Amerikaanse hulp, 1948-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250px-George_Catlett_Marshall,_general_of_the_US_army"/>
          <p:cNvPicPr/>
          <p:nvPr/>
        </p:nvPicPr>
        <p:blipFill>
          <a:blip r:embed="rId1"/>
          <a:stretch/>
        </p:blipFill>
        <p:spPr>
          <a:xfrm>
            <a:off x="3348000" y="3860640"/>
            <a:ext cx="2381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e doelen Marshall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een welvarend Europa kunnen de  V.S. veel meer producten verkopen, dus meer geld verdi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mensen in Europa niet in armoede leven, zullen ze ook niet snel het communisme gaan steu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03868903_c79ae45ac6"/>
          <p:cNvPicPr/>
          <p:nvPr/>
        </p:nvPicPr>
        <p:blipFill>
          <a:blip r:embed="rId1"/>
          <a:stretch/>
        </p:blipFill>
        <p:spPr>
          <a:xfrm>
            <a:off x="5499000" y="4503600"/>
            <a:ext cx="3645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latie Trumanleer - Marshall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plan is ook een middel om de verspreiding van het communisme tegen te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plan is dus een voorbeeld van de Trumanleer in de prakt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 van de Blokkade van Berlij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8 - 19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in wilde het westen dwingen om West-Berlijn te verlaten en over te dragen aan de Sovjet-Un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-Berlijn lag in de oostelijke bezettingszone van de Sovjet-Un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rosinenbomber"/>
          <p:cNvPicPr/>
          <p:nvPr/>
        </p:nvPicPr>
        <p:blipFill>
          <a:blip r:embed="rId1"/>
          <a:stretch/>
        </p:blipFill>
        <p:spPr>
          <a:xfrm>
            <a:off x="2700360" y="4275000"/>
            <a:ext cx="28796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loop van de Blokk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okkade heeft geen effect door de luchtbrug van het westen.                           Na elf maanden heft Stalin de Blokkade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osinenbomber"/>
          <p:cNvPicPr/>
          <p:nvPr/>
        </p:nvPicPr>
        <p:blipFill>
          <a:blip r:embed="rId1"/>
          <a:stretch/>
        </p:blipFill>
        <p:spPr>
          <a:xfrm>
            <a:off x="2195640" y="3500280"/>
            <a:ext cx="3600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an de Blokk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 oprichting BRD = West-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 oprichting DDR = Oost-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 oprichting NAVO = westelijke verdedigings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5 oprichting Warschau-Pact = oostelijke verdedigings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licten in de Koude Oorlo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Communistische revolutie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0/5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e Korea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pstand arbeiders in de D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ongaarse op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0/7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e Vietnam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581360"/>
            <a:ext cx="272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licten in 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uw van de Berlijnse M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Cuba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aagse 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79/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vjet inval in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sjechische jongeren omringen sovjettanks.   "/>
          <p:cNvPicPr/>
          <p:nvPr/>
        </p:nvPicPr>
        <p:blipFill>
          <a:blip r:embed="rId1"/>
          <a:stretch/>
        </p:blipFill>
        <p:spPr>
          <a:xfrm>
            <a:off x="928800" y="3857760"/>
            <a:ext cx="4286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logen in 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ea-, Vietnam- en Afghanistan-oorlog typerend voor Koude Oor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log tussen kapitalisme en commun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directe strijd tussen Amerikaanse en Russische solda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l of Amerikaanse of Russische soldaten betrok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andere land betrokken door bv. financiële steun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finitie Wapenwed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ewapeningsrace tussen de Sovjet-Unie en de Verenigde St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bo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stofb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ev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r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atoombom_hiroshima_groot"/>
          <p:cNvPicPr/>
          <p:nvPr/>
        </p:nvPicPr>
        <p:blipFill>
          <a:blip r:embed="rId1"/>
          <a:stretch/>
        </p:blipFill>
        <p:spPr>
          <a:xfrm>
            <a:off x="4859280" y="2565360"/>
            <a:ext cx="286560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el bewapeningswed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van een ‘balance of terror’ = machtsevenwicht gebaseerd op afschrikk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 landen zijn bang om kernwapens te gebruiken uit angst voor een totale vernietiging van zichzelf en de wer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delen bewapeningswed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 aanwezig voor totale vernietiging van de wereld, als oorlog uitbree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 ko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image035"/>
          <p:cNvPicPr/>
          <p:nvPr/>
        </p:nvPicPr>
        <p:blipFill>
          <a:blip r:embed="rId1"/>
          <a:stretch/>
        </p:blipFill>
        <p:spPr>
          <a:xfrm>
            <a:off x="4356000" y="3068640"/>
            <a:ext cx="272412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Einde Koude Oorl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Sovjet-Unie                       begin jaren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ouderde machines + geen vrije markt- economie                                                Tekort aan consumptiegoederen +          Lage productiviteit werkne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apenwedloop met de V.S. wordt onbetaal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orlog in Afghanistan kost veel 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vrijheid van meningsu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916360" y="234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deringen onder Gorbatsjov, 19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estrojka = Economische hervorm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plan- naar marktec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snost = politieke hervorm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vrijheid voor mensen en organisaties   bv. vrijheid van menings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7380360" y="486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8604360" y="5445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gorbi"/>
          <p:cNvPicPr/>
          <p:nvPr/>
        </p:nvPicPr>
        <p:blipFill>
          <a:blip r:embed="rId1"/>
          <a:stretch/>
        </p:blipFill>
        <p:spPr>
          <a:xfrm>
            <a:off x="3564000" y="2997360"/>
            <a:ext cx="14428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deringen onder Gorbatsjov, 19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rbatsjov gaat nucleaire ontwapeningsbesprekingen aan met Amerikaanse president Reagan in Reykjavik (1986)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einde Koud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politiek Gorbatsj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economie verandert in vrije markt- economie          groeiende werkloos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 tussen arm en rijk gro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enlijke kritiek op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eisen inspraak en democrat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.P. verliest haar macht en controle over SU en Oost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nde Communisme en Warschau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-Unie valt uit elk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627280" y="220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nde Communisme in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ost-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 niet meer bereid o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landen militair t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en: einde communis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de macht van communistische partijen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8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nga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sjecho-Slowak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lga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emenie (gew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vjet-Un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ontent_berlin_wall"/>
          <p:cNvPicPr/>
          <p:nvPr/>
        </p:nvPicPr>
        <p:blipFill>
          <a:blip r:embed="rId1"/>
          <a:stretch/>
        </p:blipFill>
        <p:spPr>
          <a:xfrm>
            <a:off x="5076720" y="3213000"/>
            <a:ext cx="3810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van Koude oorlog: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and van oorlog nog vrede waarin de vijandige partijen alle beschikbare middelen- economische, politieke, ideologische- gebruiken behalve direct wapengew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ak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trouwen na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tussen de VS en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trouwen door tegenstelling tussen kapitalisme en commun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 landen willen hun ideologie verspreiden over de werel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Zij willen dus beiden het machtigste land ter wereld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erentie van J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ebruari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urchill (GB), Roosevelt (VS),   Stalin (S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tsland na oorlog verdeeld in bezettings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a verdeeld in invloedssferen door SU en 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richting Verenigde N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talin"/>
          <p:cNvPicPr/>
          <p:nvPr/>
        </p:nvPicPr>
        <p:blipFill>
          <a:blip r:embed="rId1"/>
          <a:stretch/>
        </p:blipFill>
        <p:spPr>
          <a:xfrm>
            <a:off x="6156360" y="260280"/>
            <a:ext cx="176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finitie invloedss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ieden waar Verenigde Staten of Sovjet-Unie veel invloed hebben en min of meer bepalen, wat daar gebeu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5:19Z</dcterms:created>
  <dc:creator>Cursist</dc:creator>
  <dc:description/>
  <dc:language>en-US</dc:language>
  <cp:lastModifiedBy>ottj</cp:lastModifiedBy>
  <dcterms:modified xsi:type="dcterms:W3CDTF">2013-10-08T08:31:28Z</dcterms:modified>
  <cp:revision>37</cp:revision>
  <dc:subject/>
  <dc:title>De Koude Oorlog</dc:title>
</cp:coreProperties>
</file>