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875A-34E8-4A6B-891A-49051ED5D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7D0A-325A-48C8-9ADB-1B64BD4B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285C-EAFE-48D1-B163-E3A7BDE55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6F2D-4431-4B71-84C9-0F3BDC36E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06AB1-E930-4A0A-88D3-D395289A9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8171-2208-4D0C-A5D9-879A4D07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3152-8803-4481-80C6-6B6B0F1D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5D4B3-8263-4694-9A83-42299446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6F939-A86A-4F71-A84F-1E7E97C1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38A7-75E3-41B9-BA92-3688238C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8319-8FD6-4A94-B581-6917ECC9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E250-3275-49AB-91DB-B28A737B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3EC4-1894-4C71-9DCD-57CE1D56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ADB6-639D-4490-A1C2-26AED4A1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D0AF-0653-44E1-B2DC-AD9241A3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EB2C6-6E82-43F3-80F0-3642A7E96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9813-A0D4-4BB5-84D6-D017D93BB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A9989-EC9F-4019-B0E7-BE100D7C8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C1D54-8FBF-45DB-9BD0-3A0DE96C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39FF4-84E2-4927-BA4C-58F4D080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BCEE6-ABEF-4EE1-A69D-0F646671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8E3C7-F972-4977-A0A1-031153F9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3471-865F-4F01-917E-87C60D47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89BFD-C171-4B8A-B222-0A850B1F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18FC9-4E25-47A9-B363-D553C0ED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20294-40D5-4F6F-83D2-F7CA9D74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F77A3-1A7C-428F-9A47-4A0970C2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13548-6E48-49C1-8A4C-2518CFFA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69C9D-F887-4E87-9679-7011FA5C3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65E55-EA0B-400C-8257-4F98630A3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CFA38-FB2F-4181-B386-BCEF51023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2A0A3-6D5F-4E7F-ACBB-474FE251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93E17-E00D-4B9E-A6F9-CF2C2159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CAC5-00FF-4C15-8FF7-CC2E0B49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E9896-8EA4-4501-9644-34E4B3C8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7B520-3CB7-4309-9198-4BA8FB8E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21BCF-B9A4-4FD4-9103-1CC0C75F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06D01-6CFF-4339-8748-931AA9B0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A5EB7-8779-407E-8D69-7F021AFA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5E814-83A9-46F4-8A4B-9C913B26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79BBE-236E-48D8-9EC0-529507B9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D588C-E686-4EB2-B66B-AC0CC719A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29963-0C20-4353-AC7D-8D6425E0B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6996-BB1B-43CB-9F0F-F1E14E5B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CD7A-2110-4CB3-BD56-7BEEDCCD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E7A7-744C-4C6C-82D7-D8064379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552D-9D17-4764-BBA9-296765E2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62AE-BDEF-4CBC-A0B5-D70DDEB6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5174E2-4C60-4F4C-AFA6-85AD809F2812}" type="slidenum">
              <a:rPr b="0" lang="nl-B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360"/>
              <a:ext cx="842400" cy="566568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EE97B1-9B42-4B09-9F8E-31726E0BCE90}" type="slidenum">
              <a:rPr b="0" lang="nl-B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9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1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CCCB13-D736-4BC1-AB67-60F48965A570}" type="slidenum">
              <a:rPr b="0" lang="nl-B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58AD51-E1BC-428C-A423-C35FBA7ED415}" type="slidenum">
              <a:rPr b="0" lang="nl-B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06240" y="2404800"/>
            <a:ext cx="77677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5400" spc="-1" strike="noStrike">
                <a:solidFill>
                  <a:srgbClr val="90c226"/>
                </a:solidFill>
                <a:latin typeface="Trebuchet MS"/>
              </a:rPr>
              <a:t>Het ICF model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06240" y="4051080"/>
            <a:ext cx="77677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BE" sz="1800" spc="-1" strike="noStrike">
              <a:solidFill>
                <a:srgbClr val="7f7f7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1: de mens als organism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Stoornissen (binnen de organismen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Is een functie of anatomische eigenschap niet optimaal, dan spreekt men van stoornissen. Stoornissen zijn dus afwijkingen in (of verlies van functie) in de anatomische eigenschappel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 Geheugenverlies (men heeft hersenen maar er is een stoornis opgetreden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2: het menselijk hand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ctivitei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Het gaat hier om wat een persoon zelf nog kan doen of kan uitvoere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  Bril poets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2: Het menselijk hand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eperki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ls er problemen zijn bij het uitvoeren van activiteiten, dan spreekt men van beperkingen. Maw, moeilijkheden die iemand ondervindt bij het uitoefenen van activitei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  Mia zou graag de ramen poetsen maar heeft last van reum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3: Participat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Particip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Hier gaat het erom of iemand mee kan doen aan het maatschappelijke leven (fysiek, psychisch en sociaal) (of niet geheel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Maw; de persoon in wisselwerking met zijn omgev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  Naar school gaa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3: participat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Participatieproblem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Problemen waardoor iemand niet kan deelnemen aan het maatschappelijke leven (of niet geheel)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: Doordat het kunstgebit van opa niet meer goed past en nogal eens uitvalt, wilt opa niet meer mee op restauran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4: beïnvloeding van het functioner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1" name="Tijdelijke aanduiding voor inhoud 2" descr=""/>
          <p:cNvPicPr/>
          <p:nvPr/>
        </p:nvPicPr>
        <p:blipFill>
          <a:blip r:embed="rId1"/>
          <a:stretch/>
        </p:blipFill>
        <p:spPr>
          <a:xfrm>
            <a:off x="658800" y="2120760"/>
            <a:ext cx="861372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Fysieke factor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A  Je moeder van 78j woont op de derde verdieping van een appartement en de lift is steevast stuk. Moeder is moeilijk te be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Sociale factor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A  Jef kan beroep doen op familiehulp, hierdoor kan hij langer thuisblijv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4: beïnvloeding van het functioner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5" name="Tijdelijke aanduiding voor inhoud 2" descr=""/>
          <p:cNvPicPr/>
          <p:nvPr/>
        </p:nvPicPr>
        <p:blipFill>
          <a:blip r:embed="rId1"/>
          <a:stretch/>
        </p:blipFill>
        <p:spPr>
          <a:xfrm>
            <a:off x="628560" y="2120760"/>
            <a:ext cx="864396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4: beïnvloeding van het functioner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Medische facto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De medische factoren kunnen de ziekte, de aandoening of het letsel dat iemand heeft bevat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  kanker hebb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Schema ICF model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9" name="Tijdelijke aanduiding voor inhoud 4" descr="Afbeelding met schermafbeelding&#13;&#10;&#13;&#10;Automatisch gegenereerde beschrijving"/>
          <p:cNvPicPr/>
          <p:nvPr/>
        </p:nvPicPr>
        <p:blipFill>
          <a:blip r:embed="rId1"/>
          <a:stretch/>
        </p:blipFill>
        <p:spPr>
          <a:xfrm>
            <a:off x="1260360" y="2160720"/>
            <a:ext cx="743112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90c226"/>
                </a:solidFill>
                <a:latin typeface="Trebuchet MS"/>
              </a:rPr>
              <a:t>Het ICF biedt een standaardtaal en een schema voor de beschrijving van het menselijk functioneren en hetgeen daarmee verband houdt.</a:t>
            </a:r>
            <a:br>
              <a:rPr sz="3200"/>
            </a:br>
            <a:br>
              <a:rPr sz="3200"/>
            </a:br>
            <a:r>
              <a:rPr b="0" lang="nl-BE" sz="3200" spc="-1" strike="noStrike">
                <a:solidFill>
                  <a:srgbClr val="90c226"/>
                </a:solidFill>
                <a:latin typeface="Trebuchet MS"/>
              </a:rPr>
              <a:t>Met het ICF kan iemands functioneren worden beschreven vanuit verschillende perspectieven: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77520" y="2160360"/>
            <a:ext cx="859644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Welke perspectieven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Perspectief van de mens als organism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V: hoe goed functioneren de gewrichten, het hart en de bloedvaten, de hersenen en de zenuwen, de longen. Zijn deze onbeschadigd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Welke perspectieven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2. Perspectief van het menselijke handelen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v: welke activiteiten voert iemand zelf uit en welke zou hij/zij zelf kunnen of willen uitvoeren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Welke perspectieven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3. Perspectief van participa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v: kan iemand meedoen op alle levensterreinen zoals werk, gezin, hobby en doet hij/zij ook mee?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Welke perspectieven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4. Perspectief van de beïnvloeding van het function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Het ICF onderkend dat het menselijk functioneren door verschillende facto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wordt beïnvloed. Zo moeten we onderscheid maken tussen de </a:t>
            </a:r>
            <a:r>
              <a:rPr b="0" lang="nl-BE" sz="1800" spc="-1" strike="noStrike" u="sng">
                <a:solidFill>
                  <a:srgbClr val="404040"/>
                </a:solidFill>
                <a:uFillTx/>
                <a:latin typeface="Trebuchet MS"/>
              </a:rPr>
              <a:t>externe facto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zoals het aanwezig zijn van hulpmiddelen, als </a:t>
            </a:r>
            <a:r>
              <a:rPr b="0" lang="nl-BE" sz="1800" spc="-1" strike="noStrike" u="sng">
                <a:solidFill>
                  <a:srgbClr val="404040"/>
                </a:solidFill>
                <a:uFillTx/>
                <a:latin typeface="Trebuchet MS"/>
              </a:rPr>
              <a:t>persoonlijke factoren </a:t>
            </a: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zoals leeftij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Opdrach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Je krijgt bij elk van de onderstaande begrippen uitleg en een voorbeeld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Noteer er zelf nog een drietal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1: de mens als organism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7" name="Tijdelijke aanduiding voor inhoud 2" descr=""/>
          <p:cNvPicPr/>
          <p:nvPr/>
        </p:nvPicPr>
        <p:blipFill>
          <a:blip r:embed="rId1"/>
          <a:stretch/>
        </p:blipFill>
        <p:spPr>
          <a:xfrm>
            <a:off x="628560" y="2120760"/>
            <a:ext cx="864396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1: de mens als organism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Anatomische eigenschapp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Met anatomische eigenschappen wordt bedoeld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De positie, aanwezigheid, vorm en continuïteit van onderdelen van het menselijk lichaam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Bv: gehoorverlies; het probleem kan liggen aan de vorm en positie van het oor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A Je bent groot of klein van gestalte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B ……………………………………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C …………………………………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D …………………………………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7T08:57:03Z</dcterms:created>
  <dc:creator>viviane huybrechts</dc:creator>
  <dc:description/>
  <dc:language>en-US</dc:language>
  <cp:lastModifiedBy>viviane huybrechts</cp:lastModifiedBy>
  <dcterms:modified xsi:type="dcterms:W3CDTF">2019-02-07T11:13:16Z</dcterms:modified>
  <cp:revision>6</cp:revision>
  <dc:subject/>
  <dc:title>Het ICF model</dc:title>
</cp:coreProperties>
</file>