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A67-7C09-464D-BA39-BA0F22584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944-E467-46F2-88DF-0485651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24FD-6B40-4202-8E00-7A2B8A332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7F6-5DFB-4969-8F17-E57446AE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F7EB0-A6E1-48D3-8720-FEA38B93A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5A28-DA13-43C7-BEDE-49B2A352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AC99-24C2-44F8-9D1B-C2D22D80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B683-D94B-4B10-8750-2D498C66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68D1-4BC6-4BCD-A6A4-AED923F5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6291-3256-4673-ABB5-DB9752EE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33EC-E8D1-4F89-8EE2-6B71C293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7AC2-16C1-43CE-AF86-93E03762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C5617-A9EB-4C13-9D4F-2734208D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40F0-CBEF-4EE5-B8E7-F78A65EC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BA16E-0FA3-484E-B5C0-8648780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3A02-0432-41BE-A999-50E9B2600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F8D4-FEC8-4661-92C2-273A91BC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67A2-0B32-499C-B115-D5A8961DD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2A75-B708-4092-8150-CFEA6B75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B5C52-8FA4-4881-A78A-F5360547C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49B4-15BB-4FB8-97EC-547B2A46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FEE71-1FE8-41AD-A85D-AE401090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F21F-FEEF-4087-8B9F-FF4A3460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6867-C0F4-4FBE-B038-37AFB8FB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9F6BE-F85C-4B91-BF95-5B942E8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050D5-906B-499B-8091-30BDCA8A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7A1D-CE53-4DCD-B799-A59D7082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EECD-A7B3-423C-96C9-4CFFB60F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1D9AA-AD1C-46F0-B76B-25FBD5B5D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414AD-88CD-4DD4-A62C-662774C0E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8B502-273C-4F74-AD3F-C5D263230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B19CC-33FB-45BE-8F38-E13E5743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2E26F-90A0-4E41-BC59-0EECE539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E474-002B-423B-B180-4166045F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44CF5-B41B-4590-A6CD-965AC138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5ABB-9519-45C1-8D71-CC340FF2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7AE27-FC7A-4D49-9CF6-1B37F787F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1D25E-9360-478F-BAF6-870EF33B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37B81-BD07-4E87-A7A7-A663401F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E16F8-4DE8-461F-8BD4-FD307E1B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9C408-F258-47F8-B491-9410AB54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1BC5-14EE-4CB6-8CB6-8C4E309F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3D2D8-C8CF-435E-B65A-F834786F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6F9-DAE5-4963-91CE-78CFF6DA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EA4-C6A0-4805-BB71-83A9F5C0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1D04-DE94-4335-8A20-E715344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515-EB16-4DDA-9B4A-15D949DE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252-56CA-45C7-922C-146A17D0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F8F7E-8BA5-40FD-A3AC-8D23775E4BD6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B65FC-6C26-4A74-B918-44203B201B03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060F8-E47B-40B8-8F3F-2765E254B54B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B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E905B8-9652-4E3C-A267-5ED457E889F2}" type="slidenum">
              <a:rPr b="0" lang="nl-B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240" y="2404800"/>
            <a:ext cx="77677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5400" spc="-1" strike="noStrike">
                <a:solidFill>
                  <a:srgbClr val="90c226"/>
                </a:solidFill>
                <a:latin typeface="Trebuchet MS"/>
              </a:rPr>
              <a:t>Het ICF model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4051080"/>
            <a:ext cx="77677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BE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Stoornissen (binnen de organism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Is een functie of anatomische eigenschap niet optimaal, dan spreekt men van stoornissen. Stoornissen zijn dus afwijkingen in (of verlies van functie) in de anatomische eigenschappel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Geheugenverlies (men heeft hersenen maar er is een stoornis opgetreden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gaat hier om wat een persoon zelf nog kan doen of kan uitvoer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Bril poe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2: Het menselijk hand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eper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ls er problemen zijn bij het uitvoeren van activiteiten, dan spreekt men van beperkingen. Maw, moeilijkheden die iemand ondervindt bij het uitoefenen van activite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Mia zou graag de ramen poetsen maar heeft last van reum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ier gaat het erom of iemand mee kan doen aan het maatschappelijke leven (fysiek, psychisch en sociaal) (of niet gehe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aw; de persoon in wisselwerking met zijn omgev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Naar school gaa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3: participati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articipatieproble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roblemen waardoor iemand niet kan deelnemen aan het maatschappelijke leven (of niet geheel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: Doordat het kunstgebit van opa niet meer goed past en nogal eens uitvalt, wilt opa niet meer mee op restauran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1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58800" y="2120760"/>
            <a:ext cx="861372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Fysiek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 moeder van 78j woont op de derde verdieping van een appartement en de lift is steevast stuk. Moeder is moeilijk te be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Sociale factor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 Jef kan beroep doen op familiehulp, hierdoor kan hij langer thuisblijv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5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4: beïnvloeding van het functioner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Medisch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e medische factoren kunnen de ziekte, de aandoening of het letsel dat iemand heeft bevat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A  kanker hebb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C ……………………………………………………….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D ………………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Schema ICF model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Tijdelijke aanduiding voor inhoud 4" descr="Afbeelding met schermafbeelding&#13;&#10;&#13;&#10;Automatisch gegenereerde beschrijving"/>
          <p:cNvPicPr/>
          <p:nvPr/>
        </p:nvPicPr>
        <p:blipFill>
          <a:blip r:embed="rId1"/>
          <a:stretch/>
        </p:blipFill>
        <p:spPr>
          <a:xfrm>
            <a:off x="1260360" y="2160720"/>
            <a:ext cx="743112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Het ICF biedt een standaardtaal en een schema voor de beschrijving van het menselijk functioneren en hetgeen daarmee verband houdt.</a:t>
            </a:r>
            <a:br>
              <a:rPr sz="3200"/>
            </a:br>
            <a:br>
              <a:rPr sz="3200"/>
            </a:br>
            <a:r>
              <a:rPr b="0" lang="nl-BE" sz="3200" spc="-1" strike="noStrike">
                <a:solidFill>
                  <a:srgbClr val="90c226"/>
                </a:solidFill>
                <a:latin typeface="Trebuchet MS"/>
              </a:rPr>
              <a:t>Met het ICF kan iemands functioneren worden beschreven vanuit verschillende perspectieven: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77520" y="2160360"/>
            <a:ext cx="859644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Perspectief van de mens als organ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hoe goed functioneren de gewrichten, het hart en de bloedvaten, de hersenen en de zenuwen, de longen. Zijn deze onbeschadig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2. Perspectief van het menselijke handelen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welke activiteiten voert iemand zelf uit en welke zou hij/zij zelf kunnen of willen uitvoere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3. Perspectief van particip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Bv: kan iemand meedoen op alle levensterreinen zoals werk, gezin, hobby en doet hij/zij ook mee?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Welke perspectieven?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4. Perspectief van de beïnvloeding van het function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Het ICF onderkend dat het menselijk functioneren door verschillend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wordt beïnvloed. Zo moeten we onderscheid maken tussen de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externe fact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het aanwezig zijn van hulpmiddelen, als </a:t>
            </a:r>
            <a:r>
              <a:rPr b="0" lang="nl-BE" sz="1800" spc="-1" strike="noStrike" u="sng">
                <a:solidFill>
                  <a:srgbClr val="404040"/>
                </a:solidFill>
                <a:uFillTx/>
                <a:latin typeface="Trebuchet MS"/>
              </a:rPr>
              <a:t>persoonlijke factoren </a:t>
            </a: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zoals leeftij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Opdra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Je krijgt bij elk van de onderstaande begrippen uitleg en een voorbeeld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800" spc="-1" strike="noStrike">
                <a:solidFill>
                  <a:srgbClr val="404040"/>
                </a:solidFill>
                <a:latin typeface="Trebuchet MS"/>
              </a:rPr>
              <a:t>Noteer er zelf nog een drietal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7" name="Tijdelijke aanduiding voor inhoud 2" descr=""/>
          <p:cNvPicPr/>
          <p:nvPr/>
        </p:nvPicPr>
        <p:blipFill>
          <a:blip r:embed="rId1"/>
          <a:stretch/>
        </p:blipFill>
        <p:spPr>
          <a:xfrm>
            <a:off x="628560" y="2120760"/>
            <a:ext cx="864396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3600" spc="-1" strike="noStrike">
                <a:solidFill>
                  <a:srgbClr val="90c226"/>
                </a:solidFill>
                <a:latin typeface="Trebuchet MS"/>
              </a:rPr>
              <a:t>Perspectief 1: de mens als organism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natomische eigenschappen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Met anatomische eigenschappen wordt bedoeld;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e positie, aanwezigheid, vorm en continuïteit van onderdelen van het menselijk lichaam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v: gehoorverlies; het probleem kan liggen aan de vorm en positie van het oor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A Je bent groot of klein van gestalte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B ……………………………………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C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BE" sz="1700" spc="-1" strike="noStrike">
                <a:solidFill>
                  <a:srgbClr val="404040"/>
                </a:solidFill>
                <a:latin typeface="Trebuchet MS"/>
              </a:rPr>
              <a:t>D …………………………………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07T08:57:03Z</dcterms:created>
  <dc:creator>viviane huybrechts</dc:creator>
  <dc:description/>
  <dc:language>en-US</dc:language>
  <cp:lastModifiedBy>viviane huybrechts</cp:lastModifiedBy>
  <dcterms:modified xsi:type="dcterms:W3CDTF">2019-02-07T11:13:16Z</dcterms:modified>
  <cp:revision>6</cp:revision>
  <dc:subject/>
  <dc:title>Het ICF model</dc:title>
</cp:coreProperties>
</file>