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09D-C1DD-4D34-90BA-72F331FF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3F9-8220-4E0C-BC5D-F21A01F9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097-217F-4162-BEBB-6BA868B8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4E4-0917-4398-8909-E61D96FF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73C3-F479-4DF4-94EC-E2AE78A1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A682-57C4-487F-B641-C62F4FFC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38D7-8AD5-4D30-9C9B-91F7616B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706A-C224-47D0-9380-13D411D4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326A-0FAD-4AD8-BFE0-32457FC7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E75E-6B08-4B1D-B842-4B993A30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3171-DCB1-4A46-A014-ECB934A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330-1B18-488A-9153-94AABFAA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62F3-16CF-4798-B501-10BB2138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F2FB-0368-4AA7-9DE4-68A53301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74E2-3F37-4883-9C83-ACD18368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42A9-1D1A-4850-8E59-92C79C68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E755-8241-43F9-8435-85B3CEF7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A512-D8CF-4A78-94A8-B7BDB8E7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C783-6298-4EA2-BF50-0FED5B52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4C8AD-0FAA-449A-900D-EE3DC955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4EF8-9C51-41DA-8F1E-60FC31D2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2A1A-49D4-4DFA-9B41-58805479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897-7FC8-4913-9BA3-1AB69FD0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CDFD-725F-4F7E-9DEA-C1CDD1E8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4910E-C8DC-4F01-B7A5-5779748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AC59-047C-4814-BB19-A13AF0E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EC03-AA52-4629-A99E-0011F05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A268-57ED-40BE-BD01-A1D4FA58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49529-98AA-4D76-AD35-552368A4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C1905-56DE-498B-95D7-2A24277B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B11E5-57BD-4E2E-A684-420E6FD5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C62D-CC27-4934-BCC5-2E8C74EF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6183C-07E4-471A-AD17-BCCB6717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1CD-1AFB-45B7-91D6-4C0381A2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0A668-BB2D-4860-8CEF-2B8F6263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F8D1-50DE-4BD3-ACFE-67D1F8A4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304D-527E-4E2A-8664-2A7B5B69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59659-2074-4168-891F-FACE092C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27B1-D185-4EC9-AEC1-7D810DAA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C1CC3-50B0-4420-AB53-D82B8963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E2C3B-4010-49CE-9C29-B55BD646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41D87-B616-45D8-8DA4-6E289F6D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62D03-588E-4225-B586-C2075F30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B1B-1691-41A6-A169-A86C54ED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F0F-AD44-4777-9829-468EC9B8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6D6-FA47-4155-949B-9CDE297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906-69BA-490E-88BE-6939AFDD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E45-6955-4D72-87EA-4BD64CF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F5242-7932-44CD-8001-EB87CB41A36B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BD0BB-6C6F-4A7B-BE4D-C5A349901413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F09A6-896E-4D6C-A876-563FC133B815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AD803-B973-45DF-B944-462BA3F4855C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5400" spc="-1" strike="noStrike">
                <a:solidFill>
                  <a:srgbClr val="90c226"/>
                </a:solidFill>
                <a:latin typeface="Trebuchet MS"/>
              </a:rPr>
              <a:t>Het ICF model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Stoornissen (binnen de organism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Is een functie of anatomische eigenschap niet optimaal, dan spreekt men van stoornissen. Stoornissen zijn dus afwijkingen in (of verlies van functie) in de anatomische eigenschapp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Geheugenverlies (men heeft hersenen maar er is een stoornis opgetred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gaat hier om wat een persoon zelf nog kan doen of kan uitvo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Bril poe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eper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ls er problemen zijn bij het uitvoeren van activiteiten, dan spreekt men van beperkingen. Maw, moeilijkheden die iemand ondervindt bij het uitoefenen van 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Mia zou graag de ramen poetsen maar heeft last van reu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ier gaat het erom of iemand mee kan doen aan het maatschappelijke leven (fysiek, psychisch en sociaal) (of niet gehe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aw; de persoon in wisselwerking met zijn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Naar school g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atie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roblemen waardoor iemand niet kan deelnemen aan het maatschappelijke leven (of niet geheel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: Doordat het kunstgebit van opa niet meer goed past en nogal eens uitvalt, wilt opa niet meer mee op restaur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58800" y="2120760"/>
            <a:ext cx="8613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Fysiek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 moeder van 78j woont op de derde verdieping van een appartement en de lift is steevast stuk. Moeder is moeilijk te be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Social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f kan beroep doen op familiehulp, hierdoor kan hij langer thuisblijv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edisch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e medische factoren kunnen de ziekte, de aandoening of het letsel dat iemand heeft bevat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kanker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Schema ICF mod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Tijdelijke aanduiding voor inhoud 4" descr="Afbeelding met schermafbeelding&#13;&#10;&#13;&#10;Automatisch gegenereerde beschrijving"/>
          <p:cNvPicPr/>
          <p:nvPr/>
        </p:nvPicPr>
        <p:blipFill>
          <a:blip r:embed="rId1"/>
          <a:stretch/>
        </p:blipFill>
        <p:spPr>
          <a:xfrm>
            <a:off x="1260360" y="2160720"/>
            <a:ext cx="74311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Het ICF biedt een standaardtaal en een schema voor de beschrijving van het menselijk functioneren en hetgeen daarmee verband houdt.</a:t>
            </a:r>
            <a:br>
              <a:rPr sz="3200"/>
            </a:br>
            <a:br>
              <a:rPr sz="3200"/>
            </a:b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Met het ICF kan iemands functioneren worden beschreven vanuit verschillende perspectieven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erspectief van de mens als organ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hoe goed functioneren de gewrichten, het hart en de bloedvaten, de hersenen en de zenuwen, de longen. Zijn deze onbeschadig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2. Perspectief van het menselijke handel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welke activiteiten voert iemand zelf uit en welke zou hij/zij zelf kunnen of willen uitvoer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3. Perspectief van particip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kan iemand meedoen op alle levensterreinen zoals werk, gezin, hobby en doet hij/zij ook mee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4. Perspectief van de beïnvloeding van het function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ICF onderkend dat het menselijk functioneren door verschillend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wordt beïnvloed. Zo moeten we onderscheid maken tussen de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extern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het aanwezig zijn van hulpmiddelen, als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persoonlijke factoren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leeftij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Je krijgt bij elk van de onderstaande begrippen uitleg en een voorbeeld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Noteer er zelf nog een drietal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natomische eigenschap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Met anatomische eigenschappen wordt bedoeld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e positie, aanwezigheid, vorm en continuïteit van onderdelen van het menselijk lichaam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v: gehoorverlies; het probleem kan liggen aan de vorm en positie van het oo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Je bent groot of klein van gestalt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08:57:03Z</dcterms:created>
  <dc:creator>viviane huybrechts</dc:creator>
  <dc:description/>
  <dc:language>en-US</dc:language>
  <cp:lastModifiedBy>viviane huybrechts</cp:lastModifiedBy>
  <dcterms:modified xsi:type="dcterms:W3CDTF">2019-02-07T11:13:16Z</dcterms:modified>
  <cp:revision>6</cp:revision>
  <dc:subject/>
  <dc:title>Het ICF model</dc:title>
</cp:coreProperties>
</file>