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0CF-DE1C-4819-A5B2-3CE2DF2C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CB5-9654-46EA-A39A-BA508442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81D-8662-4626-BAB6-1F34F621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581-292C-4125-B2CD-D9DCC0F3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06CB-697E-4E24-B513-D262C108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B854-2379-4C37-9CC1-930327F3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6121-75B4-4401-8B14-A1EAD5E3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AE6E-23CC-4CFD-B7D4-D1B4E0F6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8328-BA55-4FDE-8FD5-307CC9F9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E062-C8B3-4D82-8E3D-35E0E762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6BF9-6AE4-4A3C-B563-B1442418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748-CE5C-4BDA-AF58-02DE0716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272E-CAAF-4709-85FC-2BB1D021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1A08-81E3-461D-B64C-50507EF3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2C2D-7721-4919-9759-080A7EF0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1995-94A3-4689-97AF-2028A7B7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C433-24B1-445B-BBF3-8EA0BB79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4138-BC84-40D2-9908-7E14D6DC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485E0-E1B0-4979-8360-702A005C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CEF79-93A9-4363-99FE-DBB7B662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6A56-B990-4A49-9A0B-E078E681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8415B-F8A9-4B03-8E9C-73FB2A22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98E-302B-411C-B3BA-9A4B818D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0257-55A5-4DD2-9D2F-DFBC694D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7891C-D0D2-480C-B000-71F96901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F4F6C-8B6B-4A70-B97D-DED18BF9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1EE43-3C2D-449B-826A-DE22669B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5D364-4A4A-4703-9868-3C3DA7E9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04988-E3F7-4747-866E-699E2A47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D2BC0-BE83-4717-B801-8C47EB8B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59C91-D0B3-45FA-9A77-1A677D61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14D57-EBCF-4BC7-8DA1-6FF1A404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8733C-37A9-44AB-A893-DC2BB83E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F66-4467-47B3-AF75-21724AD5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DF6F9-B160-47D4-B958-A9FE1C6E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C2390-EEFD-4EC7-80A7-A44BA146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8B487-567D-419D-9BAB-40E8F214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400A0-5029-4CCF-9009-56CA73BC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535D0-C76C-419A-9B62-B3444C25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F25C6-735D-4A33-9DBA-5508B303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34FD7-7419-4617-AD00-4ABED7DF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6EACF-CE4D-4A90-9694-F884C91D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21F47-D868-4A1C-A9A9-844EAB64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9F0-EDDC-46CD-833F-1DFBAC5F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5F1A-9F29-4A5D-AC96-D88C458E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D8D-AC2A-494E-986C-0D87960E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0FB-6541-4FD4-B0E7-E15354CF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15A-53B1-4D22-B6A1-A31258CB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29DE4-6640-4E8B-8AC0-3EA4BDFF3430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88DCA-6E37-4A04-904D-6A61CDBFD69C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D9850-5D41-4623-BDA0-170D547AE5D8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4172B-AE2C-434D-AFF3-6D645BE231E5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5400" spc="-1" strike="noStrike">
                <a:solidFill>
                  <a:srgbClr val="90c226"/>
                </a:solidFill>
                <a:latin typeface="Trebuchet MS"/>
              </a:rPr>
              <a:t>Het ICF model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BE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Stoornissen (binnen de organism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Is een functie of anatomische eigenschap niet optimaal, dan spreekt men van stoornissen. Stoornissen zijn dus afwijkingen in (of verlies van functie) in de anatomische eigenschapp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Geheugenverlies (men heeft hersenen maar er is een stoornis opgetred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gaat hier om wat een persoon zelf nog kan doen of kan uitvoer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Bril poe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eper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ls er problemen zijn bij het uitvoeren van activiteiten, dan spreekt men van beperkingen. Maw, moeilijkheden die iemand ondervindt bij het uitoefenen van 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Mia zou graag de ramen poetsen maar heeft last van reu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ier gaat het erom of iemand mee kan doen aan het maatschappelijke leven (fysiek, psychisch en sociaal) (of niet gehe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aw; de persoon in wisselwerking met zijn omgev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Naar school ga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atie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roblemen waardoor iemand niet kan deelnemen aan het maatschappelijke leven (of niet geheel)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: Doordat het kunstgebit van opa niet meer goed past en nogal eens uitvalt, wilt opa niet meer mee op restaura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58800" y="2120760"/>
            <a:ext cx="861372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Fysiek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 moeder van 78j woont op de derde verdieping van een appartement en de lift is steevast stuk. Moeder is moeilijk te be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Social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f kan beroep doen op familiehulp, hierdoor kan hij langer thuisblijv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edisch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e medische factoren kunnen de ziekte, de aandoening of het letsel dat iemand heeft bevat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kanker hebb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Schema ICF mod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9" name="Tijdelijke aanduiding voor inhoud 4" descr="Afbeelding met schermafbeelding&#13;&#10;&#13;&#10;Automatisch gegenereerde beschrijving"/>
          <p:cNvPicPr/>
          <p:nvPr/>
        </p:nvPicPr>
        <p:blipFill>
          <a:blip r:embed="rId1"/>
          <a:stretch/>
        </p:blipFill>
        <p:spPr>
          <a:xfrm>
            <a:off x="1260360" y="2160720"/>
            <a:ext cx="743112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Het ICF biedt een standaardtaal en een schema voor de beschrijving van het menselijk functioneren en hetgeen daarmee verband houdt.</a:t>
            </a:r>
            <a:br>
              <a:rPr sz="3200"/>
            </a:br>
            <a:br>
              <a:rPr sz="3200"/>
            </a:b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Met het ICF kan iemands functioneren worden beschreven vanuit verschillende perspectieven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77520" y="2160360"/>
            <a:ext cx="85964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erspectief van de mens als organ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hoe goed functioneren de gewrichten, het hart en de bloedvaten, de hersenen en de zenuwen, de longen. Zijn deze onbeschadig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2. Perspectief van het menselijke handel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welke activiteiten voert iemand zelf uit en welke zou hij/zij zelf kunnen of willen uitvoere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3. Perspectief van particip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kan iemand meedoen op alle levensterreinen zoals werk, gezin, hobby en doet hij/zij ook mee?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4. Perspectief van de beïnvloeding van het function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ICF onderkend dat het menselijk functioneren door verschillend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wordt beïnvloed. Zo moeten we onderscheid maken tussen de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extern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het aanwezig zijn van hulpmiddelen, als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persoonlijke factoren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leeftij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Opdra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Je krijgt bij elk van de onderstaande begrippen uitleg en een voorbeeld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Noteer er zelf nog een drietal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natomische eigenschapp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Met anatomische eigenschappen wordt bedoeld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e positie, aanwezigheid, vorm en continuïteit van onderdelen van het menselijk lichaam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v: gehoorverlies; het probleem kan liggen aan de vorm en positie van het oo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Je bent groot of klein van gestalt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7T08:57:03Z</dcterms:created>
  <dc:creator>viviane huybrechts</dc:creator>
  <dc:description/>
  <dc:language>en-US</dc:language>
  <cp:lastModifiedBy>viviane huybrechts</cp:lastModifiedBy>
  <dcterms:modified xsi:type="dcterms:W3CDTF">2019-02-07T11:13:16Z</dcterms:modified>
  <cp:revision>6</cp:revision>
  <dc:subject/>
  <dc:title>Het ICF model</dc:title>
</cp:coreProperties>
</file>