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0C67-0F01-4CD8-AE10-509E7E100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C5AD-8778-4D3C-B2D4-7334B80B9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CD7B-A501-4C3F-B9CD-FD4D1EA38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501E-CAEF-4D6E-BE47-9685621A6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0173-BFDE-4B86-A242-B7ED8355F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FF1A-7C7E-403B-A89C-408C4308D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E1F7-3C83-4F25-8B6F-F9BA5D46C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3213-961F-4BDA-B362-09FACBC0A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721F-3901-4D70-90D8-08542E332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F931-E947-4E5C-BD35-62031852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9183-318A-4216-A34B-9C6425B8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1916-4018-4519-BACC-52263F5F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9F6F6-53CB-41BE-B4C5-8335DFAE817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unstmeststrooi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rkeerde afste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Strooibanen_ingraan_w300"/>
          <p:cNvPicPr/>
          <p:nvPr/>
        </p:nvPicPr>
        <p:blipFill>
          <a:blip r:embed="rId1"/>
          <a:stretch/>
        </p:blipFill>
        <p:spPr>
          <a:xfrm>
            <a:off x="1042920" y="1773360"/>
            <a:ext cx="6913800" cy="44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Waar opletten bij het kunstmeststrooi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- Juiste toerental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- Juiste snelheid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- Gelijke openingen dosering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- Goede aanbouwhoogte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- Strooier schoon maken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- Let op de wind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042920" y="0"/>
            <a:ext cx="6658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m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asisbemesting: hiervan is sprake als er geen gewas op het veld staa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jbemesting &gt; 55 cm.: hiervan is sprake als er een gewas op het veld staat en het mogelijk is om de strooischijven meer dan 55 cm. boven het gewas te heff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jbemesting &lt; 55 cm.: hiervan is sprake als er een gewas op het veld staat en het NIET mogelijk is om de strooischijven meer dan 55 cm. boven het gewas te heffe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fdraaiproe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Arial"/>
              </a:rPr>
              <a:t>Afdraaipro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 een afdraaiproef wordt bij een vooraf ingestelde stand van de doseerschuif bekeken of de hoeveelheid kunstmest die er uitstroomt juist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antstrooi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ant-af stroo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wordt langs de perceelsrand gereden en is er een scherpe begrenzing van h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stroo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-Voordeel: geen kunstmest in het oppervlakte water of naast gelegen perc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-Nadeel: extra spoor in het gew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antstrooi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ant-opstroo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kan door de evt. spuitsporen gereden worden, maar is de begrenzing minder nauwkeur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-Voordeel: geen extra spoor in het gew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-Nadeel: Kans dat er kunstmest in het oppervlakte water of naast gelegen perc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zeefrangemet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oede kunstmest heeft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korrelgrootteverdeling die ligt tussen de 2.00 en 4.75 m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websiteherrecanaon103"/>
          <p:cNvPicPr/>
          <p:nvPr/>
        </p:nvPicPr>
        <p:blipFill>
          <a:blip r:embed="rId1"/>
          <a:stretch/>
        </p:blipFill>
        <p:spPr>
          <a:xfrm>
            <a:off x="1763640" y="1916280"/>
            <a:ext cx="53341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websiteherrecanaon104"/>
          <p:cNvPicPr/>
          <p:nvPr/>
        </p:nvPicPr>
        <p:blipFill>
          <a:blip r:embed="rId1"/>
          <a:stretch/>
        </p:blipFill>
        <p:spPr>
          <a:xfrm>
            <a:off x="1908000" y="2060640"/>
            <a:ext cx="53341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oor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entrifugaalstroo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ndelstroo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neumatische stroo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websiteherrecanaon105"/>
          <p:cNvPicPr/>
          <p:nvPr/>
        </p:nvPicPr>
        <p:blipFill>
          <a:blip r:embed="rId1"/>
          <a:stretch/>
        </p:blipFill>
        <p:spPr>
          <a:xfrm>
            <a:off x="1763640" y="1844640"/>
            <a:ext cx="53341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korrelhardheidsmet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oede kunstmest kan tegen een stootje van minstens 4 k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websiteherrecanaon001"/>
          <p:cNvPicPr/>
          <p:nvPr/>
        </p:nvPicPr>
        <p:blipFill>
          <a:blip r:embed="rId1"/>
          <a:stretch/>
        </p:blipFill>
        <p:spPr>
          <a:xfrm>
            <a:off x="2484360" y="1341360"/>
            <a:ext cx="38116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websiteherrecanaon002"/>
          <p:cNvPicPr/>
          <p:nvPr/>
        </p:nvPicPr>
        <p:blipFill>
          <a:blip r:embed="rId1"/>
          <a:stretch/>
        </p:blipFill>
        <p:spPr>
          <a:xfrm>
            <a:off x="2556000" y="1557360"/>
            <a:ext cx="3541680" cy="47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websiteherrecanaon003"/>
          <p:cNvPicPr/>
          <p:nvPr/>
        </p:nvPicPr>
        <p:blipFill>
          <a:blip r:embed="rId1"/>
          <a:stretch/>
        </p:blipFill>
        <p:spPr>
          <a:xfrm>
            <a:off x="2627280" y="1268280"/>
            <a:ext cx="386568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endelstroo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actueel-AJK-Jong-Twente-kantlijn"/>
          <p:cNvPicPr/>
          <p:nvPr/>
        </p:nvPicPr>
        <p:blipFill>
          <a:blip r:embed="rId1"/>
          <a:stretch/>
        </p:blipFill>
        <p:spPr>
          <a:xfrm>
            <a:off x="2268360" y="1989000"/>
            <a:ext cx="4680000" cy="37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breedte 2 – 15 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rooibe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826920" y="4221000"/>
            <a:ext cx="748836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centrifugaalstrooier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Ratoflow strooier"/>
          <p:cNvPicPr/>
          <p:nvPr/>
        </p:nvPicPr>
        <p:blipFill>
          <a:blip r:embed="rId1"/>
          <a:stretch/>
        </p:blipFill>
        <p:spPr>
          <a:xfrm>
            <a:off x="1042920" y="1844640"/>
            <a:ext cx="6913800" cy="39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breedte 6 – 45 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rooibe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1547640" y="3224160"/>
            <a:ext cx="619308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neumatische stroo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Pneumatisch kunstmest strooien"/>
          <p:cNvPicPr/>
          <p:nvPr/>
        </p:nvPicPr>
        <p:blipFill>
          <a:blip r:embed="rId1"/>
          <a:stretch/>
        </p:blipFill>
        <p:spPr>
          <a:xfrm>
            <a:off x="1042920" y="1341360"/>
            <a:ext cx="6912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breedte tot 24 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rooibe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042920" y="4149720"/>
            <a:ext cx="698508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rooibe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actueel_04_l"/>
          <p:cNvPicPr/>
          <p:nvPr/>
        </p:nvPicPr>
        <p:blipFill>
          <a:blip r:embed="rId1"/>
          <a:stretch/>
        </p:blipFill>
        <p:spPr>
          <a:xfrm>
            <a:off x="1116000" y="1628640"/>
            <a:ext cx="7128000" cy="47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5T12:50:20Z</dcterms:created>
  <dc:creator>eyk</dc:creator>
  <dc:description/>
  <dc:language>en-US</dc:language>
  <cp:lastModifiedBy>Teun van Ooijen</cp:lastModifiedBy>
  <dcterms:modified xsi:type="dcterms:W3CDTF">2019-02-27T12:45:08Z</dcterms:modified>
  <cp:revision>2</cp:revision>
  <dc:subject/>
  <dc:title>Kunstmeststrooien</dc:title>
</cp:coreProperties>
</file>