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3897-C717-4143-A5F0-907C45DB3FD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6659-684C-410A-B255-0F220DCEB04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6AC0-59CF-4744-8DD2-66F4F4E5289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B7D2-9985-4AD8-86AA-F6A05FC6A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5A8A-6D41-4C09-A444-11D00191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01A7-E283-4A37-B47B-C5A33370A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1B13-A59D-4E0F-A963-0724AEE77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4FBB-7265-4576-A4F1-14D8960BC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60CE-39EB-47EE-8170-95001F47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6F29-3B45-40A6-A58B-88D82BCE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8B88-CDAA-4BC3-9DFB-276606DF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9B53-CBDD-466C-BA33-471CC38B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ED1E-70A8-44C5-8030-6ADE7EA5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2953-8EEF-4D18-98E4-1ED674C5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1AED-2FBC-4C6F-A899-064D92A4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9AF8-6183-4D0B-80DB-8977F5A8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5AF2-92B3-44A7-B49D-7550BF20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BC1E-4B72-4165-86DF-E67625AD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8B56-EDC0-46E8-B6F4-0B0162740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2E1B-381D-48F7-B203-059C54B28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B85E-7154-49D7-B4AB-3B4F9858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5B06-3F0F-42FC-A24D-8270C837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221C-476C-42FE-9261-3A9AE5EB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3D73-0E4E-4DDC-8C29-644FF1CD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68D3-D4BD-48AB-829F-9903DD03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6158-D60A-4BAA-8637-351FAA52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F2CE-262F-4C74-8A6D-AB19C293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\\dgorbet\c\WINDOWS\Desktop\Sprite 10.jpg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C169-88DE-4D0E-AD87-216B74A89EB6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65F0-473B-4092-8D3C-BBFFD4C4496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\\dgorbet\c\WINDOWS\Desktop\Sprite 10.jpg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4680" y="2895480"/>
            <a:ext cx="9148680" cy="11304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AE12-336D-4336-8C33-C89C5529EFE5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858F-8B12-456F-B87E-6F19ED549A8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84F5-0CBD-41D7-849A-5ABE69B4DEED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FA9B-1345-4E17-8101-FCEE4DEB744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pfriscursus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Jose Kamphui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Les 1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946680" y="1203480"/>
            <a:ext cx="157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C O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68FC-CBAB-49E3-AD2A-9FAA1F2BF2C7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AC2B-4FD9-4BF4-A5E6-B341BE98AFA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finiti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olvabilitei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et vermogen van het bedrijf om d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LANGE termijn schulden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te kunnen beta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iquiditei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et vermogen van het bedrijf om d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KORTE termijn schulden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te kunnen beta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8A4A-EC14-4C19-A370-5C1217656823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56F8-1C77-45F5-8FF5-7B1A289598C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26"/>
          <p:cNvSpPr/>
          <p:nvPr/>
        </p:nvSpPr>
        <p:spPr>
          <a:xfrm>
            <a:off x="4267080" y="3733920"/>
            <a:ext cx="4876920" cy="1066680"/>
          </a:xfrm>
          <a:prstGeom prst="ellipse">
            <a:avLst/>
          </a:prstGeom>
          <a:gradFill rotWithShape="0">
            <a:gsLst>
              <a:gs pos="0">
                <a:srgbClr val="00cccc"/>
              </a:gs>
              <a:gs pos="100000">
                <a:srgbClr val="ff3300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quid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erkkapitaa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= Vla – Kort V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urrent rati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= Vla / Kort V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Quick rati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34000">
                <a:solidFill>
                  <a:srgbClr val="ffffff"/>
                </a:solidFill>
                <a:latin typeface="Arial Black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Vla – voorraa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Kort V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648320" y="1523880"/>
          <a:ext cx="4267080" cy="3684600"/>
        </p:xfrm>
        <a:graphic>
          <a:graphicData uri="http://schemas.openxmlformats.org/drawingml/2006/table">
            <a:tbl>
              <a:tblPr/>
              <a:tblGrid>
                <a:gridCol w="2209680"/>
                <a:gridCol w="205740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as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aste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Eigen verm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Lang vreemd verm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lottende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Kort vreemd verm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taal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taal pas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" dur="1" fill="hold"/>
                                  <p:tgtEl>
                                    <p:spTgt spid="1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71" dur="1" fill="hold"/>
                                  <p:tgtEl>
                                    <p:spTgt spid="1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72" dur="1" fill="hold"/>
                                  <p:tgtEl>
                                    <p:spTgt spid="15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2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EF66-0AB6-4215-AC62-469D719149C8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ijdelijke aanduiding voor voettekst 3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ijdelijke aanduiding voor dianummer 4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43BB-3644-414F-9005-DE2ACB702F2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1295280"/>
            <a:ext cx="3809880" cy="510552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80880" y="1523880"/>
            <a:ext cx="3200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Het lezen van een jaarverslag is vaak lastig omdat dezelfde begrippen steeds een andere naam krij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s je d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ructuu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kent, weet je in ieder geval waar je moet zoek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52280" y="1447920"/>
            <a:ext cx="152640" cy="4952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4427640" y="1523880"/>
            <a:ext cx="4335480" cy="38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pfrissen kengeta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alansbegri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lvabi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quid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0C8D-F069-48AF-9FBC-9372AF832B0C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B544-C327-4108-AF65-A7AF074C87D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deling van een bala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lottend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quide midde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lvabiliteit =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V / TV * 100%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648320" y="1523880"/>
          <a:ext cx="4267080" cy="3888000"/>
        </p:xfrm>
        <a:graphic>
          <a:graphicData uri="http://schemas.openxmlformats.org/drawingml/2006/table">
            <a:tbl>
              <a:tblPr/>
              <a:tblGrid>
                <a:gridCol w="2209680"/>
                <a:gridCol w="205740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as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aste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Eigen verm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reemd vermogen (la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lottende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reemd vermogen (kor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taal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taal pas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7922-4D03-48E1-B659-391D9429A308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6676-6501-4EA2-84A5-A355EA1F7CE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mmateriële 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oodwil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ctrooi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Kosten van onderzoek en ontwikkel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teriële 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ebouw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ventaris / machines / gereedschapp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uto’s en computer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inanciële 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andelen in ‘verbonden’ onderneming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61DA-F63B-4462-92F1-A647062BE470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78FB-BE2C-4B9A-8E9E-857B3D18280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lottend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Voorrad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rondstoffen en gereed produc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andelsvoorraa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ewaardeerd naa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inkoopwaarde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of productiekost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biteuren / vorderin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iquide middel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anktegoed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Kasgel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D593-8DAA-4184-B2C8-5766AC69CB15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CD45-36D8-4763-AD21-53AD09328AC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igen vermo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leg van de eigen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andelenkapitaa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atschappelijk kapitaa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eplaatst kapitaa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&gt; 20% v/h maatschappelijk kapitaal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ominaal kapitaal ↔ beurswaard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olgestort kapitaa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serv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instreserv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gioreserv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erwaarderingsreserv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9" name="Picture 43" descr="C:\Program Files\Microsoft Office\Clipart\corpbas\j0078725.wmf"/>
          <p:cNvPicPr/>
          <p:nvPr/>
        </p:nvPicPr>
        <p:blipFill>
          <a:blip r:embed="rId1"/>
          <a:stretch/>
        </p:blipFill>
        <p:spPr>
          <a:xfrm>
            <a:off x="6248520" y="1600200"/>
            <a:ext cx="270180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5DD0-2DD7-4499-9E10-C050FEFBBC0F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40A0-B925-42D3-AB46-0051ADFC991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5" descr="C:\Program Files\Microsoft Office\Clipart\standard\stddir1\BD06961_.WMF"/>
          <p:cNvPicPr/>
          <p:nvPr/>
        </p:nvPicPr>
        <p:blipFill>
          <a:blip r:embed="rId1"/>
          <a:stretch/>
        </p:blipFill>
        <p:spPr>
          <a:xfrm>
            <a:off x="7362720" y="4724280"/>
            <a:ext cx="1781280" cy="17384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ang vreemd vermo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chtergestelde (a/g) l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ante Agaath’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ypothecaire l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nderpan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ooptijd 15-30 j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Zakelijke l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ooptijd typisch 10 j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nanciële lease verplichtin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6" name="Picture 4" descr="C:\Program Files\Microsoft Office\Clipart\standard\stddir1\BD06959_.WMF"/>
          <p:cNvPicPr/>
          <p:nvPr/>
        </p:nvPicPr>
        <p:blipFill>
          <a:blip r:embed="rId2"/>
          <a:stretch/>
        </p:blipFill>
        <p:spPr>
          <a:xfrm>
            <a:off x="6324480" y="2438280"/>
            <a:ext cx="15512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921D-E6F9-4F44-9E93-9208AA556789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0964-B4CD-4B25-BB05-2C4BD106AB8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Kort vreemd vermo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kening courant kredie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ood staan bij de ban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rediteur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og te betalen ko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og te betalen belastin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jdelijke aanduiding voor datum 4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21D5-21AF-4D23-8EFB-2314ECC8B868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ijdelijke aanduiding voor voettekst 5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ijdelijke aanduiding voor dianummer 6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DBFB-A114-4694-B82C-1ED52B87552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lvabil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6" name="Object 3"/>
          <p:cNvGraphicFramePr/>
          <p:nvPr/>
        </p:nvGraphicFramePr>
        <p:xfrm>
          <a:off x="228600" y="1143000"/>
          <a:ext cx="426708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42670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Zeer hoge waarden bij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tichting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ivé person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oed lopend bedrijf meestal in het gele gebie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tartend bedrijf moet boven 20%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" dur="1" fill="hold"/>
                                  <p:tgtEl>
                                    <p:spTgt spid="14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bert Oosterom</dc:creator>
  <dc:description/>
  <dc:language>en-US</dc:language>
  <cp:lastModifiedBy>José Kamphuis</cp:lastModifiedBy>
  <dcterms:modified xsi:type="dcterms:W3CDTF">2018-01-07T16:12:21Z</dcterms:modified>
  <cp:revision>14</cp:revision>
  <dc:subject/>
  <dc:title>PowerPoint-presentatie</dc:title>
</cp:coreProperties>
</file>