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271C4-FBDB-4AC4-ACCC-75EC82609F0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34A0E-6500-4E84-9F1E-83FE0705107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7E509-FB28-486C-977F-A8396469FF8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6C28-0B06-449F-A0E2-A93B3FC26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DA37-3EE8-4D9B-90DF-AFB5FDD83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FD90-036F-4E5F-9F99-11A7E9CFB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860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584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272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C8B8-7729-47B6-881F-77CDFC85F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F92B1-7FEA-4B24-8C59-987C5B614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68E37-6968-4F2F-9A22-6E9C646FB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0A7CD-5825-4714-8E80-CFB4262A8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91D8F-EE65-4962-86C0-E518D8266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57771-C881-4C61-8887-3381242B6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F41FA-FC55-4F08-9713-021772B5B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18328-A5C5-4F06-9DC7-E0C43678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01E0-131A-435D-BFAB-0A01E5384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DC991-569D-4D5C-964A-120042BB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94B38-34F3-45FE-9347-12BC5731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21CBC-0520-4E91-934C-39FC3E814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E65A9-EF10-43CD-936C-6785A165F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6584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0272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ECD1E-34E5-45CC-9237-DC687EEF8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E312-B084-4D17-9B56-9D3BD76F1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049E-FD97-40AA-B376-225E9AE23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A279-F4F1-4368-B70D-A1F86058C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7A42-4E7C-4C97-B571-B1DE9E38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33BE-B862-46AA-8C89-F3222D59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4DBD-9FB7-40E2-A3F4-B67E29D0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1651-D2ED-49B8-9EEF-9C9F1C9D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Sprite 10"/>
          <p:cNvPicPr/>
          <p:nvPr/>
        </p:nvPicPr>
        <p:blipFill>
          <a:blip r:embed="rId2"/>
          <a:srcRect l="0" t="0" r="416" b="1937"/>
          <a:stretch/>
        </p:blipFill>
        <p:spPr>
          <a:xfrm>
            <a:off x="0" y="0"/>
            <a:ext cx="9144000" cy="1130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BD2B7-41FA-4BB0-AD3B-FB593023B86B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0A385-72C2-4134-971F-C2EDE941DD3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113040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Sprite 10"/>
          <p:cNvPicPr/>
          <p:nvPr/>
        </p:nvPicPr>
        <p:blipFill>
          <a:blip r:embed="rId2"/>
          <a:srcRect l="-31" t="0" r="416" b="1937"/>
          <a:stretch/>
        </p:blipFill>
        <p:spPr>
          <a:xfrm>
            <a:off x="-4680" y="2895480"/>
            <a:ext cx="9148680" cy="11304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"/>
          <p:cNvSpPr/>
          <p:nvPr/>
        </p:nvSpPr>
        <p:spPr>
          <a:xfrm>
            <a:off x="0" y="402588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2743200"/>
            <a:ext cx="9142560" cy="15228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EFD86-6066-4272-9FAD-862638A63F18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CE518-DB7C-4E33-AC81-F925BD75E0F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EF329-9473-4DF5-BB2E-20F60B25A7D1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2E0C4-5CBD-481D-886D-7BFC7FD5595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Opfriscursus kengetall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Narrow"/>
              </a:rPr>
              <a:t>Jose Kamphui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Narrow"/>
              </a:rPr>
              <a:t>Les 3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946680" y="1203480"/>
            <a:ext cx="1575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C O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jdelijke aanduiding voor datum 2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BF19F-A61D-460A-8EF8-939D8F0A2E31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ijdelijke aanduiding voor voettekst 3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ijdelijke aanduiding voor dianummer 4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559E6-F730-4925-893F-A76618AE3D7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0" y="1295280"/>
            <a:ext cx="3809880" cy="510552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380880" y="1523880"/>
            <a:ext cx="3200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Het lezen van een jaarverslag is vaak lastig omdat dezelfde begrippen steeds een andere naam krij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ls je d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ructuu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kent, weet je in ieder geval waar je moet zoek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152280" y="1447920"/>
            <a:ext cx="152640" cy="4952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4356000" y="1523880"/>
            <a:ext cx="4464000" cy="19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mloopsnelhe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Omzetdu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Debiteurensal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AAD7C-CDF6-4DFE-B58D-58035072DE7F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DC47F-9EA0-475C-A32F-F79651E011F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at is de omloopsnelheid?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Het is belangrijk dat de voorraad niet te lang blijft ligg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e gemiddelde magazijntijd wordt weergegeven in de omzetduu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e omloopsnelheid geeft aan hoe vaak de voorraad verkocht wordt per jaa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13" name="Picture 9" descr="Aanvoer bloemen vanaf Schiphol"/>
          <p:cNvPicPr/>
          <p:nvPr/>
        </p:nvPicPr>
        <p:blipFill>
          <a:blip r:embed="rId1"/>
          <a:srcRect l="0" t="0" r="3704" b="0"/>
          <a:stretch/>
        </p:blipFill>
        <p:spPr>
          <a:xfrm>
            <a:off x="457200" y="4800600"/>
            <a:ext cx="1981080" cy="133668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20"/>
          <p:cNvSpPr/>
          <p:nvPr/>
        </p:nvSpPr>
        <p:spPr>
          <a:xfrm>
            <a:off x="2590920" y="5105520"/>
            <a:ext cx="990360" cy="685800"/>
          </a:xfrm>
          <a:prstGeom prst="rightArrow">
            <a:avLst>
              <a:gd name="adj1" fmla="val 50000"/>
              <a:gd name="adj2" fmla="val 36102"/>
            </a:avLst>
          </a:prstGeom>
          <a:solidFill>
            <a:srgbClr val="99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u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27" descr="http://www.c1000peterderijke.nl/upload/256903505.jpg"/>
          <p:cNvPicPr/>
          <p:nvPr/>
        </p:nvPicPr>
        <p:blipFill>
          <a:blip r:embed="rId2"/>
          <a:stretch/>
        </p:blipFill>
        <p:spPr>
          <a:xfrm>
            <a:off x="3733920" y="4724280"/>
            <a:ext cx="2209680" cy="147168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22"/>
          <p:cNvSpPr/>
          <p:nvPr/>
        </p:nvSpPr>
        <p:spPr>
          <a:xfrm>
            <a:off x="6095880" y="5105520"/>
            <a:ext cx="990720" cy="685800"/>
          </a:xfrm>
          <a:prstGeom prst="rightArrow">
            <a:avLst>
              <a:gd name="adj1" fmla="val 50000"/>
              <a:gd name="adj2" fmla="val 36115"/>
            </a:avLst>
          </a:prstGeom>
          <a:solidFill>
            <a:srgbClr val="99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 au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5" descr="http://tbn0.google.com/images?q=tbn:NCe4YR3gRdzVeM:http://bp3.blogger.com/_Qu_eMn_Ud88/RdrTp6Q4D2I/AAAAAAAAAdY/YS98g0qDlEw/s320/bloemenderuijterstraat.gif"/>
          <p:cNvPicPr/>
          <p:nvPr/>
        </p:nvPicPr>
        <p:blipFill>
          <a:blip r:embed="rId3"/>
          <a:stretch/>
        </p:blipFill>
        <p:spPr>
          <a:xfrm>
            <a:off x="7238880" y="4724280"/>
            <a:ext cx="1128960" cy="15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8043B-815C-44E3-AFD2-45AE01D38C1F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2C528-B403-47E2-859D-63BD28AE90B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mloopsnelheid en omzetduu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04920" y="2438280"/>
          <a:ext cx="8534160" cy="1195560"/>
        </p:xfrm>
        <a:graphic>
          <a:graphicData uri="http://schemas.openxmlformats.org/drawingml/2006/table">
            <a:tbl>
              <a:tblPr/>
              <a:tblGrid>
                <a:gridCol w="3962160"/>
                <a:gridCol w="4343400"/>
                <a:gridCol w="228600"/>
              </a:tblGrid>
              <a:tr h="51840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Omloopsnelheid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Inkoopwaar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Gemiddelde voorra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1371600" y="4572000"/>
          <a:ext cx="6808680" cy="1195560"/>
        </p:xfrm>
        <a:graphic>
          <a:graphicData uri="http://schemas.openxmlformats.org/drawingml/2006/table">
            <a:tbl>
              <a:tblPr/>
              <a:tblGrid>
                <a:gridCol w="2967120"/>
                <a:gridCol w="3623040"/>
                <a:gridCol w="218880"/>
              </a:tblGrid>
              <a:tr h="51840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Omzetduur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365 dag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Omloopsnelhe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124" name="Group 51"/>
          <p:cNvGrpSpPr/>
          <p:nvPr/>
        </p:nvGrpSpPr>
        <p:grpSpPr>
          <a:xfrm>
            <a:off x="2513520" y="1600200"/>
            <a:ext cx="2820600" cy="838080"/>
            <a:chOff x="2513520" y="1600200"/>
            <a:chExt cx="2820600" cy="838080"/>
          </a:xfrm>
        </p:grpSpPr>
        <p:sp>
          <p:nvSpPr>
            <p:cNvPr id="125" name="Line 47"/>
            <p:cNvSpPr/>
            <p:nvPr/>
          </p:nvSpPr>
          <p:spPr>
            <a:xfrm>
              <a:off x="4800600" y="2057400"/>
              <a:ext cx="533520" cy="380880"/>
            </a:xfrm>
            <a:prstGeom prst="line">
              <a:avLst/>
            </a:prstGeom>
            <a:ln cap="sq"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Text Box 48"/>
            <p:cNvSpPr/>
            <p:nvPr/>
          </p:nvSpPr>
          <p:spPr>
            <a:xfrm>
              <a:off x="2513520" y="1600200"/>
              <a:ext cx="233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Uit W&amp;V-reken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Group 52"/>
          <p:cNvGrpSpPr/>
          <p:nvPr/>
        </p:nvGrpSpPr>
        <p:grpSpPr>
          <a:xfrm>
            <a:off x="3505320" y="3505320"/>
            <a:ext cx="1752480" cy="703440"/>
            <a:chOff x="3505320" y="3505320"/>
            <a:chExt cx="1752480" cy="703440"/>
          </a:xfrm>
        </p:grpSpPr>
        <p:sp>
          <p:nvSpPr>
            <p:cNvPr id="128" name="Text Box 49"/>
            <p:cNvSpPr/>
            <p:nvPr/>
          </p:nvSpPr>
          <p:spPr>
            <a:xfrm>
              <a:off x="3505320" y="3809880"/>
              <a:ext cx="139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Uit bala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50"/>
            <p:cNvSpPr/>
            <p:nvPr/>
          </p:nvSpPr>
          <p:spPr>
            <a:xfrm flipV="1">
              <a:off x="4648320" y="3505320"/>
              <a:ext cx="609480" cy="304560"/>
            </a:xfrm>
            <a:prstGeom prst="line">
              <a:avLst/>
            </a:prstGeom>
            <a:ln cap="sq"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Group 53"/>
          <p:cNvGrpSpPr/>
          <p:nvPr/>
        </p:nvGrpSpPr>
        <p:grpSpPr>
          <a:xfrm>
            <a:off x="534600" y="5334120"/>
            <a:ext cx="1751400" cy="703440"/>
            <a:chOff x="534600" y="5334120"/>
            <a:chExt cx="1751400" cy="703440"/>
          </a:xfrm>
        </p:grpSpPr>
        <p:sp>
          <p:nvSpPr>
            <p:cNvPr id="131" name="Text Box 54"/>
            <p:cNvSpPr/>
            <p:nvPr/>
          </p:nvSpPr>
          <p:spPr>
            <a:xfrm>
              <a:off x="534600" y="5638680"/>
              <a:ext cx="122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in dag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55"/>
            <p:cNvSpPr/>
            <p:nvPr/>
          </p:nvSpPr>
          <p:spPr>
            <a:xfrm flipV="1">
              <a:off x="1676520" y="5334120"/>
              <a:ext cx="609480" cy="304560"/>
            </a:xfrm>
            <a:prstGeom prst="line">
              <a:avLst/>
            </a:prstGeom>
            <a:ln cap="sq"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2" dur="1" fill="hold"/>
                                  <p:tgtEl>
                                    <p:spTgt spid="13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4B8AB-4378-4155-98C1-008B4D33889F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B5D02-F2AB-41CA-9D09-D8B7B766BCA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Gemiddeld debiteurensaldo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Black"/>
              </a:rPr>
              <a:t>Gemiddelde bedrag dat uitstaat bij de debiteur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het gemiddelde van heel veel momentopnam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Black"/>
              </a:rPr>
              <a:t>Debiteuren kosten geld, omdat je ze moet voorfinancier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Tegenover debiteuren staat een lening in de balans → kost rent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1F4FF-AFAF-495B-AF3A-E9E9995E019D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849BF-D39D-4F29-9D67-8FF3F2DF946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Gemiddelde debiteurensaldo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Omzet kan op 2 manieren betaald worden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à contant </a:t>
            </a: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(boek je direct op liquide middelen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p krediet </a:t>
            </a: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(boek je op debiteuren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Debiteurensaldo ≈ debiteuren </a:t>
            </a:r>
            <a:r>
              <a:rPr b="1" lang="en-US" sz="2200" spc="-1" strike="noStrike">
                <a:solidFill>
                  <a:srgbClr val="ffffff"/>
                </a:solidFill>
                <a:latin typeface="Arial Black"/>
              </a:rPr>
              <a:t>x</a:t>
            </a: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 kredietduur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DS = dagelijkse omzet op krediet  x 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aantal dagen dat de factuur open staat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DS = DOOK  x  t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gem. DS = gem. DOOK  x  gem. t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28600" y="4800600"/>
          <a:ext cx="8915400" cy="1195560"/>
        </p:xfrm>
        <a:graphic>
          <a:graphicData uri="http://schemas.openxmlformats.org/drawingml/2006/table">
            <a:tbl>
              <a:tblPr/>
              <a:tblGrid>
                <a:gridCol w="1103400"/>
                <a:gridCol w="3773520"/>
                <a:gridCol w="4038480"/>
              </a:tblGrid>
              <a:tr h="4575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DS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Jaaromzet op kredi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x gemidd. kredietduu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365 dag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  <p:animClr clrSpc="rgb"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  <p:animClr clrSpc="rgb"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D3408-86AA-4087-8CE7-66B372442A2F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931D7-7915-4386-ACF7-9967E7EB57F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efening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Bereken het gemiddelde debiteurensaldo als een bedrijf jaarlijks € 75.000,- omzet op krediet heeft en de gemiddelde krediettermijn 25 dagen bedraag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Bereken de omloopsnelheid als een bedrijf aan inkoop jaarlijks € 600.000,- uitgeeft en de gemiddelde waarde van de voorraad € 50.000,- bedraag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at betekenen de getallen die je hebt uitgerekend?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ijdelijke aanduiding voor datum 4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E16C0-511B-4CD9-A3AE-59327CAFC68F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ijdelijke aanduiding voor voettekst 5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ijdelijke aanduiding voor dianummer 6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9DEA5-2009-46CA-B42E-9BDA97C694D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amenvatting kengetall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3352680" cy="320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190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cc"/>
                </a:solidFill>
                <a:latin typeface="Arial Black"/>
              </a:rPr>
              <a:t>Balans kengetall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190440" indent="-19044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iquiditei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2" marL="108576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Werkkapitaa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2" marL="108576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urrent ratio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2" marL="108576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Quick ratio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190440" indent="-19044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olvabilitei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733560" y="1447920"/>
            <a:ext cx="5181480" cy="320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cc"/>
                </a:solidFill>
                <a:latin typeface="Arial Black"/>
              </a:rPr>
              <a:t>W&amp;V kengetall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Brutowinst als % v/d omzet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Nettowinst als % v/d omze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cc"/>
                </a:solidFill>
                <a:latin typeface="Arial Black"/>
              </a:rPr>
              <a:t>W&amp;V + extra gegeven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Omzet per 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 Blac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per week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Omzet per werknemer p.j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ebiteurensaldo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1219320" y="4800600"/>
            <a:ext cx="6705360" cy="1600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cc"/>
                </a:solidFill>
                <a:latin typeface="Arial Black"/>
              </a:rPr>
              <a:t>Kengetallen o.b.v. Balans + W&amp;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ntabiliteit EV en T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mloopsnelheid en omzetdu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bbert Oosterom</dc:creator>
  <dc:description/>
  <dc:language>en-US</dc:language>
  <cp:lastModifiedBy>José Kamphuis</cp:lastModifiedBy>
  <dcterms:modified xsi:type="dcterms:W3CDTF">2018-01-07T16:19:55Z</dcterms:modified>
  <cp:revision>20</cp:revision>
  <dc:subject/>
  <dc:title>PowerPoint-presentatie</dc:title>
</cp:coreProperties>
</file>