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AE9A-C6E6-4496-8B68-3096FBE42AD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9970-78E1-4DDA-A0DB-5F15D7F75D4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C97C-B2F9-45FE-B51A-823982ABC1B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4D2E-40A6-454A-AEB1-DC87D7418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7B5C-7759-4031-B8E4-BBE663EE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EBF3-6877-458F-8808-3AA1B0615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7F91-DF25-4E19-8CAF-9D004BE7B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D12F-5DA7-4F00-BFFE-586A3A983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2778-93F4-4D2A-A24B-8C0260AF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877D-4179-412E-84F2-00B5A403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95B4-F5B4-443E-B344-B073A813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50EF-F93A-41EF-8E37-F194D1C2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F26D-1E26-4956-B886-2BCE61D7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8207-E558-44A0-8724-DAE2DFA8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DF58-C444-4DB1-8E9D-303A1753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24E1-5700-490B-B807-9899E743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2D3E-183B-4862-9296-0A639176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08FFF-3EB5-40F9-A63E-0DADC197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5D9F-2A78-4719-BC9B-141C52112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EA83-EDB8-466A-9E29-950EB03E2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E325-E9C5-454D-8699-BF27D494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18B6-7AF0-4E7A-9714-2D3F0143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9B5B-9B1C-4F44-B571-F6CDAEDA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2FB7-BEC0-4915-BFF7-DB33B521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4E99-2D0F-48F7-9D82-4BDE6E86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74EE-EFA4-47A8-9B34-340DCF07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8410-05A2-4EB2-8941-963D6BD2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\\dgorbet\c\WINDOWS\Desktop\Sprite 10.jpg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333E-7A05-4595-B3DE-7A8827C26638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AC42-E4FC-484F-87A1-BDE275EBDB0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\\dgorbet\c\WINDOWS\Desktop\Sprite 10.jpg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4680" y="2895480"/>
            <a:ext cx="9148680" cy="11304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E8F7-F8FD-481B-9788-37E1A12D520E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BB30-070A-49E0-B6E1-50A296F1F0C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3476-569F-4EBF-A3EB-B302FC8EFD00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7A70-A4E8-44C6-871E-A00496BEBDE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Opfriscursus kengetal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Jose Kamphui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Les 1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946680" y="1203480"/>
            <a:ext cx="1575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C O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85B1-BDA0-46CB-8D8B-460697142714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BA53-91E2-4E68-852B-E6B3F52CC49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finiti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olvabilitei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et vermogen van het bedrijf om d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LANGE termijn schulden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te kunnen beta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Liquiditei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et vermogen van het bedrijf om d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KORTE termijn schulden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te kunnen beta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42FE-6F88-4ECF-A3A1-1B00305893B6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E728-51F5-4574-999B-D4AEF5A4DB5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val 26"/>
          <p:cNvSpPr/>
          <p:nvPr/>
        </p:nvSpPr>
        <p:spPr>
          <a:xfrm>
            <a:off x="4267080" y="3733920"/>
            <a:ext cx="4876920" cy="1066680"/>
          </a:xfrm>
          <a:prstGeom prst="ellipse">
            <a:avLst/>
          </a:prstGeom>
          <a:gradFill rotWithShape="0">
            <a:gsLst>
              <a:gs pos="0">
                <a:srgbClr val="00cccc"/>
              </a:gs>
              <a:gs pos="100000">
                <a:srgbClr val="ff3300"/>
              </a:gs>
            </a:gsLst>
            <a:lin ang="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iquiditei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erkkapitaa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= Vla – Kort V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urrent ratio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= Vla / Kort V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Quick ratio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34000">
                <a:solidFill>
                  <a:srgbClr val="ffffff"/>
                </a:solidFill>
                <a:latin typeface="Arial Black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Vla – voorraa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Kort V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648320" y="1523880"/>
          <a:ext cx="4267080" cy="3684600"/>
        </p:xfrm>
        <a:graphic>
          <a:graphicData uri="http://schemas.openxmlformats.org/drawingml/2006/table">
            <a:tbl>
              <a:tblPr/>
              <a:tblGrid>
                <a:gridCol w="2209680"/>
                <a:gridCol w="205740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AL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as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aste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Eigen verm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Lang vreemd verm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lottende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Kort vreemd verm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taal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taal pas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" dur="1" fill="hold"/>
                                  <p:tgtEl>
                                    <p:spTgt spid="15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71" dur="1" fill="hold"/>
                                  <p:tgtEl>
                                    <p:spTgt spid="15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72" dur="1" fill="hold"/>
                                  <p:tgtEl>
                                    <p:spTgt spid="15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atum 2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27E7-B5E5-455B-9DB0-287C41ADDF40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ijdelijke aanduiding voor voettekst 3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ijdelijke aanduiding voor dianummer 4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61B8-0B75-4D0C-9302-0A8BCF009F7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1295280"/>
            <a:ext cx="3809880" cy="510552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80880" y="1523880"/>
            <a:ext cx="3200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Het lezen van een jaarverslag is vaak lastig omdat dezelfde begrippen steeds een andere naam krij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s je d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ructuu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kent, weet je in ieder geval waar je moet zoek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52280" y="1447920"/>
            <a:ext cx="152640" cy="4952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4427640" y="1523880"/>
            <a:ext cx="4335480" cy="38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Opfrissen kengetal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alansbegri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olvabil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iquid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7171-AB2B-4F4B-8E9F-70E1D40ED469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EF34-350E-4E75-992B-699D9E66EFC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deling van een balan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ast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lottend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iquide midde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olvabiliteit =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V / TV * 100%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648320" y="1523880"/>
          <a:ext cx="4267080" cy="3888000"/>
        </p:xfrm>
        <a:graphic>
          <a:graphicData uri="http://schemas.openxmlformats.org/drawingml/2006/table">
            <a:tbl>
              <a:tblPr/>
              <a:tblGrid>
                <a:gridCol w="2209680"/>
                <a:gridCol w="205740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AL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as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aste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Eigen verm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reemd vermogen (la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lottende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reemd vermogen (kor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taal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taal pas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16B9-65C6-44E4-BCB2-019E13193DE4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C67F-5677-4896-B75A-5186429A6C9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ast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mmateriële vast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Goodwil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ctrooi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Kosten van onderzoek en ontwikkelin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teriële vast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Gebouw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ventaris / machines / gereedschapp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uto’s en computer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inanciële vast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andelen in ‘verbonden’ onderneming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5159-2AD2-42FD-891F-88318D4C84B5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5107-E7C5-49A5-8AB4-7FC32E9D0F7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lottend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Voorrad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rondstoffen en gereed produc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andelsvoorraa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ewaardeerd naa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inkoopwaarde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of productiekost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ebiteuren / vorderin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Liquide middel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anktegoed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Kasgel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6C19-A9A1-4948-AF88-E02CA5B9E7FA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F402-A502-440C-B030-FA8E7FE366B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igen vermo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leg van de eigena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andelenkapitaa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atschappelijk kapitaa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Geplaatst kapitaa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&gt; 20% v/h maatschappelijk kapitaal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ominaal kapitaal ↔ beurswaard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olgestort kapitaa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serv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instreserv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gioreserv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erwaarderingsreserv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9" name="Picture 43" descr="C:\Program Files\Microsoft Office\Clipart\corpbas\j0078725.wmf"/>
          <p:cNvPicPr/>
          <p:nvPr/>
        </p:nvPicPr>
        <p:blipFill>
          <a:blip r:embed="rId1"/>
          <a:stretch/>
        </p:blipFill>
        <p:spPr>
          <a:xfrm>
            <a:off x="6248520" y="1600200"/>
            <a:ext cx="270180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7D1B-EE9E-476D-A0D6-3680FC368DA7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4858-22CA-450F-B391-688C27FFFF4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5" descr="C:\Program Files\Microsoft Office\Clipart\standard\stddir1\BD06961_.WMF"/>
          <p:cNvPicPr/>
          <p:nvPr/>
        </p:nvPicPr>
        <p:blipFill>
          <a:blip r:embed="rId1"/>
          <a:stretch/>
        </p:blipFill>
        <p:spPr>
          <a:xfrm>
            <a:off x="7362720" y="4724280"/>
            <a:ext cx="1781280" cy="17384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ang vreemd vermo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chtergestelde (a/g) len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ante Agaath’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Hypothecaire len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nderpan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ooptijd 15-30 ja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Zakelijke len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ooptijd typisch 10 ja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nanciële lease verplichtin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6" name="Picture 4" descr="C:\Program Files\Microsoft Office\Clipart\standard\stddir1\BD06959_.WMF"/>
          <p:cNvPicPr/>
          <p:nvPr/>
        </p:nvPicPr>
        <p:blipFill>
          <a:blip r:embed="rId2"/>
          <a:stretch/>
        </p:blipFill>
        <p:spPr>
          <a:xfrm>
            <a:off x="6324480" y="2438280"/>
            <a:ext cx="15512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7909-0C80-42F3-94C1-DEAA607A6152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7B72-B6C2-41FF-9A93-A8AE09905CB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Kort vreemd vermo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kening courant kredie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ood staan bij de ban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rediteur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Nog te betalen kost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Nog te betalen belastin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ijdelijke aanduiding voor datum 4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91B1-39B8-434B-B746-719DCBFA886E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ijdelijke aanduiding voor voettekst 5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ijdelijke aanduiding voor dianummer 6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02E7-69FB-47AA-AD42-BF25404A745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olvabilitei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46" name="Object 3"/>
          <p:cNvGraphicFramePr/>
          <p:nvPr/>
        </p:nvGraphicFramePr>
        <p:xfrm>
          <a:off x="228600" y="1143000"/>
          <a:ext cx="426708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3000"/>
                    <a:ext cx="42670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Zeer hoge waarden bij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tichting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ivé person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oed lopend bedrijf meestal in het gele gebie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tartend bedrijf moet boven 20%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" dur="1" fill="hold"/>
                                  <p:tgtEl>
                                    <p:spTgt spid="14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bert Oosterom</dc:creator>
  <dc:description/>
  <dc:language>en-US</dc:language>
  <cp:lastModifiedBy>José Kamphuis</cp:lastModifiedBy>
  <dcterms:modified xsi:type="dcterms:W3CDTF">2018-01-07T16:12:21Z</dcterms:modified>
  <cp:revision>14</cp:revision>
  <dc:subject/>
  <dc:title>PowerPoint-presentatie</dc:title>
</cp:coreProperties>
</file>