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D1EED-A21E-4AB1-AB90-2A9C52B1A185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046D0-8BE2-49A0-8B64-967F4B801DB8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874CA-B690-4DA0-AB8B-7DDBB7095B2C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30A36-4429-42A1-B795-AC57153C2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228600" y="3954960"/>
            <a:ext cx="86868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562DD-C18A-469B-B0C1-0AA61644E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28600" y="39549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80000" y="39549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0B668-E495-4ECE-95D4-1CF986844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65840" y="14475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02720" y="14475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228600" y="39549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65840" y="39549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02720" y="39549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86EEA-6986-41FE-8E1B-B7355601B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55E23-3A88-49B3-A113-D54ACA2C1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1EE40-23A0-4634-9494-17909C57F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9D3D5-B95B-4D23-B398-0513C8E1C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196AD-A692-4F6B-82AB-335672015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F2C21-30AA-4684-A1E0-7DE272AB5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57C17-C0F4-45DA-B017-B198EB9AD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228600" y="39549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0D628-6505-4025-B540-F8E097D55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9700B-5D4E-4CD1-96A4-9F0D85F47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80000" y="39549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934E7-19DE-4D91-87C5-2C86BDBF6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28600" y="3954960"/>
            <a:ext cx="86868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337EB-9EFB-4316-82D0-8D7CD63B8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228600" y="3954960"/>
            <a:ext cx="86868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2B0E3-E0ED-4096-A83C-A12F33B75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228600" y="39549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80000" y="39549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D399D-5FA9-44E1-96FF-8084DD449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165840" y="14475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102720" y="14475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228600" y="39549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165840" y="39549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102720" y="39549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C9CA8-38BD-489C-890D-6F785B584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AA9B9-2C89-4D1C-9B6B-78865455B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CE378-4893-41D8-B6E5-A4324F090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92B0E-1F4B-4C1C-BB99-647F9BD71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2BFE8-329A-438B-AEB1-71FA8AD34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228600" y="39549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1F271-5757-4BB2-97B6-CCF0F9FD7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80000" y="39549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D5CDD-AF13-4F46-AD9B-98F641AC3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28600" y="3954960"/>
            <a:ext cx="86868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E54A2-8DE5-43E6-A3BA-A0A4FA95D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Sprite 10"/>
          <p:cNvPicPr/>
          <p:nvPr/>
        </p:nvPicPr>
        <p:blipFill>
          <a:blip r:embed="rId2"/>
          <a:srcRect l="0" t="0" r="416" b="1937"/>
          <a:stretch/>
        </p:blipFill>
        <p:spPr>
          <a:xfrm>
            <a:off x="0" y="0"/>
            <a:ext cx="9144000" cy="11304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B80AA-1101-463A-A7AA-F1ABD7DA55B3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31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18FCD-FBF2-4773-93CD-A641FD2C4294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0" y="1130400"/>
            <a:ext cx="9142560" cy="1522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0066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0" descr="Sprite 10"/>
          <p:cNvPicPr/>
          <p:nvPr/>
        </p:nvPicPr>
        <p:blipFill>
          <a:blip r:embed="rId2"/>
          <a:srcRect l="-31" t="0" r="416" b="1937"/>
          <a:stretch/>
        </p:blipFill>
        <p:spPr>
          <a:xfrm>
            <a:off x="-4680" y="2895480"/>
            <a:ext cx="9148680" cy="113040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8"/>
          <p:cNvSpPr/>
          <p:nvPr/>
        </p:nvSpPr>
        <p:spPr>
          <a:xfrm>
            <a:off x="0" y="4025880"/>
            <a:ext cx="9142560" cy="1522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0066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9"/>
          <p:cNvSpPr/>
          <p:nvPr/>
        </p:nvSpPr>
        <p:spPr>
          <a:xfrm>
            <a:off x="0" y="2743200"/>
            <a:ext cx="9142560" cy="15228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68580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004CA-F01D-44B3-94C1-63F98DFCCB9B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31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30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193C2-DC57-471D-9464-284FC4554E14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5"/>
          <p:cNvSpPr/>
          <p:nvPr/>
        </p:nvSpPr>
        <p:spPr>
          <a:xfrm>
            <a:off x="68580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9E7FC-44D9-4203-8F6B-80C4E826C34A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31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6"/>
          <p:cNvSpPr/>
          <p:nvPr/>
        </p:nvSpPr>
        <p:spPr>
          <a:xfrm>
            <a:off x="3124080" y="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7"/>
          <p:cNvSpPr/>
          <p:nvPr/>
        </p:nvSpPr>
        <p:spPr>
          <a:xfrm>
            <a:off x="65530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76052-D12B-4244-9613-8DE0790BBA73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 Black"/>
              </a:rPr>
              <a:t>Opfriscursus kengetallen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4419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Narrow"/>
              </a:rPr>
              <a:t>Jose Kamphuis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Narrow"/>
              </a:rPr>
              <a:t>Les 3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3946680" y="1203480"/>
            <a:ext cx="1575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C O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ijdelijke aanduiding voor datum 2"/>
          <p:cNvSpPr/>
          <p:nvPr/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F4720-3C69-442C-9DA7-22C3DC942EDB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31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ijdelijke aanduiding voor voettekst 3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ijdelijke aanduiding voor dianummer 4"/>
          <p:cNvSpPr/>
          <p:nvPr/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90459-0D33-4D10-ADDB-91725C92D236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 Black"/>
              </a:rPr>
              <a:t>Agenda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4" name="Rectangle 3"/>
          <p:cNvSpPr/>
          <p:nvPr/>
        </p:nvSpPr>
        <p:spPr>
          <a:xfrm>
            <a:off x="0" y="1295280"/>
            <a:ext cx="3809880" cy="5105520"/>
          </a:xfrm>
          <a:prstGeom prst="rect">
            <a:avLst/>
          </a:prstGeom>
          <a:solidFill>
            <a:srgbClr val="96969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4"/>
          <p:cNvSpPr/>
          <p:nvPr/>
        </p:nvSpPr>
        <p:spPr>
          <a:xfrm>
            <a:off x="380880" y="1523880"/>
            <a:ext cx="32004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 Narrow"/>
              </a:rPr>
              <a:t>Het lezen van een jaarverslag is vaak lastig omdat dezelfde begrippen steeds een andere naam krijg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ls je de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tructuur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kent, weet je in ieder geval waar je moet zoeken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5"/>
          <p:cNvSpPr/>
          <p:nvPr/>
        </p:nvSpPr>
        <p:spPr>
          <a:xfrm>
            <a:off x="152280" y="1447920"/>
            <a:ext cx="152640" cy="49528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18"/>
          <p:cNvSpPr/>
          <p:nvPr/>
        </p:nvSpPr>
        <p:spPr>
          <a:xfrm>
            <a:off x="4356000" y="1523880"/>
            <a:ext cx="4464000" cy="19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66640" indent="-566640">
              <a:lnSpc>
                <a:spcPct val="100000"/>
              </a:lnSpc>
              <a:spcBef>
                <a:spcPts val="700"/>
              </a:spcBef>
              <a:spcAft>
                <a:spcPts val="1400"/>
              </a:spcAft>
              <a:buSzPct val="20561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Omloopsnelhe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>
              <a:lnSpc>
                <a:spcPct val="100000"/>
              </a:lnSpc>
              <a:spcBef>
                <a:spcPts val="700"/>
              </a:spcBef>
              <a:spcAft>
                <a:spcPts val="1400"/>
              </a:spcAft>
              <a:buSzPct val="20561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 Black"/>
              </a:rPr>
              <a:t>Omzetduu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>
              <a:lnSpc>
                <a:spcPct val="100000"/>
              </a:lnSpc>
              <a:spcBef>
                <a:spcPts val="700"/>
              </a:spcBef>
              <a:spcAft>
                <a:spcPts val="1400"/>
              </a:spcAft>
              <a:buSzPct val="20561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 Black"/>
              </a:rPr>
              <a:t>Debiteurensal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ijdelijke aanduiding voor datum 3"/>
          <p:cNvSpPr/>
          <p:nvPr/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351BB-1C02-401D-9999-1FE556EC8342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31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ijdelijke aanduiding voor voettekst 4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ijdelijke aanduiding voor dianummer 5"/>
          <p:cNvSpPr/>
          <p:nvPr/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98EE1-3AEB-447E-82F0-F5ED20762D1C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Wat is de omloopsnelheid?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868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Het is belangrijk dat de voorraad niet te lang blijft liggen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De gemiddelde magazijntijd wordt weergegeven in de omzetduur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De omloopsnelheid geeft aan hoe vaak de voorraad verkocht wordt per jaar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13" name="Picture 9" descr="Aanvoer bloemen vanaf Schiphol"/>
          <p:cNvPicPr/>
          <p:nvPr/>
        </p:nvPicPr>
        <p:blipFill>
          <a:blip r:embed="rId1"/>
          <a:srcRect l="0" t="0" r="3704" b="0"/>
          <a:stretch/>
        </p:blipFill>
        <p:spPr>
          <a:xfrm>
            <a:off x="457200" y="4800600"/>
            <a:ext cx="1981080" cy="1336680"/>
          </a:xfrm>
          <a:prstGeom prst="rect">
            <a:avLst/>
          </a:prstGeom>
          <a:ln w="0">
            <a:noFill/>
          </a:ln>
        </p:spPr>
      </p:pic>
      <p:sp>
        <p:nvSpPr>
          <p:cNvPr id="114" name="AutoShape 20"/>
          <p:cNvSpPr/>
          <p:nvPr/>
        </p:nvSpPr>
        <p:spPr>
          <a:xfrm>
            <a:off x="2590920" y="5105520"/>
            <a:ext cx="990360" cy="685800"/>
          </a:xfrm>
          <a:prstGeom prst="rightArrow">
            <a:avLst>
              <a:gd name="adj1" fmla="val 50000"/>
              <a:gd name="adj2" fmla="val 36102"/>
            </a:avLst>
          </a:prstGeom>
          <a:solidFill>
            <a:srgbClr val="99ff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 au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27" descr="http://www.c1000peterderijke.nl/upload/256903505.jpg"/>
          <p:cNvPicPr/>
          <p:nvPr/>
        </p:nvPicPr>
        <p:blipFill>
          <a:blip r:embed="rId2"/>
          <a:stretch/>
        </p:blipFill>
        <p:spPr>
          <a:xfrm>
            <a:off x="3733920" y="4724280"/>
            <a:ext cx="2209680" cy="1471680"/>
          </a:xfrm>
          <a:prstGeom prst="rect">
            <a:avLst/>
          </a:prstGeom>
          <a:ln w="0">
            <a:noFill/>
          </a:ln>
        </p:spPr>
      </p:pic>
      <p:sp>
        <p:nvSpPr>
          <p:cNvPr id="116" name="AutoShape 22"/>
          <p:cNvSpPr/>
          <p:nvPr/>
        </p:nvSpPr>
        <p:spPr>
          <a:xfrm>
            <a:off x="6095880" y="5105520"/>
            <a:ext cx="990720" cy="685800"/>
          </a:xfrm>
          <a:prstGeom prst="rightArrow">
            <a:avLst>
              <a:gd name="adj1" fmla="val 50000"/>
              <a:gd name="adj2" fmla="val 36115"/>
            </a:avLst>
          </a:prstGeom>
          <a:solidFill>
            <a:srgbClr val="99ff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 au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5" descr="http://tbn0.google.com/images?q=tbn:NCe4YR3gRdzVeM:http://bp3.blogger.com/_Qu_eMn_Ud88/RdrTp6Q4D2I/AAAAAAAAAdY/YS98g0qDlEw/s320/bloemenderuijterstraat.gif"/>
          <p:cNvPicPr/>
          <p:nvPr/>
        </p:nvPicPr>
        <p:blipFill>
          <a:blip r:embed="rId3"/>
          <a:stretch/>
        </p:blipFill>
        <p:spPr>
          <a:xfrm>
            <a:off x="7238880" y="4724280"/>
            <a:ext cx="1128960" cy="15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ijdelijke aanduiding voor datum 3"/>
          <p:cNvSpPr/>
          <p:nvPr/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33BA6-BC14-41F4-8EA5-CE5734A37F55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31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ijdelijke aanduiding voor voettekst 4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ijdelijke aanduiding voor dianummer 5"/>
          <p:cNvSpPr/>
          <p:nvPr/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CEE9C-FCDA-496A-8C3C-81038D216774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Omloopsnelheid en omzetduur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304920" y="2438280"/>
          <a:ext cx="8534160" cy="1195560"/>
        </p:xfrm>
        <a:graphic>
          <a:graphicData uri="http://schemas.openxmlformats.org/drawingml/2006/table">
            <a:tbl>
              <a:tblPr/>
              <a:tblGrid>
                <a:gridCol w="3962160"/>
                <a:gridCol w="4343400"/>
                <a:gridCol w="228600"/>
              </a:tblGrid>
              <a:tr h="518400"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Omloopsnelheid 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Inkoopwaar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7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Gemiddelde voorraa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23" name=""/>
          <p:cNvGraphicFramePr/>
          <p:nvPr/>
        </p:nvGraphicFramePr>
        <p:xfrm>
          <a:off x="1371600" y="4572000"/>
          <a:ext cx="6808680" cy="1195560"/>
        </p:xfrm>
        <a:graphic>
          <a:graphicData uri="http://schemas.openxmlformats.org/drawingml/2006/table">
            <a:tbl>
              <a:tblPr/>
              <a:tblGrid>
                <a:gridCol w="2967120"/>
                <a:gridCol w="3623040"/>
                <a:gridCol w="218880"/>
              </a:tblGrid>
              <a:tr h="518400">
                <a:tc row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Omzetduur 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365 dag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7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Omloopsnelhei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pSp>
        <p:nvGrpSpPr>
          <p:cNvPr id="124" name="Group 51"/>
          <p:cNvGrpSpPr/>
          <p:nvPr/>
        </p:nvGrpSpPr>
        <p:grpSpPr>
          <a:xfrm>
            <a:off x="2513520" y="1600200"/>
            <a:ext cx="2820600" cy="838080"/>
            <a:chOff x="2513520" y="1600200"/>
            <a:chExt cx="2820600" cy="838080"/>
          </a:xfrm>
        </p:grpSpPr>
        <p:sp>
          <p:nvSpPr>
            <p:cNvPr id="125" name="Line 47"/>
            <p:cNvSpPr/>
            <p:nvPr/>
          </p:nvSpPr>
          <p:spPr>
            <a:xfrm>
              <a:off x="4800600" y="2057400"/>
              <a:ext cx="533520" cy="380880"/>
            </a:xfrm>
            <a:prstGeom prst="line">
              <a:avLst/>
            </a:prstGeom>
            <a:ln cap="sq"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Text Box 48"/>
            <p:cNvSpPr/>
            <p:nvPr/>
          </p:nvSpPr>
          <p:spPr>
            <a:xfrm>
              <a:off x="2513520" y="1600200"/>
              <a:ext cx="2331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Uit W&amp;V-reken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Group 52"/>
          <p:cNvGrpSpPr/>
          <p:nvPr/>
        </p:nvGrpSpPr>
        <p:grpSpPr>
          <a:xfrm>
            <a:off x="3505320" y="3505320"/>
            <a:ext cx="1752480" cy="703440"/>
            <a:chOff x="3505320" y="3505320"/>
            <a:chExt cx="1752480" cy="703440"/>
          </a:xfrm>
        </p:grpSpPr>
        <p:sp>
          <p:nvSpPr>
            <p:cNvPr id="128" name="Text Box 49"/>
            <p:cNvSpPr/>
            <p:nvPr/>
          </p:nvSpPr>
          <p:spPr>
            <a:xfrm>
              <a:off x="3505320" y="3809880"/>
              <a:ext cx="1396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Uit bala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50"/>
            <p:cNvSpPr/>
            <p:nvPr/>
          </p:nvSpPr>
          <p:spPr>
            <a:xfrm flipV="1">
              <a:off x="4648320" y="3505320"/>
              <a:ext cx="609480" cy="304560"/>
            </a:xfrm>
            <a:prstGeom prst="line">
              <a:avLst/>
            </a:prstGeom>
            <a:ln cap="sq"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Group 53"/>
          <p:cNvGrpSpPr/>
          <p:nvPr/>
        </p:nvGrpSpPr>
        <p:grpSpPr>
          <a:xfrm>
            <a:off x="534600" y="5334120"/>
            <a:ext cx="1751400" cy="703440"/>
            <a:chOff x="534600" y="5334120"/>
            <a:chExt cx="1751400" cy="703440"/>
          </a:xfrm>
        </p:grpSpPr>
        <p:sp>
          <p:nvSpPr>
            <p:cNvPr id="131" name="Text Box 54"/>
            <p:cNvSpPr/>
            <p:nvPr/>
          </p:nvSpPr>
          <p:spPr>
            <a:xfrm>
              <a:off x="534600" y="5638680"/>
              <a:ext cx="1226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in dage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55"/>
            <p:cNvSpPr/>
            <p:nvPr/>
          </p:nvSpPr>
          <p:spPr>
            <a:xfrm flipV="1">
              <a:off x="1676520" y="5334120"/>
              <a:ext cx="609480" cy="304560"/>
            </a:xfrm>
            <a:prstGeom prst="line">
              <a:avLst/>
            </a:prstGeom>
            <a:ln cap="sq"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a3baba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a3baba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72" dur="1" fill="hold"/>
                                  <p:tgtEl>
                                    <p:spTgt spid="130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a3baba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ijdelijke aanduiding voor datum 3"/>
          <p:cNvSpPr/>
          <p:nvPr/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BFE2E-B29C-4AAF-813F-9046347682EB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31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ijdelijke aanduiding voor voettekst 4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ijdelijke aanduiding voor dianummer 5"/>
          <p:cNvSpPr/>
          <p:nvPr/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44F62-B422-4D19-93F1-8D80BABA9C0C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 Black"/>
              </a:rPr>
              <a:t>Gemiddeld debiteurensaldo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Black"/>
              </a:rPr>
              <a:t>Gemiddelde bedrag dat uitstaat bij de debiteuren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 Black"/>
              </a:rPr>
              <a:t>het gemiddelde van heel veel momentopname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Black"/>
              </a:rPr>
              <a:t>Debiteuren kosten geld, omdat je ze moet voorfinancieren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 Black"/>
              </a:rPr>
              <a:t>Tegenover debiteuren staat een lening in de balans → kost rente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ijdelijke aanduiding voor datum 3"/>
          <p:cNvSpPr/>
          <p:nvPr/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B3A35-7A5D-4284-B3BD-876AA9F50686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31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ijdelijke aanduiding voor voettekst 4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ijdelijke aanduiding voor dianummer 5"/>
          <p:cNvSpPr/>
          <p:nvPr/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130E2-8702-4941-BF50-AF397478B502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 Black"/>
              </a:rPr>
              <a:t>Gemiddelde debiteurensaldo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868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Black"/>
              </a:rPr>
              <a:t>Omzet kan op 2 manieren betaald worden</a:t>
            </a:r>
            <a:endParaRPr b="0" lang="en-US" sz="2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à contant </a:t>
            </a:r>
            <a:r>
              <a:rPr b="0" lang="en-US" sz="2000" spc="-1" strike="noStrike">
                <a:solidFill>
                  <a:srgbClr val="ccccff"/>
                </a:solidFill>
                <a:latin typeface="Arial Black"/>
              </a:rPr>
              <a:t>(boek je direct op liquide middelen)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op krediet </a:t>
            </a:r>
            <a:r>
              <a:rPr b="0" lang="en-US" sz="2000" spc="-1" strike="noStrike">
                <a:solidFill>
                  <a:srgbClr val="ccccff"/>
                </a:solidFill>
                <a:latin typeface="Arial Black"/>
              </a:rPr>
              <a:t>(boek je op debiteuren)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55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Black"/>
              </a:rPr>
              <a:t>Debiteurensaldo ≈ debiteuren </a:t>
            </a:r>
            <a:r>
              <a:rPr b="1" lang="en-US" sz="2200" spc="-1" strike="noStrike">
                <a:solidFill>
                  <a:srgbClr val="ffffff"/>
                </a:solidFill>
                <a:latin typeface="Arial Black"/>
              </a:rPr>
              <a:t>x</a:t>
            </a:r>
            <a:r>
              <a:rPr b="0" lang="en-US" sz="2200" spc="-1" strike="noStrike">
                <a:solidFill>
                  <a:srgbClr val="ffffff"/>
                </a:solidFill>
                <a:latin typeface="Arial Black"/>
              </a:rPr>
              <a:t> kredietduur</a:t>
            </a:r>
            <a:endParaRPr b="0" lang="en-US" sz="2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55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Black"/>
              </a:rPr>
              <a:t>DS = dagelijkse omzet op krediet  x </a:t>
            </a:r>
            <a:endParaRPr b="0" lang="en-US" sz="2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 algn="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Black"/>
              </a:rPr>
              <a:t>aantal dagen dat de factuur open staat</a:t>
            </a:r>
            <a:endParaRPr b="0" lang="en-US" sz="2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55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Black"/>
              </a:rPr>
              <a:t>DS = DOOK  x  t</a:t>
            </a:r>
            <a:endParaRPr b="0" lang="en-US" sz="2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55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Black"/>
              </a:rPr>
              <a:t>gem. DS = gem. DOOK  x  gem. t</a:t>
            </a:r>
            <a:endParaRPr b="0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228600" y="4800600"/>
          <a:ext cx="8915400" cy="1195560"/>
        </p:xfrm>
        <a:graphic>
          <a:graphicData uri="http://schemas.openxmlformats.org/drawingml/2006/table">
            <a:tbl>
              <a:tblPr/>
              <a:tblGrid>
                <a:gridCol w="1103400"/>
                <a:gridCol w="3773520"/>
                <a:gridCol w="4038480"/>
              </a:tblGrid>
              <a:tr h="457560"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DS 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Jaaromzet op kredie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x gemidd. kredietduu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7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365 dag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ff"/>
                                </p:to>
                              </p:animClr>
                              <p:animClr clrSpc="rgb">
                                <p:cBhvr>
                                  <p:cTn id="11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ff"/>
                                </p:to>
                              </p:animClr>
                              <p:animClr clrSpc="rgb">
                                <p:cBhvr>
                                  <p:cTn id="1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2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2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2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ijdelijke aanduiding voor datum 3"/>
          <p:cNvSpPr/>
          <p:nvPr/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02BCF-4771-4ACC-B5E9-1121E77AAB3D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31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ijdelijke aanduiding voor voettekst 4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ijdelijke aanduiding voor dianummer 5"/>
          <p:cNvSpPr/>
          <p:nvPr/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62B55-BB16-4599-A9EC-43BC97A45BD0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Oefening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11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Bereken het gemiddelde debiteurensaldo als een bedrijf jaarlijks € 75.000,- omzet op krediet heeft en de gemiddelde krediettermijn 25 dagen bedraagt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120000"/>
              </a:lnSpc>
              <a:spcBef>
                <a:spcPts val="11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Bereken de omloopsnelheid als een bedrijf aan inkoop jaarlijks € 600.000,- uitgeeft en de gemiddelde waarde van de voorraad € 50.000,- bedraagt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120000"/>
              </a:lnSpc>
              <a:spcBef>
                <a:spcPts val="11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Wat betekenen de getallen die je hebt uitgerekend?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ijdelijke aanduiding voor datum 4"/>
          <p:cNvSpPr/>
          <p:nvPr/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95790-5976-4A8C-9947-7259395EED81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31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ijdelijke aanduiding voor voettekst 5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ijdelijke aanduiding voor dianummer 6"/>
          <p:cNvSpPr/>
          <p:nvPr/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186F0-F8B0-47D1-B243-DA00C2DEDE02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Samenvatting kengetallen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3352680" cy="3200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190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cc"/>
                </a:solidFill>
                <a:latin typeface="Arial Black"/>
              </a:rPr>
              <a:t>Balans kengetallen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190440" indent="-19044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Liquiditei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2" marL="1085760" indent="-228600">
              <a:spcBef>
                <a:spcPts val="499"/>
              </a:spcBef>
              <a:buClr>
                <a:srgbClr val="ffffff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Werkkapitaal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2" marL="1085760" indent="-228600">
              <a:spcBef>
                <a:spcPts val="499"/>
              </a:spcBef>
              <a:buClr>
                <a:srgbClr val="ffffff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urrent ratio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2" marL="1085760" indent="-228600">
              <a:spcBef>
                <a:spcPts val="499"/>
              </a:spcBef>
              <a:buClr>
                <a:srgbClr val="ffffff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Quick ratio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190440" indent="-19044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Solvabilitei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733560" y="1447920"/>
            <a:ext cx="5181480" cy="3200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cc"/>
                </a:solidFill>
                <a:latin typeface="Arial Black"/>
              </a:rPr>
              <a:t>W&amp;V kengetallen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Brutowinst als % v/d omzet 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Nettowinst als % v/d omzet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cc"/>
                </a:solidFill>
                <a:latin typeface="Arial Black"/>
              </a:rPr>
              <a:t>W&amp;V + extra gegevens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Omzet per m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 Black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 per week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Omzet per werknemer p.j.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Debiteurensaldo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5" name="Rectangle 5"/>
          <p:cNvSpPr/>
          <p:nvPr/>
        </p:nvSpPr>
        <p:spPr>
          <a:xfrm>
            <a:off x="1219320" y="4800600"/>
            <a:ext cx="6705360" cy="1600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cc"/>
                </a:solidFill>
                <a:latin typeface="Arial Black"/>
              </a:rPr>
              <a:t>Kengetallen o.b.v. Balans + W&amp;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Rentabiliteit EV en T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Omloopsnelheid en omzetduu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Robbert Oosterom</dc:creator>
  <dc:description/>
  <dc:language>en-US</dc:language>
  <cp:lastModifiedBy>José Kamphuis</cp:lastModifiedBy>
  <dcterms:modified xsi:type="dcterms:W3CDTF">2018-01-07T16:19:55Z</dcterms:modified>
  <cp:revision>20</cp:revision>
  <dc:subject/>
  <dc:title>PowerPoint-presentatie</dc:title>
</cp:coreProperties>
</file>