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4420-F826-4560-8ED6-069E065C9D8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9386-B8C1-451B-A62B-DCDF5B6A970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3D70-BDC1-4FB9-B1D9-4474E5D9141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338F-3AED-4972-B829-D5C13314D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15CD-4274-448E-BAF7-28EE7ACA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427E-75F5-45FD-AFDC-CD6687D64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8D86-5590-4CA5-9804-CEB7BB473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D060E-0D13-4D7C-B1B0-5A4455532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4D01-8F00-44F6-A04F-C3F186AB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A20E-6D0F-4AB1-8041-C1A329D7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74D3-BFA3-4CE8-9BA9-C13CF2B0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BA5C-D949-4B76-9410-7356F334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BC773-DCAA-499A-AD9E-B159F0D8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A883-867A-46DD-92CA-9E6531BE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6C47-119A-46A9-9874-A5CA60EA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05B9-166B-4C23-BDEF-BC0EF056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0096-2B0C-4A68-AE73-978A23A4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1E4B-7D30-41DF-BC11-8B015379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8E34-378A-44A1-9636-ABAFF9D63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46D2-D83B-4F6E-8DC1-52558309D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E9BC-B0B7-43E7-B135-984C36EF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5687-8775-47B7-82EA-6E8873EC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5101-AF25-45A9-9E14-4620FC57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63F2-B573-4613-B8BF-1B9397BB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E187-0EBE-43DF-AA5E-2C764C6A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2301-2AE8-4C9A-B8A8-9647308C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A5DD-6257-49D6-A644-D031F852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Sprite 10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8735-1051-469F-86C2-B6CECE9CAFCD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31E0-7904-4B0E-84FF-AE91A0FDDA1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Sprite 10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4680" y="2895480"/>
            <a:ext cx="9148680" cy="11304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686C-7105-4E37-A8EC-260715E01883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2239-9CA0-45BA-A5C1-3B266EDC8A0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www.nurijk.nl/geld.jpg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ons-vernooij.nl/bm-site/rr-model-F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21F5-93CF-4A26-ABA9-B06DD855B7A5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90AE-0B0A-4298-BFC7-39C8B846C45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Opfriscursus kengetal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320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Jose Kamphui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Les 2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946680" y="1203480"/>
            <a:ext cx="1575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C O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ECAB-4191-4131-A60A-F84F3A2B8DA0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3C4D-1CD1-40FB-9FE0-3808D3255CB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pbouw van de kost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55" name="Object 3"/>
          <p:cNvGraphicFramePr/>
          <p:nvPr/>
        </p:nvGraphicFramePr>
        <p:xfrm>
          <a:off x="228600" y="1447920"/>
          <a:ext cx="868680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86868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Line 4"/>
          <p:cNvSpPr/>
          <p:nvPr/>
        </p:nvSpPr>
        <p:spPr>
          <a:xfrm flipV="1">
            <a:off x="1752480" y="990720"/>
            <a:ext cx="3886200" cy="4114800"/>
          </a:xfrm>
          <a:prstGeom prst="line">
            <a:avLst/>
          </a:prstGeom>
          <a:ln cap="sq"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Group 7"/>
          <p:cNvGrpSpPr/>
          <p:nvPr/>
        </p:nvGrpSpPr>
        <p:grpSpPr>
          <a:xfrm>
            <a:off x="1447560" y="3276720"/>
            <a:ext cx="996120" cy="1066680"/>
            <a:chOff x="1447560" y="3276720"/>
            <a:chExt cx="996120" cy="1066680"/>
          </a:xfrm>
        </p:grpSpPr>
        <p:sp>
          <p:nvSpPr>
            <p:cNvPr id="159" name="Line 5"/>
            <p:cNvSpPr/>
            <p:nvPr/>
          </p:nvSpPr>
          <p:spPr>
            <a:xfrm>
              <a:off x="2438280" y="3276720"/>
              <a:ext cx="0" cy="1066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6"/>
            <p:cNvSpPr/>
            <p:nvPr/>
          </p:nvSpPr>
          <p:spPr>
            <a:xfrm>
              <a:off x="1447560" y="3657600"/>
              <a:ext cx="99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rl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Group 10"/>
          <p:cNvGrpSpPr/>
          <p:nvPr/>
        </p:nvGrpSpPr>
        <p:grpSpPr>
          <a:xfrm>
            <a:off x="5334120" y="1295280"/>
            <a:ext cx="843120" cy="914400"/>
            <a:chOff x="5334120" y="1295280"/>
            <a:chExt cx="843120" cy="914400"/>
          </a:xfrm>
        </p:grpSpPr>
        <p:sp>
          <p:nvSpPr>
            <p:cNvPr id="162" name="Line 8"/>
            <p:cNvSpPr/>
            <p:nvPr/>
          </p:nvSpPr>
          <p:spPr>
            <a:xfrm flipV="1">
              <a:off x="5334120" y="129528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9"/>
            <p:cNvSpPr/>
            <p:nvPr/>
          </p:nvSpPr>
          <p:spPr>
            <a:xfrm>
              <a:off x="5335200" y="1523880"/>
              <a:ext cx="8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in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BB2A-485B-44D2-8E46-7F277CB81B84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BEC3-4D46-4D79-B696-51E9EDF32F6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&amp;V-rekening van een B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46240" y="1482840"/>
          <a:ext cx="8686800" cy="4802040"/>
        </p:xfrm>
        <a:graphic>
          <a:graphicData uri="http://schemas.openxmlformats.org/drawingml/2006/table">
            <a:tbl>
              <a:tblPr/>
              <a:tblGrid>
                <a:gridCol w="5105160"/>
                <a:gridCol w="3581640"/>
              </a:tblGrid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z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Inkoopwaar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ru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8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Bedrijfsko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edrijfsresulta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et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7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Vennootschapsbelas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Divid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instreser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4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F960-CEE4-4BA7-A061-12CEE8318441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D551-1E9D-4314-B94E-35986AE7195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&amp;V-rekening van een Eenmanszaak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50920" y="1484280"/>
          <a:ext cx="8686800" cy="4802400"/>
        </p:xfrm>
        <a:graphic>
          <a:graphicData uri="http://schemas.openxmlformats.org/drawingml/2006/table">
            <a:tbl>
              <a:tblPr/>
              <a:tblGrid>
                <a:gridCol w="5105160"/>
                <a:gridCol w="358164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z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Inkoopwaar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ru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8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Bedrijfsko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edrijfsresulta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85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Fiscale 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72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Inkomstenbelas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Netto inkom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instreser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4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Text Box 39"/>
          <p:cNvSpPr/>
          <p:nvPr/>
        </p:nvSpPr>
        <p:spPr>
          <a:xfrm>
            <a:off x="3562920" y="4292640"/>
            <a:ext cx="25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Privé onttrekki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38"/>
          <p:cNvSpPr/>
          <p:nvPr/>
        </p:nvSpPr>
        <p:spPr>
          <a:xfrm>
            <a:off x="5076720" y="4653000"/>
            <a:ext cx="2087640" cy="1368360"/>
          </a:xfrm>
          <a:prstGeom prst="ellipse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F812-50B2-4A86-BA8B-16418D41A610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4718-47FC-46E5-8982-E0E7A009008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&amp;V-rekening van een Eenmanszaak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50920" y="1484280"/>
          <a:ext cx="8686800" cy="4802400"/>
        </p:xfrm>
        <a:graphic>
          <a:graphicData uri="http://schemas.openxmlformats.org/drawingml/2006/table">
            <a:tbl>
              <a:tblPr/>
              <a:tblGrid>
                <a:gridCol w="5105160"/>
                <a:gridCol w="358164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Omz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63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-/- Inkoopwaar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45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Bru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18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-/- Bedrijfsko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95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Bedrijfsresulta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85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-/- 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13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Fiscale 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72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Gewaardeerd lo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Gewaardeerde 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et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7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AA40-790B-4E3F-959B-374018F825AC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6B04-3633-40EF-BB2E-C0E0AA423B2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ewaardeerde kost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Hebben geen enkele fiscale waard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Gewaardeerd loon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s een willekeurig bedrag dat ongeveer aangeeft hoeveel de ondernemer zou verdienen als hij in loondienst wa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Gewaardeerde rent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s een inschatting van de rente die de ondernemer misloopt omdat zijn eigen vermogen niet op de bank sta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9A05-1991-45DD-98DD-F3989B0462FF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4CC2-8DE1-4F8B-A1F6-CDABA4F4E1B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ut van gewaardeerde kost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Fiscale winst -/- gewaardeerde kosten = een getal dat vergelijkbaar is met de nettowinst van een BV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Maken het mogelijk de rentabiliteit uit te rekenen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Geven een reëel zakelijk beeld van het resultaat van de eenmanszaak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 Black"/>
              </a:rPr>
              <a:t>Vergelijk de inkomsten uit het bedrijf met het loon dat je in loondienst zou verdienen</a:t>
            </a:r>
            <a:endParaRPr b="0" lang="en-US" sz="21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 Black"/>
              </a:rPr>
              <a:t>Verreken ook de softe opbrengsten !</a:t>
            </a:r>
            <a:endParaRPr b="0" lang="en-US" sz="21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Arial Blac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</a:rPr>
              <a:t>Vrijheid, zelfstandigheid, trots bezit, werkplezier</a:t>
            </a:r>
            <a:endParaRPr b="0" lang="en-US" sz="19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5" dur="1" fill="hold"/>
                                  <p:tgtEl>
                                    <p:spTgt spid="19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ijdelijke aanduiding voor datum 4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E261-15A9-4741-8E0D-EB394E7D4C97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ijdelijke aanduiding voor voettekst 5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ijdelijke aanduiding voor dianummer 6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BB9A-DB48-4AB8-81D5-4DA51AC97B8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18" descr="http://www.shopbetreiber-blog.de/wp-content/uploads/2007/08/geld.jpg"/>
          <p:cNvPicPr/>
          <p:nvPr/>
        </p:nvPicPr>
        <p:blipFill>
          <a:blip r:embed="rId1"/>
          <a:stretch/>
        </p:blipFill>
        <p:spPr>
          <a:xfrm>
            <a:off x="6781680" y="5486400"/>
            <a:ext cx="1597320" cy="12002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3" descr="http://www.zodiakbv.nl/images/winkel-f.jpg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5943600" y="2511360"/>
            <a:ext cx="3200400" cy="1657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http://www.nurijk.nl/geld.jpg">
            <a:hlinkClick r:id="rId3"/>
          </p:cNvPr>
          <p:cNvPicPr/>
          <p:nvPr/>
        </p:nvPicPr>
        <p:blipFill>
          <a:blip r:embed="rId4">
            <a:lum bright="-24000"/>
          </a:blip>
          <a:stretch/>
        </p:blipFill>
        <p:spPr>
          <a:xfrm>
            <a:off x="2590920" y="2514600"/>
            <a:ext cx="2133360" cy="16700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ntabilitei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2819160"/>
            <a:ext cx="419112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Zet € 1000,- op een spaarrek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a een jaar krijg je er € 60,- bij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 rente bedraagt 6%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00600" y="2819160"/>
            <a:ext cx="41148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vesteer € 1000,- in een bedrijf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a een jaar heb je € 60,- mee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 rentabiliteit bedraagt 6%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80880" y="1523880"/>
            <a:ext cx="83059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s vergelijkbaar met rente op een spaarrek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0" y="202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19" descr="http://www.shopbetreiber-blog.de/wp-content/uploads/2007/08/geld.jpg"/>
          <p:cNvPicPr/>
          <p:nvPr/>
        </p:nvPicPr>
        <p:blipFill>
          <a:blip r:embed="rId5"/>
          <a:stretch/>
        </p:blipFill>
        <p:spPr>
          <a:xfrm>
            <a:off x="2286000" y="5486400"/>
            <a:ext cx="15969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ABA7-2608-4B6D-BE7A-F04A48358FFA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714D-BBF9-4592-B77B-595A3341690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V en RT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ntabiliteit v/h Eigen Vermo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at heeft het geld van de eigenaar hem opgeleverd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ntabiliteit v/h Totaal Vermo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at heeft het bedrijf opgelever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D12C-5D11-4E6A-8FDF-BB9321F96BB2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83C8-BC94-46F8-92FA-2E416954454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ntabiliteit bereken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Uit de balans haal je het gemiddelde geïnvesteerde vermo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ermogen van begin- en eindbalans middelen (zonder de winstreserve van het betreffende boekjaar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Uit de W&amp;V-rekening haal je de wins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21AF-039C-444D-A85F-EEDB64998EF8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741B-03D0-4BF3-9101-3236E186D1F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ntabiliteit in een B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04920" y="2133720"/>
          <a:ext cx="6400800" cy="1195200"/>
        </p:xfrm>
        <a:graphic>
          <a:graphicData uri="http://schemas.openxmlformats.org/drawingml/2006/table">
            <a:tbl>
              <a:tblPr/>
              <a:tblGrid>
                <a:gridCol w="1828800"/>
                <a:gridCol w="2666880"/>
                <a:gridCol w="1905120"/>
              </a:tblGrid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EV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et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x 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emiddeld E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2286000" y="4038480"/>
          <a:ext cx="6400800" cy="1195560"/>
        </p:xfrm>
        <a:graphic>
          <a:graphicData uri="http://schemas.openxmlformats.org/drawingml/2006/table">
            <a:tbl>
              <a:tblPr/>
              <a:tblGrid>
                <a:gridCol w="1523880"/>
                <a:gridCol w="3200400"/>
                <a:gridCol w="1676520"/>
              </a:tblGrid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TV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edrijfsresulta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x 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emiddeld T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9" name="AutoShape 163"/>
          <p:cNvSpPr/>
          <p:nvPr/>
        </p:nvSpPr>
        <p:spPr>
          <a:xfrm>
            <a:off x="5791320" y="838080"/>
            <a:ext cx="2895480" cy="1295640"/>
          </a:xfrm>
          <a:prstGeom prst="cloudCallout">
            <a:avLst>
              <a:gd name="adj1" fmla="val -77523"/>
              <a:gd name="adj2" fmla="val 44606"/>
            </a:avLst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Nettowinst = Bedrijfsresultaat 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 r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atum 2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23C4-A514-43BB-8329-EC09906B65D1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ijdelijke aanduiding voor voettekst 3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ijdelijke aanduiding voor dianummer 4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E80B-D835-465E-A9BF-FF85C55D7B6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1295280"/>
            <a:ext cx="3809880" cy="510552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80880" y="1523880"/>
            <a:ext cx="3200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Het lezen van een jaarverslag is vaak lastig omdat dezelfde begrippen steeds een andere naam krij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s je d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ructuu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kent, weet je in ieder geval waar je moet zoek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52280" y="1447920"/>
            <a:ext cx="152640" cy="4952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4356000" y="1523880"/>
            <a:ext cx="44640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sultaatre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Verschillen BV en eenmansza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Gewaardeerde ko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Rentabil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AA41-7795-4B34-923B-6EC02CE86F36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9DDB-D9FC-470E-96E8-9C51BE8EBB0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ntabiliteit in een Eenmanszaak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04920" y="2133720"/>
          <a:ext cx="7543800" cy="1195200"/>
        </p:xfrm>
        <a:graphic>
          <a:graphicData uri="http://schemas.openxmlformats.org/drawingml/2006/table">
            <a:tbl>
              <a:tblPr/>
              <a:tblGrid>
                <a:gridCol w="1555560"/>
                <a:gridCol w="4432320"/>
                <a:gridCol w="1555920"/>
              </a:tblGrid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EV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Fiscale winst – gew. lo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x 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emiddeld E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838080" y="4038480"/>
          <a:ext cx="8153640" cy="1195560"/>
        </p:xfrm>
        <a:graphic>
          <a:graphicData uri="http://schemas.openxmlformats.org/drawingml/2006/table">
            <a:tbl>
              <a:tblPr/>
              <a:tblGrid>
                <a:gridCol w="1552680"/>
                <a:gridCol w="5153040"/>
                <a:gridCol w="1447920"/>
              </a:tblGrid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TV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edrijfsresultaat – gew. lo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x 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emiddeld T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6" name="AutoShape 43"/>
          <p:cNvSpPr/>
          <p:nvPr/>
        </p:nvSpPr>
        <p:spPr>
          <a:xfrm>
            <a:off x="4952880" y="838080"/>
            <a:ext cx="2895840" cy="1295640"/>
          </a:xfrm>
          <a:prstGeom prst="cloudCallout">
            <a:avLst>
              <a:gd name="adj1" fmla="val -71490"/>
              <a:gd name="adj2" fmla="val 47305"/>
            </a:avLst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Fiscale winst = Bedrijfsresultaat 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 r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1A03-13A5-435D-B8D5-EB60A3CDEEE6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53CA-0E4D-4B18-90A2-32C1B7F3AEE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Jaarrek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sultaatrekening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s hetzelfde als W&amp;V-rek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 Black"/>
              </a:rPr>
              <a:t>Bala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 Black"/>
              </a:rPr>
              <a:t>per begin en einde boekja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 Black"/>
              </a:rPr>
              <a:t>Kasstroomoverzich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 Black"/>
              </a:rPr>
              <a:t>is hetzelfde als cashflow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1B85-9D9C-45F4-A1A2-8EE43171A356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3711-A59F-43CA-B7F4-C30DDF5BF4D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Winst-en-verliesrek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4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571680">
              <a:spcBef>
                <a:spcPts val="799"/>
              </a:spcBef>
              <a:buClr>
                <a:srgbClr val="ffffff"/>
              </a:buClr>
              <a:buFont typeface="Arial Black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Resultatenreken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571680" indent="-571680">
              <a:spcBef>
                <a:spcPts val="799"/>
              </a:spcBef>
              <a:buClr>
                <a:srgbClr val="ffffff"/>
              </a:buClr>
              <a:buFont typeface="Arial Black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Exploitatiereken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571680" indent="-5716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Overzicht van </a:t>
            </a: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 Black"/>
              </a:rPr>
              <a:t>opbrengsten</a:t>
            </a: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 en </a:t>
            </a: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 Black"/>
              </a:rPr>
              <a:t>kost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90680" y="4605480"/>
            <a:ext cx="22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ffcc"/>
                </a:solidFill>
                <a:latin typeface="Arial Black"/>
              </a:rPr>
              <a:t>Beginba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6526800" y="51814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ffcc"/>
                </a:solidFill>
                <a:latin typeface="Arial Black"/>
              </a:rPr>
              <a:t>Eindba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6"/>
          <p:cNvSpPr/>
          <p:nvPr/>
        </p:nvSpPr>
        <p:spPr>
          <a:xfrm>
            <a:off x="3132000" y="4941720"/>
            <a:ext cx="3024360" cy="432000"/>
          </a:xfrm>
          <a:prstGeom prst="line">
            <a:avLst/>
          </a:prstGeom>
          <a:ln cap="sq"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3418200" y="4508640"/>
            <a:ext cx="22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 Black"/>
              </a:rPr>
              <a:t>+ opbreng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3879000" y="5229360"/>
            <a:ext cx="13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 Black"/>
              </a:rPr>
              <a:t>- k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9"/>
          <p:cNvSpPr/>
          <p:nvPr/>
        </p:nvSpPr>
        <p:spPr>
          <a:xfrm>
            <a:off x="3132000" y="4149720"/>
            <a:ext cx="2880000" cy="1728720"/>
          </a:xfrm>
          <a:prstGeom prst="ellipse">
            <a:avLst/>
          </a:prstGeom>
          <a:noFill/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5724360" y="414972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Resulta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38F7-026A-42CA-9887-22A11A141418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2702-793B-4E5A-A8CA-A722F131A17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odellen voor de W&amp;V-rek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 het burgerlijk wetboek staan 6 modellen die verschillen qua indeling.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taffelvorm (verticaal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controvorm (balansvorm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 Black"/>
                <a:hlinkClick r:id="rId1"/>
              </a:rPr>
              <a:t>Model F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s het meest gebruikelij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unctionele ordening van kost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Zie www.bedrijfseconomische-modellen.n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9CA1-802D-463F-83EA-19DAD6817802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E039-818B-4CF4-9D64-095052FA186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erschillende weergav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terne verslaglegg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nager stuurt het bedrijf bij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oet snel beschikbaar zij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xterne verslaglegg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erantwoording naar buit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oblemen verdoezel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Voorbeelden in schoolboek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ersimpel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verzichten van journalist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zeer compa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6553080" y="1828800"/>
            <a:ext cx="2438640" cy="1676520"/>
          </a:xfrm>
          <a:prstGeom prst="cloudCallout">
            <a:avLst>
              <a:gd name="adj1" fmla="val -55925"/>
              <a:gd name="adj2" fmla="val 61175"/>
            </a:avLst>
          </a:prstGeom>
          <a:solidFill>
            <a:srgbClr val="99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argon vaak door elkaar gebrui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699B-ED1A-49BB-9E02-9F8AAC96E7FD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12BA-4EE4-4728-86AD-EAC7839228D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&amp;V-rekening van een B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28600" y="1447920"/>
          <a:ext cx="8686800" cy="4802040"/>
        </p:xfrm>
        <a:graphic>
          <a:graphicData uri="http://schemas.openxmlformats.org/drawingml/2006/table">
            <a:tbl>
              <a:tblPr/>
              <a:tblGrid>
                <a:gridCol w="5105520"/>
                <a:gridCol w="3581280"/>
              </a:tblGrid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zet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Opbreng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Inkoopwaar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ru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8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Bedrijfsko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edrijfsresulta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et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7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Vennootschapsbelas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Divid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instreser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4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481A-A2C1-4270-B945-5D6120DE0570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E772-887F-4EF9-AE27-A2267010ADD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koopwaar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nder 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inkoopwaarde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vallen alle kosten die evenredig met de verkoop samenhan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at je aan de leverancier had betaal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Grondstoffen en hulpstoff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gehuurd persone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ok wel genoemd: Kostprijs van de omze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D48C-F15E-4714-AD85-DCEB35118E63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FF73-3311-4E3E-84DD-E3EFA0B4D58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edrijfskosten bestaan uit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Loonkost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ij eenmanszaak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exclusief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het loon van de ondernemer!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verige kosten die min of meer onafhankelijk zijn van de omze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ij grote omzetstijging kunnen deze kosten soms meestij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ariabel gebudgetteerde reclam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ergroting van de bedrijfsha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utokost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5" dur="1" fill="hold"/>
                                  <p:tgtEl>
                                    <p:spTgt spid="1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bert Oosterom</dc:creator>
  <dc:description/>
  <dc:language>en-US</dc:language>
  <cp:lastModifiedBy>José Kamphuis</cp:lastModifiedBy>
  <dcterms:modified xsi:type="dcterms:W3CDTF">2018-01-07T16:13:42Z</dcterms:modified>
  <cp:revision>20</cp:revision>
  <dc:subject/>
  <dc:title>PowerPoint-presentatie</dc:title>
</cp:coreProperties>
</file>