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B05A-8353-4500-9237-7204CA16107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3A2C-A5AF-4F3D-A213-8854FDB6E96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B41A-2DAE-497A-9618-BE052351422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69A3-05AD-4D32-8F03-43AF01F5B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B900-AC89-4887-A32F-B86D14D8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E87A-369A-470F-9F6E-E5D394E8E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3CDF-0AE9-434A-AA2F-46D3D10C5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C7DE-E234-4027-A229-1AA2146A3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06CE-6284-44AD-B5D0-FD684275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92C75-B65E-4285-9360-6BA4A603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232E-BF5C-4EC2-A272-8CD7EFBA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1870-BEFE-49C2-B310-88C10F5C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2352-C830-4236-B08D-3D96C206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33474-D98F-42FF-A756-64C5BD3F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FB1C-F522-424B-9F96-7E73FCD1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7C363-C33E-4E1C-A4DF-F37AEDBF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F85B-F75B-4858-B7D2-E691800A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DC5B-4C8E-402C-B470-5B4ADFDF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FB40A-3E59-4792-8E61-03F4B5D7E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3E1A-5C4D-4B3A-85C3-AA2230B73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EF18-879D-41C3-A0EB-C1D1EF90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02BA-F01B-422E-9BA7-228EE325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CDF0-2F4F-4098-9DC4-4ECE5090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6B04-A7EC-4A63-B5BE-3FC5A135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1A75-0029-4E24-B76D-1F64CE28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7810-696B-40BA-81D3-A25AA4D1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5919-4490-4358-BA85-0CA6973A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Sprite 10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4DBB-E95F-4252-BB38-5B1AF3DFA805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42C3-5E61-4BA5-AD68-8C3DB99F0AE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Sprite 10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4680" y="2895480"/>
            <a:ext cx="9148680" cy="11304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1A17-766B-4560-9CE1-F8A25DC8139D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3C5E-54FE-4CC0-815F-399C29CFB94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1061-52C1-46E1-91C4-B0949E1FA22B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0BEA-DBED-4EA7-B450-B09DCEC99CA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Opfriscursus kengetal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Jose Kamphui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Les 3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946680" y="1203480"/>
            <a:ext cx="1575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C O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atum 2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9AA3-35E0-4704-8030-DAA685033B61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ijdelijke aanduiding voor voettekst 3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ijdelijke aanduiding voor dianummer 4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C40F-F1A0-4704-832D-D8A2D3D43CC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1295280"/>
            <a:ext cx="3809880" cy="510552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80880" y="1523880"/>
            <a:ext cx="3200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Het lezen van een jaarverslag is vaak lastig omdat dezelfde begrippen steeds een andere naam krij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s je d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ructuu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kent, weet je in ieder geval waar je moet zoek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52280" y="1447920"/>
            <a:ext cx="152640" cy="4952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4356000" y="1523880"/>
            <a:ext cx="446400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mloopsnelhe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Omzetd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Debiteurensal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AD0B-A29C-4507-BDC3-3B8ADE82AF37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21D3-A875-41F0-A84F-71C06F56795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at is de omloopsnelheid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et is belangrijk dat de voorraad niet te lang blijft lig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 gemiddelde magazijntijd wordt weergegeven in de omzetduu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 omloopsnelheid geeft aan hoe vaak de voorraad verkocht wordt per ja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3" name="Picture 9" descr="Aanvoer bloemen vanaf Schiphol"/>
          <p:cNvPicPr/>
          <p:nvPr/>
        </p:nvPicPr>
        <p:blipFill>
          <a:blip r:embed="rId1"/>
          <a:srcRect l="0" t="0" r="3704" b="0"/>
          <a:stretch/>
        </p:blipFill>
        <p:spPr>
          <a:xfrm>
            <a:off x="457200" y="4800600"/>
            <a:ext cx="1981080" cy="133668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20"/>
          <p:cNvSpPr/>
          <p:nvPr/>
        </p:nvSpPr>
        <p:spPr>
          <a:xfrm>
            <a:off x="2590920" y="5105520"/>
            <a:ext cx="990360" cy="685800"/>
          </a:xfrm>
          <a:prstGeom prst="rightArrow">
            <a:avLst>
              <a:gd name="adj1" fmla="val 50000"/>
              <a:gd name="adj2" fmla="val 36102"/>
            </a:avLst>
          </a:prstGeom>
          <a:solidFill>
            <a:srgbClr val="99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u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7" descr="http://www.c1000peterderijke.nl/upload/256903505.jpg"/>
          <p:cNvPicPr/>
          <p:nvPr/>
        </p:nvPicPr>
        <p:blipFill>
          <a:blip r:embed="rId2"/>
          <a:stretch/>
        </p:blipFill>
        <p:spPr>
          <a:xfrm>
            <a:off x="3733920" y="4724280"/>
            <a:ext cx="2209680" cy="147168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22"/>
          <p:cNvSpPr/>
          <p:nvPr/>
        </p:nvSpPr>
        <p:spPr>
          <a:xfrm>
            <a:off x="6095880" y="510552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solidFill>
            <a:srgbClr val="99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au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" descr="http://tbn0.google.com/images?q=tbn:NCe4YR3gRdzVeM:http://bp3.blogger.com/_Qu_eMn_Ud88/RdrTp6Q4D2I/AAAAAAAAAdY/YS98g0qDlEw/s320/bloemenderuijterstraat.gif"/>
          <p:cNvPicPr/>
          <p:nvPr/>
        </p:nvPicPr>
        <p:blipFill>
          <a:blip r:embed="rId3"/>
          <a:stretch/>
        </p:blipFill>
        <p:spPr>
          <a:xfrm>
            <a:off x="7238880" y="4724280"/>
            <a:ext cx="1128960" cy="15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1A9E-EB37-4DAE-B11A-FCA67FD88D1C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95D0-CA5A-4FDF-BA18-2CBE1916A40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mloopsnelheid en omzetduu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04920" y="2438280"/>
          <a:ext cx="8534160" cy="1195560"/>
        </p:xfrm>
        <a:graphic>
          <a:graphicData uri="http://schemas.openxmlformats.org/drawingml/2006/table">
            <a:tbl>
              <a:tblPr/>
              <a:tblGrid>
                <a:gridCol w="3962160"/>
                <a:gridCol w="4343400"/>
                <a:gridCol w="228600"/>
              </a:tblGrid>
              <a:tr h="5184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loopsnelheid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Inkoopwaar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emiddelde voorra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1371600" y="4572000"/>
          <a:ext cx="6808680" cy="1195560"/>
        </p:xfrm>
        <a:graphic>
          <a:graphicData uri="http://schemas.openxmlformats.org/drawingml/2006/table">
            <a:tbl>
              <a:tblPr/>
              <a:tblGrid>
                <a:gridCol w="2967120"/>
                <a:gridCol w="3623040"/>
                <a:gridCol w="218880"/>
              </a:tblGrid>
              <a:tr h="51840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zetduur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65 dag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loopsnelhe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124" name="Group 51"/>
          <p:cNvGrpSpPr/>
          <p:nvPr/>
        </p:nvGrpSpPr>
        <p:grpSpPr>
          <a:xfrm>
            <a:off x="2513520" y="1600200"/>
            <a:ext cx="2820600" cy="838080"/>
            <a:chOff x="2513520" y="1600200"/>
            <a:chExt cx="2820600" cy="838080"/>
          </a:xfrm>
        </p:grpSpPr>
        <p:sp>
          <p:nvSpPr>
            <p:cNvPr id="125" name="Line 47"/>
            <p:cNvSpPr/>
            <p:nvPr/>
          </p:nvSpPr>
          <p:spPr>
            <a:xfrm>
              <a:off x="4800600" y="2057400"/>
              <a:ext cx="533520" cy="380880"/>
            </a:xfrm>
            <a:prstGeom prst="line">
              <a:avLst/>
            </a:prstGeom>
            <a:ln cap="sq"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48"/>
            <p:cNvSpPr/>
            <p:nvPr/>
          </p:nvSpPr>
          <p:spPr>
            <a:xfrm>
              <a:off x="2513520" y="1600200"/>
              <a:ext cx="233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Uit W&amp;V-reke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Group 52"/>
          <p:cNvGrpSpPr/>
          <p:nvPr/>
        </p:nvGrpSpPr>
        <p:grpSpPr>
          <a:xfrm>
            <a:off x="3505320" y="3505320"/>
            <a:ext cx="1752480" cy="703440"/>
            <a:chOff x="3505320" y="3505320"/>
            <a:chExt cx="1752480" cy="703440"/>
          </a:xfrm>
        </p:grpSpPr>
        <p:sp>
          <p:nvSpPr>
            <p:cNvPr id="128" name="Text Box 49"/>
            <p:cNvSpPr/>
            <p:nvPr/>
          </p:nvSpPr>
          <p:spPr>
            <a:xfrm>
              <a:off x="3505320" y="3809880"/>
              <a:ext cx="139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Uit bala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50"/>
            <p:cNvSpPr/>
            <p:nvPr/>
          </p:nvSpPr>
          <p:spPr>
            <a:xfrm flipV="1">
              <a:off x="4648320" y="3505320"/>
              <a:ext cx="609480" cy="304560"/>
            </a:xfrm>
            <a:prstGeom prst="line">
              <a:avLst/>
            </a:prstGeom>
            <a:ln cap="sq"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53"/>
          <p:cNvGrpSpPr/>
          <p:nvPr/>
        </p:nvGrpSpPr>
        <p:grpSpPr>
          <a:xfrm>
            <a:off x="534600" y="5334120"/>
            <a:ext cx="1751400" cy="703440"/>
            <a:chOff x="534600" y="5334120"/>
            <a:chExt cx="1751400" cy="703440"/>
          </a:xfrm>
        </p:grpSpPr>
        <p:sp>
          <p:nvSpPr>
            <p:cNvPr id="131" name="Text Box 54"/>
            <p:cNvSpPr/>
            <p:nvPr/>
          </p:nvSpPr>
          <p:spPr>
            <a:xfrm>
              <a:off x="534600" y="5638680"/>
              <a:ext cx="122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in dag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55"/>
            <p:cNvSpPr/>
            <p:nvPr/>
          </p:nvSpPr>
          <p:spPr>
            <a:xfrm flipV="1">
              <a:off x="1676520" y="5334120"/>
              <a:ext cx="609480" cy="304560"/>
            </a:xfrm>
            <a:prstGeom prst="line">
              <a:avLst/>
            </a:prstGeom>
            <a:ln cap="sq"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2" dur="1" fill="hold"/>
                                  <p:tgtEl>
                                    <p:spTgt spid="13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E7D7-76B3-4CE3-9E1B-51EFE05B1F28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5583-9947-406C-9D4A-CDC60870DBA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Gemiddeld debiteurensaldo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Gemiddelde bedrag dat uitstaat bij de debiteur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het gemiddelde van heel veel momentopnam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Debiteuren kosten geld, omdat je ze moet voorfinancier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Tegenover debiteuren staat een lening in de balans → kost ren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AFAA-1062-4CA0-B003-62FC9B286B11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87C1-A590-41BF-8CC9-D7F89EB3A30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Gemiddelde debiteurensaldo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Omzet kan op 2 manieren betaald worden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à contant </a:t>
            </a: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(boek je direct op liquide middelen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p krediet </a:t>
            </a: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(boek je op debiteuren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ebiteurensaldo ≈ debiteuren </a:t>
            </a:r>
            <a:r>
              <a:rPr b="1" lang="en-US" sz="2200" spc="-1" strike="noStrike">
                <a:solidFill>
                  <a:srgbClr val="ffffff"/>
                </a:solidFill>
                <a:latin typeface="Arial Black"/>
              </a:rPr>
              <a:t>x</a:t>
            </a: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 kredietduur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S = dagelijkse omzet op krediet  x 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aantal dagen dat de factuur open staat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S = DOOK  x  t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gem. DS = gem. DOOK  x  gem. t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28600" y="4800600"/>
          <a:ext cx="8915400" cy="1195560"/>
        </p:xfrm>
        <a:graphic>
          <a:graphicData uri="http://schemas.openxmlformats.org/drawingml/2006/table">
            <a:tbl>
              <a:tblPr/>
              <a:tblGrid>
                <a:gridCol w="1103400"/>
                <a:gridCol w="3773520"/>
                <a:gridCol w="4038480"/>
              </a:tblGrid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DS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Jaaromzet op kredi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x gemidd. kredietdu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65 da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BE54-380F-45D8-943E-5A1E917DF1E1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BB74-AF50-456A-8D85-20513057D10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ef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ereken het gemiddelde debiteurensaldo als een bedrijf jaarlijks € 75.000,- omzet op krediet heeft en de gemiddelde krediettermijn 25 dagen bedraag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ereken de omloopsnelheid als een bedrijf aan inkoop jaarlijks € 600.000,- uitgeeft en de gemiddelde waarde van de voorraad € 50.000,- bedraag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at betekenen de getallen die je hebt uitgerekend?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ijdelijke aanduiding voor datum 4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D8E8-DD36-4DF0-B6E9-E53C5C33FC16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ijdelijke aanduiding voor voettekst 5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ijdelijke aanduiding voor dianummer 6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4C26-475E-4D04-8E5D-4CC7587E943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amenvatting kengetal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3352680" cy="320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cc"/>
                </a:solidFill>
                <a:latin typeface="Arial Black"/>
              </a:rPr>
              <a:t>Balans kengetal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190440" indent="-19044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iquiditei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108576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Werkkapitaa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08576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urrent ratio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08576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ick ratio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190440" indent="-19044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olvabilitei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733560" y="1447920"/>
            <a:ext cx="5181480" cy="320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cc"/>
                </a:solidFill>
                <a:latin typeface="Arial Black"/>
              </a:rPr>
              <a:t>W&amp;V kengetall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rutowinst als % v/d omzet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Nettowinst als % v/d omze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cc"/>
                </a:solidFill>
                <a:latin typeface="Arial Black"/>
              </a:rPr>
              <a:t>W&amp;V + extra gegeven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mzet per 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per week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mzet per werknemer p.j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ebiteurensaldo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1219320" y="4800600"/>
            <a:ext cx="6705360" cy="160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cc"/>
                </a:solidFill>
                <a:latin typeface="Arial Black"/>
              </a:rPr>
              <a:t>Kengetallen o.b.v. Balans + W&amp;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ntabiliteit EV en T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mloopsnelheid en omzetd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bert Oosterom</dc:creator>
  <dc:description/>
  <dc:language>en-US</dc:language>
  <cp:lastModifiedBy>José Kamphuis</cp:lastModifiedBy>
  <dcterms:modified xsi:type="dcterms:W3CDTF">2018-01-07T16:19:55Z</dcterms:modified>
  <cp:revision>20</cp:revision>
  <dc:subject/>
  <dc:title>PowerPoint-presentatie</dc:title>
</cp:coreProperties>
</file>