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AD57-199A-4989-8DB6-0AC58487177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96E1-6C89-4F78-AB4B-7EC838F6971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10B9-CE2D-44AC-BFC0-980E688CBB4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60FE-2DA7-4BC4-9AC4-17AA47FE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A3E5-7E1D-465D-BF28-F3DEF5C9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8354-4569-4213-99F7-B18E3404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C0E5-7AF2-4A63-AB62-CADAB42C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AF38-950E-408B-8787-347F20FE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C181-1A77-498E-8535-DBA2D817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FD59-77EA-4ACC-B44F-ECB3B95B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489C-771E-4064-8EC2-29A2F62F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A3F4-63A3-4B49-A286-0866908A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EC05-BAF6-41ED-A0F2-E94F60B3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7AEA-BF92-471B-88CA-E7345DD4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11F2-83F0-4E20-B8E5-CC342BD3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BFB5-DF88-4360-A7C3-807A119C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6166-57B3-4697-A1AE-B426C9FD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F584-B80C-4853-AD18-D4E0D59B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4F5C-D52E-4EE9-A9D4-FBE6AFE5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DA23-0E51-4EBA-A71E-331DBCAC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E49-9A62-45F7-BD1A-75D1B7BB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E29-A2BF-42B4-8629-DC72CE2C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780-7BEB-4468-995F-83FA65D2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13B-74BD-4E8E-A308-8F6CC95E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ED13-883D-469E-8D34-A93548A8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829E-DBAF-46CC-8E35-FB4B76E3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86C-1387-4D8D-B783-29D6BDC2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\\dgorbet\c\WINDOWS\Desktop\Sprite 10.jpg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0EA4-9B5D-401C-B7B9-EB40BB7FF7F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30F8-C04A-4FC4-A04D-9B37E11156F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\\dgorbet\c\WINDOWS\Desktop\Sprite 10.jpg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97EA-85FA-4338-A8D3-3B64EF5F6FB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35B8-055B-4826-A51A-ECCA3D725DC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3BD8-3971-40CA-BFEA-4A57F854C3A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D082-1ACA-477F-8A96-A7D6CB53177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1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0922-10A2-4095-895E-212500C1936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63A7-27BD-4053-8A1E-863B9E52F85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fin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LANG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KORT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13F3-7E1A-40CE-A14D-DAB323ED4E1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742A-8470-40B3-8176-71D34355B1B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4267080" y="3733920"/>
            <a:ext cx="4876920" cy="10666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ff3300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–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/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34000">
                <a:solidFill>
                  <a:srgbClr val="ffffff"/>
                </a:solidFill>
                <a:latin typeface="Arial Black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Vla – 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8320" y="1523880"/>
          <a:ext cx="4267080" cy="36846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ang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Kort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1" dur="1" fill="hold"/>
                                  <p:tgtEl>
                                    <p:spTgt spid="1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2" dur="1" fill="hold"/>
                                  <p:tgtEl>
                                    <p:spTgt spid="1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0E1E-AC2B-4C2C-B78C-D2859C79800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B45F-36BA-482D-9D65-F82ABD17C91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427640" y="1523880"/>
            <a:ext cx="4335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sen kenget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lans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720D-6378-4661-8A68-9D104BE9BDF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F869-7699-4999-A1E0-3437CC8072C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deling van een bala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 =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 / TV * 10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48320" y="1523880"/>
          <a:ext cx="4267080" cy="38880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la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ko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8FFF-64A6-4A26-8A2E-ACE7D7251D2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8162-43A7-4789-B3BB-0812825EB9E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m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oodwil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ctrooi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osten van onderzoek en ontwikkel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bouw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ventaris / machines / gereedschapp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’s en comput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nanc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andelen in ‘verbonden’ ondernem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AD9F-5EB3-4E39-B565-0E1BE3207D2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A64F-A5B5-422F-A272-6B85400A08E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rad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ondstoffen en gereed produ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ndels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 naa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of productie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biteuren / vorder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nktegoed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asgel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85D0-31A6-4167-A129-5FAF517F6AB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CD13-3CC4-4D0C-B2F6-7EE36ACAF03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igen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leg van de eigen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andelenkapitaa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atschappelijk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plaats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&gt; 20% v/h maatschappelijk kapitaa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minaal kapitaal ↔ beurswaar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olgestor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erv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inst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gio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rwaarderings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9" name="Picture 43" descr="C:\Program Files\Microsoft Office\Clipart\corpbas\j0078725.wmf"/>
          <p:cNvPicPr/>
          <p:nvPr/>
        </p:nvPicPr>
        <p:blipFill>
          <a:blip r:embed="rId1"/>
          <a:stretch/>
        </p:blipFill>
        <p:spPr>
          <a:xfrm>
            <a:off x="6248520" y="1600200"/>
            <a:ext cx="2701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DFF8-254B-42B6-BDFE-3B18A15538C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4194-C68A-42D3-9D55-4BC9811CEB6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C:\Program Files\Microsoft Office\Clipart\standard\stddir1\BD06961_.WMF"/>
          <p:cNvPicPr/>
          <p:nvPr/>
        </p:nvPicPr>
        <p:blipFill>
          <a:blip r:embed="rId1"/>
          <a:stretch/>
        </p:blipFill>
        <p:spPr>
          <a:xfrm>
            <a:off x="7362720" y="4724280"/>
            <a:ext cx="1781280" cy="1738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ang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chtergestelde (a/g)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ante Agaath’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ypothecair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pan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15-3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Zakelijk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typisch 1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nanciële lease verplich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6" name="Picture 4" descr="C:\Program Files\Microsoft Office\Clipart\standard\stddir1\BD06959_.WMF"/>
          <p:cNvPicPr/>
          <p:nvPr/>
        </p:nvPicPr>
        <p:blipFill>
          <a:blip r:embed="rId2"/>
          <a:stretch/>
        </p:blipFill>
        <p:spPr>
          <a:xfrm>
            <a:off x="6324480" y="2438280"/>
            <a:ext cx="15512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D176-2EC9-4AC7-96B1-920D323127E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6477-AD0E-4086-A750-BFF7DBF5624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kening courant kredi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ood staan bij de ban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d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belas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D300-1F8E-4F70-B944-66870DC8E5E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735C-B0E5-46E1-8C63-C05ABE6A42A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228600" y="114300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er hoge waarden bij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icht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ivé person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oed lopend bedrijf meestal in het gele gebie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rtend bedrijf moet boven 2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1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2:21Z</dcterms:modified>
  <cp:revision>14</cp:revision>
  <dc:subject/>
  <dc:title>PowerPoint-presentatie</dc:title>
</cp:coreProperties>
</file>