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43DCE-7F97-4ED4-BCD8-D910AD97BA9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72BF8-BB3D-4977-8CF4-E34BDC84BA4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F208D-394B-486C-B96D-6E6FB8A7A74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0684A-2D5D-4D5F-B0A3-6743E3D6D45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9B2FC-B8E5-4974-841D-DFB454A6084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BA1E6-8F81-4123-A513-6977D097BDF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E901A-2D53-4990-A140-D15DA1E48A7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8D1C3-CAD3-41D6-B438-83622B09E18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8A328-41FD-4922-9264-F1A76930010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68B95-88E2-4B86-B392-FDEE5C5A31C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6CBEA-59DD-438E-9D3F-8B4383BC440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57492-536D-4FE3-9844-00BBE2B545C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0D00C-F90F-4FD8-9E27-51174A478E9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755DF-428C-4341-867F-26E5E0703BB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958E0-D15E-403C-AA1A-3A51DD0B669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52C97-5407-4CA1-96B7-83AD699B72B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EFBEA-0F92-4451-B8AC-1F033C09768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71575-91E6-48B1-B3C8-20BC71A128D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3FE3F-16E4-4E5B-83F1-5BF3992F9B2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716A2-C225-4A30-B257-A16A2C651CB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2E78D-EA23-420F-95DC-B676CBC151F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8DAB0-0740-4822-A727-E069831C3FC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17AEB-76FF-4DCC-96FA-4F9C520034E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135A5-3676-4EC1-8C2A-518687F6FD7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C01F9-1740-4C9C-B2DC-86A7BE69712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4F4D6-5DDC-481E-97B7-65276FC6D92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34190-A7AA-401C-A4D1-EB50FE56FB7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E9F88-2C69-43A6-93BE-49AE1320D7E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C27E2-646E-4541-A811-346BC780E03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905F3-8BDE-418E-AA77-DEA0B4CD70C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81A42-12F8-4B5A-B744-E687B1686E9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E8F6D-6C1A-4974-8C22-BB5FD9D274A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B5915-43ED-4347-8C72-54C86146AAE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DF051-0414-4AA0-A806-617190E80BA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715ED-CAC6-45EA-A8E7-578CE191285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BDD38-8D0E-45B1-A6DB-AFC877368A2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7CF16-000E-418A-B244-F493DE518DD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36A27-5447-46BA-96BB-84CD40EE93F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9E8FA-9C43-4D65-87A5-887EE6C5617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6493D-00FD-47D7-B87A-A272E239383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10F0B-02C9-47C8-9713-62734212FFC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2959E-BE2C-454B-BEB4-848A4BD994D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DAF30-69D9-4DBA-8BED-C8C9E1BAAC2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88585-2B3E-47EC-A9FB-B21C3134600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CC405-7524-489B-8B42-6EAD3D9698E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8F0C6-1316-4CF1-A465-D6B4EA7C9BD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FD18A-3CA3-4517-AEC3-EED6C6E1C0B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44A3E-F741-470F-932D-6E422C67762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B6182-F63C-4D3F-BD4E-64CD60701E3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4D031-92BD-4DCF-9FA0-A426C1A117C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2F0BF-E8F3-4103-9CF5-6F881D825A1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D159F-7445-4EC8-AE96-E829C76C041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EC7C5-D3F4-4343-A2B9-CA0F5CBD6EE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0F861-A5BB-41B5-9F01-626040C295B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4D79A-A81D-497B-A490-67FCC01EAFB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B908C-CF76-4822-BD12-FE638009231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B76D5-E4E5-4B5A-8035-2B1AD0BFA1E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6C25-3310-438E-9198-45A5382FFF0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5EA85-B408-4289-8AC8-7743AF00058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91046-AE15-45D4-BFD6-574BBB3C373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3ACA7-4577-4855-ACF8-754EE031047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27A37-1DDF-4877-9FB0-6AE12C53DFA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9B9B9-9776-434C-A974-0D09492626B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31DB2-8DF1-439B-AF1A-B69FB2C4747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82B7C-4D15-49FB-855A-8558A1BF745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99A56-B8DB-495C-B762-133C416377D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26985-260F-457A-BF62-0D42EC25C26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F788A-4018-46B1-8635-8F4194A9C46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9AC17-419D-48BB-98D0-F93D5977E2E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DAF10-E963-4B77-B83E-A785BF329B2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D31D5-5D6B-4C8A-BE6C-262CAC1E6CF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3BEF9-88B1-42A1-AF3B-6CC129D9F38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72A71-EE4C-49FD-B289-2419E0672B3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E8F55-FF06-434F-8206-CEA41557B22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0E1A0-F63C-44D3-8B4B-048AF46284C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46EB6-B7E9-4A32-A79B-31DF63D868D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96FA5-64AE-415B-85D3-60C99D8ED77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05A80-57E2-4339-972B-C8B22AE620B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69F3A-0632-408A-9461-A1CBF6DD7CC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A4AB9-E65B-4DAF-9504-36DFDB35F59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E1D45-866D-4B8F-9D69-235CD75CB28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CFD2F-EF68-4951-BC79-D6932ECE254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C2FB4-2E5F-4EE9-A0B2-D877AF72669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F25FD-FAA9-4D83-BC18-DD5F5C15427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4616A-712A-4A20-8626-F49427107BF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B7686-D52D-4986-A71F-8F5F1F21828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8516-AABC-4BF7-A1B7-7A80C19E9F6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92FB-B2FF-413F-809E-C37865D527C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05D0B-34C7-469B-8877-91BF307AC2E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D9B5F-4FEE-43EB-860D-0EB82DD98C2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C4E7-7923-4897-B757-52F72022EAE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B20E4-6405-4A46-AD99-90939B2C9B7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624E9-7319-4568-9516-74CA0958554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157BE-4EE4-46C7-BC88-63BDEA1793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59DB6-9B61-428F-BF50-2775D064A40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AF204-0622-4F40-9027-5ADAB38EFDE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D4F89-8EB3-4DFA-A81C-83EAB6F9325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DA63B-0DFA-432F-9978-3E2D77339A2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230D7-FF65-4B09-AC82-B597BE316E7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04966-06E4-44E6-BD38-509636F54C3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D5795-E814-4F31-A253-1AA24F40A3C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B7D70-65D9-4E2A-9629-B48DA016A03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8597B-2952-454D-BA43-49E7EC1393E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49A6-57FC-4619-B73E-E0AB786DF65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AE048-7F20-4ECA-B613-C0EFA1D84B9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07060-D053-4F67-BCBA-A40F62A2B08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19F0-E2C9-413D-B7FB-7C272EA452E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5448E-0087-4BB6-ABF8-8416BDDFF0E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1856B-543C-47E2-9B79-8E2D95172DA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E4FFF-D266-4D69-A50C-C7C78299B96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3C164-66CA-49B8-98C8-AF7D81E01BF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70856-55A5-473A-A742-C333A347C51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A0128-ABBE-4FC3-83BC-0C3998D86A6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20A03-BC7E-4218-BA23-E7D1AE72DE3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78ED4-4FF7-45D0-8A0D-E735F9B5E2A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C5695-3731-4F79-B91F-26F8A042C9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D5E56-F0FA-426D-A2E6-FC32F09701A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00611-6D17-4A7E-BF4A-BCBD14D694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47AEA-FDAE-4979-AD44-08EE7500812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9E15D-3B7D-4FAE-B5DB-130E3EC11FC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82D3C-2634-42C1-A548-B3C663EB9FF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0C89-2081-4BF8-8B99-F1DDB49A380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A3EB9-C678-40B2-B4E4-E4F85834B2D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1AFF9-CBB6-4B58-A8F5-CFBE35159D7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BA823-3B67-4D5A-A3B6-FA2C07D2304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CD5D5-A2AA-497B-9907-B36EE2222C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7F247-2B60-43BF-BF60-E1937CA8BBE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5CD6A-44F5-4B88-9847-4C8D5FD8348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7F692-9D6E-4F46-A53D-EEBFF3CDCC0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0B032-944B-4A7B-8DB2-6A1043C4BDC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58C0C-6ABF-449F-810A-CA2DCA52FD7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DFBE0-80CF-4D21-AD08-1CEA37B0C62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70EEE-E53A-4A9E-AB9D-C3AF5FC89E5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0CDD9-F903-4915-811D-48F08231DCF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C42C1-0907-461F-99F7-8866DE7C966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A346F-70C2-49F8-A8F5-2C9B3F9AF61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07302-F4CF-4623-9DD7-018F9AA5EF4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A5A83-D7E1-432D-9673-29744257883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FDAA6-AF1F-4D45-B5BD-82866C58FAB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B2EBC-8736-4323-86F7-AE28FC0A9F8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61B95-695D-4B42-BC9B-E9455D9AF63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42CD7-C3C8-4FF5-AA5E-F7602ABB945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286E0-7730-47D4-BDCA-0713E3FE874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E58C6-BD1E-462F-B90A-1501C462AE7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341ED-4B84-4E98-BD2C-3AE04573B07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C9F6F-95C4-40CB-888C-48A8D679701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12BD0-AE76-49BD-8249-87B7AB8A8E8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DFA6E-6624-44DC-9412-839BB53FE4F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5156D-5AAB-4ADC-B9E3-4B957E05126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90DA2-1739-49B2-A9C2-8405B725CB1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40E10-5408-4124-A548-BDC39DC3697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63FAB-FED8-4E90-BF16-662E9E53302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56BE2-EEC7-48FA-AA38-EF9E1532D61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BDAFE-E39B-44C7-96B7-365BA4011EA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E537D-5963-4E5E-9254-BEC11C7ADD3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EA485-F458-4E7C-B65F-88F8305C02E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D5439-49C8-46F3-9562-1A5C3E437F9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303D7-4405-476D-B348-9DE93D3D5F2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51DED-1757-4278-BD09-02900EA334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277DA-17B8-47C1-B3F5-79DF9BBE767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130E8-19F8-493F-A682-D441F366B16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3046E-EAF6-4215-B085-B67458A89C7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D3C25-FEF7-4B7B-B9F1-90F76F86F35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8B97D-F135-4EE4-9E54-1B1246D4B6B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82E92-E568-462C-ABCB-3ED15BC6448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BA5A0-2E37-458A-A726-7A19D99FFDD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11DBB-36F8-48F9-8A33-97DC013076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F0115-2686-4832-A768-97BD7845090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79A1D-F54F-4967-9BE9-2AAB3014033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65F8C-A4E0-4709-A4F2-A2FCA2AF7BC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B8DDB-69FB-4EDA-B6CE-EAE4FD1E68C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DD7CE-3D57-4C4B-BE84-2C21D58ED6E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AAA12-6FED-402B-8DA0-A1D7E1F06FA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F791A-354B-4E61-A54F-F6AB81605A1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57652-1F89-45C6-874B-2293B31CCC1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C64D9-21EE-4764-8B19-11D158E0BEF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A0BD8-3012-4F64-A575-3DEE429E886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34660-2B29-4F81-84BA-9051D409C0F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9CC2B-6A36-40C0-9546-A2A9D27BB82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423A5-12B3-4F6A-9446-5073EBB128F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3A711-9F36-4D30-9708-DEC0A9B1AB8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7242C-15B0-460A-A019-452B14EC042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01F15-6390-41F3-ACE8-FA7B9DD4904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167AB-D433-4D82-A6D8-B2D84D575A0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52A6A-F072-43F0-8FFC-AB9E6DFB090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20990-D929-4DBD-A6F8-6BF26DA07C2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5176F-91EB-417A-B443-44ACD63471A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26FA5-C9CF-40C8-BC45-996F7E01843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33B13-4DFE-489D-8FBC-5B76393BD58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98CBC-7F41-429E-809F-F01D12D0BFE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8E72F-89E5-4B9A-8C31-6DC020347CE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E0BC4-F9BA-47F5-8668-21AD523E4AD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E67E4-67E5-4ABE-91ED-3CC02ACFC0B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DB1FF-B732-4DBA-9B30-4068AC439CE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90C9-E37C-403E-981A-997383C47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E3A7-9C86-4B30-B1C8-82F7BEA86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B170-41C4-49BB-A080-001197407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D577-E90A-433A-BA82-67091888E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2104-FBE5-4295-A230-F06694567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74B4-180A-4448-8CD4-C4161E3B2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1231-C9A4-4A58-90EF-4207EE36B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0C77-8D81-4263-BF16-5C2A9E60C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3601-6C31-4712-AC46-1C0B7330D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24B6-9A2F-43CA-9640-446CA04A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608E-566C-4B8E-9EE3-9C70F73D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C3B0-381D-4D5A-A82E-0DB7FD45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66D20-0FC5-4250-A0D3-76548B3F2873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pla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voor een activite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eld van een 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SMART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ecif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etb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b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list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geb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geleidingsstijlen volgens Ohio State University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menteel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ticiper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ituatiegericht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één vaste begeleidingsstijl gebruiken, maar de stij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aan de specifieke cliënt, de specifie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behoefte en de specifiek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oach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dersteunen en stimuleren van cliënten in h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leven door onder me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nieuwe) uitdagende doelen te 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g erheen in kaart 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vaardigheden te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 te moedigen om die doelen te bere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en nodig bij te 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dact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verdragen van kennis en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en gangbare didactische metho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nstr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leide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otiveren en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ven van de juiste prikkel om iemand enthousiast te maken iets te doen of te l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mand aansporen iets te doen of te laten op basis van overtuigingskr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ctoren die de motivatie beïnvl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nerlijk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tern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rel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strumentaliteitstheorie; drie aannam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ordt bepaald door een combinatie van krachten zowel gelegen in het individu als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nemen bewust besluiten aangaande hu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kiezen uit verschillende soorten gedrag op grond van de verwachting dat een specifiek soort gedrag tot het gewenste resultaat zal 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ieren van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gni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omotor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-affec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specten van sociaal-affectief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ctieve vaardigheden: het reageren op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actieve vaardigheden: het omgaan met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RUMBA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ev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nderstandable (begrijpelij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asurable (meet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vorial (concreet gedra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ttainable (haal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sen in het cyclische leerproc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 opdoen, concreet 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ren en 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uleren en ordenen, abstracte begrip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perimen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Leerstijlen volgens Kolb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ouwers/waarne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n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lis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functies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groepsproce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nalyseren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en informel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en secundair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mogene en heterogen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interne functies va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sociale identiteit aan de l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ëren van een referentiek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en van de mogelijkheid zich van anderen te ondersch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de mogelijkheid om invloed uit te oefenen op de omgeving van de 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Groepsproce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treding tot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tstaan van sociale struc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der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roblemen bij socialis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ciale struct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 geïntegreerd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akgericht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eutral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xterne oorzaken voor veranderingen in de groepsstruc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chnologische verander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aan van organisatorische zwak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ing van buitena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ethoden voor beïnvloeden groepsstuctuur en - cul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groepsgroo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machtsconcentr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jl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he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uraf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W-vragen om een begeleidingsplan op te zet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m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nn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alyse van een groe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van de analys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ystematisch verzamelen van informatie, me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soci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atie heterogeniteit/homogen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rkte/zwakte-analy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ekken van conclus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richting van de leef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ing bij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gebruiks- en spel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plan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 van di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beh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richting; houd rekening m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inrich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merken va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rgebru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pla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 en 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uitzonderingen: regels aanp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maal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koffie- en theepauz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uimen en af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as 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den beh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auzes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een rustige, opgeruim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sfeer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de wa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iket met wasvoorschrift le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kle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choonm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oog stofvrij maken (tapijt, hout, texti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t reinigen (gladde oppervlakk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een bepaalde volgo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nnen minimum en maximum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tsing werkvoorraad en buffer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vensmiddelen volgens de FIFO-meth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sartikelen: gee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bruiksartikelen: één stuk i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iligheidsaspect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m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(giftige) schoonmaak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PDCA-cyclu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: maak een pl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: voer het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ck: controleer de voortg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: han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steun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tot samen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idelijke 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samenwerk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preken op groeps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odzaak duidelijk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spect gezelligheid onderst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houd spel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merplant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ctussen en vetplanten weinig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dplanten en bloeiende planten mee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water bij ho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nder water bij la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inwinnen bij de bloemist bij ziekten en ongedier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tten en hon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sten geld in het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gels en v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jn goedkoop in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s vragen op z'n tijd wel aandacht, vissen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kooi onderhouden kost weinig tijd, een aquarium goed onderhouden kost meer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dures vol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lijsten aanleggen en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 materiaal signa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istratiesysteem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 regelmatig controleren op fouten en gebreken; 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 materiaal inpassen in opbergsyst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ugdelijk materi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mis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erantwoord gedrag van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rijfshulpverlening (BH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an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en v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lijke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mische vloei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volgens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eer b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uurstoftoevoer naar vlammen afsl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lam in de pan: deksel op de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lucht via vlucht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aststellen en beoordelen van acties of activitei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op basis van dat oordeel conclusies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 te trekken, te onderscheiden 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voldoen aan veiligheids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bij mankementen vervangen of gerepareerd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goed onderhouden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kementen, let o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pott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goed functionerende of vastlopende beweg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of blootliggende bedrading bij elektrische appa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water/vocht en elektric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zittende stek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komen van vermiss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controleren aanwezig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maken wat te doen als je elkaar kwijt r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uren vergrendelen (alleen als instellingsbeleid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mist! Wat nu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andere cliënten niet aan hun lot o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na waar en wanneer de cliënt vermist raak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ek op logische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ld het volgens het instellings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 bedrijfshulpverlen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van brand en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d optreden bij brand en calamiteiten: contactpersoon met de hulpdiensten, ontruiming in gang zetten, gevolgen beperken, enzovo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nen van eerste hulp (EHBO-func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ende en agogische beroe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3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of juist ni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4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imuleren tot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5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specteren van de fysieke integr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6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bij persoonlijke 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7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ulpmiddelen bij de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8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liënten verzor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9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rgonomische voorschri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pleegtechnische hande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inder scheiding tussen verzorgend en agogisch werk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zorg en begel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unctieonderzoek en arbeidsmar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aan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aspecten van begeleiden 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d rekening met wat iemand zelf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 bij voorkeur samen wat iemand zelf niet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meedenken en meebesl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 aan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ren wat algemeen geldende normen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jzen op consequenties van afwijkend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het goede voorbeeld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onderdelen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onding en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ysiek contact in je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uiting van affec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bij wederzijds goed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functionele handel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altijd eerst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arom je dat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ek de cliënt zoveel mogelijk bij wat je do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zoveel mogelijk zelf beslissing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preek elkaars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erm de 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 volgens de 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ichaam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nden wassen na toiletgebruik en voor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douchen of in b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ebit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oets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lo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tandartsbezo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ing van kleding en schoei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ass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ar- en nagel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knipp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de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L-hulp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he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ingen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DL-hulpmidde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aankleden, zoals een aantrekhulp voor steunkousen of een knopenh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eten en drinken, zoals aangepast bestek of een antilekbe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wassen, zoals een kraanopener of een badborstel met gebogen handgre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haarverzorging, zoals een verlengde k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nagelverzorging, zoals een elektrische nagelvijl of een nagelborstel op zuign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toiletgang, zoals een toiletverhoger of 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erplaatsen, zoals krukken of roll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cliën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de lichamelijke gestel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het verzorgingsmoment voor persoonlijke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voor bad of douch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 en washand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gel, badschuim of -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hamp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öh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-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waterafstotend schort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baden of douch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st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- en badbeugels voor de cliënt om zich aan vast te 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bij het wassen op be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kommen; één voor boven en één voor on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en en washand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 of py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ep of doucheg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nagel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eten en drin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 zoveel mogelijk rechtop zi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een lepel bij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at met cliënt tijdens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k mond tussendoor scho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incontin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th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ontinentiemateria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-wasbaar: wegwerpluier(broekje)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baar: katoenen luier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altamp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slakens en onder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et 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afsluiting van het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met vrijwilli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rgonomische voorschriften zijn belangrij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gezon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het werk zo efficiënt mogelijk te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prestatie van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pleegtechnische handel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en op het gebied van verplegen en verzor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 behalve kennis ook een bepaalde vaardigheid vo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d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voegd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wettelijk geregeld is (voorbehouden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in de instelling geregeld is (risicovolle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kwaam b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kwaam als j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context van de handeling kent (waarom is het nodi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oel, het resultaat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vaardigheid hebt om de handeling methodisch uit te 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ijwerking of bijverschijnselen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risico's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2 Basisprincipes van 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3 Veel voorkomende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4 De inhoud van een verbandtromm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5 Infectieziek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6 Maag- en darmaandoen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7 Naar de dok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8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een ongeval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gnaleer eventuele gevaren, denk aan eigen veilig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e ernst van d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of je zelf hulp kunt verlenen, zo niet regel deskundig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en eerst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el voorkomende ongeval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wendige 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werp in neus of o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ectenb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uiltje in o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lauw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nd er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tbreu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neuz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andaardinhoud van een verbandtromm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wondsnelverban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snelverbanden, nummer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snelverband, nummer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ideaal windsel, 4, 8, 12 c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pakje witte watt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steriele gaasj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metaline compressen, steri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3 elastische, hydrofiele zwachtels 4 m lang, 6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driekante doeken, ook bekend onder de naam mitel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assortiment wondpleist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rol kleefpleister, 2 ½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verbandschaa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veiligheidsspel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ectie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metting door micro-organis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ubatietijd: wel besmet, nog niet 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dere ziekte heeft eigen incubatie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inder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senvlies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kho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z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de h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odvo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erpok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4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voorbereidings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anstellen coö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organisatiecomité en werkgroep(en) aa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uccescriteria in kaart bre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erke en zwakke punten inventari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rote lijnen vast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t team definitief same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lan van aanpak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8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groting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9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ventuele contracten afsl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rijwilligers werven en begelei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dere infectieziekten, onder ander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ddenoor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kou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oken am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i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ortsstui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ag- en darmstoorn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edsel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atyf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tip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den en w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 het spreek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sjes mee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geru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ts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schriften opvolgen en doorgeven aan collega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loeden op 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en opvoedings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 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ur bi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ulerend optr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in bijzonder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en op de ontwikkel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ysiek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fomstan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du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conta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kind leren zich met zijn eigenheid in de wereld 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dden door 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u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r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ingsvaardigh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 positieve handelingen en uitingen van opvoed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e bijdragen aan de ontwikkeling van een k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lfredzaamheid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en voor veilige, vertrouw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op onderzoek laten uitg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en van eigen 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wat het kind al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persoonlijke manier van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feedback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wisselen met 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ructuur bied je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oede inrichting van de 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ste daginde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regels en ritu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re opvoedmetho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opvoeders of verzor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Regulerend optr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en regels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onen en stra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leren zelf problemen op te lo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me-out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dag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gra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l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riaallij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: het wedstrijdsche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chrijving programmaonderdelen en plattegr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ativiteitsontwikkeling e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tekenis van beeldende vorming voor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ende en kunstzinnige vorming in fasen v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ps voor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ne doelen va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beteren originele denken, fantasie, verke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reatieve en esthetische ontwikkeling stimu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ognitieve competenties stimuleren, bijvoorbeeld de taal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motorische vaardigheden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rsoonlijkheids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vorderen sociaal functioneren in groepen en in de samenl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ezelf openstellen en jezelf leren 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ndere kunstzinnige, creatieve en culturele aspecten en uitingen leren ken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schillende materialen en gereedschappen leren kennen en daarmee om leren g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over onder andere kleur, vorm, ritme, muziek, dans, ruimte en compo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reflecteren op je eigen werk en dat van a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en zinvolle en plezierige tijdsbest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eldende en kunstzinnige vorming in fasen van de ontwikkeling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unstzinnige en culturele oriën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dimensionaal 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dimensionaal en driedimensionaal werk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- en driedimensionaal werk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schema twee-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, gereedschappen en toe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- en driedimensionaal werken op verschillende leeftijd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len, gereedschappen en toepass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twe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pi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et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muziek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 op verschillende leeftij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ans en bewe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oneel en dra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Uitvoering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ördin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muni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didactische aanpa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lang van een goe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 vorm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vorm 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ctiviteiten vormgev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ces va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rme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gericht -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geri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e expr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ven fasen beeldbeschouw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oorden eerste indru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wat je z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houdelijke achtergronden van de afbeelding verke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nier van maken analy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de beeldende aspe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functie en doelgroep van het kuns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luiting en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organisatiegebonden 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leidsplan of strategisch plan (3 tot 5 ja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aarplan per onderdeel/afdeling (afgeleid van beleids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deelplannen, 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dagogisch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nieuwbouw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usie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ociaal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sluiting evenemen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een prijsuitre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ank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bouwen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palen van de waarde van een activiteit om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 van dat oordeel conclusies te trekken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erken met vrijwilliger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coördinator aan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wer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bestand aan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ken inventaris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introduc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schiedenis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behoeften zijn en hoe ze ontst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begeleidingsbehoefte n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delen van 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 met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tegratie zorg en welzijn blijkt u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smatige aanpak over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petenties beroepsopleid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gvallen van ‘muren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rippen rond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verl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heel van activiteiten en handelingen dat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matig en bedoeld en bewust uitvoert om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te helpen bij het oplossen van zijn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je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soorten innerlijke 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tuationele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gebonden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n begeleidingsbehoefte naar begeleidingsactiviteit; twee uitgangspu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niet elke behoefte vraagt om een begeleidingsactivite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de cliënt bepaalt zelf zijn behoef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deel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plan (arts, psycholoog, psychi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plan (disciplines die vooral begeleid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egplan (verpleging en verzorg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plan (activiteitenbegelei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splan (basisschool en voortgezet onderwij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lkuilen bij koppelen van activiteiten aan behoef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vr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veel accent op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n oog voor wat goed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nkele mogelijkheden om te hel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overnem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probleemdeel over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wijzingen g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nier waarop je je bij de uitoefening van je bero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n in relatie met de cliënt gedraag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ar voor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afstemming binnen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 van instelling wordt uitgedra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evingsvermo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inlevingsvermo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elt zich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stelt zich makkelijker op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is meer bereid na te denken over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un je respect tone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e belangstelling voor iemand hebb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dering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elijk, beleefd, warm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n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uld t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cht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veel mogelijk en gemeend jezelf zijn in je relatie m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enmerken van de relatie cliënt-begeleid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erkte keuzevrijheid cliënt en begele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hank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motionele bi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 en bekw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oor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requentie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ur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nsiteit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reiden van een pl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lysere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oefte pei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punten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ezen uit activiteitenreperto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uze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icht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uit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gevolgen van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voordelen van degene met wie je een emotionele binding heb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an (te) vermoeiend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2 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3 Zelfvertrouw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4 Zelfvertrouw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5 Ontdekken eigen mogelijk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6 Opkomen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7 Gedragsveran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8 Begeleiden bij praktisch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9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rippen begrep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in uiteenlopen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tandigheden vertrouwt op eigen kunnen en op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 besluit- en mening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pecten va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ken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be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waa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Stimulere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bena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sporen oorzaken gebrek aan zelfvertrouw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ren van minder goede eigensch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Positieve bena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uit van de positieve k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bewust iets positiefs tege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woorden met een positieve beteke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Hulp bij ontdekken eigen mogelijkhed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 bij omgaan met nieuw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angen bij teleur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en motiv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ische weerbaarheid; het op een tactvolle mani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komen voor je eigen mening, wensen of bel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Ondersteuning bij 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oelen en 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fronteer en zoek oplo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en analyseer 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on zelf voorbeeld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tijdens de uitvo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en draaiboek bew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 begeleiden en coördin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proces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Gedrag staat in relatie to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ersoon zelf met alles wat bij hem of haar hoor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ysieke omgev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social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eleiding bij gedragsveran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inzicht i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cliënt zelf verantwoordelijkheid voor oplo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 ondersteu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udge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n tevoren vastgesteld bedrag waar je i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iode van tevoren vastgestelde (begrote) uitga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moe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h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oelens en emo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two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enz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8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raalwetenschap; filosofie van het juiste handelen 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zichte van medemensen, dieren of na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e normen in zorg en agogisch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rond leven en d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waard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keurs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2382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 dilem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6200" y="2893680"/>
            <a:ext cx="85341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 rondom een ethische vraa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 individueel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groter verb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5800" y="4395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lemma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3"/>
          <p:cNvSpPr/>
          <p:nvPr/>
        </p:nvSpPr>
        <p:spPr>
          <a:xfrm>
            <a:off x="755640" y="1052640"/>
            <a:ext cx="85345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thische keuzes;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waar krijg je mee te maken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nsen en behoeften va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dere beroepsbeoefen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llega'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eigen normen en waarden (gewet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of ongeschreven regels, die je kunn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bepalen wat je wel en niet moet doen in situa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in het geweten een rol spee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7120" y="907560"/>
            <a:ext cx="8534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of negatieve afwijkingen van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85800" y="37893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fect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684360" y="4149720"/>
            <a:ext cx="85341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3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ftige gemoedsaandoening; hevig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stappen van de methodische begeleidingscyclu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mgaan met eigen 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je eigen gevoelsl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er je eigen emo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p emoties reage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Aspecten van omgaan met emoties van clië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het gevoelsleven van de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eer de emoties van een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de cliënt zijn emoties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antwo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naar beste geweten en hier verantwoord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rekenschap) over af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renzen voor professioneel handelen worden bepaa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 en protoc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persoonlijke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Privacybescherming wordt onder andere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erege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t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waarden en 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7120" y="1052640"/>
            <a:ext cx="8534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de ander, tegen zijn zin, je wil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85800" y="3606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717480" y="3933720"/>
            <a:ext cx="8534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31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iets of iemand te bewer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sgebruik en machtsmisbrui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gebruik: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in het belang van de cliënt of de organis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misbruik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voor eigenbelang of verkeerde machts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ty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nc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s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gument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eren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orver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bro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en 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tschappelijke preven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, voorlichting en adv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 gecombineerd tot een samenhangend verh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, specifiek gericht op jouw persoonlijke vraag en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n bestaan uit één gegeven, een paar gegevens of veel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eft alleen een kennisdoel: de ander van iets op de hoog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gebreider dan inform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ordende en gestructureerd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 mo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passelijk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lledig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ouwbaar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of onvoorber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bij gevoelige of ingewikkeld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oorbereid bij eenvoudige onderwerpen waar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van we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of 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bij individuen en bij eenmali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 bij meerdere mensen en als herha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t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of groepsgewij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door middel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sgespr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gewijs door middel van een presentatie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liënten vragen advies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m een ingewikkelde situatie of probleem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gevolgen van een keuze zwaar 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 zelf geen besluit kunn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elden van weerstand tegen advie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dringing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dracht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ektewinst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rstand vanuit gewetensfun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zelf onvoldoende kennis heb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niet bevoegd bent informatie t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het niet om jouw werkterrein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alkuilen bij 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op je gev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ementen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ai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Informatievragen kunnen betrekking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hebben op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 en scho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en w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usitiële maatreg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sondersteu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om je aan informati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ocollen en handboe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och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meentegid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insituatie wordt bepaald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 inst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ële k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taan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vormen van prev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preventie : voorkomen door oorzaken weg te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cundaire preventie : voorkomen door vroegtijdige opsp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rtiaire preventie : voorkomen van e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ganisaties met preventieactivitei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G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nische zorgin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diens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Onderzoek en ontwikkeling preventieprogramma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zijn de risicogroep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zijn de risicofactor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factoren werken beschermend (preventief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 kunnen de risicofactoren worden teruggedrong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 e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al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e levens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riendschap, relatie,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lijkwaardige verbondenheid tussen twee of meer mensen op basis van structurele wederzijdse belangstelling en sympath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min of meer structurele betrekking tussen twee of meer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mite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gebieden van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s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van geestelijk en 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e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uncties van vriendscha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ien in een elementaire sociale behoef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, gevoelens, belangstelling 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 ontwikkelen of beves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p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af drie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ste intieme band is die met het opvoedingsmili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is nog niet gericht op het zelf aangaan en onderhouden va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wisselt met enige regelmaat van vriendjes en vriendinnet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zoeken speelkameraadjes voor spel of andere activiteiten die ze samen kunn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 wordt nog geen onderscheid in geslacht gem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 zeven tot twaalf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langrijkste intimiteit blijft de thuis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zijn meer gericht op het aangaan en onderhouden van intimiteit met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solidariteit wordt belangrij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jes en vriendinnetjes wisselen minder v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hebben een voorkeur voor omgaan met h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jongens op meer 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meisjes op meer samen p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 twaalf tot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elen van intim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pen zijn heftiger en kwetsbaa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vaardigheden gaan een rol sp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nemende belangstelling voor andere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emste vriendschap m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S-formule voor probleemformul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 = probleem: wat kan iemand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 = etiologie: wat is de oorz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 = symptomen: wat zijn d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af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ast vriendschappen ook langdurige en diepgaande rel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breiding sociaal ne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aarmee het persoonlijke levensgebied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 betreden wordt en dat door die persoon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gewenst, vervelend, hinderlijk of bedreigend word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eksual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ing op het gebied van het geslachts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en belangrijke gebeurteni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beurtenis die belangrijk is als de cliënt deze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danig erva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 theoretische modellen bij verlieservaring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asentheorie van Elisabeth Kübler-R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takentheorie van J. William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fasentheorie van Elisabeth Kübler-Ros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in fasen verloo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1: ongeloof, ontke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2: boos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3: vervan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4: 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5: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theorie J.William Wor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vier taken k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vaarden van het ver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erken van de p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van het leven zonder degene die er niet meer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emotioneel een plek geven en verder 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eidene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dactische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 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r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vatting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jlen van leiding geven/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aditionele i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eling Ohio State Univers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model van Hersey en Blanch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raditionele indeling begeleidingsstij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ut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‘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issez-faire’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1:50Z</dcterms:created>
  <dc:creator>Erik</dc:creator>
  <dc:description/>
  <dc:language>en-US</dc:language>
  <cp:lastModifiedBy>Elly Peters</cp:lastModifiedBy>
  <dcterms:modified xsi:type="dcterms:W3CDTF">2018-10-09T09:25:33Z</dcterms:modified>
  <cp:revision>11</cp:revision>
  <dc:subject/>
  <dc:title>De inhoud van dit thema:</dc:title>
</cp:coreProperties>
</file>