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8F685-4A96-4AC3-A4EB-4ED4EC9F8E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93E7-0498-4213-829F-2CFFB889B5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6D20-D4F0-4E5D-91D5-AC71ACA7E94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3D3A-5A43-4CF9-894E-D0A57DA103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53B0-4024-4B8D-A8EE-543C7D333A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7006-0655-41F4-AC70-1A519C3961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6DAE-6278-4E05-8461-B38CDB0C3A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5CC5-4B5F-4FD7-88A8-56D93FCD484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D7BEE-712B-48AB-B8B2-7537949D35F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6C8B-C24F-430A-A781-6D080EEFDE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7422D-9396-46FF-9A78-78CFA612182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17AE-4CCD-430F-A449-9BC37CC115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104E1-4C35-4FE1-B483-7AC8E0E3C7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615C-BA42-47F8-8FE2-068FD79757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BC41-4618-46C6-9650-67EA38743D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5F3E-391B-4DAE-B76D-483F94E3CE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CF42C-C2B0-4112-8659-BD4A8DD4F5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6E1A-84B8-4AB7-B806-DBE3995A0A7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F5A8-F0D4-4D85-B28D-27B928E151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A6158-6F5A-4D64-B435-CAFB6C6C18F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5BF3-A420-488C-B415-BE82041F44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5876-6E33-4EEE-9C90-3DB82ECE2D0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091D-8A9C-43DD-866D-6AC28E3448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F9FC-6E1C-4C55-9263-9F81F0F1759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25ED-5F69-47F1-9A9A-4FC884648F4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60868-6307-4125-8CEE-1276110208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033CF-A415-419A-8D3F-C5E8BA77438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D5B7-6014-4091-A6E9-AA1FD2549EC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70DD-4F12-4546-BE2C-C5E41DF388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144A-E934-4379-9102-0DF86CCACC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DA19-FA74-40DB-87F3-5F40F9B384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2749-C543-4EA1-86F4-9CF431C4060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C682-DE7D-45A4-9307-817F6173287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C6FC-6245-4B3B-8F71-F550F319FC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6EE5-C717-4D5F-9832-D9410481CF1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F726-10CD-4485-8E2B-02FE324535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3C37-1796-44FC-811A-8FF2A0B9F9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A752A-14AC-43EB-8B82-02FD5F6A94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D657D-22AB-4F73-A801-D4252F5A714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DA43-BF79-4694-82BF-67455FEB66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AECC-B5FD-42D5-B5D4-BEDFCFE7992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5E3D1-25F9-400B-B50C-77724639D57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03D9F-2A1B-4A7F-9E5D-F65DFCEC49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8E8F-E2D1-4D8B-84BF-28BF621A85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2049E-59A9-48CD-82D0-CB1E6BDD33A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9804-74CA-473C-B494-C57AF96D6C6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1671-F9EF-4351-BAFF-D530D6C2CA1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791F-13C4-4291-8EC3-F73A9A1876D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F5DFE-49DB-4E22-8841-78EF07FD025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A9BB-B501-4EAC-B382-E1A4B854C24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F326-319A-4B2D-97BA-2309D7A93C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41008-2DA5-45ED-8D71-4DAEA9A161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7F22-7A69-4FDF-A164-A0C1C30A9C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2E55-F597-4DF5-995C-AC487FD2C26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D7CAA-3DBF-4FA9-B7C2-9A1D28B02F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9EC9-19A7-497F-B6AD-51181598AFE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AAEB8-0E46-46BE-9847-6DB4F3B96B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BAC5-3CC3-48AE-939F-36CF2DF708F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C188-FA52-4ED6-9482-39F72451BE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7826-579C-45DE-91E4-740D9BF37B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E02FB-5976-44F7-8450-13FEE142727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E51B-B55F-41AD-948C-FDA33C58AA6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BD2E-55C3-4066-A715-E9C9C6FCC6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DA631-9B19-42F7-9F87-2940B4715C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990D-6B91-48C2-97C7-C22407E8EB1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BD5D-EF3F-4040-9C12-92BCE228B05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AF618-F734-4CD9-8425-9B10B4A9F0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E5E8-F4BF-4051-B61F-061357E99C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F8016-0F74-4253-9F30-6F6FE9E773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2CED-FB56-42E4-856F-1B8455085A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8132-46B8-4406-930C-AEB93BE235B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F560-B3EE-4D57-A439-1676ADD81C0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B018-5DA0-4290-B3F8-B368A85E5D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A36F-5888-4B76-AF03-F4092BB9B7A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3DCAE-B68D-4720-8841-A970E1FC547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23C3-E0A7-4947-B61F-FA2B0299D5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9096-4F21-46C9-BB6B-1CB84F4318B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02F8-58DA-420F-B557-690E2C828A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811D-85FD-4B2F-A5D3-66FCA0D5DA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B1DB-B37D-4AE8-85B4-11161114B2A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E2A1-0588-4557-B3F7-35B1F74F1C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B449-5A8F-4BA8-94D7-B781284210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9415-C237-4813-8DB3-70C3B4DC23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6613-97F2-4186-BAC7-B8F859DCA28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5A0C-C66C-4491-AF03-D5A59E79B6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2445-B046-4F0B-8FE7-1F390F96960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404A-7E14-4980-B62C-E8769E597F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C9ED6-15BF-41E5-A844-A464C7AE6CA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DCEB-4EBE-4BCA-90D1-0BF16EE70B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427A-0148-4DBC-B57D-8B3C96BDA35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9F1F-3BB7-4F08-9973-BE7581C538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8ADD-2304-41D5-80CC-82A49CBD1E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84C0-D6F5-4069-A7EE-4F636CF0F4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2B92-BF26-4091-B10C-D3DB1E88758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56718-5B69-4DA8-A04A-4022E337273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8FBE-1221-4416-B4A5-C2E593016D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D2279-07E1-4BD6-91D6-5DD4FEFF70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C50E-D585-41D6-B11D-25F1678A07D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2BF1-19F1-4281-AADA-71F507A238B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6931-B478-4900-BADB-77D8B26E870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FFF6C-F990-420B-8BA9-7E28A33474B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394F-59F8-4075-B33D-8D5B5DAAAD3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9DDE-DB7A-4C04-89C2-4292B8A27D0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1DBD-4608-4CF1-B938-461F35758D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0163-17DB-4939-8E11-F82BBA21B61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18664-0A8B-4C1B-95FD-61637D27E9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7F23-1D2C-485D-8349-8541F92126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65D4-8D2D-42D9-9E1F-5896B0C94FA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3F882-7C50-49BE-A7AB-9EFA50117CC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7097-18ED-4E66-B1A3-432C6D81306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CE756-88DF-44A4-B22E-9C000C0451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7E74-2949-47D6-B78D-9563339F5C3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2561-7047-465E-A202-09511A05D38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3DCF-942C-43EB-AF66-C0EF96F4CB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B0ED-8C9D-45DC-916F-B15B596811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6D77-BE35-4F9C-943A-F5507C7AC6C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E63A-A768-4A9F-8F71-110D639FDFF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DF40-A7A7-4FDA-889A-40FD249E87B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D1F5-BA35-480F-81C6-E84987102F5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A0B03-BC38-4F54-B466-5CD8E01DF7D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5E10F-E991-4AAF-9329-8217B7FD26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A1A3-039A-4943-A917-4E1C39CC00E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AEED-6229-4D5A-83B8-C227344405C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E0E13-67CC-4442-8A25-E9F5F1F1077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A19EA-F56E-4E98-88F3-100B9EF76C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95A33-798A-4649-9985-638BD7A90D8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9C44-0A23-48EC-A70E-4D6720AC709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7B3B-4763-4F74-870F-0F46CD9F04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47E0-447E-4F20-B85D-8C4BEDF173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C38E-0757-4AD7-A278-B6C8C56FEA3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6E449-9990-4135-B2E3-86B142C546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89B6-0B04-4285-AD1A-E8C015F1AB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5103-39A7-41F6-BADF-FAE4043469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09EE0-714B-4F08-9867-E1B6F7DE12F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39A3E-FB0A-4AC7-BB8F-7D081810E7D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622C-1A1A-4714-9161-B0EB239F9BF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85DB-8D02-4039-9CFD-80C66602BF2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48F2-4803-4307-886C-DA3797E74BF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0D10-FA25-4D85-AD2C-A49D3F3DD88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B77E-D639-40BD-BF6D-060ACD9BE27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FFDE-3E96-4B47-9460-59F17E82FB7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BC97-18A1-4F0B-A004-C3D9294D5B1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AF0D-DF88-4BE7-82AB-839A54DD76B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386C-8373-4DFD-92DE-4A87B70357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E0CC4-30CA-4E88-BEEF-68C9B1023A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158F-2A00-4AC9-BD5B-444F7B8A4A0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B524-F7A9-4404-93DB-B8A3A95557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9B2C-4111-485D-BCAF-6A49C05A38A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70E7-8F16-4406-A113-110B1BD28F2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0EC0-A8A0-48DF-ABD6-481C0F340A9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06A2-A203-4C7A-9862-A8FDF754F17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42E0-513D-40B8-8983-EA6845AB85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144E-7B3E-4829-B84F-E3CEA6894E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FD7A8-6702-4AD3-A336-2C1D1FF345A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8E5E-0892-4135-86B6-A7E09F785C5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FF90-B1DF-47F4-A95C-4C8BBEBDB06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A909-8392-4494-8F73-D0F41E06672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3686-919F-4C21-9654-D8763FB84A2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14E5-A2CF-44F5-9FE7-5516EFEB4A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FBEB-DA53-4506-A40A-3EABE140C45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3045-6B1C-4571-9537-76967BB6696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2DC8-5F08-486E-93AF-BFFF731E546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B6DD-B99A-4871-9CE1-B7370D17253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C3D4-33E0-4443-A9DB-9DBC2A6831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0706-C633-40BB-8749-311F619F339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CE9F-CEBE-4173-83C7-4D253041F2B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777A-5DC2-4DA4-AE8C-1E0046C8E85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F3D2-E5D1-4E63-A8DD-A1287A027D4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69E0B-CAE5-47F5-81DE-7491E10C891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E716-9242-4A33-B970-3EFB5187D7D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C07C-1296-4DD9-BA8F-6532E4BD05D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1A41-6381-4925-82F1-F85BEEE70CA9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11EF-E910-4D14-9D59-CE89393722A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8CC3-6E68-4BB4-96D5-C6912F9D516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9D19-527D-47B1-9CE4-C98A63E475C3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3535-CF31-4563-BE31-C3A216B8E2C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DC49E-64F7-4B16-8A33-1AD2A5E5E57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B6C62-8858-4C34-965C-A1E9B403A4F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6826-45FD-43F9-984C-59934842A78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7F1E2-F6AD-49C3-A8F2-319B3B8ABDC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EC06-7216-4BE3-8704-CEE71A3556B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BD5B-8D91-4CB9-B010-D48E7A554E7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0989-FDA9-462A-8AAE-C9A16F4F7FB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5F888-DB71-4C86-866E-99638FA41C0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8FB7-3FFE-4668-BF15-49E23298CCD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2C3C0-8F28-4F61-92EF-A56FFD5CC17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B521-74BD-4635-A268-63DF6A03A91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B59D-789E-4A24-8005-B2171C7D798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D8F3-F9F8-4DF3-BD69-9D5382A201B0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60F4-08D1-4A8F-B92D-A7298517427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5ED2-5AD3-47B8-A218-AFEBAFE03F9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C634-4B50-4BCD-B913-EB56F988A5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4A8E-CF1D-439D-9F74-F0161E19455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9D51E-79CA-465E-AEBB-36185447DCCE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1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D712-73F4-4241-A532-A41D27513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DBE9-8B98-45E2-B326-27B6C6E6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9E1B-0354-4B1A-8B5D-D3FBC549F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CFFD-6257-4C7D-993B-408CD1120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1023-8EAC-4226-ADB9-9303C72F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ED8E-56E0-4403-A7A0-60A920DBD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FB20-F086-4604-95B7-B1658525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5831-F32C-43AB-866F-11178557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57BE-FD27-4919-A94E-AA7013708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8177-6A15-4682-B4ED-E30C03F2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6183-1070-482C-A193-C5CDE93DE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90F1-238F-4436-834A-9A1916F9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3D21-C5FA-40A2-9D57-7C7A549E7F51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pla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voor een activitei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eld van een 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SMART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ecif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etb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b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list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geb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geleidingsstijlen volgens Ohio State University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menteel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ticiperend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ituatiegericht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één vaste begeleidingsstijl gebruiken, maar de stij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aan de specifieke cliënt, de specifiek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behoefte en de specifiek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oach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dersteunen en stimuleren van cliënten in h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leven door onder meer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nieuwe) uitdagende doelen te 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g erheen in kaart 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vaardigheden te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 te moedigen om die doelen te bere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en nodig bij te 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dact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120" y="21337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verdragen van kennis en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en gangbare didactische metho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nstr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leide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otiveren en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ven van de juiste prikkel om iemand enthousiast te maken iets te doen of te l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mand aansporen iets te doen of te laten op basis van overtuigingskr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ctoren die de motivatie beïnvl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nerlijk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tern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rele facto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strumentaliteitstheorie; drie aannam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ordt bepaald door een combinatie van krachten zowel gelegen in het individu als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nemen bewust besluiten aangaande hu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en kiezen uit verschillende soorten gedrag op grond van de verwachting dat een specifiek soort gedrag tot het gewenste resultaat zal 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ieren van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gni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omotorisc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-affectie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specten van sociaal-affectief 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actieve vaardigheden: het reageren op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actieve vaardigheden: het omgaan met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lgens de RUMBA-formule is een do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ev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nderstandable (begrijpelij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asurable (meet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vorial (concreet gedra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ttainable (haalba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asen in het cyclische leerproc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 opdoen, concreet 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ren en reflec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uleren en ordenen, abstracte begrip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xperiment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Leerstijlen volgens Kolb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ouwers/waarnem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n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liss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n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e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functies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 groepsproce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nalyseren van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0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en informel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en secundair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mogene en heterogene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interne functies van groe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sociale identiteit aan de l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ëren van een referentieka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en van de mogelijkheid zich van anderen te ondersch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affen van de mogelijkheid om invloed uit te oefenen op de omgeving van de 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Groepsproce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treding tot gro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ntstaan van sociale struc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der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van groepsstructuur en -cul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roblemen bij socialis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ciale struct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al geïntegreerd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akgericht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eutrale r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xterne oorzaken voor veranderingen in de groepsstruc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chnologische verander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aan van organisatorische zwak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ing van buitena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ethoden voor beïnvloeden groepsstuctuur en - cultuu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groepsgroot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ïnvloeding machtsconcentr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jl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he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ultuuraf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W-vragen om een begeleidingsplan op te zet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me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nn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alyse van een groe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0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van de analys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ystematisch verzamelen van informatie, me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sociogr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atie heterogeniteit/homogen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rkte/zwakte-analy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ekken van conclus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richting van de leef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ing bij huishoudelijke t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gebruiks- en spel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plan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 van di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behe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1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richting; houd rekening m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inrich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merken va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rgebrui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plaa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op een vaste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 en 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uitzonderingen: regels aanp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maal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 van koffie- en theepauz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uimen en afwa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as 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den beh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auzes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voor een rustige, opgeruim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sfeerma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de wa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iket met wasvoorschrift le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nis van kle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choonm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oog stofvrij maken (tapijt, hout, textie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t reinigen (gladde oppervlakk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een bepaalde volgo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nnen minimum en maximum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tsing werkvoorraad en buffer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vensmiddelen volgens de FIFO-metho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sartikelen: gee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bruiksartikelen: één stuk in werkvoorraa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iligheidsaspect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m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(giftige) schoonmaak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PDCA-cyclu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: maak een pl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: voer het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ck: controleer de voortga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: hand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steunen bij huishoudelijke ta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tot samen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idelijke 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samenwerk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preken op groeps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odzaak duidelijk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spect gezelligheid onderst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houd spel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schoon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merplant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ctussen en vetplanten weinig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dplanten en bloeiende planten meer wa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water bij ho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nder water bij lage tempera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inwinnen bij de bloemist bij ziekten en ongedier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atten en hon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veel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sten geld in het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gels en v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jn goedkoop in onderhou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s vragen op z'n tijd wel aandacht, vissen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gelkooi onderhouden kost weinig tijd, een aquarium goed onderhouden kost meer 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raadbeheer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1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dures vol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lijsten aanleggen en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 materiaal signa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istratiesysteem bij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raad regelmatig controleren op fouten en gebreken; tijdig verv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 materiaal inpassen in opbergsyst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ugdelijk materi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miss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erantwoord gedrag van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rijfshulpverlening (BH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an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en v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gevaarlijke 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hemische vloeisto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bran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volgens 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eer b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uurstoftoevoer naar vlammen afsl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lam in de pan: deksel op de p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lucht via vlucht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aststellen en beoordelen van acties of activitei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op basis van dat oordeel conclusies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 te trekken, te onderscheiden i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a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voldoen aan veiligheids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bij mankementen vervangen of gerepareerd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t goed onderhouden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nkementen, let o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pott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brek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 goed functionerende of vastlopende bewegende onder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of blootliggende bedrading bij elektrische appa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water/vocht en elektric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zittende stekk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komen van vermiss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elmatig controleren aanwezig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maken wat te doen als je elkaar kwijt r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uren vergrendelen (alleen als instellingsbeleid!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mist! Wat nu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andere cliënten niet aan hun lot ov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na waar en wanneer de cliënt vermist raak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ek op logische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ld het volgens het instellingsprotoc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 bedrijfshulpverlen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2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van brand en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d optreden bij brand en calamiteiten: contactpersoon met de hulpdiensten, ontruiming in gang zetten, gevolgen beperken, enzovoo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nen van eerste hulp (EHBO-functi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ende en agogische beroep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3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of juist ni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4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imuleren tot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5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specteren van de fysieke integrite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6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lpen bij persoonlijke 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7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ulpmiddelen bij de zelfz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8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liënten verzor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9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rgonomische voorschrif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pleegtechnische handeli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3.1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Minder scheiding tussen verzorgend en agogisch werk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isie op zorg en begel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unctieonderzoek en arbeidsmar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aan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aspecten van begeleiden en verzor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d rekening met wat iemand zelf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 bij voorkeur samen wat iemand zelf niet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meedenken en meebesl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muleren tot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 aan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ren wat algemeen geldende normen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ijzen op consequenties van afwijkend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ruct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het goede voorbeeld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onderdelen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ronding en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ysiek contact in je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uiting van affec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bij wederzijds goedvi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functionele handelin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altijd eerst wat je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waarom je dat gaa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ek de cliënt zoveel mogelijk bij wat je do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de cliënt zoveel mogelijk zelf beslissing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preek elkaars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cherm de 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 volgens de voorschri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rsoonlijke verzorg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09120" y="7621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ichaam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nden wassen na toiletgebruik en voor het e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douchen of in b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ebits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oets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loss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tandartsbezoe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zorging van kleding en schoeis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asse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aar- en nagelverzorg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regelmatig knipp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601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cho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de zelfzor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L-hulp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he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ingen in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DL-hulpmidde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aankleden, zoals een aantrekhulp voor steunkousen of een knopenh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eten en drinken, zoals aangepast bestek of een antilekbe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wassen, zoals een kraanopener of een badborstel met gebogen handgre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haarverzorging, zoals een verlengde k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nagelverzorging, zoals een elektrische nagelvijl of een nagelborstel op zuign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toiletgang, zoals een toiletverhoger of 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j verplaatsen, zoals krukken of rollat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bij verzorgen van cliën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de lichamelijke gestel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het verzorgingsmoment voor persoonlijke aand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voor bad of douch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 en washand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gel, badschuim of -ol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hampo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öh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-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waterafstotend schort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baden of douch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st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uche- en badbeugels voor de cliënt om zich aan vast te hou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Nodig bij het wassen op be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kommen; één voor boven en één voor on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doeken en washand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one kleren of pyj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ep of doucheg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gelschaar en nagelvij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deodorant en bodylo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elpen bij eten en drink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at cliënt zoveel mogelijk rechtop zit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een lepel bij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at met cliënt tijdens 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k mond tussendoor scho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ulpmiddelen bij incontin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athe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rin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ontinentiemateriaal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t-wasbaar: wegwerpluier(broekje)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sbaar: katoenen luiers, in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altamp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slakens en onderleg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oorbereidings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ag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uitvoering van het draaibo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afsluiting van het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met vrijwilli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0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rgonomische voorschriften zijn belangrij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gezon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 het werk zo efficiënt mogelijk te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 de prestatie van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1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pleegtechnische handel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en op het gebied van verplegen en verzorg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 behalve kennis ook een bepaalde vaardigheid vo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od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voegd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wettelijk geregeld is (voorbehouden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in de instelling geregeld is (risicovolle handeling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24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kwaam b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2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Je bent bekwaam als j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3-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context van de handeling kent (waarom is het nodi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doel, het resultaat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vaardigheid hebt om de handeling methodisch uit te 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ijwerking of bijverschijnselen van de handeling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risico's k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2 Basisprincipes van 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3 Veel voorkomende onge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4 De inhoud van een verbandtromm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5 Infectieziek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6 Maag- en darmaandoen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7 Naar de dok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4.8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3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at te doen bij een ongeval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gnaleer eventuele gevaren, denk aan eigen veilig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e ernst van de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of je zelf hulp kunt verlenen, zo niet regel deskundig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leen eerste hul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el voorkomende ongeval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wendige 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l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plin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werp in neus of o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ectenbe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uiltje in o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lauwva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nd er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tbreu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neuz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andaardinhoud van een verbandtrommel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120" y="8377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wondsnelverban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snelverbanden, nummer 1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snelverband, nummer 2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ideaal windsel, 4, 8, 12 cm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pakje witte watt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steriele gaasjes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metaline compressen, steri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3 elastische, hydrofiele zwachtels 4 m lang, 6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2 driekante doeken, ook bekend onder de naam mitell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assortiment wondpleiste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rol kleefpleister, 2 ½ cm bree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1 verbandschaar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300" spc="-1" strike="noStrike">
                <a:solidFill>
                  <a:srgbClr val="0e0151"/>
                </a:solidFill>
                <a:latin typeface="Swis721 BT"/>
              </a:rPr>
              <a:t>6 veiligheidsspel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ectie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metting door micro-organis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cubatietijd: wel besmet, nog niet 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34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edere ziekte heeft eigen incubatietij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inderziek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senvlies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khoe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z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de h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oodvon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erpok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4712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voorbereidings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267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anstellen coördin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organisatiecomité en werkgroep(en) aa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uccescriteria in kaart breng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terke en zwakke punten inventaris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grote lijnen vast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het team definitief samenstell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lan van aanpak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8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groting mak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9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ventuele contracten afsl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10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rijwilligers werven en begeleid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ndere infectieziekten, onder ander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iddenoorontste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koud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token am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i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oortsstui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ag- en darmstoorniss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edselvergifti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ratyf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tip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5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den en w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 het spreekuu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sjes mee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geru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ts vooraf inform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20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schriften opvolgen en doorgeven aan collega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loeden op 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en opvoedings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 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ur bi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gulerend optr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en in bijzonder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5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en op de ontwikkel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ysiek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fomstan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du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conta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0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kind leren zich met zijn eigenheid in de wereld 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dden door t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eu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ructur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u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pvoedingsvaardigh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 positieve handelingen en uitingen van opvoeder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e bijdragen aan de ontwikkeling van een ki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lfredzaamheid stimuler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en voor veilige, vertrouw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 op onderzoek laten uitg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en van eigen verantwoord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wat het kind al k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sluiten bij persoonlijke manier van 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feedback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wisselen met ru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ructuur bied je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oede inrichting van de ruim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ste daginde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regels en ritu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re opvoedmethod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ste opvoeders of verzorg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Regulerend optre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en regels m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onen en straff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leren zelf problemen op te lo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me-out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dag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gram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l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riaallij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: het wedstrijdsche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chrijving programmaonderdelen en plattegr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reativiteitsontwikkeling e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tekenis van beeldende vorming voor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ende en kunstzinnige vorming in fasen va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ontwikk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ips voor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lgemene doelen va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85345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beteren originele denken, fantasie, verkenn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reatieve en esthetische ontwikkeling stimul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cognitieve competenties stimuleren, bijvoorbeeld de taal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motorische vaardigheden verbet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rsoonlijkheidsontwikkel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vorderen sociaal functioneren in groepen en in de samenlev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ezelf openstellen en jezelf leren uit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andere kunstzinnige, creatieve en culturele aspecten en uitingen leren kenn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verschillende materialen en gereedschappen leren kennen en daarmee om leren ga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over onder andere kleur, vorm, ritme, muziek, dans, ruimte en compos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leren reflecteren op je eigen werk en dat van ander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een zinvolle en plezierige tijdsbested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Beeldende en kunstzinnige vorming in fasen van de ontwikkeling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unstzinnige en culturele oriën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dimensionaal 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dimensionaal en driedimensionaal werk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wee- en driedimensionaal werk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schema twee- 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, gereedschappen en toepa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- en driedimensionaal werken op verschillende leeftijd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terialen, gereedschappen en toepassin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twe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terialen driedimensionaal 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u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pi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oet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muziek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uziek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uziek op verschillende leeftij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by’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eut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ong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 basisschoolki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olescenten en volwass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u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ans en bewe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ns en bewegen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dans en be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oneel en dra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neel en drama op verschillende leeftij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dachtspunten en activiteiten toneel en dram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Uitvoering draaibo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ördin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munic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tro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didactische aanpa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lang van een goede didactische aanp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 vorm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vorm beeldbeschouw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1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ctiviteiten vormgev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proces van beeldende 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rmen beeldende vorm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gericht - instru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geri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e express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2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Zeven fasen beeldbeschouw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Rectangle 5"/>
          <p:cNvSpPr/>
          <p:nvPr/>
        </p:nvSpPr>
        <p:spPr>
          <a:xfrm>
            <a:off x="0" y="62485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oorden eerste indru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wat je z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houdelijke achtergronden van de afbeelding verke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nier van maken analys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de beeldende aspec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aten over functie en doelgroep van het kuns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luiting en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organisatiegebonden 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beleidsplan of strategisch plan (3 tot 5 jaa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jaarplan per onderdeel/afdeling (afgeleid van beleidspla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deelplannen, bijvoorbeel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pedagogisch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nieuwbouw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fusie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- 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400" spc="-1" strike="noStrike">
                <a:solidFill>
                  <a:srgbClr val="0e0151"/>
                </a:solidFill>
                <a:latin typeface="Swis721 BT"/>
              </a:rPr>
              <a:t>sociaal beleidsp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sluiting evenemen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entueel een prijsuitrei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dank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bouwen even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valu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bepalen van de waarde van een activiteit om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 van dat oordeel conclusies te trekken voor h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volgtrajec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cesevaluatie: beoordeling van de manier waarop het resultaat tot stand is geko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ductevaluatie: beoordeling van het resultaat 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Werken met vrijwilliger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3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coördinator aan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wer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rijwilligersbestand aan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aken inventaris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plaat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5778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jwilligers introduc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schiedenis van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behoeften zijn en hoe ze ontstaa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begeleidingsbehoefte naa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activ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delen van beroepshou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 met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tegratie zorg en welzijn blijkt u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smatige aanpak over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petenties beroepsopleid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gvallen van ‘muren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rippen rond 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zor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ulpverl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1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geheel van activiteiten en handelingen dat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matig en bedoeld en bewust uitvoert om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te helpen bij het oplossen van zijn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je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uit d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soorten innerlijke behoef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ituationele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wikkelingsgebonden 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behoef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n begeleidingsbehoefte naar begeleidingsactiviteit; twee uitgangspu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niet elke behoefte vraagt om een begeleidingsactivitei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24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500" spc="-1" strike="noStrike">
                <a:solidFill>
                  <a:srgbClr val="0e0151"/>
                </a:solidFill>
                <a:latin typeface="Swis721 BT"/>
              </a:rPr>
              <a:t>de cliënt bepaalt zelf zijn behoef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amenvatting deelplann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andelplan (arts, psycholoog, psychiat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splan (disciplines die vooral begeleid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pleegplan (verpleging en verzorg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tiviteitenplan (activiteitenbegeleide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ingsplan (basisschool en voortgezet onderwij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alkuilen bij koppelen van activiteiten aan behoef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vra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veel accent op probl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n oog voor wat goed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nkele mogelijkheden om te hel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overnem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en probleemdeel over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wijzingen g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nier waarop je je bij de uitoefening van je beroe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n in relatie met de cliënt gedraag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rkenbaar voor cliën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afstemming binnen tea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eid van instelling wordt uitgedra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derdelen beroepshou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evingsvermo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lang van inlevingsvermog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voelt zich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stelt zich makkelijker op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liënt is meer bereid na te denken over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un je respect tonen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chte belangstelling voor iemand hebb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dering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elijk, beleefd, warm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n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uld t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cht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veel mogelijk en gemeend jezelf zijn in je relatie m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8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Kenmerken van de relatie cliënt-begeleide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erkte keuzevrijheid cliënt en begelei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hank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motionele bind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 en bekwaam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orzaken voor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requentie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uur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nsiteit van het contac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reiden van een pla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alyseren doel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hoefte pei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en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valuatiepunten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ezen uit activiteitenrepertoi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ventariseren mid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uze bepa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lichten van betrokke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uitwer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gevolgen van emotionele bind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4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voordelen van degene met wie je een emotionele binding heb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an (te) vermoeiend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2 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3 Zelfvertrouw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4 Zelfvertrouw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5 Ontdekken eigen mogelijk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6 Opkomen voor jezel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7 Gedragsveran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8 Begeleiden bij praktisch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.9 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2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rippen begrep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standig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van onafhankelijkheid van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redzaamheid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tot zelfzorg in staat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zor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rg die iemand aan zichzelf besteedt op fysiek, emotioneel, sociaal en financieel gebi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mate waarin iemand in uiteenlopen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mstandigheden vertrouwt op eigen kunnen en op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 besluit- en meningsvor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pecten va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ken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lfbeel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igenwaard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Stimuleren zelfvertrouw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benade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sporen oorzaken gebrek aan zelfvertrouw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ren van minder goede eigenschap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Positieve bena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a uit van de positieve ka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g bewust iets positiefs tege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bruik woorden met een positieve beteken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Hulp bij ontdekken eigen mogelijkheden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steunen bij omgaan met nieuwe situ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angen bij teleur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timuleren en motiv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sychische weerbaarheid; het op een tactvolle manie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komen voor je eigen mening, wensen of bela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Ondersteuning bij assertivitei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paal doelen en activ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nfronteer en zoek oploss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bserveer en analyseer 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on zelf voorbeeld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andachtspunten tijdens de uitvo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1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lan en draaiboek bew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voering begeleiden en coördin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proces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Gedrag staat in relatie to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persoon zelf met alles wat bij hem of haar hoor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ysieke omgev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sociale om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4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egeleiding bij gedragsverandering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inzicht in eigen gedra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f cliënt zelf verantwoordelijkheid voor oploss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ied ondersteun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5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 baseline="30000">
                <a:solidFill>
                  <a:srgbClr val="421018"/>
                </a:solidFill>
                <a:latin typeface="Swis721 BdRnd BT"/>
              </a:rPr>
              <a:t>Budget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5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van tevoren vastgesteld bedrag waar je i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iode van tevoren vastgestelde (begrote) uitga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85104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an moet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2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thi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voelens en emo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antwoordelijkheid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enz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vac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6.8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6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raalwetenschap; filosofie van het juiste handelen t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zichte van medemensen, dieren of natuu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e normen in zorg en agogisch wer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agen rond leven en do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enswaardige 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keursbeha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238248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thisch dilem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6200" y="2893680"/>
            <a:ext cx="8534160" cy="23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 rondom een ethische vraag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 individueel nivea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groter verb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685800" y="4395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ilemma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43"/>
          <p:cNvSpPr/>
          <p:nvPr/>
        </p:nvSpPr>
        <p:spPr>
          <a:xfrm>
            <a:off x="755640" y="1052640"/>
            <a:ext cx="8534520" cy="23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eilijke keuz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Ethische keuzes;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waar krijg je mee te maken?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nsen en behoeften van 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ndere beroepsbeoefen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llega'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eigen normen en waarden (geweten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roepsethie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fspraken of ongeschreven regels, die je kunnen hel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bepalen wat je wel en niet moet doen in situa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arin het geweten een rol speel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3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717120" y="907560"/>
            <a:ext cx="853452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ositieve of negatieve afwijkingen van d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asisstemm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685800" y="378936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Affecten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3"/>
          <p:cNvSpPr/>
          <p:nvPr/>
        </p:nvSpPr>
        <p:spPr>
          <a:xfrm>
            <a:off x="684360" y="4149720"/>
            <a:ext cx="8534160" cy="15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23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ftige gemoedsaandoening; hevig gevo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7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Vijf stappen van de methodische begeleidingscyclus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1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mgaan met eigen emot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je eigen gevoelslev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ccepteer je eigen emotie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p emoties reagee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Aspecten van omgaan met emoties van cliënt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en het gevoelsleven van de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specteer de emoties van een cliën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de cliënt zijn emoties u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t hoe je ongewenste reacties kunt beïnvlo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erantwoordelijkheid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andelen naar beste geweten en hier verantwoord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(rekenschap) over af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renzen voor professioneel handelen worden bepaa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w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 en protoco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persoonlijke gren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Privacybescherming wordt onder andere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geregeld doo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tgev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stellingsreg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roepsgroe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lijke waarden en nor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717120" y="1052640"/>
            <a:ext cx="853452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de ander, tegen zijn zin, je wil op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 leg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3"/>
          <p:cNvSpPr/>
          <p:nvPr/>
        </p:nvSpPr>
        <p:spPr>
          <a:xfrm>
            <a:off x="685800" y="360684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vloed: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3"/>
          <p:cNvSpPr/>
          <p:nvPr/>
        </p:nvSpPr>
        <p:spPr>
          <a:xfrm>
            <a:off x="717480" y="3933720"/>
            <a:ext cx="85345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310000"/>
              </a:lnSpc>
              <a:spcBef>
                <a:spcPts val="649"/>
              </a:spcBef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vermogen om iets of iemand te bewerk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4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sgebruik en machtsmisbruik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gebruik: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in het belang van de cliënt of de organis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chtsmisbruik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7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e wil opleggen voor eigenbelang of verkeerde machtsmiddelen gebrui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Machttyp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6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ormele 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nc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skundigheids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gument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feren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m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5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orverwijz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bron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8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eventie en 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9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aatschappelijke preven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7.10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, voorlichting en advie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formatie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osse gegevens gecombineerd tot een samenhangend verha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dvies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, specifiek gericht op jouw persoonlijke vraag en 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8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insituatie vast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bleem for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oel formul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plan maken en uitvo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eleiding evalueren en bijstel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2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6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Informa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an bestaan uit één gegeven, een paar gegevens of veel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5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eft alleen een kennisdoel: de ander van iets op de hoogte bre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7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gebreider dan inform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ordende en gestructureerde gegeve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lichting moe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2189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passelijk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lledig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trouwbaar z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8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oorten voorlicht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of onvoorber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bereid bij gevoelige of ingewikkelde za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voorbereid bij eenvoudige onderwerpen waar 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el van we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of 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ndeling bij individuen en bij eenmalig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 bij meerdere mensen en als herhaling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uttig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of groepsgewij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ividueel door middel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lichtingsgespre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-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roepsgewijs door middel van een presentatie of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chrif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Cliënten vragen advies al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om een ingewikkelde situatie of probleem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gevolgen van een keuze zwaar we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3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e zelf geen besluit kunnen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49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oorbeelden van weerstand tegen advie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09120" y="99072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dringing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verdrachts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iektewinstweersta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erstand vanuit gewetensfunc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0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zelf onvoldoende kennis heb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je niet bevoegd bent informatie te g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s het niet om jouw werkterrein ga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alkuilen bij doorverwijz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op je gevo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reigementen u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aai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1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Informatievragen kunnen betrekking </a:t>
            </a:r>
            <a:br>
              <a:rPr sz="4100"/>
            </a:b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hebben op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wijs en scho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rken en won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jusitiële maatreg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pvoedingsondersteu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Hoe kom je aan informatie?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otocollen en handboek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rochu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meentegid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ern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Beginsituatie wordt bepaald door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ort instel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inanciële kad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ieuw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staande clië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2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rie vormen van preventie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rimaire preventie : voorkomen door oorzaken weg te n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cundaire preventie : voorkomen door vroegtijdige opspor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ertiaire preventie : voorkomen van erg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3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rganisaties met preventieactiviteit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G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linische zorginstellin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0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rbodiens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Onderzoek en ontwikkeling preventieprogramma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7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at zijn de risicogroep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zijn de risicofactor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Welke factoren werken beschermend (preventief)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10000"/>
              </a:lnSpc>
              <a:spcBef>
                <a:spcPts val="649"/>
              </a:spcBef>
              <a:buNone/>
              <a:tabLst>
                <a:tab algn="l" pos="0"/>
                <a:tab algn="l" pos="76500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oe kunnen de risicofactoren worden teruggedrongen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4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grippen begrep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3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 e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4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al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5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e levensgebeurtenis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8.6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riendschap, relatie,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lijkwaardige verbondenheid tussen twee of meer mensen op basis van structurele wederzijdse belangstelling en sympath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relatie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min of meer structurele betrekking tussen twee of meer mens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mitei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trouwelijk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5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Vier gebieden van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est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mbinatie van geestelijk en lichamel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eksue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6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Functies van vriendschap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oorzien in een elementaire sociale behoef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ingen, gevoelens, belangstelling d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dentiteit ontwikkelen of bevestig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tspa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af drie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belangrijkste intieme band is die met het opvoedingsmilie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is nog niet gericht op het zelf aangaan en onderhouden van intimite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kind wisselt met enige regelmaat van vriendjes en vriendinnetj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kinderen zoeken speelkameraadjes voor spel of andere activiteiten die ze samen kunn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 wordt nog geen onderscheid in geslacht gemaak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7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van kinderen van zeven tot twaalf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belangrijkste intimiteit blijft de thuissitu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zijn meer gericht op het aangaan en onderhouden van intimiteit met ande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derlinge solidariteit wordt belangrij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jes en vriendinnetjes wisselen minder v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kinderen hebben een voorkeur voor omgaan met h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jongens op meer samen do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spcBef>
                <a:spcPts val="649"/>
              </a:spcBef>
              <a:buClr>
                <a:srgbClr val="0e0151"/>
              </a:buClr>
              <a:buFont typeface="Arial"/>
              <a:buChar char="•"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accent ligt bij meisjes op meer samen pra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110000"/>
              </a:lnSpc>
              <a:spcBef>
                <a:spcPts val="649"/>
              </a:spcBef>
              <a:buNone/>
              <a:tabLst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 twaalf tot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 delen van intimiteit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riendschappen zijn heftiger en kwetsbaard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ociale vaardigheden gaan een rol sp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oenemende belangstelling voor andere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tiemste vriendschap met eigen geslach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9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PES-formule voor probleemformulering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2-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 = probleem: wat kan iemand nie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 = etiologie: wat is de oorzaa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 = symptomen: wat zijn de verschijnse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8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Kenmerken vriendschappen jongeren vanaf zeventien jaar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naast vriendschappen ook langdurige en diepgaande relat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breiding sociaal netwe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59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Ongewenste intim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gedrag waarmee het persoonlijke levensgebied van e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persoon betreden wordt en dat door die persoon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ongewenst, vervelend, hinderlijk of bedreigend word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rvar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eksualiteit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2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uiting op het gebied van het geslachts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0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Een belangrijke gebeurteni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een gebeurtenis die belangrijk is als de cliënt deze als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zodanig ervaar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100" spc="-1" strike="noStrike" baseline="30000">
                <a:solidFill>
                  <a:srgbClr val="421018"/>
                </a:solidFill>
                <a:latin typeface="Swis721 BdRnd BT"/>
              </a:rPr>
              <a:t>Twee theoretische modellen bij verlieservaringen: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fasentheorie van Elisabeth Kübler-Ro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9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 takentheorie van J. William Wor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19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0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fasentheorie van Elisabeth Kübler-Ross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in fasen verloop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1: ongeloof, ontkenn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2: booshei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3: vervang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4: acceptat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fase 5: verwerk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4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25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6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akentheorie J.William Wor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8-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heorie over het verliesverwerkingsproces bij mens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at vier taken kent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vaarden van het verli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werken van de pij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anpassen van het leven zonder degene die er niet meer 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lles emotioneel een plek geven en verder lev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1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De inhoud van dit thema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2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Verscheidene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3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idactische vaardighe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4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Motiveren en stimuler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5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eer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6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Samenvatting begeleidingsstijl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6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9.7 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 de praktij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37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Stijlen van leiding geven/begeleid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traditionele indel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indeling Ohio State Universit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het model van Hersey en Blanchar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23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coachin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49"/>
          <p:cNvGrpSpPr/>
          <p:nvPr/>
        </p:nvGrpSpPr>
        <p:grpSpPr>
          <a:xfrm>
            <a:off x="228600" y="457200"/>
            <a:ext cx="304920" cy="5680080"/>
            <a:chOff x="228600" y="457200"/>
            <a:chExt cx="304920" cy="5680080"/>
          </a:xfrm>
        </p:grpSpPr>
        <p:pic>
          <p:nvPicPr>
            <p:cNvPr id="643" name="Picture 47" descr="Z:\D-drive\test indesign\boek.gif"/>
            <p:cNvPicPr/>
            <p:nvPr/>
          </p:nvPicPr>
          <p:blipFill>
            <a:blip r:embed="rId1"/>
            <a:stretch/>
          </p:blipFill>
          <p:spPr>
            <a:xfrm>
              <a:off x="228600" y="3200400"/>
              <a:ext cx="304920" cy="293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4" name="Picture 48" descr="Z:\D-drive\test indesign\boek.gif"/>
            <p:cNvPicPr/>
            <p:nvPr/>
          </p:nvPicPr>
          <p:blipFill>
            <a:blip r:embed="rId2"/>
            <a:stretch/>
          </p:blipFill>
          <p:spPr>
            <a:xfrm>
              <a:off x="228600" y="457200"/>
              <a:ext cx="304920" cy="293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600" spc="-1" strike="noStrike" baseline="30000">
                <a:solidFill>
                  <a:srgbClr val="421018"/>
                </a:solidFill>
                <a:latin typeface="Swis721 BdRnd BT"/>
              </a:rPr>
              <a:t>Traditionele indeling begeleidingsstijlen: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24852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nl-NL" sz="2000" spc="-1" strike="noStrike">
                <a:solidFill>
                  <a:srgbClr val="0e0151"/>
                </a:solidFill>
                <a:latin typeface="Swis721 BT"/>
              </a:rPr>
              <a:t>9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aut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democratisch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310000"/>
              </a:lnSpc>
              <a:spcBef>
                <a:spcPts val="649"/>
              </a:spcBef>
              <a:buNone/>
              <a:tabLst>
                <a:tab algn="l" pos="0"/>
                <a:tab algn="l" pos="66348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•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	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‘</a:t>
            </a:r>
            <a:r>
              <a:rPr b="0" lang="nl-NL" sz="2600" spc="-1" strike="noStrike">
                <a:solidFill>
                  <a:srgbClr val="0e0151"/>
                </a:solidFill>
                <a:latin typeface="Swis721 BT"/>
              </a:rPr>
              <a:t>laissez-faire’ begeleid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2:41:50Z</dcterms:created>
  <dc:creator>Erik</dc:creator>
  <dc:description/>
  <dc:language>en-US</dc:language>
  <cp:lastModifiedBy>Elly Peters</cp:lastModifiedBy>
  <dcterms:modified xsi:type="dcterms:W3CDTF">2018-10-09T09:25:33Z</dcterms:modified>
  <cp:revision>11</cp:revision>
  <dc:subject/>
  <dc:title>De inhoud van dit thema:</dc:title>
</cp:coreProperties>
</file>