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1304-DAEB-4832-AE64-CBE87D372E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F988-B601-4481-8F71-3A96CA7B9F9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6E1-14A4-47D7-8292-B42E4193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3FA-8F9F-4177-A4B4-18894018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3BB-68A1-4380-9AD6-9F983183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806-2E5B-41F3-8681-DEB77352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6623-2361-4F23-9BB2-CC95986D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1B48-715C-4499-8601-789F6E5C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3A83-000E-4AF4-BC09-A7C6D5C4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D229-2703-4518-9A1F-AF672430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FDF6-7A01-4B8F-9B91-3C18E909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43B4-FD55-4809-8E9A-8E11D537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D6C1-5F85-4688-8E66-D8B00F34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7A1-9803-45AE-AE29-EB0B0AAA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1C72-FBCF-4B75-A7A4-C213B55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7A23-AFE7-4D10-8D34-84F0C8F3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9DE0-7A2B-4065-A85C-9EEB16FC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B7AC-E748-4FB0-AAFA-3DC9419F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14DE-8365-41BF-BDE8-736AF83F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D8E4-2523-4A21-9F5A-E2484DE5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8A4B-CDAA-4E0B-820B-E023CCBB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B213-29B1-43D1-8B0B-8F013932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C645-C05F-4CCA-95FE-5D10E91C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7DCB-2A20-437C-9D40-38E71C0B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978-1662-4839-9D1B-89AC021E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40CA-01F0-458A-9F12-B064844F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95CD-0226-43A8-83A7-01B8157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6F40-BD3D-4C6C-8C1B-88E1CCF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4965-F64C-450D-BC1C-CDF7454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480B2-016D-4995-8469-6721B477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174A-0279-45F7-B594-BDE8BB96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E208-130E-4C68-9ADC-F38968B0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A85A-055B-4B23-96C2-D93D5420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1580-0DD2-49DE-A403-BF976B9B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50C4-61C7-4F65-8D2C-22B934C0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E33-9B0C-4166-84BD-26325C6A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C0C1-468B-45FD-BE90-36446662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2955-8466-4C43-9A04-D8C037AA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74E3-5DAB-4B86-A2ED-F9285AFC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DB253-8B60-4D2F-B93E-D9D4B69E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8DDA-6F23-447D-82CB-F3821EDB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C40CD-1506-4124-A4E4-96D1FD45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2D5A-64C2-4A82-82BF-6233894F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4A11-A534-4264-B9DD-C560F255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B83A-B869-48C8-BC48-BE7BA051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29EFD-70C2-4794-9FC0-86E13CD8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75A-8224-43EC-BBAF-F0E57894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9811F-9574-4A43-917A-E482B33C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D9658-ED94-473F-A15D-FE95B015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273D-7A9A-45D8-AF66-E333DF12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D1329-8088-4CCF-A50B-56539EAE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3C501-F323-4C5C-9902-65E77FE4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7094D-4356-475A-9B20-AAFC3290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84C2-BAA3-4D6B-B224-5ADC84CC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C5DD8-F00E-4F73-8A94-22043295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058E4-1EB2-4CE9-A704-8FE81B4A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5EBF6-605C-4021-A4C3-160189CB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1AF-B03B-4B76-BD4D-7705368B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B99BD-96D4-459D-9CF7-C7CB73AB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66586-703B-485C-850D-60F895B7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AEE74-B1D4-480A-A454-A7ACB012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56FE5-5D6B-407A-9846-6A9CB718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0B61C-DB2F-47CD-87F7-D623693A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B6E39-900D-46CD-B830-14BAFB1B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6FE5-46E9-4C30-AFFC-29832D63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D52D0-B79F-43C7-B2BF-E897A862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9B91B-D9DC-4AC6-8C87-91067CF5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84D12-5194-4D29-9CF9-F68B256D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447-A5F1-42CA-9B01-4C9DD8C7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41EB8-29D4-4794-A0A1-EE43A550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5DE3C-AC51-4072-9BF7-466DD9AF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B5CB3-1063-4064-8917-1FBFDC74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1E03F-1856-4DF7-8499-F79E0A61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FF55-D8EF-43C9-9264-533AE7DF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3A375-17A1-4710-9178-4BDDA48A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3BF5C-20E1-4CA3-8BBE-76BA555F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66876-01FB-46E1-95F5-592617F7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ED7E8-F262-4FB3-AF4D-4468FA69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3BC6-953A-439B-AEA4-E2EF3B1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665-07A6-48B7-85C1-50A9FA2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AD044-5D85-4F54-9179-82671434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59437-E038-4055-9056-94769C95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C189B-5751-412B-A062-9CDC9978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5F46B-DEE4-47BC-9FA6-479A45CF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888BB-93FF-46C6-B110-684BCDF7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527-FC7C-4176-95C7-B788AF5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941C-CB3B-4EB4-9464-0C99526C93A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3AFE-A99E-46BC-9483-2CB8A3DB8B9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FDF-FDD9-42DC-B928-F16B7247D07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9AAF-95D9-4259-ABB6-45250D13541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9190-5566-443B-A81D-AB58E75D5CF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1CC5-A8CB-4F80-A650-062FCA86F7A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17AC-2AB0-41DD-8DF0-2DE7EFC68D8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20-02-13T09:06:50Z</dcterms:modified>
  <cp:revision>27</cp:revision>
  <dc:subject/>
  <dc:title>De werking van het zenuwstelsel.</dc:title>
</cp:coreProperties>
</file>