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7E24-9FB9-4818-927A-49342392FF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55A9-7212-4D6B-957D-C5A48BA7A28D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5937-5E6F-4F4D-989C-C2277C27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2459-9036-4133-A960-A011DECF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3963-C792-47C0-804C-96913DAA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F815-3BC3-441C-BD80-731A96DD3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894B-3B28-4BFD-BC09-2EF03667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EA25-A979-4E25-ADB3-B8D83019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D207-601B-4BC4-89BD-786B8583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8007-6643-4BD7-B46A-60D51779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B7FA-690A-4CA2-9F71-2C4CD14B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48FA-A6CE-4965-AFFA-081AE728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9509-6138-44A7-9AD4-35177BC3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BE9B-8D15-46B0-B909-936DB55B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3B40-A7C7-4C3F-9E10-A50EFBA5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72A1-8E8A-47F7-802A-158B3FB7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B1FD-4EB3-4CD0-A799-777052F9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B95E-594C-4023-BD06-D6410715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4547-44D2-4A7A-A407-772868D0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7A03D-6D80-4BD5-8DF5-743A2200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0F3BF-5E80-444F-8DC1-BF3D04BF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1A1E3-AF3F-4ADE-A969-E8875D86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EB9F4-4969-4BA6-8F54-22CAA52B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F61F2-28A7-441E-8107-8251B96F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0DD5-C675-448C-8D26-03B0E1CD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B8102-99FC-4BB9-9443-7C89A55C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6D097-6922-4F62-9FB7-53937822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63AC0-C00B-459A-A049-9ADE257D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51874-3FC8-41EC-ACDB-70348664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0058D-7B14-4EE5-BF2A-DF193BC6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B1069-B55E-41CF-8D22-ECD3173A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9A6E9-EF1C-441A-8BC2-29356F66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1292A-1D2E-458F-889B-D28C13E5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76275-95C2-4E71-8AF3-899F20E4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B225D-0CD5-4BA8-A88C-3688F703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5F7F-3C30-44D5-AC6E-906EACA4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E1E7B-FA38-4390-B2F9-F9A19184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B4118-C128-4596-B792-874E1656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B4393-A9C8-4B69-8579-CEC4960F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6C9F9-2181-4C5B-8E02-41FFC4BC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F1100-A926-4C08-A76F-54692E3D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938DE-9DEB-467E-AE71-7E940571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B2B5C-5AD4-4759-BDD6-F2CC6050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ECE7F-641E-4769-BC0D-ADCCF4CC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3B079-ECED-4150-8C1A-585DCD8B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21EBF-1430-445C-B6B7-E0F9A675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D1AF-B9B2-42BD-96E6-76EE13AF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B2246-AC1F-4D82-B503-F5C26C12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BEB87-90C8-410A-AEF1-7FA201CC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3F9FE-C3BA-4A88-9FBD-AD1DEB9A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44CFD-6AFC-4487-A8EE-534CA308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ADDD0-00CE-4E65-B996-D037761D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11F3E-E70F-4906-8DC2-1FD7570F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24E3C-CFB7-41C7-B99D-4C6C9DF3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937E4-2313-44CC-AA54-95F5B457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C46F3-2AC5-44B1-81DF-DB890EA2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9BAC3-C14E-489A-80DB-E7592B8E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7DB8-3BCC-4CE5-86D8-178A4B98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62C79-4652-4499-8C0E-65645465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C5DA4-7B7A-4B61-9B71-E1FE0F56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517D4-AB9C-4C2D-B660-A7AF2856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9A1D5-2538-460D-94AD-D4675695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EAC21-50E7-486B-8F72-11BC0DD0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694FF-E604-4F95-95B6-F68E386C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A14DC-65E0-4348-B482-4C56EEB2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A2558-14AA-4ECD-9B45-5CAF5B0D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E43FA-C543-4F97-AE97-7BEE7CB2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A075F-7678-400A-966A-084BED20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2B6B-4D2A-430C-B943-5DCB0E23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A9C2C-6726-48EB-AA5B-F84EC698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D43C4-44B2-4DBC-AA5B-4791D723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280E3-013A-4233-93D7-321B9D757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E503C-5ACC-4148-BEE5-5DB8BF7C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28F6F-92CF-4201-B687-9F819E26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58706-C0E5-4F7F-9142-EA470F15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BB15C-C18F-4183-8D9E-95DEF9C3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B0C96-7220-4ACE-9EBE-3299AE8E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1DB8C-8466-4EDF-B047-3294EA63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3792E-EC94-4DE6-9E50-D9C2014C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A3A7-D2A9-47D8-8271-85BCE826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E5512-0835-4BE5-94DB-D1CB2C77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29E4E-05BF-4F07-BF8F-02421B4C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44FD4-12C2-41A6-9F36-0647489D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C3548-B005-4603-9F2D-6F7BC76B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3023A-1449-4040-9FB4-F8376465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BCDC-49B5-4A8A-9435-F2495D90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7C27-EFDE-4196-BD49-7F207D82D884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irkel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ing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Ring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hthoek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2640-2143-4495-B263-32B6A297FAFE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404B-95F9-4BED-89B4-DACC3FF56FA1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5175-3879-4AFB-A052-96BBC32CEE11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hthoek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hoek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CF6A-EEF1-49B8-A545-95726635E3DE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CF5D-14BA-4AE6-92F7-21BCF32ADA97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hthoek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hthoek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troomdiagram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oomdiagram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7241-6B45-4813-A610-11DD732351E5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De werking van het zenuwstelsel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320e04"/>
              </a:solidFill>
              <a:latin typeface="Gill Sans MT"/>
            </a:endParaRPr>
          </a:p>
        </p:txBody>
      </p:sp>
      <p:pic>
        <p:nvPicPr>
          <p:cNvPr id="327" name="Picture 2" descr="http://www.fysiotherapievoormij.nl/fysiotherapievoormij/A_Zenuwstelsel_mens.jpg"/>
          <p:cNvPicPr/>
          <p:nvPr/>
        </p:nvPicPr>
        <p:blipFill>
          <a:blip r:embed="rId1"/>
          <a:stretch/>
        </p:blipFill>
        <p:spPr>
          <a:xfrm rot="21439200">
            <a:off x="3354480" y="2616120"/>
            <a:ext cx="536724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Willekeurig. (somatische zenuwstelsel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emt prikkels uit omgeving waar en reageert daarop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staat uit aanvoerende zenuwen (sensorische zenuwe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van bijv. de zintuigen naar het centrale zenuwstelse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n uit afvoerende zenuw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turen prikkels juist vanuit de hersenen naar de spieren. (motorische zenuwbane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illekeurig en onwillekeurig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  <a:ea typeface="Arial"/>
              </a:rPr>
              <a:t>Onwillekeurig. (autonome zenuwstelsel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Regelt belangrijke functi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jsverter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demhal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somloop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oeddruk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itscheiding van afvalstoffen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tplanting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Bestaat uit 2 del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inspanning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t parasympathische de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erantwoordelijk voor rust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Inhoud en doe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Anatomie en fysiologie van het zenuwstels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Uitleg en vide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Opdracht interview, voor verdieping van de kenn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Kenniskiem boekje hoofdstuk 8 lezen en mak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Doel: kennis hebben van en weten hoe de anatomie en fysiologie is van het zenuwstelse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Arial"/>
                <a:ea typeface="Arial"/>
              </a:rPr>
              <a:t>Wat is het zenuwstelsel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Motor lichaa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Coördineert handeling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Stuurt spieren aa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prikkel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rwerkt emotionele en cognitieve process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Drie verschillende onderde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weef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liacell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oe ziet het zenuwstelsel eruit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Zenuwcell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hoort tot belangrijkste elementen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formatie- en signaalverwerker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Zijn prikkelba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unnen signalen ontvangen en doorgeven zonder verlies signaalsterkt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euron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300" spc="-1" strike="noStrike">
                <a:solidFill>
                  <a:srgbClr val="572314"/>
                </a:solidFill>
                <a:latin typeface="Gill Sans MT"/>
              </a:rPr>
              <a:t>Neuron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Informatie verwekk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ensorisch en sensi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Schakel of ook wel inter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Motorisch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Het 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Hoogst ontwikkelde zenuwstelse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Onder te verdelen in vier groep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Zenuwstelsel bij gewervelde dieren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entr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rsenen en ruggenmerg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Schedel en ruggengraat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3652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  <a:ea typeface="Arial"/>
              </a:rPr>
              <a:t>Grote hersenen voor bewustwording, kleine hersenen voor coordinati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uurt de meeste functies van het zenuwstelsel en spier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erifer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at wat niet wordt geregeld door het central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ledig opgebouwd uit zenuw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utonom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akt deel uit van het perifere 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nimale zenuwstelse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staat uit het centrale zenuwstelsel en het lichamelijke gedeelte van het perifere zenuwstel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900" spc="-1" strike="noStrike">
                <a:solidFill>
                  <a:srgbClr val="572314"/>
                </a:solidFill>
                <a:latin typeface="Arial"/>
                <a:ea typeface="Arial"/>
              </a:rPr>
              <a:t>Indeling centraal zenuwstelsel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ideo youtub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7:29:19Z</dcterms:created>
  <dc:creator>Leoniee</dc:creator>
  <dc:description/>
  <dc:language>en-US</dc:language>
  <cp:lastModifiedBy>Nikki Pots</cp:lastModifiedBy>
  <dcterms:modified xsi:type="dcterms:W3CDTF">2020-02-13T09:06:50Z</dcterms:modified>
  <cp:revision>27</cp:revision>
  <dc:subject/>
  <dc:title>De werking van het zenuwstelsel.</dc:title>
</cp:coreProperties>
</file>