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B88B7-1E6B-4D66-BFEF-2E273472B7B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2D51B-26DA-4D6E-98B4-D9F96F48C95C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07BD-04A9-4179-AE15-C00DF926A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4D2E-ED16-4DEE-8510-412B99ED7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63F9-CB6B-4547-A9F5-433852313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1C8D-8269-4BDD-A352-366D2374B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F0AFD-9C0B-4856-AAC6-14FBD9E15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C6F9F-B7D3-4F3B-AA2A-625EFFB7C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FB59B-5D69-48CB-8249-DCBFC8102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CDC7F-2BA0-4232-8C6E-17A2D87CA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68422-A4F8-45AF-8A40-68E88252C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AF06A-06DE-4595-841C-3B23A9CBD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55B6E-0B22-4DCE-AFE9-0A9989362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16D7-553D-45D9-8E63-4AF652E54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90087-1087-4B84-B371-A4EC52081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1A5CA-F5AA-4E2E-93E4-2F14F2E62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0904D-D6B7-478D-A89F-F0002C0FA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C9858-2AEF-4052-BEAE-436F18BBC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FA47D-D090-4ED1-AE8E-59959DF61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35F9C5-D1FA-4D71-BEF9-C1D8982A0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DA3B60-6281-4B00-A012-15FA7E95B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F8F96D-9A50-4C85-9EF8-BC952EF9A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023A9F-4B1C-4093-A393-D883CB7C6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9EB19F-38EB-42B4-B114-B34913F2D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DB44-BEB6-43A6-A844-77374A732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EA22F5-2116-4C58-95E3-9E4A90793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DA54B8-A6DF-46BB-9B41-4D6C4D8A3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E7A731-65F1-48B6-A1E4-3A3CACF71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5AC800-D04D-48A9-B0F5-59C4DB803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1B85F0-4ED8-43BE-89E5-29D3434FD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D6E73E-2833-41CF-ADCD-F70C13947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580291-8A89-418C-9456-02496830F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44B58B-71AC-479E-81CC-C9BCD59E2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C22E37-CF61-4EBF-9617-8E0B285F7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BAE978-137E-49B8-A7ED-85A74E238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F342-6121-4337-8CC1-E4EC0BCD9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D306C0-336D-4FAE-BF32-6FE0D528F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5298F9-0C39-4D6D-B3D0-600CFFFD2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4D7CC0-0989-4D71-BD64-6E6C02D2C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292706-3ADA-4E9D-9AA9-E6CD690EB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5AE9DA-3E41-4EB0-96D7-ADC6D1298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232AF6-AE9E-4706-8460-5D87D4AA6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02F4D6-70E1-495A-929C-D7DCCCB06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F39B59-80E3-466F-A31D-0F084B66E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AA1A34-4124-4594-A6C9-9593824B1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6A6413-2751-4897-ACBF-038D338CD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6255-984F-4CB7-A0BD-2A1C07825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80E6A5-F2EA-49CB-9B1C-A7667DFF5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C929CA-5478-4C62-BFAA-37A33C4E4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9EC9F0-ED19-4708-AA28-FD6B32E17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C21C6B-B476-48BD-8101-3661E9010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5C6C69-EEDD-443A-AEEC-02507A70B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A16B17-97F9-4F5A-8863-41233B7B5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2D39CA-AC2F-41AE-A762-6B8E1E92D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93044A-A159-454A-B3F5-1E0522B22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D4E1C7-492A-46AE-82F2-E1C6B481B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FB5C77-8D2A-43E3-8CDF-B46C10AF1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FD28-B785-4272-9877-054B73A01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686DD9-8DD9-4A84-B292-50A9A50E9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CD1197-C29B-46CB-AD14-E7B69922F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FA7D15-550D-416B-A8BA-D0B736AEA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48FE64-87A9-4FCE-ADDA-B5C17F5A4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58535F-CE8B-417F-8895-052D245AF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AB2A03-12F4-44BC-99E5-23F077BD8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2E2F32-C635-4EFC-B180-EBF4C19CF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4AEDCF-477D-4D66-91BF-6044E2F4C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B206F2-9A6C-467D-8954-B5A5EE479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6D59B3-05FD-44C3-98F8-2203808D2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B16A-65FD-476B-8F53-8754E9612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6FBA69-25BE-47D9-92AE-ADA197341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A913FA-CAB4-4262-9387-419287711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D13DC2-BAF9-4B3E-8E18-DB528EAA9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A05844-1E33-4AF5-B74F-8ABE06A44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1E2879-8BBC-4E40-86B1-42DA749CC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E87E4B-D4A6-43BE-8774-58FFEDB6D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09A9B5-7A28-464B-8E96-C13C755EA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4D4535-182F-42EA-B684-4BFEBAE98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FCD253-E575-46CD-8554-CF2BA00A1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9289F0-B01E-4B62-84CB-27495CD90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B4C9-2DB7-4D3F-9348-29F26AEA8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7A63FB-CAE0-4DF3-BC38-D5C491AD2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5F7F8B-C90D-4DBA-AE5D-309F5995F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BEC8A4-FA59-4A5D-AE7B-4ECAC6475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55B2BA-2BAF-4CA1-8BFC-72DDA6C2A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085FDE-9362-45E0-80A2-E5887CF82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8356-2A36-42EF-A91D-88433DEDA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Cirkel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ng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Ring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hthoek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B3482-BC8E-4A36-891E-D20CFA53705D}" type="slidenum"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hthoek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Cirkel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Ring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Ring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hthoek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hthoek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al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Ovaal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CF096-A31F-4C27-8B0B-025E3FFE64C7}" type="slidenum"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hthoek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hthoek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al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Ovaal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98244-C4B5-4E81-AE24-974D55461655}" type="slidenum"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43632-429C-4CA5-95A9-98E9496442D2}" type="slidenum"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hthoek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hthoek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CAF44-4722-4063-A8DF-2634F9F02AB7}" type="slidenum"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BF40C-EE02-48C0-BCBD-2F1BADD87F27}" type="slidenum"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hthoek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Rechthoek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Stroomdiagram: Proce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troomdiagram: Proce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34FF4-5874-4175-B7A7-19D44ABA23D0}" type="slidenum"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300" spc="-1" strike="noStrike">
                <a:solidFill>
                  <a:srgbClr val="572314"/>
                </a:solidFill>
                <a:latin typeface="Arial"/>
                <a:ea typeface="Arial"/>
              </a:rPr>
              <a:t>De werking van het zenuwstelsel.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600" spc="-1" strike="noStrike">
              <a:solidFill>
                <a:srgbClr val="320e04"/>
              </a:solidFill>
              <a:latin typeface="Gill Sans MT"/>
            </a:endParaRPr>
          </a:p>
        </p:txBody>
      </p:sp>
      <p:pic>
        <p:nvPicPr>
          <p:cNvPr id="327" name="Picture 2" descr="http://www.fysiotherapievoormij.nl/fysiotherapievoormij/A_Zenuwstelsel_mens.jpg"/>
          <p:cNvPicPr/>
          <p:nvPr/>
        </p:nvPicPr>
        <p:blipFill>
          <a:blip r:embed="rId1"/>
          <a:stretch/>
        </p:blipFill>
        <p:spPr>
          <a:xfrm rot="21439200">
            <a:off x="3354480" y="2616120"/>
            <a:ext cx="5367240" cy="35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300" spc="-1" strike="noStrike">
                <a:solidFill>
                  <a:srgbClr val="572314"/>
                </a:solidFill>
                <a:latin typeface="Arial"/>
                <a:ea typeface="Arial"/>
              </a:rPr>
              <a:t>Willekeurig en onwillekeurig.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Willekeurig. (somatische zenuwstelsel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Neemt prikkels uit omgeving waar en reageert daarop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Bestaat uit aanvoerende zenuwen (sensorische zenuwen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36520">
              <a:lnSpc>
                <a:spcPct val="90000"/>
              </a:lnSpc>
              <a:spcBef>
                <a:spcPts val="601"/>
              </a:spcBef>
              <a:buClr>
                <a:srgbClr val="feb80a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Sturen prikkels van bijv. de zintuigen naar het centrale zenuwstelsel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En uit afvoerende zenuwen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36520">
              <a:lnSpc>
                <a:spcPct val="90000"/>
              </a:lnSpc>
              <a:spcBef>
                <a:spcPts val="601"/>
              </a:spcBef>
              <a:buClr>
                <a:srgbClr val="feb80a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Sturen prikkels juist vanuit de hersenen naar de spieren. (motorische zenuwbanen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300" spc="-1" strike="noStrike">
                <a:solidFill>
                  <a:srgbClr val="572314"/>
                </a:solidFill>
                <a:latin typeface="Arial"/>
                <a:ea typeface="Arial"/>
              </a:rPr>
              <a:t>Willekeurig en onwillekeurig.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  <a:ea typeface="Arial"/>
              </a:rPr>
              <a:t>Onwillekeurig. (autonome zenuwstelsel)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  <a:ea typeface="Arial"/>
              </a:rPr>
              <a:t>Regelt belangrijke functie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Spijsvertering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Ademhaling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Bloedsomloop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Bloeddruk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Uitscheiding van afvalstoffen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Voortplanting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  <a:ea typeface="Arial"/>
              </a:rPr>
              <a:t>Bestaat uit 2 delen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Het sympathische deel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lnSpc>
                <a:spcPct val="80000"/>
              </a:lnSpc>
              <a:spcBef>
                <a:spcPts val="476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1900" spc="-1" strike="noStrike">
                <a:solidFill>
                  <a:srgbClr val="000000"/>
                </a:solidFill>
                <a:latin typeface="Arial"/>
                <a:ea typeface="Arial"/>
              </a:rPr>
              <a:t>verantwoordelijk voor inspanning.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Het parasympathische deel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lnSpc>
                <a:spcPct val="80000"/>
              </a:lnSpc>
              <a:spcBef>
                <a:spcPts val="476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Arial"/>
                <a:ea typeface="Arial"/>
              </a:rPr>
              <a:t>Verantwoordelijk voor rust.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300" spc="-1" strike="noStrike">
                <a:solidFill>
                  <a:srgbClr val="572314"/>
                </a:solidFill>
                <a:latin typeface="Gill Sans MT"/>
              </a:rPr>
              <a:t>Inhoud en doel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ill Sans MT"/>
              </a:rPr>
              <a:t>Anatomie en fysiologie van het zenuwstels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ill Sans MT"/>
              </a:rPr>
              <a:t>Uitleg en video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ill Sans MT"/>
              </a:rPr>
              <a:t>Opdracht interview, voor verdieping van de kenni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ill Sans MT"/>
              </a:rPr>
              <a:t>Kenniskiem boekje hoofdstuk 8 lezen en make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ill Sans MT"/>
              </a:rPr>
              <a:t>Doel: kennis hebben van en weten hoe de anatomie en fysiologie is van het zenuwstelsel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300" spc="-1" strike="noStrike">
                <a:solidFill>
                  <a:srgbClr val="572314"/>
                </a:solidFill>
                <a:latin typeface="Arial"/>
                <a:ea typeface="Arial"/>
              </a:rPr>
              <a:t>Wat is het zenuwstelsel?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Motor lichaam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Coördineert handelingen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Stuurt spieren aan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Verwerkt prikkel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Verwerkt emotionele en cognitieve processen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900" spc="-1" strike="noStrike">
                <a:solidFill>
                  <a:srgbClr val="572314"/>
                </a:solidFill>
                <a:latin typeface="Arial"/>
                <a:ea typeface="Arial"/>
              </a:rPr>
              <a:t>Hoe ziet het zenuwstelsel eruit?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Drie verschillende onderdelen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Zenuwweefsel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Zenuwcellen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Gliacellen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900" spc="-1" strike="noStrike">
                <a:solidFill>
                  <a:srgbClr val="572314"/>
                </a:solidFill>
                <a:latin typeface="Arial"/>
                <a:ea typeface="Arial"/>
              </a:rPr>
              <a:t>Hoe ziet het zenuwstelsel eruit?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Zenuwcellen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Behoort tot belangrijkste elementen zenuwstelsel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Informatie- en signaalverwerker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Zijn prikkelbaar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Kunnen signalen ontvangen en doorgeven zonder verlies signaalsterkte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Neurone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300" spc="-1" strike="noStrike">
                <a:solidFill>
                  <a:srgbClr val="572314"/>
                </a:solidFill>
                <a:latin typeface="Gill Sans MT"/>
              </a:rPr>
              <a:t>Neuronen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ill Sans MT"/>
              </a:rPr>
              <a:t>Informatie verwekker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ill Sans MT"/>
              </a:rPr>
              <a:t>Sensorisch en sensibl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ill Sans MT"/>
              </a:rPr>
              <a:t>Schakel of ook wel inter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ill Sans MT"/>
              </a:rPr>
              <a:t>Motorische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900" spc="-1" strike="noStrike">
                <a:solidFill>
                  <a:srgbClr val="572314"/>
                </a:solidFill>
                <a:latin typeface="Arial"/>
                <a:ea typeface="Arial"/>
              </a:rPr>
              <a:t>Het zenuwstelsel bij gewervelde dieren.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Hoogst ontwikkelde zenuwstelsel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Onder te verdelen in vier groepen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Centrale zenuwstelsel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Perifere zenuwstelsel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Autonome zenuwstelsel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Animale zenuwstelsel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900" spc="-1" strike="noStrike">
                <a:solidFill>
                  <a:srgbClr val="572314"/>
                </a:solidFill>
                <a:latin typeface="Arial"/>
                <a:ea typeface="Arial"/>
              </a:rPr>
              <a:t>Zenuwstelsel bij gewervelde dieren.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centrale zenuwstelsel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Hersenen en ruggenmerg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36520">
              <a:lnSpc>
                <a:spcPct val="80000"/>
              </a:lnSpc>
              <a:spcBef>
                <a:spcPts val="425"/>
              </a:spcBef>
              <a:buClr>
                <a:srgbClr val="feb80a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Arial"/>
                <a:ea typeface="Arial"/>
              </a:rPr>
              <a:t>Schedel en ruggengraat.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36520">
              <a:lnSpc>
                <a:spcPct val="80000"/>
              </a:lnSpc>
              <a:spcBef>
                <a:spcPts val="425"/>
              </a:spcBef>
              <a:buClr>
                <a:srgbClr val="feb80a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Arial"/>
                <a:ea typeface="Arial"/>
              </a:rPr>
              <a:t>Grote hersenen voor bewustwording, kleine hersenen voor coordinatie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Bestuurt de meeste functies van het zenuwstelsel en spiere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Perifere zenuwstelsel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Dat wat niet wordt geregeld door het centrale zenuwstelsel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Volledig opgebouwd uit zenuwe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Autonome zenuwstelsel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Maakt deel uit van het perifere stelsel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Animale zenuwstelsel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Bestaat uit het centrale zenuwstelsel en het lichamelijke gedeelte van het perifere zenuwstelsel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900" spc="-1" strike="noStrike">
                <a:solidFill>
                  <a:srgbClr val="572314"/>
                </a:solidFill>
                <a:latin typeface="Arial"/>
                <a:ea typeface="Arial"/>
              </a:rPr>
              <a:t>Indeling centraal zenuwstelsel.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Video youtub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7:29:19Z</dcterms:created>
  <dc:creator>Leoniee</dc:creator>
  <dc:description/>
  <dc:language>en-US</dc:language>
  <cp:lastModifiedBy>Nikki Pots</cp:lastModifiedBy>
  <dcterms:modified xsi:type="dcterms:W3CDTF">2020-02-13T09:06:50Z</dcterms:modified>
  <cp:revision>27</cp:revision>
  <dc:subject/>
  <dc:title>De werking van het zenuwstelsel.</dc:title>
</cp:coreProperties>
</file>