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EE60-0439-41F9-A51A-36A9987428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F1C1-224F-4C76-B48D-D69FF60911C3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642D-0887-4ACF-83CC-063E8290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136E-4769-4A31-A43E-9F31B00A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2DD4-998B-4F13-A920-AE99A4D6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ED18-F076-4D84-859B-0663053D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1C07-112A-41D1-8B9B-CE9C868A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0F74-AC20-4CB2-B232-69C51B0E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B3D7-9EC2-4385-81A0-13EA59A9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8C21-7485-49CB-B051-F2AB9DD8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7FE9-AA48-4BCA-9C31-1E4BBCA5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5863-C524-4A81-BCC3-F701E307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5F34-97B6-4804-93F4-13D4369A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88D2-A3DB-4756-8DE4-CD793A20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80AA-F91C-4086-BB38-095E85A6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EEE6-8544-4C88-B506-4203597A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916D-AD8D-4FAF-A933-1CB483EC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59FA-4C43-47DE-AD3A-2F52081D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D7DF-65F2-4087-B28B-EB55EB9B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DC85D-FD5F-4CFC-88DA-5A12A6C5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8DF6B-0D37-4291-8DB7-93DDECB8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1F1A1-91BC-4415-B331-C8E3ECC6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0C384-D337-4081-83C0-4D67EEA3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BB748-863C-45B6-8B96-18CDC5CD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30E9-70DB-49AD-8DD6-65799368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8E541-D126-43D3-82B8-380B5896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4EF31-A809-42A7-B505-D5F0EB61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5B4C4-51A6-4757-AC6C-2D722490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4F152-1BB5-4F0E-B410-5A684044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9D3B5-1FD2-413F-8368-FD9ADE72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746E5-FCC6-4145-AC14-F6C87245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8CE59-06E4-4A3A-B7EA-32CA200E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05F59-4CCF-464E-B67B-84390307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665BE-8C6E-4E85-BFF5-B9B4D54B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02601-E385-4BA2-B9C9-4C40E914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8AED-FF95-4EAB-A5B9-9E81DE0D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D5C00-F9EA-471F-88C1-F5F104AC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99955-EC8A-4BE9-8BAF-FA473399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D5AD2-D49D-4268-B264-D4934A8E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0B40A-5310-4497-AA4E-95D645EB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B25D9-D503-4030-AA15-D5C0C8B2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74231-A38D-4929-9F14-3131DE9C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4D5D6-B8FE-4FCA-B1B1-C2A3AD3C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DD1A2-E135-456D-A1B8-3DF9783D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E60C1-91D3-4CB9-82E6-34230CF5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DB09B-01FE-4A1A-B47A-B4E3EB13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C6B5-B964-46C6-BEE7-90C95B06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96B8D-93EE-48B9-8EDB-BD635DC7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7590F-6CA3-4834-B389-8CF697EC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9EF15-A712-4042-BF7D-7C8F58AE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EFF27-56B0-4B08-89C2-A04C4060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8C2BE-FD61-4299-B2A7-A9D9E007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7762A-1D33-4B76-B9D0-9036903F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FA0BC-F096-49C2-AC2B-94643D9A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DFFC3-64EB-4109-9810-F1A57C2B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2A0AE-E338-459B-8B3C-BDB68D9F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65A94-4BAD-475E-AB46-F5085AE7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F9C7-311C-4827-8E04-BF3A59B3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4B11D-9B7E-464C-8420-409A5876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D2F42-42FC-4263-B871-070382C7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33981-167A-4FC0-96BD-99434867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5626E-ABE1-442B-AE30-EA12C386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6502F-50B5-41BF-887F-4E6E00D1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286F7-67EB-42DA-B3BA-71F58E82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0A9D6-A349-44EF-A1ED-B85894E6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69EC2-5794-49B1-9DDC-FFC48C01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91BB7-7366-45E1-8E6C-09FB54F6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B6DBD-0935-471F-AAFD-56F5A0CD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A235-64C0-4461-85DF-D605A08A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51B24-7846-4055-A0E2-EF2DC04B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2162F-9D07-490C-8152-E9143B67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A21ED-9B5F-47D4-8FEE-EBF82133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8B0CF-B9D2-4D49-9104-FC676A9C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D20AA-F60F-4842-A253-D435459B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38B49-FC94-4F55-8826-DF8C1AC7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53405-A18B-41F1-A206-74B7A3DA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1A080-78EF-4812-B9CB-52B7C5E4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48EFB-DF92-49D2-BC4C-80CA8847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BBE8D-E395-4340-A86F-7C76074B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4829-9F0B-49C3-9DB0-3FB4B2D0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DD227-A06B-436B-AF00-A9440063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3EACC-54C2-4A72-9088-A36CA2A9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31091-4124-41F5-91E1-ECD4E3B0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DCCAD-1B78-4028-A1F4-AC8F99E8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A8B59-467C-40D5-B16F-991D90C7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A4AF-D885-4057-BAD7-65C71D7F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0948-3A50-4BC9-BF5D-4F3E6B2BC9A7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AE7A-BCD0-43EB-A825-92636F35249A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4AC0-0C63-4277-BB48-D26D8D9E5114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80A8-0635-41C3-A445-E2D8D9949A04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hthoe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hoe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15FB-9628-41D2-9018-E354A96E356A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DE44-0229-47CB-BCBA-59471022F310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hthoek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hthoek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troomdiagram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oomdiagram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A8E5-1D1D-4E48-815D-7D455923B135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De werking van het zenuwstelsel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320e04"/>
              </a:solidFill>
              <a:latin typeface="Gill Sans MT"/>
            </a:endParaRPr>
          </a:p>
        </p:txBody>
      </p:sp>
      <p:pic>
        <p:nvPicPr>
          <p:cNvPr id="327" name="Picture 2" descr="http://www.fysiotherapievoormij.nl/fysiotherapievoormij/A_Zenuwstelsel_mens.jpg"/>
          <p:cNvPicPr/>
          <p:nvPr/>
        </p:nvPicPr>
        <p:blipFill>
          <a:blip r:embed="rId1"/>
          <a:stretch/>
        </p:blipFill>
        <p:spPr>
          <a:xfrm rot="21439200">
            <a:off x="3354480" y="2616120"/>
            <a:ext cx="536724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Willekeurig. (somatische zenuwstelsel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emt prikkels uit omgeving waar en reageert daarop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staat uit aanvoerende zenuwen (sensorische zenuwe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van bijv. de zintuigen naar het centrale zenuwstelse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n uit afvoerende zenuw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juist vanuit de hersenen naar de spieren. (motorische zenuwbane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Onwillekeurig. (autonome zenuwstelsel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Regelt belangrijke funct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jsverter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demhal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somloop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druk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itscheiding van afvalstoff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tplant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Bestaat uit 2 del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inspanning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para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rust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Inhoud en doe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Anatomie en fysiologie van het zenuwstels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Uitleg en vide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Opdracht interview, voor verdieping van de kenn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Kenniskiem boekje hoofdstuk 8 lezen en mak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Doel: kennis hebben van en weten hoe de anatomie en fysiologie is van het zenuwstelse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at is het zenuwstelsel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Motor lichaa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Coördineert handeling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Stuurt spieren aa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prikkel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emotionele en cognitieve process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Drie verschillende onderde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weef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hoort tot belangrijkste elementen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formatie- en signaalverwerker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ijn prikkelba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unnen signalen ontvangen en doorgeven zonder verlies signaalsterk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uron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Neuron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Informatie verwekk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ensorisch en sensi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chakel of ook wel inter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Motorisch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et 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Hoogst ontwikkelde zenuwstels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Onder te verdelen in vier groep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rsenen en ruggenmerg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Schedel en ruggengraat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Grote hersenen voor bewustwording, kleine hersenen voor coordinati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uurt de meeste functies van het zenuwstelsel en spier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at wat niet wordt geregeld door het central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ledig opgebouwd uit zenuw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akt deel uit van het perifere 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aat uit het centrale zenuwstelsel en het lichamelijke gedeelte van het perifer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ideo youtub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7:29:19Z</dcterms:created>
  <dc:creator>Leoniee</dc:creator>
  <dc:description/>
  <dc:language>en-US</dc:language>
  <cp:lastModifiedBy>Nikki Pots</cp:lastModifiedBy>
  <dcterms:modified xsi:type="dcterms:W3CDTF">2020-02-13T09:06:50Z</dcterms:modified>
  <cp:revision>27</cp:revision>
  <dc:subject/>
  <dc:title>De werking van het zenuwstelsel.</dc:title>
</cp:coreProperties>
</file>