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4B27-3010-4A2E-94B1-674B9A3090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merican Bashkir Curly Type: indiaans paard Herkomst:Verenigde Staten en Canada Bijzonderheden: geschikt voor mensen die allergisch zijn voor paardenhaar Eigenschappen: Stokmaat:140 – 165 cm Kleuren: al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6429-938B-4879-9591-131B23D513DB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A0A-090E-4798-BAE9-27050DEC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C35-AF8F-4A35-8258-DC5361C8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59C-5620-4795-B4DC-0407C0EF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B9F-D7E6-45A1-9DA9-93E10A58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99A2-B7AE-4697-8FD4-E578A89C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F51D-7E41-4389-BCFB-24E31C73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D8D8-3607-4A01-AA5C-5A954BE2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757E-32DB-4F51-AD6A-3546ADE0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49FB-0889-488E-8E8A-9B39D305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45CD-E7C5-434A-A8FD-96F4C415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9F6B-D9DD-4EE4-87AB-29EBACA8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4E8-FBC4-4904-8B6C-95254355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6869-2619-473F-A758-235F5BDA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0D74-BC69-4E1E-AC35-350F8CE8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9354-8F94-4073-BC4E-7602CADF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C354-88A4-41B8-BF09-9C8DEC12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CEF3-8EB8-47C5-AE11-4A221DE6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A94-89F9-4122-B26B-C588354E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3403-CFA3-45D7-8D50-20EA1666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E18-E051-45B8-A2E8-1EDFCD8C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571-6EAA-4227-B351-7C5C3D90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281-F45E-4359-A65E-6F673A71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945-A06A-4ACE-AEE9-2EF6E4DA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44C-C60C-488C-8AC1-E83C17D2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883D-0F55-4D88-A512-60E3149AE91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D4FF-6550-4D2D-95C5-253663A27A3E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0000"/>
                </a:solidFill>
                <a:latin typeface="Times New Roman"/>
              </a:rPr>
              <a:t>Paardenrass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Tijdelijke aanduiding voor inhoud 3" descr="groninger.jpg"/>
          <p:cNvPicPr/>
          <p:nvPr/>
        </p:nvPicPr>
        <p:blipFill>
          <a:blip r:embed="rId1"/>
          <a:stretch/>
        </p:blipFill>
        <p:spPr>
          <a:xfrm>
            <a:off x="2916360" y="2133720"/>
            <a:ext cx="5956200" cy="39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GroningerPaard_01.jpg"/>
          <p:cNvPicPr/>
          <p:nvPr/>
        </p:nvPicPr>
        <p:blipFill>
          <a:blip r:embed="rId2"/>
          <a:stretch/>
        </p:blipFill>
        <p:spPr>
          <a:xfrm>
            <a:off x="684360" y="549360"/>
            <a:ext cx="360036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Oude type ‘Groninger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rd-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ief en krachtig 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br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GroningerPaard_01.jpg"/>
          <p:cNvPicPr/>
          <p:nvPr/>
        </p:nvPicPr>
        <p:blipFill>
          <a:blip r:embed="rId1"/>
          <a:stretch/>
        </p:blipFill>
        <p:spPr>
          <a:xfrm>
            <a:off x="5076720" y="3573360"/>
            <a:ext cx="3600720" cy="236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9" descr="00000339"/>
          <p:cNvPicPr/>
          <p:nvPr/>
        </p:nvPicPr>
        <p:blipFill>
          <a:blip r:embed="rId1"/>
          <a:stretch/>
        </p:blipFill>
        <p:spPr>
          <a:xfrm>
            <a:off x="1547640" y="981000"/>
            <a:ext cx="5937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ude type ‘ Gelders paard 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ig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front, lang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voskleur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00000339"/>
          <p:cNvPicPr/>
          <p:nvPr/>
        </p:nvPicPr>
        <p:blipFill>
          <a:blip r:embed="rId1"/>
          <a:stretch/>
        </p:blipFill>
        <p:spPr>
          <a:xfrm>
            <a:off x="4500720" y="2852640"/>
            <a:ext cx="423036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Tijdelijke aanduiding voor inhoud 3" descr="kwpn.jpg"/>
          <p:cNvPicPr/>
          <p:nvPr/>
        </p:nvPicPr>
        <p:blipFill>
          <a:blip r:embed="rId1"/>
          <a:stretch/>
        </p:blipFill>
        <p:spPr>
          <a:xfrm>
            <a:off x="1258920" y="981000"/>
            <a:ext cx="67183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WP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mbo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58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ant, veel front, verschi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rt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ms"/>
          <p:cNvPicPr/>
          <p:nvPr/>
        </p:nvPicPr>
        <p:blipFill>
          <a:blip r:embed="rId1"/>
          <a:stretch/>
        </p:blipFill>
        <p:spPr>
          <a:xfrm>
            <a:off x="4859280" y="3789360"/>
            <a:ext cx="3745080" cy="249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1246320" y="1171440"/>
            <a:ext cx="62784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ig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0-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sieve kracht, een trotse houding en een vast rit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Tijdelijke aanduiding voor inhoud 3" descr="tuiger.jpg"/>
          <p:cNvPicPr/>
          <p:nvPr/>
        </p:nvPicPr>
        <p:blipFill>
          <a:blip r:embed="rId1"/>
          <a:stretch/>
        </p:blipFill>
        <p:spPr>
          <a:xfrm>
            <a:off x="4572000" y="3933720"/>
            <a:ext cx="34020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Tijdelijke aanduiding voor inhoud 3" descr="hackeny.jpg"/>
          <p:cNvPicPr/>
          <p:nvPr/>
        </p:nvPicPr>
        <p:blipFill>
          <a:blip r:embed="rId1"/>
          <a:stretch/>
        </p:blipFill>
        <p:spPr>
          <a:xfrm>
            <a:off x="1403280" y="1413000"/>
            <a:ext cx="62532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ck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pony tot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rklustig, klein sierlijk hoofd, hoge staart en opgerichte h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voor de w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f/samengestelde me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UPD-H-LittleDiana"/>
          <p:cNvPicPr/>
          <p:nvPr/>
        </p:nvPicPr>
        <p:blipFill>
          <a:blip r:embed="rId1"/>
          <a:stretch/>
        </p:blipFill>
        <p:spPr>
          <a:xfrm>
            <a:off x="5508720" y="260280"/>
            <a:ext cx="3433680" cy="24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539640" y="404640"/>
            <a:ext cx="3429000" cy="452628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arabier2.jpg"/>
          <p:cNvPicPr/>
          <p:nvPr/>
        </p:nvPicPr>
        <p:blipFill>
          <a:blip r:embed="rId2"/>
          <a:stretch/>
        </p:blipFill>
        <p:spPr>
          <a:xfrm>
            <a:off x="4140360" y="2852640"/>
            <a:ext cx="47908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Tijdelijke aanduiding voor inhoud 3" descr="Friesepaard.jpg"/>
          <p:cNvPicPr/>
          <p:nvPr/>
        </p:nvPicPr>
        <p:blipFill>
          <a:blip r:embed="rId1"/>
          <a:stretch/>
        </p:blipFill>
        <p:spPr>
          <a:xfrm>
            <a:off x="1187280" y="836640"/>
            <a:ext cx="6832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riese 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er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55-1.7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ige raszuivere paard in Nederland, zw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n oorsprong landbouwpaard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erlijk ogend paard,veel behang en een fiere hou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essuur en aangespann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4" descr="fries.jpg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Tijdelijke aanduiding voor inhoud 3" descr="Nederlands-trekpaard_434x326.jpg"/>
          <p:cNvPicPr/>
          <p:nvPr/>
        </p:nvPicPr>
        <p:blipFill>
          <a:blip r:embed="rId1"/>
          <a:stretch/>
        </p:blipFill>
        <p:spPr>
          <a:xfrm>
            <a:off x="1547640" y="836640"/>
            <a:ext cx="6183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lgisch Trekpaa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g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 pa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 en erg ste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bouw, fokkerij, sh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Espoir B 760 geb. 4 maart 1916"/>
          <p:cNvPicPr/>
          <p:nvPr/>
        </p:nvPicPr>
        <p:blipFill>
          <a:blip r:embed="rId1"/>
          <a:stretch/>
        </p:blipFill>
        <p:spPr>
          <a:xfrm>
            <a:off x="5867280" y="1125360"/>
            <a:ext cx="2751120" cy="22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Tijdelijke aanduiding voor inhoud 3" descr="shire.jpg"/>
          <p:cNvPicPr/>
          <p:nvPr/>
        </p:nvPicPr>
        <p:blipFill>
          <a:blip r:embed="rId1"/>
          <a:stretch/>
        </p:blipFill>
        <p:spPr>
          <a:xfrm>
            <a:off x="1476360" y="836640"/>
            <a:ext cx="626436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i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iddeld 1.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 hoofd, openstaande neusg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gebouwd, witte benen en 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kpaard, shows voor de wagen en onder het za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wp60cb9492_0f.jpg"/>
          <p:cNvPicPr/>
          <p:nvPr/>
        </p:nvPicPr>
        <p:blipFill>
          <a:blip r:embed="rId1"/>
          <a:stretch/>
        </p:blipFill>
        <p:spPr>
          <a:xfrm>
            <a:off x="5724360" y="549360"/>
            <a:ext cx="2830680" cy="1950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Tijdelijke aanduiding voor inhoud 5" descr="shetlander.jpg"/>
          <p:cNvPicPr/>
          <p:nvPr/>
        </p:nvPicPr>
        <p:blipFill>
          <a:blip r:embed="rId1"/>
          <a:stretch/>
        </p:blipFill>
        <p:spPr>
          <a:xfrm>
            <a:off x="1258920" y="1052640"/>
            <a:ext cx="663084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hetla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kelijk Schot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86 cm- 1.07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ber 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stevig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rkste paardenras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Afbeelding 4" descr="shetlander2"/>
          <p:cNvPicPr/>
          <p:nvPr/>
        </p:nvPicPr>
        <p:blipFill>
          <a:blip r:embed="rId1"/>
          <a:stretch/>
        </p:blipFill>
        <p:spPr>
          <a:xfrm>
            <a:off x="6300720" y="2637000"/>
            <a:ext cx="2448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Tijdelijke aanduiding voor inhoud 3" descr="welsh.jpg"/>
          <p:cNvPicPr/>
          <p:nvPr/>
        </p:nvPicPr>
        <p:blipFill>
          <a:blip r:embed="rId1"/>
          <a:stretch/>
        </p:blipFill>
        <p:spPr>
          <a:xfrm>
            <a:off x="611280" y="549360"/>
            <a:ext cx="3641760" cy="3038400"/>
          </a:xfrm>
          <a:prstGeom prst="rect">
            <a:avLst/>
          </a:prstGeom>
          <a:ln w="0">
            <a:noFill/>
          </a:ln>
        </p:spPr>
      </p:pic>
      <p:pic>
        <p:nvPicPr>
          <p:cNvPr id="163" name="Afbeelding 4" descr="welsh.jpg"/>
          <p:cNvPicPr/>
          <p:nvPr/>
        </p:nvPicPr>
        <p:blipFill>
          <a:blip r:embed="rId2"/>
          <a:stretch/>
        </p:blipFill>
        <p:spPr>
          <a:xfrm>
            <a:off x="4356000" y="2708280"/>
            <a:ext cx="4530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el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 1.16 max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verschillende fokricht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ligente ogen, korte 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pony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4" descr="welsh.jpg"/>
          <p:cNvPicPr/>
          <p:nvPr/>
        </p:nvPicPr>
        <p:blipFill>
          <a:blip r:embed="rId1"/>
          <a:stretch/>
        </p:blipFill>
        <p:spPr>
          <a:xfrm>
            <a:off x="5724360" y="549360"/>
            <a:ext cx="3054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rabie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abisch Schierei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g. 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pierd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n hoofd,sprekende og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e n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urig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gant rij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npaar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jdelijke aanduiding voor inhoud 3" descr="arabier.jpg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Tijdelijke aanduiding voor inhoud 3" descr="fjord.jpg"/>
          <p:cNvPicPr/>
          <p:nvPr/>
        </p:nvPicPr>
        <p:blipFill>
          <a:blip r:embed="rId1"/>
          <a:stretch/>
        </p:blipFill>
        <p:spPr>
          <a:xfrm>
            <a:off x="4788000" y="3284640"/>
            <a:ext cx="3989160" cy="265896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4" descr="fjord.jpg"/>
          <p:cNvPicPr/>
          <p:nvPr/>
        </p:nvPicPr>
        <p:blipFill>
          <a:blip r:embed="rId2"/>
          <a:stretch/>
        </p:blipFill>
        <p:spPr>
          <a:xfrm>
            <a:off x="684360" y="620640"/>
            <a:ext cx="42955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jor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orsprong Noor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5-1.5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lstreep, recht opstaand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moedelijke pony, fijn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e en sterke po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creat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Afbeelding 4" descr="fjord.jpg"/>
          <p:cNvPicPr/>
          <p:nvPr/>
        </p:nvPicPr>
        <p:blipFill>
          <a:blip r:embed="rId1"/>
          <a:stretch/>
        </p:blipFill>
        <p:spPr>
          <a:xfrm>
            <a:off x="5292720" y="404640"/>
            <a:ext cx="3354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2700360" y="620640"/>
            <a:ext cx="35272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Hafling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komst Oostenr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 1.5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ardenras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e witte man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uithoudingsvermogen, goed karak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jdelijke aanduiding voor inhoud 3" descr="haflinger.jpg"/>
          <p:cNvPicPr/>
          <p:nvPr/>
        </p:nvPicPr>
        <p:blipFill>
          <a:blip r:embed="rId1"/>
          <a:stretch/>
        </p:blipFill>
        <p:spPr>
          <a:xfrm>
            <a:off x="6732720" y="260280"/>
            <a:ext cx="187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Tijdelijke aanduiding voor inhoud 3" descr="quarter.jpg"/>
          <p:cNvPicPr/>
          <p:nvPr/>
        </p:nvPicPr>
        <p:blipFill>
          <a:blip r:embed="rId1"/>
          <a:stretch/>
        </p:blipFill>
        <p:spPr>
          <a:xfrm>
            <a:off x="826920" y="620640"/>
            <a:ext cx="3600720" cy="283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stops"/>
          <p:cNvPicPr/>
          <p:nvPr/>
        </p:nvPicPr>
        <p:blipFill>
          <a:blip r:embed="rId2"/>
          <a:stretch/>
        </p:blipFill>
        <p:spPr>
          <a:xfrm>
            <a:off x="5292720" y="1844640"/>
            <a:ext cx="2857680" cy="402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arter Hor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drij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5-1.6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re bespiering achter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 breed hoof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zijdig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stops"/>
          <p:cNvPicPr/>
          <p:nvPr/>
        </p:nvPicPr>
        <p:blipFill>
          <a:blip r:embed="rId1"/>
          <a:stretch/>
        </p:blipFill>
        <p:spPr>
          <a:xfrm>
            <a:off x="6084720" y="1773360"/>
            <a:ext cx="2857680" cy="402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Tijdelijke aanduiding voor inhoud 3" descr="tinker.jpg"/>
          <p:cNvPicPr/>
          <p:nvPr/>
        </p:nvPicPr>
        <p:blipFill>
          <a:blip r:embed="rId1"/>
          <a:stretch/>
        </p:blipFill>
        <p:spPr>
          <a:xfrm>
            <a:off x="1547640" y="765000"/>
            <a:ext cx="60487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rland,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. 1.35-1.7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ud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ak b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typen Tinkers,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many C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 en sierlijk hoofd, kleine o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behang, dikke v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reatie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:\Foto's\946152204_5_e2Vn.jpg"/>
          <p:cNvPicPr/>
          <p:nvPr/>
        </p:nvPicPr>
        <p:blipFill>
          <a:blip r:embed="rId1"/>
          <a:stretch/>
        </p:blipFill>
        <p:spPr>
          <a:xfrm>
            <a:off x="6084720" y="476280"/>
            <a:ext cx="25196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Tijdelijke aanduiding voor inhoud 3" descr="paard.jpg"/>
          <p:cNvPicPr/>
          <p:nvPr/>
        </p:nvPicPr>
        <p:blipFill>
          <a:blip r:embed="rId1"/>
          <a:stretch/>
        </p:blipFill>
        <p:spPr>
          <a:xfrm>
            <a:off x="900000" y="1484280"/>
            <a:ext cx="7404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zewalsk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in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ngol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tste overgebleven wilde 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22-1.44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rte benen, rechtopstaande manen, beige br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 te tem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ft in kuddeverband (harem of hengstengroep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przewalski1.JPG (295558 bytes)"/>
          <p:cNvPicPr/>
          <p:nvPr/>
        </p:nvPicPr>
        <p:blipFill>
          <a:blip r:embed="rId1"/>
          <a:stretch/>
        </p:blipFill>
        <p:spPr>
          <a:xfrm>
            <a:off x="5940360" y="404640"/>
            <a:ext cx="272592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1476360" y="981000"/>
            <a:ext cx="61023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Tijdelijke aanduiding voor inhoud 10" descr="lipizzaner.jpg"/>
          <p:cNvPicPr/>
          <p:nvPr/>
        </p:nvPicPr>
        <p:blipFill>
          <a:blip r:embed="rId1"/>
          <a:stretch/>
        </p:blipFill>
        <p:spPr>
          <a:xfrm>
            <a:off x="1332000" y="981000"/>
            <a:ext cx="652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Lippiza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ca in Sloveni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48-1.62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ge halsaanzet, korte en stevige b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al schimmel/w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chikt voor hoge rijkunst, koets-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ijdelijke aanduiding voor inhoud 3" descr="lipizaner.jpg"/>
          <p:cNvPicPr/>
          <p:nvPr/>
        </p:nvPicPr>
        <p:blipFill>
          <a:blip r:embed="rId1"/>
          <a:stretch/>
        </p:blipFill>
        <p:spPr>
          <a:xfrm>
            <a:off x="7020000" y="333360"/>
            <a:ext cx="16732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nl-NL" sz="4200" spc="-1" strike="noStrike">
                <a:solidFill>
                  <a:srgbClr val="000000"/>
                </a:solidFill>
                <a:latin typeface="Garamond"/>
              </a:rPr>
              <a:t>Falabe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gentini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ximaal 87 cm, miniatuur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porties van een paard, edel hoof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lligent, volgza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rm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howpaard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3" descr="falabella.jpg"/>
          <p:cNvPicPr/>
          <p:nvPr/>
        </p:nvPicPr>
        <p:blipFill>
          <a:blip r:embed="rId1"/>
          <a:stretch/>
        </p:blipFill>
        <p:spPr>
          <a:xfrm>
            <a:off x="5219640" y="3357720"/>
            <a:ext cx="3457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Tijdelijke aanduiding voor inhoud 3" descr="engels-volbloed-3.large.jpg"/>
          <p:cNvPicPr/>
          <p:nvPr/>
        </p:nvPicPr>
        <p:blipFill>
          <a:blip r:embed="rId1"/>
          <a:stretch/>
        </p:blipFill>
        <p:spPr>
          <a:xfrm>
            <a:off x="2050920" y="1773360"/>
            <a:ext cx="49482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Engels Volblo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rkomst Enge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55/1.8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nelste paard ter 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ierlijk, gespie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elig, werklu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jpaard/renpa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maren"/>
          <p:cNvPicPr/>
          <p:nvPr/>
        </p:nvPicPr>
        <p:blipFill>
          <a:blip r:embed="rId1"/>
          <a:stretch/>
        </p:blipFill>
        <p:spPr>
          <a:xfrm>
            <a:off x="5292720" y="3068640"/>
            <a:ext cx="3564000" cy="2816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1547640" y="1268280"/>
            <a:ext cx="60390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Times New Roman"/>
              </a:rPr>
              <a:t>Drav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ijn gebou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t 1.60-1.65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chtvoetig, snelhei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houdings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ijdelijke aanduiding voor inhoud 3" descr="draver.jpg"/>
          <p:cNvPicPr/>
          <p:nvPr/>
        </p:nvPicPr>
        <p:blipFill>
          <a:blip r:embed="rId1"/>
          <a:stretch/>
        </p:blipFill>
        <p:spPr>
          <a:xfrm>
            <a:off x="4716360" y="105264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8:32:41Z</dcterms:created>
  <dc:creator>Robert</dc:creator>
  <dc:description/>
  <dc:language>en-US</dc:language>
  <cp:lastModifiedBy>Nikki Pots</cp:lastModifiedBy>
  <dcterms:modified xsi:type="dcterms:W3CDTF">2018-01-29T11:59:36Z</dcterms:modified>
  <cp:revision>35</cp:revision>
  <dc:subject/>
  <dc:title>Paarden</dc:title>
</cp:coreProperties>
</file>