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13B4-80D6-4E5C-89DB-1B70B7A30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228F-AA40-4B45-A6DE-DA5BA2612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5222-7880-499C-86B8-20BF34AFB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9735-CD8D-4A33-B294-DAD8BFE8D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C484-B3A1-4C31-9C5A-D70B6C414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BDF9-D45C-4EBE-A715-F3806B42C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081F-C136-41AC-BF15-EC9D487AE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044B-0EDC-4B73-94CF-F89CD0DB8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6557-105A-436F-9626-A14D8254B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D0E2-C4CF-4E07-8878-16FB2C84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6D16-7B6F-41AF-BEC4-17E70A31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1EDF-F374-4005-BFC8-F53BA316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F781C-B941-43F8-9016-DD363B86092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mens, 1 geheel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1209600" y="1611360"/>
            <a:ext cx="672480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fkort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. arterie  (slagad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.  vena   (ad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. nervus (zenuw)  aftakking van ruggenmergzenu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. nervus (zenuw) hersenzenu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. musculus (spi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Zoek de betekenis van de volgende woorden op en schrijf deze op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natom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Fysiolo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atholoog-Anat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ytoplas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pith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iafrag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diastin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hor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uscu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xtremitei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erv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Hoe zeg je wáár iets zit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natomische houding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ersoon staat rechtop, met hoofd recht omho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rmen gestrekt naast het licha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ndpalmen naar voren ger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eten licht gespr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etje aan de voorkant, schuin erboven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 / achter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ntraal / dorsaal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terior / poster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entraal / perif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ternus / exter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(Links / rechts)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inister / dex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(Binnen/buiten)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diaal / latera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ek de betekenis op van de volgende ter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ntraal − dorsa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terior − posteri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entraal − perife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raniaal − cauda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uperior − inferi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teraal − media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oximaal − dista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inister − dext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ternus − extern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derzoeksmetho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uitwendi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spect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lp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cus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uscu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boratoriumonderz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derzoeksmetho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Inwendi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öntgenonderz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T s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RI-s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chograf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pplersonograf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doscop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CG,EEG, EM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ierlijke c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1387440" y="1600200"/>
            <a:ext cx="6369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mens: 1 gehe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00.000 miljard ce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ellen niet onafhankelijk, werken sa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Cel </a:t>
            </a:r>
            <a:r>
              <a:rPr b="0" lang="nl-NL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 weefsel </a:t>
            </a:r>
            <a:r>
              <a:rPr b="0" lang="nl-NL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 orgaan </a:t>
            </a:r>
            <a:r>
              <a:rPr b="0" lang="nl-NL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 orgaanstelsel </a:t>
            </a:r>
            <a:r>
              <a:rPr b="0" lang="nl-NL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 m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960" y="137160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Cel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= de kleinste, zelfstandig levende eenheid van je lich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Weefsel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=  groep cellen met zelfde vorm en func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Orgaa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= groep van samenwerkende weefsels met bepaalde func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Orgaanstelsel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= groep van samenwerkende organen met bepaalde func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orgaanstelsels"/>
          <p:cNvPicPr/>
          <p:nvPr/>
        </p:nvPicPr>
        <p:blipFill>
          <a:blip r:embed="rId1"/>
          <a:stretch/>
        </p:blipFill>
        <p:spPr>
          <a:xfrm>
            <a:off x="-185760" y="-114480"/>
            <a:ext cx="9516960" cy="708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Opdracht 1</a:t>
            </a:r>
            <a:r>
              <a:rPr b="0" i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Uitleg orgaanstels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groepjes van 3 á 4 wordt één van de volgende 10 orgaanstelsels per groepje gekoz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k groepje zoekt uit HOE het orgaanstelsel werkt, WELKE organen er bij betrokken zijn, met 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minimaal 2 latijnse nam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it wordt kort voor de klas gepresenteerd, het liefst met beeld via beamer/ smartboard in max.2 minu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irculatiestels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pijsverteringsstels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rinewegstels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demhalingsstels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rmonaal stels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enuwstels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nsorisch stels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torisch stels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tplantingsstels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efselvo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wendig milieu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alles wat in je lichaam zit, en géén contact met de buitenwereld he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itwendig milieu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alles van je lichaam wat contact met de buitenwereld he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4"/>
          <p:cNvSpPr/>
          <p:nvPr/>
        </p:nvSpPr>
        <p:spPr>
          <a:xfrm>
            <a:off x="1905120" y="3657600"/>
            <a:ext cx="99036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048120" y="37339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.v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. le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"/>
          <p:cNvSpPr/>
          <p:nvPr/>
        </p:nvSpPr>
        <p:spPr>
          <a:xfrm>
            <a:off x="2666880" y="5410080"/>
            <a:ext cx="1371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4267080" y="571500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.v. huid, maar óók slokdarm, maag, urinebu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304920" y="22860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Opdracht 3 Maken vra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533520" y="1143000"/>
            <a:ext cx="761976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organisatieniveaus binnen de mens zij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rgaan, weefsel, orgaanstelsel, cel en organi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et deze in de goede volgorde, van groot naar kle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. Geef de definitie van een weef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ef de definitie van een org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ef de definitie van een orgaanstel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lke soorten weefsels zijn 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lke 4 typen steunweefsel zijn 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3. Wat is het verschil tussen anatomie en fysiologi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4. Wat is de functie van de kern in de dierlijke ce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. Wat is de functie van de mitochondriën in de dierlijke ce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Opdracht 2 Latijnse woord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320" y="13712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oek de betekenis van de volgende woorden op en schrijf deze o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HROMOSO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NWENDIG MIL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ENTRA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ERIFE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NTERN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XTERN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BDOMEN*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0" y="49528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vert Jan van Brussel</dc:creator>
  <dc:description/>
  <dc:language>en-US</dc:language>
  <cp:lastModifiedBy>Evert Jan van Brussel</cp:lastModifiedBy>
  <dcterms:modified xsi:type="dcterms:W3CDTF">2019-09-20T06:41:08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