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3C2-3BA4-4701-93EB-9AC65806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0ED6-E89D-4CE4-A55A-C51C8D79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F70-1E22-4A42-B700-222675F2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1930-9EC8-4DA6-AF08-B4647023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7D0D-7FDA-4871-B0FB-81FF15FA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811-8C8A-4213-BE81-A8C282EE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54F-92E3-4E1D-9BEC-B85764BE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9041-4290-42D5-9039-6F1B0B37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32A-7823-465C-89DB-97DC1A63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7FA6-8A9C-4CFE-B614-16967F6F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F92-D132-46BF-9685-16BBCE0E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FF9-DAA1-4A6C-BBFB-FD3A8B6C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C850-33E0-4890-9F62-9770AEA13F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, 1 geheel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209600" y="1611360"/>
            <a:ext cx="672480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kort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arterie  (slag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.  vena   (a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 aftakking van ruggenmerg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. nervus (zenuw) hersenzenu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. musculus (sp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nat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ysi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tholoog-Anat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ytopla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pith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afra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st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uscu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xtremite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erv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o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Hoe zeg je wáár iets zi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Anatomische houd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soon staat rechtop, met hoofd recht omho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men gestrekt naast het lich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palmen naar voren ger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eten licht gesp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etje aan de voorkant, schuin erboven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/ achte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ntraal / dorsaal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terior / poster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ntraal / perif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us / exter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Links / rechts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nister / dex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Binnen/buiten)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diaal / later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ek de betekenis op van de volgende ter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ntraal − dors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nterior − post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entraal − perife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raniaal − caud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uperior − inferi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eraal − med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ximaal − dist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nister − dex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us − extern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it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pec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lp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cuss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uscu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boratorium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smeth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wendi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öntgenonderz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T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RI-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h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pplersonograf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dosco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CG,EEG, E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387440" y="1600200"/>
            <a:ext cx="6369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e mens: 1 gehe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00.000 miljard c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en niet onafhankelijk, werken s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weef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orgaanstelsel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C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de kleinste, zelfstandig levende eenheid van je lich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Weef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 groep cellen met zelfde vorm en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weefsels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Orgaanstels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= groep van samenwerkende organen met bepaalde fun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orgaanstelsels"/>
          <p:cNvPicPr/>
          <p:nvPr/>
        </p:nvPicPr>
        <p:blipFill>
          <a:blip r:embed="rId1"/>
          <a:stretch/>
        </p:blipFill>
        <p:spPr>
          <a:xfrm>
            <a:off x="-185760" y="-114480"/>
            <a:ext cx="9516960" cy="70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1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Uitleg orgaanstel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groepjes van 3 á 4 wordt één van de volgende 10 orgaanstelsels per groepje gek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lk groepje zoekt uit HOE het orgaanstelsel werkt, WELKE organen er bij betrokken zijn, met </a:t>
            </a: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minimaal 2 latijnse nam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it wordt kort voor de klas gepresenteerd, het liefst met beeld via beamer/ smartboard in max.2 minu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irculatie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jsverter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rineweg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rmonaal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ns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torisch 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plantingsstel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fsel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wat in je lichaam zit, en géén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itwendig milieu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alles van je lichaam wat contact met de buitenwereld he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905120" y="3657600"/>
            <a:ext cx="99036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8120" y="3733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.v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. l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2666880" y="5410080"/>
            <a:ext cx="13716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267080" y="5715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.v. huid, maar óók slokdarm, maag, urineb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0492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3 Maken vra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33520" y="1143000"/>
            <a:ext cx="761976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organisatieniveaus binnen de mens zij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rgaan, weefsel, orgaanstelsel, cel en organ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Zet deze in de goede volgorde, van groot naar kl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2. Geef de definitie van een weef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eef de definitie van een orgaan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soorten weefsels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elke 4 typen steunweefsel zijn 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3. Wat is het verschil tussen anatomie en fysiologi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4. Wat is de functie van de ker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5. Wat is de functie van de mitochondriën in de dierlijke c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Opdracht 2 Latijnse woo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320" y="13712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Zoek de betekenis van de volgende woorden op en schrijf deze o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HROMOSO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WENDIG MIL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ENTRA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ERIFE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XTERN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BDOMEN*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0" y="49528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vert Jan van Brussel</dc:creator>
  <dc:description/>
  <dc:language>en-US</dc:language>
  <cp:lastModifiedBy>Evert Jan van Brussel</cp:lastModifiedBy>
  <dcterms:modified xsi:type="dcterms:W3CDTF">2019-09-20T06:41:08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