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2043-E26B-4F3D-A8B2-E76869FAF2F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DB5C-ABEE-41F0-9AB0-C682F65CCFEC}"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9AAB-7A7A-44FA-A546-022585B2F1CB}"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5BD7-D498-47BC-B7F6-47A82AE6D80A}"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64A8-42E9-440F-A496-DA7A535E28C0}"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A71A8-17BE-482F-ADEF-9F2BD1923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1C77-58CA-4BEB-B855-A84E14465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22DCA-5852-466E-B92F-526C8D10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6E537-5F66-4E24-8534-8711A4609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10DB2-700F-4F0A-A596-07784DB9B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DCCD9-E882-40E6-8D8F-478625370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1ABBF-F6FA-478C-8907-31F37E2BF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734EF-3EC0-4C4A-A071-C4CD329B6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60E92-11C3-4A25-B899-61E00EBB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8C092-BEA3-4DB5-AA12-B0ED8E8EA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8EF1A-BD81-4B31-86DC-79836B6C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3BFB-F1D8-49CE-8481-0C7FC921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FDDBF-E534-4A9E-BCEE-B69ED8753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6666B-8EC6-4C72-806F-5FC5E3831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99506-2D58-412F-93E8-207141AB8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9F7F0-4EEF-4F6A-9896-4AF6240D3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F04D8-7262-4ECA-800E-F24233B7A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0DE93B-F135-44C7-87DF-677E4778D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D8642E-66FA-4008-918D-851F88DF40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01B94-D3AA-4BDC-8253-DCA5F49E74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623FDE-5D29-4D4F-A056-87EAE772A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EF5D7-4126-42E8-9A5C-DA17EB977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27AD-51C2-4693-9789-055F9B140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B116F0-10C9-4476-95EB-61C20C5D6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C50F9-443D-4B96-AD18-2F8B57096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B27BD-93A5-4241-A293-DFCD491AA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0AA7B-C841-411D-84D5-18CD7E89D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8E601-E314-4534-A986-4E669E4C4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55F45D-FC6F-4BA1-B183-B13893C1E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452DFB-03D2-4C0C-AF67-B7DF636C8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46EC-8B31-4171-B8B5-FDC7D3A4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CB491-0E82-4390-85D8-407288B89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27B52-3863-4B8A-8F5F-62B7999CF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B0B40-EA85-42AE-8CBF-ACB3C939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9CFA-3F27-491F-A2F8-E73E8D8AE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F0813-8EF1-4BE4-8E0D-FC5A481F4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3D8B-C97B-4281-A2A5-88D416ED3D7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39B2-37D3-4C02-9D57-E9B40B075C7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90E9-D977-4FFF-9BB9-710CAAC43A5A}" type="datetime">
              <a:rPr b="0" lang="nl-NL" sz="1400" spc="-1" strike="noStrike">
                <a:solidFill>
                  <a:srgbClr val="898989"/>
                </a:solidFill>
                <a:latin typeface="Times New Roman"/>
                <a:ea typeface="ＭＳ Ｐゴシック"/>
              </a:rPr>
              <a:t>28-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8086-A5BF-4263-9BEA-7A369D235E85}"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