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349-3892-454C-AFD4-106D1225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8E7-8B72-46C6-98C7-8DDEDFB7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1DB-03A3-4AE3-A308-F7C8AA90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AE9-C7FF-47E1-96E3-FD10AC36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845-87DC-45C2-B1CC-8A6EE029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4A2-F2B5-4241-B749-37536A26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7E8-E742-4655-8646-0C28FB60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CFA-F52C-4BE7-AD6D-EB2A3C93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745-6AE2-4996-A4C3-8E020ECA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957-71B5-4E63-9830-42230F52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47D-794B-45A0-ABD7-49B47D6C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845-F24E-4000-A30E-CC9EC8AD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ACC7-D81F-4B6E-8C65-4C5EF5715B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ens, 1 gehee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209600" y="1611360"/>
            <a:ext cx="6724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or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. arterie  (slag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.  vena   (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. nervus (zenuw)  aftakking van ruggenmergzen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. nervus (zenuw) hersenzen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. musculus (sp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Zoek de betekenis van de volgende woorden op en schrijf deze op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ys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tholoog-Anat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yto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pit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afra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asti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o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us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tremit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rv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oe zeg je wáár iets zi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atomische houd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soon staat rechtop, met hoofd recht omh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men gestrekt naast het lich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palmen naar voren g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eten licht gespr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etje aan de voorkant, schuin erbove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/ achte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ntraal / dorsaal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erior / pos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aal / perif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us / exter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Links / rechts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nister / dex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Binnen/buiten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aal / later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ek de betekenis op van de volgende ter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raal − dors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erior − post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ntraal − perife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aniaal − caud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perior − inf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eraal − med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ximaal − dist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nister − dex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us − extern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itwend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pec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cu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s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boratoriumonderz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wend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öntgenonderz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T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RI-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pplerson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dosc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G,EEG, E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erlijke 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387440" y="1600200"/>
            <a:ext cx="6369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ens: 1 geh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00.000 miljard c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len niet onafhankelijk, werken s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weefs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orgaan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orgaanstels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de kleinste, zelfstandig levende eenheid van je lich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eefs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 groep cellen met zelfde vorm en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rgaa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groep van samenwerkende weefsels met bepaalde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rgaanstels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groep van samenwerkende organen met bepaalde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orgaanstelsels"/>
          <p:cNvPicPr/>
          <p:nvPr/>
        </p:nvPicPr>
        <p:blipFill>
          <a:blip r:embed="rId1"/>
          <a:stretch/>
        </p:blipFill>
        <p:spPr>
          <a:xfrm>
            <a:off x="-185760" y="-114480"/>
            <a:ext cx="9516960" cy="70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1</a:t>
            </a: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Uitleg orgaanstel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roepjes van 3 á 4 wordt één van de volgende 10 orgaanstelsels per groepje geko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groepje zoekt uit HOE het orgaanstelsel werkt, WELKE organen er bij betrokken zijn, met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inimaal 2 latijnse na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t wordt kort voor de klas gepresenteerd, het liefst met beeld via beamer/ smartboard in max.2 minu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irculatie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jsverter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rineweg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rmonaal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orisch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torisch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plant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fselvo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wendig milieu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s wat in je lichaam zit, en géén contact met de buitenwereld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wendig milieu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s van je lichaam wat contact met de buitenwereld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905120" y="3657600"/>
            <a:ext cx="99036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8120" y="3733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.v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l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666880" y="541008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267080" y="57150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.v. huid, maar óók slokdarm, maag, urineb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04920" y="2286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3 Maken vr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1143000"/>
            <a:ext cx="76197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organisatieniveaus binnen de mens zij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an, weefsel, orgaanstelsel, cel en organ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t deze in de goede volgorde, van groot naar kl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. Geef de definitie van een weef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 de definitie van een org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 de definitie van een orgaan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soorten weefsels zijn 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4 typen steunweefsel zijn 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. Wat is het verschil tussen anatomie en fysiolog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. Wat is de functie van de kern in de dierlijke c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. Wat is de functie van de mitochondriën in de dierlijke c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2 Latijnse wo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oek de betekenis van de volgende woorden op en schrijf deze o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OMOS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WENDIG MIL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NTRA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ERIF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TER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XTER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BDOMEN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49528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vert Jan van Brussel</dc:creator>
  <dc:description/>
  <dc:language>en-US</dc:language>
  <cp:lastModifiedBy>Evert Jan van Brussel</cp:lastModifiedBy>
  <dcterms:modified xsi:type="dcterms:W3CDTF">2019-09-20T06:41:0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