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354-46A8-4F4C-84A0-92DD3AE9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BBC-4B3E-4823-8AC6-EE25F284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73E-A0B7-4B4F-8BEF-AF439D06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F64-C8FC-4279-8771-99C9BFF1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1BD-456D-42F1-8D7D-0FAAE5DB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A9D-A4D7-47B7-9052-B4855C89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8F8-17BE-4DF2-B064-4102C15C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B3E-4B8F-429B-A6F4-34833B0E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2F2-1ABC-46C1-9656-51D86E58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1E4-1BC5-4F6A-B03C-071C3E97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9E5-8FFE-45F0-B311-7F59AE7F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01A-88F5-4FE5-9EA3-2D454BF1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D540-66AC-4DA7-909D-0D61C61651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, 1 gehee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209600" y="1611360"/>
            <a:ext cx="6724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or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arterie  (slag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.  vena   (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 aftakking van ruggenmerg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hersen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. musculus (sp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ys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tholoog-Anat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yto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pit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afra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us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trem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rv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oe zeg je wáár iets zi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atomische houd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 staat rechtop, met hoofd recht omh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men gestrekt naast het lich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palmen naar voren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eten licht gespr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etje aan de voorkant, schuin erbove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/ achte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traal / dorsaal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erior / pos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aal / perif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us / exter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Links / rechts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nister / dex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Binnen/b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al / later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ek de betekenis op van de volgende ter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raal − dors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erior − post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ntraal − perife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aniaal − caud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ior − inf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eraal − med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ximaal − dist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nister − dex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us − exter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p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cu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s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boratorium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öntgen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T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RI-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pplerson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G,EEG, E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387440" y="1600200"/>
            <a:ext cx="6369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: 1 geh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.000 miljard c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len niet onafhankelijk, werken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weef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stel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de kleinste, zelfstandig levende eenheid van je lich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ef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 groep cellen met zelfde vorm en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weefsels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stel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organen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rgaanstelsels"/>
          <p:cNvPicPr/>
          <p:nvPr/>
        </p:nvPicPr>
        <p:blipFill>
          <a:blip r:embed="rId1"/>
          <a:stretch/>
        </p:blipFill>
        <p:spPr>
          <a:xfrm>
            <a:off x="-185760" y="-114480"/>
            <a:ext cx="9516960" cy="70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Uitleg orgaanstel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roepjes van 3 á 4 wordt één van de volgende 10 orgaanstelsels per groepje geko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groepje zoekt uit HOE het orgaanstelsel werkt, WELKE organen er bij betrokken zijn, met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inimaal 2 latijnse na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t wordt kort voor de klas gepresenteerd, het liefst met beeld via beamer/ smartboard in max.2 minu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irculatie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jsverter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rineweg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rmonaal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t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plant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fsel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wat in je lichaam zit, en géén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van je lichaam wat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905120" y="3657600"/>
            <a:ext cx="9903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8120" y="373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.v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666880" y="54100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67080" y="5715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.v. huid, maar óók slokdarm, maag, urineb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04920" y="2286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3 Maken vr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1143000"/>
            <a:ext cx="76197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organisatieniveaus binnen de mens zij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an, weefsel, orgaanstelsel, cel en organ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t deze in de goede volgorde, van groot naar kl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. Geef de definitie van een weef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soorten weefsels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4 typen steunweefsel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. Wat is het verschil tussen anatomie en fysiolog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Wat is de functie van de ker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. Wat is de functie van de mitochondrië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2 Latijnse wo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OMOS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WENDIG MIL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NTRA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ERIF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X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BDOMEN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49528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9-09-20T06:41:0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