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A2C4-17C7-4553-B872-08D987D6A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AC71-9442-411C-8A0C-973D4E36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4C57-CA2D-4D46-A57C-F7FAAA5C2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14B1-E23F-4E91-8116-A2809F6CF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747C-94C1-40D0-A3D6-DAC21A4A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A708-0826-4FD0-A4E4-FDE1F38E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17CF-C7B6-4FBC-8F19-89A0DD88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0B52-4317-49F8-8C64-24D151E5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B139-03C9-4C07-A5FC-4BA0A44C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4CB6-3DBD-44B6-942B-392B72CD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0521-D7DE-4012-B912-39ADA23B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FEFC-95DC-4AEB-B339-634EAE3F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3128-DAEA-4356-8931-0AA5FA84A0A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es 3.2 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het hart"/>
          <p:cNvPicPr/>
          <p:nvPr/>
        </p:nvPicPr>
        <p:blipFill>
          <a:blip r:embed="rId1"/>
          <a:stretch/>
        </p:blipFill>
        <p:spPr>
          <a:xfrm>
            <a:off x="1295280" y="762120"/>
            <a:ext cx="6400800" cy="6054480"/>
          </a:xfrm>
          <a:prstGeom prst="rect">
            <a:avLst/>
          </a:prstGeom>
          <a:ln w="0">
            <a:noFill/>
          </a:ln>
        </p:spPr>
      </p:pic>
      <p:grpSp>
        <p:nvGrpSpPr>
          <p:cNvPr id="43" name="SMARTInkShape-Group81"/>
          <p:cNvGrpSpPr/>
          <p:nvPr/>
        </p:nvGrpSpPr>
        <p:grpSpPr>
          <a:xfrm>
            <a:off x="1809720" y="1133640"/>
            <a:ext cx="228600" cy="895320"/>
            <a:chOff x="1809720" y="1133640"/>
            <a:chExt cx="228600" cy="895320"/>
          </a:xfrm>
        </p:grpSpPr>
        <p:sp>
          <p:nvSpPr>
            <p:cNvPr id="44" name="SMARTInkShape-297"/>
            <p:cNvSpPr/>
            <p:nvPr/>
          </p:nvSpPr>
          <p:spPr>
            <a:xfrm>
              <a:off x="1868400" y="1133640"/>
              <a:ext cx="169920" cy="89532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895320"/>
                <a:gd name="textAreaBottom" fmla="*/ 895680 h 895320"/>
              </a:gdLst>
              <a:ahLst/>
              <a:rect l="textAreaLeft" t="textAreaTop" r="textAreaRight" b="textAreaBottom"/>
              <a:pathLst>
                <a:path w="170011" h="895351">
                  <a:moveTo>
                    <a:pt x="170010" y="0"/>
                  </a:moveTo>
                  <a:lnTo>
                    <a:pt x="170010" y="44713"/>
                  </a:lnTo>
                  <a:lnTo>
                    <a:pt x="170010" y="92209"/>
                  </a:lnTo>
                  <a:lnTo>
                    <a:pt x="160309" y="136533"/>
                  </a:lnTo>
                  <a:lnTo>
                    <a:pt x="153120" y="164749"/>
                  </a:lnTo>
                  <a:lnTo>
                    <a:pt x="152400" y="173332"/>
                  </a:lnTo>
                  <a:lnTo>
                    <a:pt x="145956" y="188514"/>
                  </a:lnTo>
                  <a:lnTo>
                    <a:pt x="138152" y="203376"/>
                  </a:lnTo>
                  <a:lnTo>
                    <a:pt x="125912" y="250923"/>
                  </a:lnTo>
                  <a:lnTo>
                    <a:pt x="117793" y="295706"/>
                  </a:lnTo>
                  <a:lnTo>
                    <a:pt x="110687" y="342957"/>
                  </a:lnTo>
                  <a:lnTo>
                    <a:pt x="97757" y="383986"/>
                  </a:lnTo>
                  <a:lnTo>
                    <a:pt x="89273" y="429018"/>
                  </a:lnTo>
                  <a:lnTo>
                    <a:pt x="74581" y="476302"/>
                  </a:lnTo>
                  <a:lnTo>
                    <a:pt x="58861" y="523882"/>
                  </a:lnTo>
                  <a:lnTo>
                    <a:pt x="48063" y="566444"/>
                  </a:lnTo>
                  <a:lnTo>
                    <a:pt x="43610" y="599827"/>
                  </a:lnTo>
                  <a:lnTo>
                    <a:pt x="38719" y="619052"/>
                  </a:lnTo>
                  <a:lnTo>
                    <a:pt x="34448" y="638153"/>
                  </a:lnTo>
                  <a:lnTo>
                    <a:pt x="29302" y="657219"/>
                  </a:lnTo>
                  <a:lnTo>
                    <a:pt x="24955" y="676273"/>
                  </a:lnTo>
                  <a:lnTo>
                    <a:pt x="19061" y="696618"/>
                  </a:lnTo>
                  <a:lnTo>
                    <a:pt x="17635" y="740539"/>
                  </a:lnTo>
                  <a:lnTo>
                    <a:pt x="17611" y="783693"/>
                  </a:lnTo>
                  <a:lnTo>
                    <a:pt x="17610" y="828622"/>
                  </a:lnTo>
                  <a:lnTo>
                    <a:pt x="17610" y="831815"/>
                  </a:lnTo>
                  <a:lnTo>
                    <a:pt x="14788" y="838184"/>
                  </a:lnTo>
                  <a:lnTo>
                    <a:pt x="11064" y="844543"/>
                  </a:lnTo>
                  <a:lnTo>
                    <a:pt x="7909" y="854073"/>
                  </a:lnTo>
                  <a:lnTo>
                    <a:pt x="1800" y="863599"/>
                  </a:lnTo>
                  <a:lnTo>
                    <a:pt x="0" y="869950"/>
                  </a:lnTo>
                  <a:lnTo>
                    <a:pt x="578" y="873125"/>
                  </a:lnTo>
                  <a:lnTo>
                    <a:pt x="6289" y="885825"/>
                  </a:lnTo>
                  <a:lnTo>
                    <a:pt x="8085" y="89535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SMARTInkShape-298"/>
            <p:cNvSpPr/>
            <p:nvPr/>
          </p:nvSpPr>
          <p:spPr>
            <a:xfrm>
              <a:off x="1809720" y="1791000"/>
              <a:ext cx="171360" cy="2188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71450" h="218942">
                  <a:moveTo>
                    <a:pt x="57149" y="0"/>
                  </a:moveTo>
                  <a:lnTo>
                    <a:pt x="57149" y="8201"/>
                  </a:lnTo>
                  <a:lnTo>
                    <a:pt x="50603" y="16868"/>
                  </a:lnTo>
                  <a:lnTo>
                    <a:pt x="48507" y="25694"/>
                  </a:lnTo>
                  <a:lnTo>
                    <a:pt x="46827" y="36070"/>
                  </a:lnTo>
                  <a:lnTo>
                    <a:pt x="30300" y="82719"/>
                  </a:lnTo>
                  <a:lnTo>
                    <a:pt x="18974" y="127010"/>
                  </a:lnTo>
                  <a:lnTo>
                    <a:pt x="4898" y="172744"/>
                  </a:lnTo>
                  <a:lnTo>
                    <a:pt x="1451" y="188649"/>
                  </a:lnTo>
                  <a:lnTo>
                    <a:pt x="0" y="218941"/>
                  </a:lnTo>
                  <a:lnTo>
                    <a:pt x="5056" y="213979"/>
                  </a:lnTo>
                  <a:lnTo>
                    <a:pt x="10360" y="211518"/>
                  </a:lnTo>
                  <a:lnTo>
                    <a:pt x="13257" y="210862"/>
                  </a:lnTo>
                  <a:lnTo>
                    <a:pt x="19297" y="204489"/>
                  </a:lnTo>
                  <a:lnTo>
                    <a:pt x="45517" y="168253"/>
                  </a:lnTo>
                  <a:lnTo>
                    <a:pt x="90930" y="127965"/>
                  </a:lnTo>
                  <a:lnTo>
                    <a:pt x="107370" y="114490"/>
                  </a:lnTo>
                  <a:lnTo>
                    <a:pt x="132741" y="98089"/>
                  </a:lnTo>
                  <a:lnTo>
                    <a:pt x="139429" y="95453"/>
                  </a:lnTo>
                  <a:lnTo>
                    <a:pt x="149144" y="89078"/>
                  </a:lnTo>
                  <a:lnTo>
                    <a:pt x="158725" y="86718"/>
                  </a:lnTo>
                  <a:lnTo>
                    <a:pt x="165089" y="86166"/>
                  </a:lnTo>
                  <a:lnTo>
                    <a:pt x="167209" y="84961"/>
                  </a:lnTo>
                  <a:lnTo>
                    <a:pt x="168622" y="83099"/>
                  </a:lnTo>
                  <a:lnTo>
                    <a:pt x="171449" y="7620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1758960" y="-241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drach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715680"/>
            <a:ext cx="9144000" cy="61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Opdracht 1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noem nr. 1 t/m 11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rijf dit op in je schrift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p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f aan welke nummers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de kleine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edsomloop ho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Afbeelding 1" descr=""/>
          <p:cNvPicPr/>
          <p:nvPr/>
        </p:nvPicPr>
        <p:blipFill>
          <a:blip r:embed="rId1"/>
          <a:stretch/>
        </p:blipFill>
        <p:spPr>
          <a:xfrm>
            <a:off x="5029200" y="-23760"/>
            <a:ext cx="34383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SMARTInkShape-Group122"/>
          <p:cNvGrpSpPr/>
          <p:nvPr/>
        </p:nvGrpSpPr>
        <p:grpSpPr>
          <a:xfrm>
            <a:off x="600120" y="5276880"/>
            <a:ext cx="1895400" cy="276120"/>
            <a:chOff x="600120" y="5276880"/>
            <a:chExt cx="1895400" cy="276120"/>
          </a:xfrm>
        </p:grpSpPr>
        <p:sp>
          <p:nvSpPr>
            <p:cNvPr id="83" name="SMARTInkShape-323"/>
            <p:cNvSpPr/>
            <p:nvPr/>
          </p:nvSpPr>
          <p:spPr>
            <a:xfrm>
              <a:off x="600120" y="5314680"/>
              <a:ext cx="476280" cy="23832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476251" h="238126">
                  <a:moveTo>
                    <a:pt x="0" y="0"/>
                  </a:moveTo>
                  <a:lnTo>
                    <a:pt x="8201" y="8201"/>
                  </a:lnTo>
                  <a:lnTo>
                    <a:pt x="14189" y="9133"/>
                  </a:lnTo>
                  <a:lnTo>
                    <a:pt x="15809" y="10321"/>
                  </a:lnTo>
                  <a:lnTo>
                    <a:pt x="17610" y="14465"/>
                  </a:lnTo>
                  <a:lnTo>
                    <a:pt x="20207" y="15994"/>
                  </a:lnTo>
                  <a:lnTo>
                    <a:pt x="67394" y="26536"/>
                  </a:lnTo>
                  <a:lnTo>
                    <a:pt x="97461" y="29365"/>
                  </a:lnTo>
                  <a:lnTo>
                    <a:pt x="127891" y="45857"/>
                  </a:lnTo>
                  <a:lnTo>
                    <a:pt x="145256" y="61683"/>
                  </a:lnTo>
                  <a:lnTo>
                    <a:pt x="157574" y="77660"/>
                  </a:lnTo>
                  <a:lnTo>
                    <a:pt x="164577" y="82141"/>
                  </a:lnTo>
                  <a:lnTo>
                    <a:pt x="174040" y="81310"/>
                  </a:lnTo>
                  <a:lnTo>
                    <a:pt x="199416" y="73827"/>
                  </a:lnTo>
                  <a:lnTo>
                    <a:pt x="223563" y="52610"/>
                  </a:lnTo>
                  <a:lnTo>
                    <a:pt x="226362" y="47018"/>
                  </a:lnTo>
                  <a:lnTo>
                    <a:pt x="228158" y="39862"/>
                  </a:lnTo>
                  <a:lnTo>
                    <a:pt x="223413" y="33565"/>
                  </a:lnTo>
                  <a:lnTo>
                    <a:pt x="218180" y="30793"/>
                  </a:lnTo>
                  <a:lnTo>
                    <a:pt x="215304" y="30053"/>
                  </a:lnTo>
                  <a:lnTo>
                    <a:pt x="199946" y="21230"/>
                  </a:lnTo>
                  <a:lnTo>
                    <a:pt x="160073" y="19088"/>
                  </a:lnTo>
                  <a:lnTo>
                    <a:pt x="138707" y="20116"/>
                  </a:lnTo>
                  <a:lnTo>
                    <a:pt x="91167" y="34860"/>
                  </a:lnTo>
                  <a:lnTo>
                    <a:pt x="73814" y="38198"/>
                  </a:lnTo>
                  <a:lnTo>
                    <a:pt x="61500" y="45420"/>
                  </a:lnTo>
                  <a:lnTo>
                    <a:pt x="25414" y="79387"/>
                  </a:lnTo>
                  <a:lnTo>
                    <a:pt x="21878" y="85730"/>
                  </a:lnTo>
                  <a:lnTo>
                    <a:pt x="19249" y="92077"/>
                  </a:lnTo>
                  <a:lnTo>
                    <a:pt x="12876" y="101601"/>
                  </a:lnTo>
                  <a:lnTo>
                    <a:pt x="10518" y="111125"/>
                  </a:lnTo>
                  <a:lnTo>
                    <a:pt x="9656" y="127000"/>
                  </a:lnTo>
                  <a:lnTo>
                    <a:pt x="12405" y="133350"/>
                  </a:lnTo>
                  <a:lnTo>
                    <a:pt x="50839" y="174660"/>
                  </a:lnTo>
                  <a:lnTo>
                    <a:pt x="57167" y="178168"/>
                  </a:lnTo>
                  <a:lnTo>
                    <a:pt x="69502" y="180144"/>
                  </a:lnTo>
                  <a:lnTo>
                    <a:pt x="79573" y="181664"/>
                  </a:lnTo>
                  <a:lnTo>
                    <a:pt x="92251" y="187412"/>
                  </a:lnTo>
                  <a:lnTo>
                    <a:pt x="137495" y="190420"/>
                  </a:lnTo>
                  <a:lnTo>
                    <a:pt x="154804" y="189418"/>
                  </a:lnTo>
                  <a:lnTo>
                    <a:pt x="196774" y="172890"/>
                  </a:lnTo>
                  <a:lnTo>
                    <a:pt x="244229" y="136500"/>
                  </a:lnTo>
                  <a:lnTo>
                    <a:pt x="288924" y="92075"/>
                  </a:lnTo>
                  <a:lnTo>
                    <a:pt x="310092" y="69850"/>
                  </a:lnTo>
                  <a:lnTo>
                    <a:pt x="316311" y="57150"/>
                  </a:lnTo>
                  <a:lnTo>
                    <a:pt x="322361" y="49506"/>
                  </a:lnTo>
                  <a:lnTo>
                    <a:pt x="326010" y="48461"/>
                  </a:lnTo>
                  <a:lnTo>
                    <a:pt x="333337" y="47629"/>
                  </a:lnTo>
                  <a:lnTo>
                    <a:pt x="333374" y="70015"/>
                  </a:lnTo>
                  <a:lnTo>
                    <a:pt x="342726" y="114127"/>
                  </a:lnTo>
                  <a:lnTo>
                    <a:pt x="342899" y="161749"/>
                  </a:lnTo>
                  <a:lnTo>
                    <a:pt x="342900" y="190451"/>
                  </a:lnTo>
                  <a:lnTo>
                    <a:pt x="347956" y="190485"/>
                  </a:lnTo>
                  <a:lnTo>
                    <a:pt x="348388" y="189432"/>
                  </a:lnTo>
                  <a:lnTo>
                    <a:pt x="346044" y="185439"/>
                  </a:lnTo>
                  <a:lnTo>
                    <a:pt x="346055" y="182893"/>
                  </a:lnTo>
                  <a:lnTo>
                    <a:pt x="351377" y="168110"/>
                  </a:lnTo>
                  <a:lnTo>
                    <a:pt x="352114" y="158701"/>
                  </a:lnTo>
                  <a:lnTo>
                    <a:pt x="355109" y="152378"/>
                  </a:lnTo>
                  <a:lnTo>
                    <a:pt x="367595" y="136523"/>
                  </a:lnTo>
                  <a:lnTo>
                    <a:pt x="373531" y="123824"/>
                  </a:lnTo>
                  <a:lnTo>
                    <a:pt x="376020" y="120650"/>
                  </a:lnTo>
                  <a:lnTo>
                    <a:pt x="378787" y="111478"/>
                  </a:lnTo>
                  <a:lnTo>
                    <a:pt x="381075" y="101404"/>
                  </a:lnTo>
                  <a:lnTo>
                    <a:pt x="391167" y="86313"/>
                  </a:lnTo>
                  <a:lnTo>
                    <a:pt x="396102" y="79636"/>
                  </a:lnTo>
                  <a:lnTo>
                    <a:pt x="402092" y="66727"/>
                  </a:lnTo>
                  <a:lnTo>
                    <a:pt x="413153" y="53985"/>
                  </a:lnTo>
                  <a:lnTo>
                    <a:pt x="419279" y="50452"/>
                  </a:lnTo>
                  <a:lnTo>
                    <a:pt x="431835" y="48184"/>
                  </a:lnTo>
                  <a:lnTo>
                    <a:pt x="445797" y="47674"/>
                  </a:lnTo>
                  <a:lnTo>
                    <a:pt x="459360" y="59386"/>
                  </a:lnTo>
                  <a:lnTo>
                    <a:pt x="461815" y="61816"/>
                  </a:lnTo>
                  <a:lnTo>
                    <a:pt x="464543" y="70160"/>
                  </a:lnTo>
                  <a:lnTo>
                    <a:pt x="469356" y="97542"/>
                  </a:lnTo>
                  <a:lnTo>
                    <a:pt x="474888" y="116046"/>
                  </a:lnTo>
                  <a:lnTo>
                    <a:pt x="476215" y="163347"/>
                  </a:lnTo>
                  <a:lnTo>
                    <a:pt x="476250" y="208942"/>
                  </a:lnTo>
                  <a:lnTo>
                    <a:pt x="476250" y="23812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SMARTInkShape-324"/>
            <p:cNvSpPr/>
            <p:nvPr/>
          </p:nvSpPr>
          <p:spPr>
            <a:xfrm>
              <a:off x="2333880" y="5324400"/>
              <a:ext cx="152280" cy="1904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52400" h="190455">
                  <a:moveTo>
                    <a:pt x="47624" y="0"/>
                  </a:moveTo>
                  <a:lnTo>
                    <a:pt x="35368" y="0"/>
                  </a:lnTo>
                  <a:lnTo>
                    <a:pt x="36279" y="0"/>
                  </a:lnTo>
                  <a:lnTo>
                    <a:pt x="35827" y="1058"/>
                  </a:lnTo>
                  <a:lnTo>
                    <a:pt x="29738" y="8201"/>
                  </a:lnTo>
                  <a:lnTo>
                    <a:pt x="25797" y="40530"/>
                  </a:lnTo>
                  <a:lnTo>
                    <a:pt x="7466" y="87774"/>
                  </a:lnTo>
                  <a:lnTo>
                    <a:pt x="3318" y="99336"/>
                  </a:lnTo>
                  <a:lnTo>
                    <a:pt x="57" y="145465"/>
                  </a:lnTo>
                  <a:lnTo>
                    <a:pt x="0" y="175829"/>
                  </a:lnTo>
                  <a:lnTo>
                    <a:pt x="2822" y="181510"/>
                  </a:lnTo>
                  <a:lnTo>
                    <a:pt x="5056" y="184507"/>
                  </a:lnTo>
                  <a:lnTo>
                    <a:pt x="10360" y="187836"/>
                  </a:lnTo>
                  <a:lnTo>
                    <a:pt x="18963" y="190150"/>
                  </a:lnTo>
                  <a:lnTo>
                    <a:pt x="32156" y="190454"/>
                  </a:lnTo>
                  <a:lnTo>
                    <a:pt x="34137" y="189411"/>
                  </a:lnTo>
                  <a:lnTo>
                    <a:pt x="35458" y="187657"/>
                  </a:lnTo>
                  <a:lnTo>
                    <a:pt x="36338" y="185430"/>
                  </a:lnTo>
                  <a:lnTo>
                    <a:pt x="37983" y="183945"/>
                  </a:lnTo>
                  <a:lnTo>
                    <a:pt x="48228" y="178739"/>
                  </a:lnTo>
                  <a:lnTo>
                    <a:pt x="63578" y="165864"/>
                  </a:lnTo>
                  <a:lnTo>
                    <a:pt x="69884" y="163675"/>
                  </a:lnTo>
                  <a:lnTo>
                    <a:pt x="76215" y="157059"/>
                  </a:lnTo>
                  <a:lnTo>
                    <a:pt x="117474" y="111149"/>
                  </a:lnTo>
                  <a:lnTo>
                    <a:pt x="141385" y="87214"/>
                  </a:lnTo>
                  <a:lnTo>
                    <a:pt x="152399" y="8572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SMARTInkShape-325"/>
            <p:cNvSpPr/>
            <p:nvPr/>
          </p:nvSpPr>
          <p:spPr>
            <a:xfrm>
              <a:off x="2143080" y="5371920"/>
              <a:ext cx="176040" cy="16200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75393" h="161760">
                  <a:moveTo>
                    <a:pt x="85443" y="0"/>
                  </a:moveTo>
                  <a:lnTo>
                    <a:pt x="90499" y="0"/>
                  </a:lnTo>
                  <a:lnTo>
                    <a:pt x="91989" y="1058"/>
                  </a:lnTo>
                  <a:lnTo>
                    <a:pt x="92982" y="2822"/>
                  </a:lnTo>
                  <a:lnTo>
                    <a:pt x="94576" y="8201"/>
                  </a:lnTo>
                  <a:lnTo>
                    <a:pt x="89795" y="14189"/>
                  </a:lnTo>
                  <a:lnTo>
                    <a:pt x="44269" y="50812"/>
                  </a:lnTo>
                  <a:lnTo>
                    <a:pt x="28306" y="69499"/>
                  </a:lnTo>
                  <a:lnTo>
                    <a:pt x="20891" y="79572"/>
                  </a:lnTo>
                  <a:lnTo>
                    <a:pt x="6932" y="91193"/>
                  </a:lnTo>
                  <a:lnTo>
                    <a:pt x="2924" y="98033"/>
                  </a:lnTo>
                  <a:lnTo>
                    <a:pt x="0" y="125642"/>
                  </a:lnTo>
                  <a:lnTo>
                    <a:pt x="2022" y="129270"/>
                  </a:lnTo>
                  <a:lnTo>
                    <a:pt x="31248" y="155539"/>
                  </a:lnTo>
                  <a:lnTo>
                    <a:pt x="40543" y="159087"/>
                  </a:lnTo>
                  <a:lnTo>
                    <a:pt x="82427" y="161759"/>
                  </a:lnTo>
                  <a:lnTo>
                    <a:pt x="107699" y="154287"/>
                  </a:lnTo>
                  <a:lnTo>
                    <a:pt x="130252" y="142621"/>
                  </a:lnTo>
                  <a:lnTo>
                    <a:pt x="164769" y="111120"/>
                  </a:lnTo>
                  <a:lnTo>
                    <a:pt x="174329" y="96542"/>
                  </a:lnTo>
                  <a:lnTo>
                    <a:pt x="175392" y="91878"/>
                  </a:lnTo>
                  <a:lnTo>
                    <a:pt x="175042" y="87710"/>
                  </a:lnTo>
                  <a:lnTo>
                    <a:pt x="168686" y="66849"/>
                  </a:lnTo>
                  <a:lnTo>
                    <a:pt x="166338" y="63616"/>
                  </a:lnTo>
                  <a:lnTo>
                    <a:pt x="123231" y="30566"/>
                  </a:lnTo>
                  <a:lnTo>
                    <a:pt x="107222" y="22462"/>
                  </a:lnTo>
                  <a:lnTo>
                    <a:pt x="64011" y="12637"/>
                  </a:lnTo>
                  <a:lnTo>
                    <a:pt x="47343" y="952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SMARTInkShape-326"/>
            <p:cNvSpPr/>
            <p:nvPr/>
          </p:nvSpPr>
          <p:spPr>
            <a:xfrm>
              <a:off x="1495440" y="5352840"/>
              <a:ext cx="131760" cy="1713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31729" h="171436">
                  <a:moveTo>
                    <a:pt x="57020" y="28575"/>
                  </a:moveTo>
                  <a:lnTo>
                    <a:pt x="47611" y="28575"/>
                  </a:lnTo>
                  <a:lnTo>
                    <a:pt x="34248" y="41832"/>
                  </a:lnTo>
                  <a:lnTo>
                    <a:pt x="31024" y="47873"/>
                  </a:lnTo>
                  <a:lnTo>
                    <a:pt x="28533" y="54085"/>
                  </a:lnTo>
                  <a:lnTo>
                    <a:pt x="13357" y="79580"/>
                  </a:lnTo>
                  <a:lnTo>
                    <a:pt x="856" y="120748"/>
                  </a:lnTo>
                  <a:lnTo>
                    <a:pt x="0" y="144600"/>
                  </a:lnTo>
                  <a:lnTo>
                    <a:pt x="2750" y="151756"/>
                  </a:lnTo>
                  <a:lnTo>
                    <a:pt x="6442" y="158464"/>
                  </a:lnTo>
                  <a:lnTo>
                    <a:pt x="8082" y="164973"/>
                  </a:lnTo>
                  <a:lnTo>
                    <a:pt x="9578" y="167132"/>
                  </a:lnTo>
                  <a:lnTo>
                    <a:pt x="11634" y="168571"/>
                  </a:lnTo>
                  <a:lnTo>
                    <a:pt x="16740" y="170170"/>
                  </a:lnTo>
                  <a:lnTo>
                    <a:pt x="58882" y="171435"/>
                  </a:lnTo>
                  <a:lnTo>
                    <a:pt x="65962" y="168621"/>
                  </a:lnTo>
                  <a:lnTo>
                    <a:pt x="96937" y="149060"/>
                  </a:lnTo>
                  <a:lnTo>
                    <a:pt x="117226" y="121959"/>
                  </a:lnTo>
                  <a:lnTo>
                    <a:pt x="120820" y="112060"/>
                  </a:lnTo>
                  <a:lnTo>
                    <a:pt x="123475" y="101663"/>
                  </a:lnTo>
                  <a:lnTo>
                    <a:pt x="129862" y="88801"/>
                  </a:lnTo>
                  <a:lnTo>
                    <a:pt x="131728" y="77920"/>
                  </a:lnTo>
                  <a:lnTo>
                    <a:pt x="129735" y="68850"/>
                  </a:lnTo>
                  <a:lnTo>
                    <a:pt x="126379" y="61292"/>
                  </a:lnTo>
                  <a:lnTo>
                    <a:pt x="123432" y="51086"/>
                  </a:lnTo>
                  <a:lnTo>
                    <a:pt x="105486" y="29906"/>
                  </a:lnTo>
                  <a:lnTo>
                    <a:pt x="96905" y="23875"/>
                  </a:lnTo>
                  <a:lnTo>
                    <a:pt x="54833" y="7417"/>
                  </a:lnTo>
                  <a:lnTo>
                    <a:pt x="40144" y="2198"/>
                  </a:lnTo>
                  <a:lnTo>
                    <a:pt x="28445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SMARTInkShape-327"/>
            <p:cNvSpPr/>
            <p:nvPr/>
          </p:nvSpPr>
          <p:spPr>
            <a:xfrm>
              <a:off x="1271520" y="5276880"/>
              <a:ext cx="204480" cy="26676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205134" h="266215">
                  <a:moveTo>
                    <a:pt x="186083" y="114258"/>
                  </a:moveTo>
                  <a:lnTo>
                    <a:pt x="141602" y="114258"/>
                  </a:lnTo>
                  <a:lnTo>
                    <a:pt x="103356" y="115316"/>
                  </a:lnTo>
                  <a:lnTo>
                    <a:pt x="69372" y="130505"/>
                  </a:lnTo>
                  <a:lnTo>
                    <a:pt x="40183" y="150274"/>
                  </a:lnTo>
                  <a:lnTo>
                    <a:pt x="11588" y="183717"/>
                  </a:lnTo>
                  <a:lnTo>
                    <a:pt x="7988" y="193107"/>
                  </a:lnTo>
                  <a:lnTo>
                    <a:pt x="5330" y="203277"/>
                  </a:lnTo>
                  <a:lnTo>
                    <a:pt x="620" y="211325"/>
                  </a:lnTo>
                  <a:lnTo>
                    <a:pt x="0" y="216011"/>
                  </a:lnTo>
                  <a:lnTo>
                    <a:pt x="4226" y="239815"/>
                  </a:lnTo>
                  <a:lnTo>
                    <a:pt x="7538" y="246967"/>
                  </a:lnTo>
                  <a:lnTo>
                    <a:pt x="19274" y="261594"/>
                  </a:lnTo>
                  <a:lnTo>
                    <a:pt x="27632" y="264408"/>
                  </a:lnTo>
                  <a:lnTo>
                    <a:pt x="45188" y="266214"/>
                  </a:lnTo>
                  <a:lnTo>
                    <a:pt x="89116" y="252457"/>
                  </a:lnTo>
                  <a:lnTo>
                    <a:pt x="109239" y="237885"/>
                  </a:lnTo>
                  <a:lnTo>
                    <a:pt x="140271" y="207645"/>
                  </a:lnTo>
                  <a:lnTo>
                    <a:pt x="144556" y="197744"/>
                  </a:lnTo>
                  <a:lnTo>
                    <a:pt x="155983" y="155402"/>
                  </a:lnTo>
                  <a:lnTo>
                    <a:pt x="167119" y="111076"/>
                  </a:lnTo>
                  <a:lnTo>
                    <a:pt x="178735" y="66632"/>
                  </a:lnTo>
                  <a:lnTo>
                    <a:pt x="184632" y="46289"/>
                  </a:lnTo>
                  <a:lnTo>
                    <a:pt x="187056" y="16805"/>
                  </a:lnTo>
                  <a:lnTo>
                    <a:pt x="188849" y="14365"/>
                  </a:lnTo>
                  <a:lnTo>
                    <a:pt x="191102" y="12737"/>
                  </a:lnTo>
                  <a:lnTo>
                    <a:pt x="192604" y="10595"/>
                  </a:lnTo>
                  <a:lnTo>
                    <a:pt x="195598" y="0"/>
                  </a:lnTo>
                  <a:lnTo>
                    <a:pt x="195608" y="44617"/>
                  </a:lnTo>
                  <a:lnTo>
                    <a:pt x="194550" y="79630"/>
                  </a:lnTo>
                  <a:lnTo>
                    <a:pt x="186966" y="118517"/>
                  </a:lnTo>
                  <a:lnTo>
                    <a:pt x="186135" y="163282"/>
                  </a:lnTo>
                  <a:lnTo>
                    <a:pt x="186086" y="206415"/>
                  </a:lnTo>
                  <a:lnTo>
                    <a:pt x="186084" y="220351"/>
                  </a:lnTo>
                  <a:lnTo>
                    <a:pt x="188906" y="227732"/>
                  </a:lnTo>
                  <a:lnTo>
                    <a:pt x="205007" y="247476"/>
                  </a:lnTo>
                  <a:lnTo>
                    <a:pt x="205133" y="23808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SMARTInkShape-328"/>
            <p:cNvSpPr/>
            <p:nvPr/>
          </p:nvSpPr>
          <p:spPr>
            <a:xfrm>
              <a:off x="2390760" y="5486400"/>
              <a:ext cx="104760" cy="475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04660" h="47626">
                  <a:moveTo>
                    <a:pt x="9409" y="0"/>
                  </a:moveTo>
                  <a:lnTo>
                    <a:pt x="0" y="9409"/>
                  </a:lnTo>
                  <a:lnTo>
                    <a:pt x="4975" y="14547"/>
                  </a:lnTo>
                  <a:lnTo>
                    <a:pt x="10261" y="17049"/>
                  </a:lnTo>
                  <a:lnTo>
                    <a:pt x="13152" y="17716"/>
                  </a:lnTo>
                  <a:lnTo>
                    <a:pt x="15079" y="19219"/>
                  </a:lnTo>
                  <a:lnTo>
                    <a:pt x="17221" y="23711"/>
                  </a:lnTo>
                  <a:lnTo>
                    <a:pt x="19909" y="25333"/>
                  </a:lnTo>
                  <a:lnTo>
                    <a:pt x="32746" y="28673"/>
                  </a:lnTo>
                  <a:lnTo>
                    <a:pt x="47101" y="35925"/>
                  </a:lnTo>
                  <a:lnTo>
                    <a:pt x="92579" y="47356"/>
                  </a:lnTo>
                  <a:lnTo>
                    <a:pt x="104659" y="4762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SMARTInkShape-329"/>
            <p:cNvSpPr/>
            <p:nvPr/>
          </p:nvSpPr>
          <p:spPr>
            <a:xfrm>
              <a:off x="1995480" y="5352840"/>
              <a:ext cx="185760" cy="17928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185769" h="179983">
                  <a:moveTo>
                    <a:pt x="129179" y="0"/>
                  </a:moveTo>
                  <a:lnTo>
                    <a:pt x="129179" y="9133"/>
                  </a:lnTo>
                  <a:lnTo>
                    <a:pt x="114714" y="23987"/>
                  </a:lnTo>
                  <a:lnTo>
                    <a:pt x="109345" y="26536"/>
                  </a:lnTo>
                  <a:lnTo>
                    <a:pt x="106431" y="27216"/>
                  </a:lnTo>
                  <a:lnTo>
                    <a:pt x="91010" y="35935"/>
                  </a:lnTo>
                  <a:lnTo>
                    <a:pt x="87858" y="36657"/>
                  </a:lnTo>
                  <a:lnTo>
                    <a:pt x="54963" y="57341"/>
                  </a:lnTo>
                  <a:lnTo>
                    <a:pt x="16917" y="88552"/>
                  </a:lnTo>
                  <a:lnTo>
                    <a:pt x="10493" y="98623"/>
                  </a:lnTo>
                  <a:lnTo>
                    <a:pt x="6877" y="110243"/>
                  </a:lnTo>
                  <a:lnTo>
                    <a:pt x="6031" y="117083"/>
                  </a:lnTo>
                  <a:lnTo>
                    <a:pt x="2832" y="123651"/>
                  </a:lnTo>
                  <a:lnTo>
                    <a:pt x="498" y="126884"/>
                  </a:lnTo>
                  <a:lnTo>
                    <a:pt x="0" y="130098"/>
                  </a:lnTo>
                  <a:lnTo>
                    <a:pt x="726" y="133298"/>
                  </a:lnTo>
                  <a:lnTo>
                    <a:pt x="3297" y="139677"/>
                  </a:lnTo>
                  <a:lnTo>
                    <a:pt x="5803" y="149218"/>
                  </a:lnTo>
                  <a:lnTo>
                    <a:pt x="18531" y="165099"/>
                  </a:lnTo>
                  <a:lnTo>
                    <a:pt x="24616" y="168628"/>
                  </a:lnTo>
                  <a:lnTo>
                    <a:pt x="59513" y="179982"/>
                  </a:lnTo>
                  <a:lnTo>
                    <a:pt x="76199" y="179622"/>
                  </a:lnTo>
                  <a:lnTo>
                    <a:pt x="116890" y="169199"/>
                  </a:lnTo>
                  <a:lnTo>
                    <a:pt x="141711" y="148733"/>
                  </a:lnTo>
                  <a:lnTo>
                    <a:pt x="163810" y="126177"/>
                  </a:lnTo>
                  <a:lnTo>
                    <a:pt x="183490" y="95852"/>
                  </a:lnTo>
                  <a:lnTo>
                    <a:pt x="185768" y="77613"/>
                  </a:lnTo>
                  <a:lnTo>
                    <a:pt x="183258" y="68714"/>
                  </a:lnTo>
                  <a:lnTo>
                    <a:pt x="173022" y="54377"/>
                  </a:lnTo>
                  <a:lnTo>
                    <a:pt x="128908" y="28591"/>
                  </a:lnTo>
                  <a:lnTo>
                    <a:pt x="112871" y="21877"/>
                  </a:lnTo>
                  <a:lnTo>
                    <a:pt x="66606" y="19215"/>
                  </a:lnTo>
                  <a:lnTo>
                    <a:pt x="33929" y="1905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SMARTInkShape-330"/>
            <p:cNvSpPr/>
            <p:nvPr/>
          </p:nvSpPr>
          <p:spPr>
            <a:xfrm>
              <a:off x="1600200" y="5373720"/>
              <a:ext cx="199800" cy="15084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99860" h="150827">
                  <a:moveTo>
                    <a:pt x="56984" y="84271"/>
                  </a:moveTo>
                  <a:lnTo>
                    <a:pt x="66117" y="84271"/>
                  </a:lnTo>
                  <a:lnTo>
                    <a:pt x="66393" y="79215"/>
                  </a:lnTo>
                  <a:lnTo>
                    <a:pt x="67490" y="77725"/>
                  </a:lnTo>
                  <a:lnTo>
                    <a:pt x="82749" y="67403"/>
                  </a:lnTo>
                  <a:lnTo>
                    <a:pt x="88896" y="61605"/>
                  </a:lnTo>
                  <a:lnTo>
                    <a:pt x="97978" y="58322"/>
                  </a:lnTo>
                  <a:lnTo>
                    <a:pt x="108012" y="55805"/>
                  </a:lnTo>
                  <a:lnTo>
                    <a:pt x="123077" y="45565"/>
                  </a:lnTo>
                  <a:lnTo>
                    <a:pt x="129750" y="40610"/>
                  </a:lnTo>
                  <a:lnTo>
                    <a:pt x="142658" y="34607"/>
                  </a:lnTo>
                  <a:lnTo>
                    <a:pt x="145850" y="32111"/>
                  </a:lnTo>
                  <a:lnTo>
                    <a:pt x="149397" y="26517"/>
                  </a:lnTo>
                  <a:lnTo>
                    <a:pt x="150342" y="23543"/>
                  </a:lnTo>
                  <a:lnTo>
                    <a:pt x="152031" y="21561"/>
                  </a:lnTo>
                  <a:lnTo>
                    <a:pt x="156730" y="19358"/>
                  </a:lnTo>
                  <a:lnTo>
                    <a:pt x="158406" y="17712"/>
                  </a:lnTo>
                  <a:lnTo>
                    <a:pt x="160269" y="13061"/>
                  </a:lnTo>
                  <a:lnTo>
                    <a:pt x="159707" y="11398"/>
                  </a:lnTo>
                  <a:lnTo>
                    <a:pt x="158275" y="10289"/>
                  </a:lnTo>
                  <a:lnTo>
                    <a:pt x="156261" y="9549"/>
                  </a:lnTo>
                  <a:lnTo>
                    <a:pt x="154919" y="7998"/>
                  </a:lnTo>
                  <a:lnTo>
                    <a:pt x="153427" y="3453"/>
                  </a:lnTo>
                  <a:lnTo>
                    <a:pt x="151971" y="1817"/>
                  </a:lnTo>
                  <a:lnTo>
                    <a:pt x="147531" y="0"/>
                  </a:lnTo>
                  <a:lnTo>
                    <a:pt x="111841" y="10362"/>
                  </a:lnTo>
                  <a:lnTo>
                    <a:pt x="100415" y="14381"/>
                  </a:lnTo>
                  <a:lnTo>
                    <a:pt x="83140" y="17702"/>
                  </a:lnTo>
                  <a:lnTo>
                    <a:pt x="70849" y="24918"/>
                  </a:lnTo>
                  <a:lnTo>
                    <a:pt x="25640" y="58883"/>
                  </a:lnTo>
                  <a:lnTo>
                    <a:pt x="4091" y="81097"/>
                  </a:lnTo>
                  <a:lnTo>
                    <a:pt x="1726" y="87446"/>
                  </a:lnTo>
                  <a:lnTo>
                    <a:pt x="0" y="106496"/>
                  </a:lnTo>
                  <a:lnTo>
                    <a:pt x="2730" y="112846"/>
                  </a:lnTo>
                  <a:lnTo>
                    <a:pt x="4940" y="116021"/>
                  </a:lnTo>
                  <a:lnTo>
                    <a:pt x="10217" y="119549"/>
                  </a:lnTo>
                  <a:lnTo>
                    <a:pt x="16090" y="122175"/>
                  </a:lnTo>
                  <a:lnTo>
                    <a:pt x="31634" y="135463"/>
                  </a:lnTo>
                  <a:lnTo>
                    <a:pt x="43601" y="138773"/>
                  </a:lnTo>
                  <a:lnTo>
                    <a:pt x="85220" y="144011"/>
                  </a:lnTo>
                  <a:lnTo>
                    <a:pt x="104509" y="148891"/>
                  </a:lnTo>
                  <a:lnTo>
                    <a:pt x="149053" y="150826"/>
                  </a:lnTo>
                  <a:lnTo>
                    <a:pt x="167912" y="149864"/>
                  </a:lnTo>
                  <a:lnTo>
                    <a:pt x="191658" y="142008"/>
                  </a:lnTo>
                  <a:lnTo>
                    <a:pt x="199859" y="141421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SMARTInkShape-Group123"/>
          <p:cNvGrpSpPr/>
          <p:nvPr/>
        </p:nvGrpSpPr>
        <p:grpSpPr>
          <a:xfrm>
            <a:off x="2714760" y="5305320"/>
            <a:ext cx="1047600" cy="314280"/>
            <a:chOff x="2714760" y="5305320"/>
            <a:chExt cx="1047600" cy="314280"/>
          </a:xfrm>
        </p:grpSpPr>
        <p:sp>
          <p:nvSpPr>
            <p:cNvPr id="92" name="SMARTInkShape-331"/>
            <p:cNvSpPr/>
            <p:nvPr/>
          </p:nvSpPr>
          <p:spPr>
            <a:xfrm>
              <a:off x="3543480" y="5419440"/>
              <a:ext cx="218880" cy="2001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218683" h="200010">
                  <a:moveTo>
                    <a:pt x="18657" y="38084"/>
                  </a:moveTo>
                  <a:lnTo>
                    <a:pt x="18657" y="43140"/>
                  </a:lnTo>
                  <a:lnTo>
                    <a:pt x="15835" y="48445"/>
                  </a:lnTo>
                  <a:lnTo>
                    <a:pt x="10456" y="55418"/>
                  </a:lnTo>
                  <a:lnTo>
                    <a:pt x="9148" y="102652"/>
                  </a:lnTo>
                  <a:lnTo>
                    <a:pt x="8081" y="111231"/>
                  </a:lnTo>
                  <a:lnTo>
                    <a:pt x="490" y="138719"/>
                  </a:lnTo>
                  <a:lnTo>
                    <a:pt x="0" y="145605"/>
                  </a:lnTo>
                  <a:lnTo>
                    <a:pt x="2604" y="152193"/>
                  </a:lnTo>
                  <a:lnTo>
                    <a:pt x="6231" y="158650"/>
                  </a:lnTo>
                  <a:lnTo>
                    <a:pt x="8877" y="171231"/>
                  </a:lnTo>
                  <a:lnTo>
                    <a:pt x="9019" y="175930"/>
                  </a:lnTo>
                  <a:lnTo>
                    <a:pt x="10115" y="177606"/>
                  </a:lnTo>
                  <a:lnTo>
                    <a:pt x="11904" y="178723"/>
                  </a:lnTo>
                  <a:lnTo>
                    <a:pt x="17323" y="180517"/>
                  </a:lnTo>
                  <a:lnTo>
                    <a:pt x="23318" y="175772"/>
                  </a:lnTo>
                  <a:lnTo>
                    <a:pt x="26021" y="170539"/>
                  </a:lnTo>
                  <a:lnTo>
                    <a:pt x="26741" y="167663"/>
                  </a:lnTo>
                  <a:lnTo>
                    <a:pt x="35532" y="152306"/>
                  </a:lnTo>
                  <a:lnTo>
                    <a:pt x="47877" y="122966"/>
                  </a:lnTo>
                  <a:lnTo>
                    <a:pt x="69495" y="79310"/>
                  </a:lnTo>
                  <a:lnTo>
                    <a:pt x="94859" y="37493"/>
                  </a:lnTo>
                  <a:lnTo>
                    <a:pt x="107557" y="17624"/>
                  </a:lnTo>
                  <a:lnTo>
                    <a:pt x="121551" y="2020"/>
                  </a:lnTo>
                  <a:lnTo>
                    <a:pt x="125418" y="889"/>
                  </a:lnTo>
                  <a:lnTo>
                    <a:pt x="155216" y="0"/>
                  </a:lnTo>
                  <a:lnTo>
                    <a:pt x="161548" y="2813"/>
                  </a:lnTo>
                  <a:lnTo>
                    <a:pt x="167889" y="6533"/>
                  </a:lnTo>
                  <a:lnTo>
                    <a:pt x="177409" y="9686"/>
                  </a:lnTo>
                  <a:lnTo>
                    <a:pt x="193282" y="22650"/>
                  </a:lnTo>
                  <a:lnTo>
                    <a:pt x="196810" y="28755"/>
                  </a:lnTo>
                  <a:lnTo>
                    <a:pt x="199075" y="41298"/>
                  </a:lnTo>
                  <a:lnTo>
                    <a:pt x="199617" y="69835"/>
                  </a:lnTo>
                  <a:lnTo>
                    <a:pt x="196803" y="76185"/>
                  </a:lnTo>
                  <a:lnTo>
                    <a:pt x="194571" y="79359"/>
                  </a:lnTo>
                  <a:lnTo>
                    <a:pt x="181317" y="88884"/>
                  </a:lnTo>
                  <a:lnTo>
                    <a:pt x="149337" y="102525"/>
                  </a:lnTo>
                  <a:lnTo>
                    <a:pt x="139179" y="104825"/>
                  </a:lnTo>
                  <a:lnTo>
                    <a:pt x="124034" y="112102"/>
                  </a:lnTo>
                  <a:lnTo>
                    <a:pt x="79250" y="124580"/>
                  </a:lnTo>
                  <a:lnTo>
                    <a:pt x="66332" y="133298"/>
                  </a:lnTo>
                  <a:lnTo>
                    <a:pt x="71353" y="138380"/>
                  </a:lnTo>
                  <a:lnTo>
                    <a:pt x="76650" y="140868"/>
                  </a:lnTo>
                  <a:lnTo>
                    <a:pt x="120879" y="154566"/>
                  </a:lnTo>
                  <a:lnTo>
                    <a:pt x="164979" y="177869"/>
                  </a:lnTo>
                  <a:lnTo>
                    <a:pt x="187339" y="187678"/>
                  </a:lnTo>
                  <a:lnTo>
                    <a:pt x="195227" y="190296"/>
                  </a:lnTo>
                  <a:lnTo>
                    <a:pt x="208914" y="197777"/>
                  </a:lnTo>
                  <a:lnTo>
                    <a:pt x="218682" y="20000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SMARTInkShape-332"/>
            <p:cNvSpPr/>
            <p:nvPr/>
          </p:nvSpPr>
          <p:spPr>
            <a:xfrm>
              <a:off x="3105360" y="5429160"/>
              <a:ext cx="161640" cy="1620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62000"/>
                <a:gd name="textAreaBottom" fmla="*/ 162000 h 162000"/>
              </a:gdLst>
              <a:ahLst/>
              <a:rect l="textAreaLeft" t="textAreaTop" r="textAreaRight" b="textAreaBottom"/>
              <a:pathLst>
                <a:path w="161760" h="161925">
                  <a:moveTo>
                    <a:pt x="161759" y="9524"/>
                  </a:moveTo>
                  <a:lnTo>
                    <a:pt x="161759" y="391"/>
                  </a:lnTo>
                  <a:lnTo>
                    <a:pt x="129878" y="0"/>
                  </a:lnTo>
                  <a:lnTo>
                    <a:pt x="97690" y="13256"/>
                  </a:lnTo>
                  <a:lnTo>
                    <a:pt x="50227" y="46345"/>
                  </a:lnTo>
                  <a:lnTo>
                    <a:pt x="32758" y="63678"/>
                  </a:lnTo>
                  <a:lnTo>
                    <a:pt x="2677" y="104584"/>
                  </a:lnTo>
                  <a:lnTo>
                    <a:pt x="676" y="117065"/>
                  </a:lnTo>
                  <a:lnTo>
                    <a:pt x="0" y="135189"/>
                  </a:lnTo>
                  <a:lnTo>
                    <a:pt x="1003" y="137750"/>
                  </a:lnTo>
                  <a:lnTo>
                    <a:pt x="2730" y="139459"/>
                  </a:lnTo>
                  <a:lnTo>
                    <a:pt x="10217" y="144684"/>
                  </a:lnTo>
                  <a:lnTo>
                    <a:pt x="16090" y="148970"/>
                  </a:lnTo>
                  <a:lnTo>
                    <a:pt x="25347" y="151384"/>
                  </a:lnTo>
                  <a:lnTo>
                    <a:pt x="46181" y="152265"/>
                  </a:lnTo>
                  <a:lnTo>
                    <a:pt x="55005" y="149518"/>
                  </a:lnTo>
                  <a:lnTo>
                    <a:pt x="63513" y="145827"/>
                  </a:lnTo>
                  <a:lnTo>
                    <a:pt x="74350" y="144186"/>
                  </a:lnTo>
                  <a:lnTo>
                    <a:pt x="79145" y="141632"/>
                  </a:lnTo>
                  <a:lnTo>
                    <a:pt x="110875" y="107065"/>
                  </a:lnTo>
                  <a:lnTo>
                    <a:pt x="119401" y="90871"/>
                  </a:lnTo>
                  <a:lnTo>
                    <a:pt x="125640" y="69258"/>
                  </a:lnTo>
                  <a:lnTo>
                    <a:pt x="129831" y="60415"/>
                  </a:lnTo>
                  <a:lnTo>
                    <a:pt x="133053" y="30892"/>
                  </a:lnTo>
                  <a:lnTo>
                    <a:pt x="140706" y="18518"/>
                  </a:lnTo>
                  <a:lnTo>
                    <a:pt x="142674" y="9680"/>
                  </a:lnTo>
                  <a:lnTo>
                    <a:pt x="142709" y="41324"/>
                  </a:lnTo>
                  <a:lnTo>
                    <a:pt x="133446" y="88834"/>
                  </a:lnTo>
                  <a:lnTo>
                    <a:pt x="133300" y="96984"/>
                  </a:lnTo>
                  <a:lnTo>
                    <a:pt x="136058" y="104134"/>
                  </a:lnTo>
                  <a:lnTo>
                    <a:pt x="139753" y="110840"/>
                  </a:lnTo>
                  <a:lnTo>
                    <a:pt x="142125" y="123767"/>
                  </a:lnTo>
                  <a:lnTo>
                    <a:pt x="142594" y="141569"/>
                  </a:lnTo>
                  <a:lnTo>
                    <a:pt x="143690" y="145179"/>
                  </a:lnTo>
                  <a:lnTo>
                    <a:pt x="145480" y="147586"/>
                  </a:lnTo>
                  <a:lnTo>
                    <a:pt x="147731" y="149191"/>
                  </a:lnTo>
                  <a:lnTo>
                    <a:pt x="149232" y="151318"/>
                  </a:lnTo>
                  <a:lnTo>
                    <a:pt x="152234" y="16192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SMARTInkShape-333"/>
            <p:cNvSpPr/>
            <p:nvPr/>
          </p:nvSpPr>
          <p:spPr>
            <a:xfrm>
              <a:off x="2714760" y="5305320"/>
              <a:ext cx="333360" cy="25740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333376" h="257176">
                  <a:moveTo>
                    <a:pt x="0" y="0"/>
                  </a:moveTo>
                  <a:lnTo>
                    <a:pt x="0" y="27805"/>
                  </a:lnTo>
                  <a:lnTo>
                    <a:pt x="2822" y="36347"/>
                  </a:lnTo>
                  <a:lnTo>
                    <a:pt x="6546" y="43671"/>
                  </a:lnTo>
                  <a:lnTo>
                    <a:pt x="8937" y="59818"/>
                  </a:lnTo>
                  <a:lnTo>
                    <a:pt x="9515" y="103362"/>
                  </a:lnTo>
                  <a:lnTo>
                    <a:pt x="9522" y="116116"/>
                  </a:lnTo>
                  <a:lnTo>
                    <a:pt x="10581" y="118686"/>
                  </a:lnTo>
                  <a:lnTo>
                    <a:pt x="12346" y="120399"/>
                  </a:lnTo>
                  <a:lnTo>
                    <a:pt x="14581" y="121541"/>
                  </a:lnTo>
                  <a:lnTo>
                    <a:pt x="16071" y="123361"/>
                  </a:lnTo>
                  <a:lnTo>
                    <a:pt x="17726" y="128205"/>
                  </a:lnTo>
                  <a:lnTo>
                    <a:pt x="19049" y="142861"/>
                  </a:lnTo>
                  <a:lnTo>
                    <a:pt x="19050" y="97214"/>
                  </a:lnTo>
                  <a:lnTo>
                    <a:pt x="19050" y="93384"/>
                  </a:lnTo>
                  <a:lnTo>
                    <a:pt x="21872" y="86307"/>
                  </a:lnTo>
                  <a:lnTo>
                    <a:pt x="25596" y="79634"/>
                  </a:lnTo>
                  <a:lnTo>
                    <a:pt x="28751" y="69927"/>
                  </a:lnTo>
                  <a:lnTo>
                    <a:pt x="34860" y="60347"/>
                  </a:lnTo>
                  <a:lnTo>
                    <a:pt x="38198" y="50807"/>
                  </a:lnTo>
                  <a:lnTo>
                    <a:pt x="44362" y="41277"/>
                  </a:lnTo>
                  <a:lnTo>
                    <a:pt x="47716" y="31751"/>
                  </a:lnTo>
                  <a:lnTo>
                    <a:pt x="52252" y="25400"/>
                  </a:lnTo>
                  <a:lnTo>
                    <a:pt x="60618" y="21872"/>
                  </a:lnTo>
                  <a:lnTo>
                    <a:pt x="98320" y="19099"/>
                  </a:lnTo>
                  <a:lnTo>
                    <a:pt x="104728" y="21894"/>
                  </a:lnTo>
                  <a:lnTo>
                    <a:pt x="111104" y="25605"/>
                  </a:lnTo>
                  <a:lnTo>
                    <a:pt x="120644" y="28753"/>
                  </a:lnTo>
                  <a:lnTo>
                    <a:pt x="126997" y="33241"/>
                  </a:lnTo>
                  <a:lnTo>
                    <a:pt x="146050" y="59132"/>
                  </a:lnTo>
                  <a:lnTo>
                    <a:pt x="152204" y="102148"/>
                  </a:lnTo>
                  <a:lnTo>
                    <a:pt x="158574" y="139862"/>
                  </a:lnTo>
                  <a:lnTo>
                    <a:pt x="160932" y="177848"/>
                  </a:lnTo>
                  <a:lnTo>
                    <a:pt x="161794" y="221080"/>
                  </a:lnTo>
                  <a:lnTo>
                    <a:pt x="164689" y="228080"/>
                  </a:lnTo>
                  <a:lnTo>
                    <a:pt x="168445" y="234719"/>
                  </a:lnTo>
                  <a:lnTo>
                    <a:pt x="171333" y="247084"/>
                  </a:lnTo>
                  <a:lnTo>
                    <a:pt x="171447" y="233446"/>
                  </a:lnTo>
                  <a:lnTo>
                    <a:pt x="174271" y="227932"/>
                  </a:lnTo>
                  <a:lnTo>
                    <a:pt x="177996" y="221953"/>
                  </a:lnTo>
                  <a:lnTo>
                    <a:pt x="180092" y="211579"/>
                  </a:lnTo>
                  <a:lnTo>
                    <a:pt x="181956" y="183967"/>
                  </a:lnTo>
                  <a:lnTo>
                    <a:pt x="196783" y="139788"/>
                  </a:lnTo>
                  <a:lnTo>
                    <a:pt x="198584" y="131625"/>
                  </a:lnTo>
                  <a:lnTo>
                    <a:pt x="200123" y="129025"/>
                  </a:lnTo>
                  <a:lnTo>
                    <a:pt x="202207" y="127292"/>
                  </a:lnTo>
                  <a:lnTo>
                    <a:pt x="207345" y="124308"/>
                  </a:lnTo>
                  <a:lnTo>
                    <a:pt x="225510" y="108772"/>
                  </a:lnTo>
                  <a:lnTo>
                    <a:pt x="234975" y="105959"/>
                  </a:lnTo>
                  <a:lnTo>
                    <a:pt x="241311" y="105301"/>
                  </a:lnTo>
                  <a:lnTo>
                    <a:pt x="247655" y="107831"/>
                  </a:lnTo>
                  <a:lnTo>
                    <a:pt x="288925" y="146066"/>
                  </a:lnTo>
                  <a:lnTo>
                    <a:pt x="292453" y="155229"/>
                  </a:lnTo>
                  <a:lnTo>
                    <a:pt x="295079" y="165299"/>
                  </a:lnTo>
                  <a:lnTo>
                    <a:pt x="322003" y="212298"/>
                  </a:lnTo>
                  <a:lnTo>
                    <a:pt x="332935" y="245365"/>
                  </a:lnTo>
                  <a:lnTo>
                    <a:pt x="333375" y="25717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SMARTInkShape-334"/>
            <p:cNvSpPr/>
            <p:nvPr/>
          </p:nvSpPr>
          <p:spPr>
            <a:xfrm>
              <a:off x="3295800" y="5438520"/>
              <a:ext cx="190440" cy="152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89943" h="152401">
                  <a:moveTo>
                    <a:pt x="151842" y="0"/>
                  </a:moveTo>
                  <a:lnTo>
                    <a:pt x="107129" y="0"/>
                  </a:lnTo>
                  <a:lnTo>
                    <a:pt x="91557" y="1058"/>
                  </a:lnTo>
                  <a:lnTo>
                    <a:pt x="47712" y="21109"/>
                  </a:lnTo>
                  <a:lnTo>
                    <a:pt x="41003" y="27374"/>
                  </a:lnTo>
                  <a:lnTo>
                    <a:pt x="3677" y="72954"/>
                  </a:lnTo>
                  <a:lnTo>
                    <a:pt x="1324" y="79343"/>
                  </a:lnTo>
                  <a:lnTo>
                    <a:pt x="0" y="93947"/>
                  </a:lnTo>
                  <a:lnTo>
                    <a:pt x="872" y="97556"/>
                  </a:lnTo>
                  <a:lnTo>
                    <a:pt x="2512" y="99963"/>
                  </a:lnTo>
                  <a:lnTo>
                    <a:pt x="4664" y="101567"/>
                  </a:lnTo>
                  <a:lnTo>
                    <a:pt x="6098" y="103694"/>
                  </a:lnTo>
                  <a:lnTo>
                    <a:pt x="7692" y="108881"/>
                  </a:lnTo>
                  <a:lnTo>
                    <a:pt x="9176" y="110687"/>
                  </a:lnTo>
                  <a:lnTo>
                    <a:pt x="13646" y="112694"/>
                  </a:lnTo>
                  <a:lnTo>
                    <a:pt x="58455" y="114288"/>
                  </a:lnTo>
                  <a:lnTo>
                    <a:pt x="90558" y="104599"/>
                  </a:lnTo>
                  <a:lnTo>
                    <a:pt x="110483" y="88605"/>
                  </a:lnTo>
                  <a:lnTo>
                    <a:pt x="120067" y="78229"/>
                  </a:lnTo>
                  <a:lnTo>
                    <a:pt x="128551" y="63278"/>
                  </a:lnTo>
                  <a:lnTo>
                    <a:pt x="132594" y="51675"/>
                  </a:lnTo>
                  <a:lnTo>
                    <a:pt x="150077" y="30490"/>
                  </a:lnTo>
                  <a:lnTo>
                    <a:pt x="151058" y="26604"/>
                  </a:lnTo>
                  <a:lnTo>
                    <a:pt x="151319" y="24086"/>
                  </a:lnTo>
                  <a:lnTo>
                    <a:pt x="152552" y="22407"/>
                  </a:lnTo>
                  <a:lnTo>
                    <a:pt x="154432" y="21288"/>
                  </a:lnTo>
                  <a:lnTo>
                    <a:pt x="160961" y="19181"/>
                  </a:lnTo>
                  <a:lnTo>
                    <a:pt x="161366" y="65120"/>
                  </a:lnTo>
                  <a:lnTo>
                    <a:pt x="164189" y="74098"/>
                  </a:lnTo>
                  <a:lnTo>
                    <a:pt x="167913" y="82674"/>
                  </a:lnTo>
                  <a:lnTo>
                    <a:pt x="177361" y="126910"/>
                  </a:lnTo>
                  <a:lnTo>
                    <a:pt x="180298" y="147246"/>
                  </a:lnTo>
                  <a:lnTo>
                    <a:pt x="181396" y="148964"/>
                  </a:lnTo>
                  <a:lnTo>
                    <a:pt x="183186" y="150109"/>
                  </a:lnTo>
                  <a:lnTo>
                    <a:pt x="189942" y="15240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SMARTInkShape-Group124"/>
          <p:cNvGrpSpPr/>
          <p:nvPr/>
        </p:nvGrpSpPr>
        <p:grpSpPr>
          <a:xfrm>
            <a:off x="419040" y="5719680"/>
            <a:ext cx="3579840" cy="595440"/>
            <a:chOff x="419040" y="5719680"/>
            <a:chExt cx="3579840" cy="595440"/>
          </a:xfrm>
        </p:grpSpPr>
        <p:sp>
          <p:nvSpPr>
            <p:cNvPr id="97" name="SMARTInkShape-335"/>
            <p:cNvSpPr/>
            <p:nvPr/>
          </p:nvSpPr>
          <p:spPr>
            <a:xfrm>
              <a:off x="1056960" y="5800680"/>
              <a:ext cx="199800" cy="37152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9738" h="371306">
                  <a:moveTo>
                    <a:pt x="123577" y="0"/>
                  </a:moveTo>
                  <a:lnTo>
                    <a:pt x="109388" y="0"/>
                  </a:lnTo>
                  <a:lnTo>
                    <a:pt x="103865" y="2822"/>
                  </a:lnTo>
                  <a:lnTo>
                    <a:pt x="68396" y="31470"/>
                  </a:lnTo>
                  <a:lnTo>
                    <a:pt x="44317" y="73194"/>
                  </a:lnTo>
                  <a:lnTo>
                    <a:pt x="25162" y="119341"/>
                  </a:lnTo>
                  <a:lnTo>
                    <a:pt x="9278" y="162589"/>
                  </a:lnTo>
                  <a:lnTo>
                    <a:pt x="1634" y="195100"/>
                  </a:lnTo>
                  <a:lnTo>
                    <a:pt x="0" y="238731"/>
                  </a:lnTo>
                  <a:lnTo>
                    <a:pt x="843" y="278226"/>
                  </a:lnTo>
                  <a:lnTo>
                    <a:pt x="19052" y="323781"/>
                  </a:lnTo>
                  <a:lnTo>
                    <a:pt x="31551" y="344180"/>
                  </a:lnTo>
                  <a:lnTo>
                    <a:pt x="58757" y="364958"/>
                  </a:lnTo>
                  <a:lnTo>
                    <a:pt x="68663" y="368579"/>
                  </a:lnTo>
                  <a:lnTo>
                    <a:pt x="102807" y="371305"/>
                  </a:lnTo>
                  <a:lnTo>
                    <a:pt x="127039" y="363837"/>
                  </a:lnTo>
                  <a:lnTo>
                    <a:pt x="139580" y="358203"/>
                  </a:lnTo>
                  <a:lnTo>
                    <a:pt x="149387" y="349348"/>
                  </a:lnTo>
                  <a:lnTo>
                    <a:pt x="158331" y="339416"/>
                  </a:lnTo>
                  <a:lnTo>
                    <a:pt x="174209" y="326816"/>
                  </a:lnTo>
                  <a:lnTo>
                    <a:pt x="182416" y="315996"/>
                  </a:lnTo>
                  <a:lnTo>
                    <a:pt x="194621" y="271067"/>
                  </a:lnTo>
                  <a:lnTo>
                    <a:pt x="199324" y="231880"/>
                  </a:lnTo>
                  <a:lnTo>
                    <a:pt x="199737" y="188627"/>
                  </a:lnTo>
                  <a:lnTo>
                    <a:pt x="194709" y="166426"/>
                  </a:lnTo>
                  <a:lnTo>
                    <a:pt x="174266" y="120728"/>
                  </a:lnTo>
                  <a:lnTo>
                    <a:pt x="163761" y="102681"/>
                  </a:lnTo>
                  <a:lnTo>
                    <a:pt x="144606" y="83744"/>
                  </a:lnTo>
                  <a:lnTo>
                    <a:pt x="136098" y="73203"/>
                  </a:lnTo>
                  <a:lnTo>
                    <a:pt x="89819" y="42421"/>
                  </a:lnTo>
                  <a:lnTo>
                    <a:pt x="79473" y="39380"/>
                  </a:lnTo>
                  <a:lnTo>
                    <a:pt x="66427" y="3810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SMARTInkShape-336"/>
            <p:cNvSpPr/>
            <p:nvPr/>
          </p:nvSpPr>
          <p:spPr>
            <a:xfrm>
              <a:off x="1218960" y="5800680"/>
              <a:ext cx="342720" cy="1872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42901" h="19048">
                  <a:moveTo>
                    <a:pt x="0" y="9522"/>
                  </a:moveTo>
                  <a:lnTo>
                    <a:pt x="8201" y="1321"/>
                  </a:lnTo>
                  <a:lnTo>
                    <a:pt x="14189" y="389"/>
                  </a:lnTo>
                  <a:lnTo>
                    <a:pt x="58863" y="20"/>
                  </a:lnTo>
                  <a:lnTo>
                    <a:pt x="99944" y="0"/>
                  </a:lnTo>
                  <a:lnTo>
                    <a:pt x="140823" y="1056"/>
                  </a:lnTo>
                  <a:lnTo>
                    <a:pt x="180570" y="7536"/>
                  </a:lnTo>
                  <a:lnTo>
                    <a:pt x="224051" y="9130"/>
                  </a:lnTo>
                  <a:lnTo>
                    <a:pt x="265802" y="15991"/>
                  </a:lnTo>
                  <a:lnTo>
                    <a:pt x="309150" y="18645"/>
                  </a:lnTo>
                  <a:lnTo>
                    <a:pt x="342900" y="190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SMARTInkShape-337"/>
            <p:cNvSpPr/>
            <p:nvPr/>
          </p:nvSpPr>
          <p:spPr>
            <a:xfrm>
              <a:off x="1400040" y="5848200"/>
              <a:ext cx="18720" cy="285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19051" h="285751">
                  <a:moveTo>
                    <a:pt x="19050" y="0"/>
                  </a:moveTo>
                  <a:lnTo>
                    <a:pt x="13994" y="5056"/>
                  </a:lnTo>
                  <a:lnTo>
                    <a:pt x="11511" y="10361"/>
                  </a:lnTo>
                  <a:lnTo>
                    <a:pt x="6877" y="23932"/>
                  </a:lnTo>
                  <a:lnTo>
                    <a:pt x="2038" y="36725"/>
                  </a:lnTo>
                  <a:lnTo>
                    <a:pt x="79" y="79693"/>
                  </a:lnTo>
                  <a:lnTo>
                    <a:pt x="5" y="126666"/>
                  </a:lnTo>
                  <a:lnTo>
                    <a:pt x="0" y="170863"/>
                  </a:lnTo>
                  <a:lnTo>
                    <a:pt x="0" y="213585"/>
                  </a:lnTo>
                  <a:lnTo>
                    <a:pt x="1058" y="230971"/>
                  </a:lnTo>
                  <a:lnTo>
                    <a:pt x="8201" y="250301"/>
                  </a:lnTo>
                  <a:lnTo>
                    <a:pt x="9525" y="28575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SMARTInkShape-338"/>
            <p:cNvSpPr/>
            <p:nvPr/>
          </p:nvSpPr>
          <p:spPr>
            <a:xfrm>
              <a:off x="419040" y="5719680"/>
              <a:ext cx="376200" cy="47160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71600"/>
                <a:gd name="textAreaBottom" fmla="*/ 471960 h 471600"/>
              </a:gdLst>
              <a:ahLst/>
              <a:rect l="textAreaLeft" t="textAreaTop" r="textAreaRight" b="textAreaBottom"/>
              <a:pathLst>
                <a:path w="376775" h="471965">
                  <a:moveTo>
                    <a:pt x="276150" y="5487"/>
                  </a:moveTo>
                  <a:lnTo>
                    <a:pt x="276150" y="431"/>
                  </a:lnTo>
                  <a:lnTo>
                    <a:pt x="275092" y="0"/>
                  </a:lnTo>
                  <a:lnTo>
                    <a:pt x="271093" y="2342"/>
                  </a:lnTo>
                  <a:lnTo>
                    <a:pt x="259903" y="11411"/>
                  </a:lnTo>
                  <a:lnTo>
                    <a:pt x="253760" y="13412"/>
                  </a:lnTo>
                  <a:lnTo>
                    <a:pt x="251698" y="16062"/>
                  </a:lnTo>
                  <a:lnTo>
                    <a:pt x="245567" y="32702"/>
                  </a:lnTo>
                  <a:lnTo>
                    <a:pt x="243062" y="36330"/>
                  </a:lnTo>
                  <a:lnTo>
                    <a:pt x="240333" y="36632"/>
                  </a:lnTo>
                  <a:lnTo>
                    <a:pt x="237455" y="34717"/>
                  </a:lnTo>
                  <a:lnTo>
                    <a:pt x="234479" y="31324"/>
                  </a:lnTo>
                  <a:lnTo>
                    <a:pt x="230377" y="31178"/>
                  </a:lnTo>
                  <a:lnTo>
                    <a:pt x="220176" y="36661"/>
                  </a:lnTo>
                  <a:lnTo>
                    <a:pt x="202926" y="48765"/>
                  </a:lnTo>
                  <a:lnTo>
                    <a:pt x="192101" y="51180"/>
                  </a:lnTo>
                  <a:lnTo>
                    <a:pt x="180234" y="60720"/>
                  </a:lnTo>
                  <a:lnTo>
                    <a:pt x="139775" y="106816"/>
                  </a:lnTo>
                  <a:lnTo>
                    <a:pt x="121585" y="127063"/>
                  </a:lnTo>
                  <a:lnTo>
                    <a:pt x="97922" y="146624"/>
                  </a:lnTo>
                  <a:lnTo>
                    <a:pt x="63576" y="189721"/>
                  </a:lnTo>
                  <a:lnTo>
                    <a:pt x="30681" y="234092"/>
                  </a:lnTo>
                  <a:lnTo>
                    <a:pt x="6403" y="278537"/>
                  </a:lnTo>
                  <a:lnTo>
                    <a:pt x="1204" y="310483"/>
                  </a:lnTo>
                  <a:lnTo>
                    <a:pt x="0" y="357738"/>
                  </a:lnTo>
                  <a:lnTo>
                    <a:pt x="1017" y="370534"/>
                  </a:lnTo>
                  <a:lnTo>
                    <a:pt x="9059" y="416353"/>
                  </a:lnTo>
                  <a:lnTo>
                    <a:pt x="12098" y="423749"/>
                  </a:lnTo>
                  <a:lnTo>
                    <a:pt x="14391" y="427204"/>
                  </a:lnTo>
                  <a:lnTo>
                    <a:pt x="33278" y="440352"/>
                  </a:lnTo>
                  <a:lnTo>
                    <a:pt x="76462" y="459502"/>
                  </a:lnTo>
                  <a:lnTo>
                    <a:pt x="104139" y="469388"/>
                  </a:lnTo>
                  <a:lnTo>
                    <a:pt x="150290" y="471964"/>
                  </a:lnTo>
                  <a:lnTo>
                    <a:pt x="173594" y="469316"/>
                  </a:lnTo>
                  <a:lnTo>
                    <a:pt x="218359" y="452908"/>
                  </a:lnTo>
                  <a:lnTo>
                    <a:pt x="259866" y="434090"/>
                  </a:lnTo>
                  <a:lnTo>
                    <a:pt x="280850" y="424580"/>
                  </a:lnTo>
                  <a:lnTo>
                    <a:pt x="322202" y="397997"/>
                  </a:lnTo>
                  <a:lnTo>
                    <a:pt x="343808" y="383704"/>
                  </a:lnTo>
                  <a:lnTo>
                    <a:pt x="367038" y="352467"/>
                  </a:lnTo>
                  <a:lnTo>
                    <a:pt x="370108" y="342305"/>
                  </a:lnTo>
                  <a:lnTo>
                    <a:pt x="370826" y="335806"/>
                  </a:lnTo>
                  <a:lnTo>
                    <a:pt x="373967" y="329390"/>
                  </a:lnTo>
                  <a:lnTo>
                    <a:pt x="376286" y="326198"/>
                  </a:lnTo>
                  <a:lnTo>
                    <a:pt x="376774" y="321953"/>
                  </a:lnTo>
                  <a:lnTo>
                    <a:pt x="372317" y="303970"/>
                  </a:lnTo>
                  <a:lnTo>
                    <a:pt x="366615" y="296656"/>
                  </a:lnTo>
                  <a:lnTo>
                    <a:pt x="353167" y="287786"/>
                  </a:lnTo>
                  <a:lnTo>
                    <a:pt x="316392" y="271588"/>
                  </a:lnTo>
                  <a:lnTo>
                    <a:pt x="308852" y="266629"/>
                  </a:lnTo>
                  <a:lnTo>
                    <a:pt x="298657" y="263838"/>
                  </a:lnTo>
                  <a:lnTo>
                    <a:pt x="285675" y="26266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SMARTInkShape-339"/>
            <p:cNvSpPr/>
            <p:nvPr/>
          </p:nvSpPr>
          <p:spPr>
            <a:xfrm>
              <a:off x="1523880" y="5748120"/>
              <a:ext cx="237960" cy="619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38126" h="62638">
                  <a:moveTo>
                    <a:pt x="0" y="5487"/>
                  </a:moveTo>
                  <a:lnTo>
                    <a:pt x="0" y="0"/>
                  </a:lnTo>
                  <a:lnTo>
                    <a:pt x="0" y="2342"/>
                  </a:lnTo>
                  <a:lnTo>
                    <a:pt x="2822" y="6912"/>
                  </a:lnTo>
                  <a:lnTo>
                    <a:pt x="40000" y="45462"/>
                  </a:lnTo>
                  <a:lnTo>
                    <a:pt x="52703" y="49712"/>
                  </a:lnTo>
                  <a:lnTo>
                    <a:pt x="95919" y="53722"/>
                  </a:lnTo>
                  <a:lnTo>
                    <a:pt x="142963" y="61254"/>
                  </a:lnTo>
                  <a:lnTo>
                    <a:pt x="182973" y="62455"/>
                  </a:lnTo>
                  <a:lnTo>
                    <a:pt x="238125" y="6263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SMARTInkShape-340"/>
            <p:cNvSpPr/>
            <p:nvPr/>
          </p:nvSpPr>
          <p:spPr>
            <a:xfrm>
              <a:off x="3495600" y="6019920"/>
              <a:ext cx="133200" cy="1713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32527" h="170894">
                  <a:moveTo>
                    <a:pt x="47218" y="19050"/>
                  </a:moveTo>
                  <a:lnTo>
                    <a:pt x="30350" y="36976"/>
                  </a:lnTo>
                  <a:lnTo>
                    <a:pt x="13264" y="63763"/>
                  </a:lnTo>
                  <a:lnTo>
                    <a:pt x="8423" y="91122"/>
                  </a:lnTo>
                  <a:lnTo>
                    <a:pt x="1651" y="104587"/>
                  </a:lnTo>
                  <a:lnTo>
                    <a:pt x="0" y="117438"/>
                  </a:lnTo>
                  <a:lnTo>
                    <a:pt x="2596" y="123809"/>
                  </a:lnTo>
                  <a:lnTo>
                    <a:pt x="16084" y="142873"/>
                  </a:lnTo>
                  <a:lnTo>
                    <a:pt x="18564" y="149224"/>
                  </a:lnTo>
                  <a:lnTo>
                    <a:pt x="31751" y="165100"/>
                  </a:lnTo>
                  <a:lnTo>
                    <a:pt x="40696" y="168628"/>
                  </a:lnTo>
                  <a:lnTo>
                    <a:pt x="63686" y="170893"/>
                  </a:lnTo>
                  <a:lnTo>
                    <a:pt x="73234" y="168380"/>
                  </a:lnTo>
                  <a:lnTo>
                    <a:pt x="94618" y="154953"/>
                  </a:lnTo>
                  <a:lnTo>
                    <a:pt x="112555" y="147848"/>
                  </a:lnTo>
                  <a:lnTo>
                    <a:pt x="116176" y="144073"/>
                  </a:lnTo>
                  <a:lnTo>
                    <a:pt x="120199" y="134235"/>
                  </a:lnTo>
                  <a:lnTo>
                    <a:pt x="123840" y="118277"/>
                  </a:lnTo>
                  <a:lnTo>
                    <a:pt x="129775" y="107130"/>
                  </a:lnTo>
                  <a:lnTo>
                    <a:pt x="132526" y="78849"/>
                  </a:lnTo>
                  <a:lnTo>
                    <a:pt x="129935" y="69263"/>
                  </a:lnTo>
                  <a:lnTo>
                    <a:pt x="104290" y="26409"/>
                  </a:lnTo>
                  <a:lnTo>
                    <a:pt x="101141" y="20781"/>
                  </a:lnTo>
                  <a:lnTo>
                    <a:pt x="96925" y="17028"/>
                  </a:lnTo>
                  <a:lnTo>
                    <a:pt x="66855" y="2425"/>
                  </a:lnTo>
                  <a:lnTo>
                    <a:pt x="37693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SMARTInkShape-341"/>
            <p:cNvSpPr/>
            <p:nvPr/>
          </p:nvSpPr>
          <p:spPr>
            <a:xfrm>
              <a:off x="858600" y="5790960"/>
              <a:ext cx="236520" cy="36216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236599" h="361936">
                  <a:moveTo>
                    <a:pt x="27048" y="95235"/>
                  </a:moveTo>
                  <a:lnTo>
                    <a:pt x="27048" y="100291"/>
                  </a:lnTo>
                  <a:lnTo>
                    <a:pt x="24226" y="105596"/>
                  </a:lnTo>
                  <a:lnTo>
                    <a:pt x="20502" y="111482"/>
                  </a:lnTo>
                  <a:lnTo>
                    <a:pt x="9438" y="149782"/>
                  </a:lnTo>
                  <a:lnTo>
                    <a:pt x="8124" y="192417"/>
                  </a:lnTo>
                  <a:lnTo>
                    <a:pt x="8009" y="234547"/>
                  </a:lnTo>
                  <a:lnTo>
                    <a:pt x="9059" y="260258"/>
                  </a:lnTo>
                  <a:lnTo>
                    <a:pt x="17131" y="306076"/>
                  </a:lnTo>
                  <a:lnTo>
                    <a:pt x="17520" y="347253"/>
                  </a:lnTo>
                  <a:lnTo>
                    <a:pt x="18579" y="348972"/>
                  </a:lnTo>
                  <a:lnTo>
                    <a:pt x="20344" y="350118"/>
                  </a:lnTo>
                  <a:lnTo>
                    <a:pt x="25724" y="351957"/>
                  </a:lnTo>
                  <a:lnTo>
                    <a:pt x="26165" y="351050"/>
                  </a:lnTo>
                  <a:lnTo>
                    <a:pt x="27038" y="315551"/>
                  </a:lnTo>
                  <a:lnTo>
                    <a:pt x="18846" y="274159"/>
                  </a:lnTo>
                  <a:lnTo>
                    <a:pt x="9438" y="232137"/>
                  </a:lnTo>
                  <a:lnTo>
                    <a:pt x="8124" y="185492"/>
                  </a:lnTo>
                  <a:lnTo>
                    <a:pt x="8009" y="137953"/>
                  </a:lnTo>
                  <a:lnTo>
                    <a:pt x="6942" y="111395"/>
                  </a:lnTo>
                  <a:lnTo>
                    <a:pt x="2511" y="92144"/>
                  </a:lnTo>
                  <a:lnTo>
                    <a:pt x="8435" y="60513"/>
                  </a:lnTo>
                  <a:lnTo>
                    <a:pt x="15418" y="44613"/>
                  </a:lnTo>
                  <a:lnTo>
                    <a:pt x="49285" y="6374"/>
                  </a:lnTo>
                  <a:lnTo>
                    <a:pt x="55628" y="2824"/>
                  </a:lnTo>
                  <a:lnTo>
                    <a:pt x="67972" y="826"/>
                  </a:lnTo>
                  <a:lnTo>
                    <a:pt x="114508" y="0"/>
                  </a:lnTo>
                  <a:lnTo>
                    <a:pt x="134909" y="1046"/>
                  </a:lnTo>
                  <a:lnTo>
                    <a:pt x="146731" y="7590"/>
                  </a:lnTo>
                  <a:lnTo>
                    <a:pt x="153618" y="13243"/>
                  </a:lnTo>
                  <a:lnTo>
                    <a:pt x="157385" y="19283"/>
                  </a:lnTo>
                  <a:lnTo>
                    <a:pt x="168423" y="54532"/>
                  </a:lnTo>
                  <a:lnTo>
                    <a:pt x="166434" y="64092"/>
                  </a:lnTo>
                  <a:lnTo>
                    <a:pt x="144387" y="108206"/>
                  </a:lnTo>
                  <a:lnTo>
                    <a:pt x="119118" y="153689"/>
                  </a:lnTo>
                  <a:lnTo>
                    <a:pt x="98818" y="167890"/>
                  </a:lnTo>
                  <a:lnTo>
                    <a:pt x="52591" y="196825"/>
                  </a:lnTo>
                  <a:lnTo>
                    <a:pt x="39673" y="205299"/>
                  </a:lnTo>
                  <a:lnTo>
                    <a:pt x="13200" y="210222"/>
                  </a:lnTo>
                  <a:lnTo>
                    <a:pt x="11466" y="212109"/>
                  </a:lnTo>
                  <a:lnTo>
                    <a:pt x="10310" y="214427"/>
                  </a:lnTo>
                  <a:lnTo>
                    <a:pt x="8481" y="215971"/>
                  </a:lnTo>
                  <a:lnTo>
                    <a:pt x="0" y="218653"/>
                  </a:lnTo>
                  <a:lnTo>
                    <a:pt x="6808" y="219024"/>
                  </a:lnTo>
                  <a:lnTo>
                    <a:pt x="30357" y="219059"/>
                  </a:lnTo>
                  <a:lnTo>
                    <a:pt x="36633" y="221882"/>
                  </a:lnTo>
                  <a:lnTo>
                    <a:pt x="78222" y="244570"/>
                  </a:lnTo>
                  <a:lnTo>
                    <a:pt x="120462" y="269864"/>
                  </a:lnTo>
                  <a:lnTo>
                    <a:pt x="143729" y="283620"/>
                  </a:lnTo>
                  <a:lnTo>
                    <a:pt x="162436" y="302799"/>
                  </a:lnTo>
                  <a:lnTo>
                    <a:pt x="209744" y="336501"/>
                  </a:lnTo>
                  <a:lnTo>
                    <a:pt x="223611" y="348170"/>
                  </a:lnTo>
                  <a:lnTo>
                    <a:pt x="230120" y="350526"/>
                  </a:lnTo>
                  <a:lnTo>
                    <a:pt x="232280" y="352212"/>
                  </a:lnTo>
                  <a:lnTo>
                    <a:pt x="236598" y="3619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SMARTInkShape-342"/>
            <p:cNvSpPr/>
            <p:nvPr/>
          </p:nvSpPr>
          <p:spPr>
            <a:xfrm>
              <a:off x="2286000" y="5857560"/>
              <a:ext cx="28440" cy="2858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28576" h="285751">
                  <a:moveTo>
                    <a:pt x="28575" y="0"/>
                  </a:moveTo>
                  <a:lnTo>
                    <a:pt x="27517" y="42562"/>
                  </a:lnTo>
                  <a:lnTo>
                    <a:pt x="19933" y="79488"/>
                  </a:lnTo>
                  <a:lnTo>
                    <a:pt x="18253" y="98458"/>
                  </a:lnTo>
                  <a:lnTo>
                    <a:pt x="10431" y="136528"/>
                  </a:lnTo>
                  <a:lnTo>
                    <a:pt x="8735" y="155576"/>
                  </a:lnTo>
                  <a:lnTo>
                    <a:pt x="906" y="193675"/>
                  </a:lnTo>
                  <a:lnTo>
                    <a:pt x="53" y="238125"/>
                  </a:lnTo>
                  <a:lnTo>
                    <a:pt x="0" y="28575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SMARTInkShape-343"/>
            <p:cNvSpPr/>
            <p:nvPr/>
          </p:nvSpPr>
          <p:spPr>
            <a:xfrm>
              <a:off x="1523880" y="5848200"/>
              <a:ext cx="123480" cy="30492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3705" h="304762">
                  <a:moveTo>
                    <a:pt x="95129" y="0"/>
                  </a:moveTo>
                  <a:lnTo>
                    <a:pt x="90073" y="0"/>
                  </a:lnTo>
                  <a:lnTo>
                    <a:pt x="88583" y="1058"/>
                  </a:lnTo>
                  <a:lnTo>
                    <a:pt x="87590" y="2822"/>
                  </a:lnTo>
                  <a:lnTo>
                    <a:pt x="86928" y="5056"/>
                  </a:lnTo>
                  <a:lnTo>
                    <a:pt x="85428" y="6546"/>
                  </a:lnTo>
                  <a:lnTo>
                    <a:pt x="75417" y="11759"/>
                  </a:lnTo>
                  <a:lnTo>
                    <a:pt x="69435" y="17926"/>
                  </a:lnTo>
                  <a:lnTo>
                    <a:pt x="41146" y="62402"/>
                  </a:lnTo>
                  <a:lnTo>
                    <a:pt x="22103" y="107157"/>
                  </a:lnTo>
                  <a:lnTo>
                    <a:pt x="13637" y="126765"/>
                  </a:lnTo>
                  <a:lnTo>
                    <a:pt x="6829" y="171436"/>
                  </a:lnTo>
                  <a:lnTo>
                    <a:pt x="1938" y="190496"/>
                  </a:lnTo>
                  <a:lnTo>
                    <a:pt x="0" y="234950"/>
                  </a:lnTo>
                  <a:lnTo>
                    <a:pt x="961" y="253804"/>
                  </a:lnTo>
                  <a:lnTo>
                    <a:pt x="7490" y="269699"/>
                  </a:lnTo>
                  <a:lnTo>
                    <a:pt x="22270" y="288484"/>
                  </a:lnTo>
                  <a:lnTo>
                    <a:pt x="28528" y="292257"/>
                  </a:lnTo>
                  <a:lnTo>
                    <a:pt x="34837" y="294992"/>
                  </a:lnTo>
                  <a:lnTo>
                    <a:pt x="44339" y="301423"/>
                  </a:lnTo>
                  <a:lnTo>
                    <a:pt x="54915" y="303799"/>
                  </a:lnTo>
                  <a:lnTo>
                    <a:pt x="101644" y="304761"/>
                  </a:lnTo>
                  <a:lnTo>
                    <a:pt x="111430" y="301961"/>
                  </a:lnTo>
                  <a:lnTo>
                    <a:pt x="123704" y="29527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MARTInkShape-344"/>
            <p:cNvSpPr/>
            <p:nvPr/>
          </p:nvSpPr>
          <p:spPr>
            <a:xfrm>
              <a:off x="1485720" y="5981760"/>
              <a:ext cx="209520" cy="3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09551" h="1">
                  <a:moveTo>
                    <a:pt x="0" y="0"/>
                  </a:moveTo>
                  <a:lnTo>
                    <a:pt x="43352" y="0"/>
                  </a:lnTo>
                  <a:lnTo>
                    <a:pt x="85350" y="0"/>
                  </a:lnTo>
                  <a:lnTo>
                    <a:pt x="131331" y="0"/>
                  </a:lnTo>
                  <a:lnTo>
                    <a:pt x="177525" y="0"/>
                  </a:lnTo>
                  <a:lnTo>
                    <a:pt x="20955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MARTInkShape-345"/>
            <p:cNvSpPr/>
            <p:nvPr/>
          </p:nvSpPr>
          <p:spPr>
            <a:xfrm>
              <a:off x="2009880" y="5819760"/>
              <a:ext cx="199800" cy="32400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99979" h="323408">
                  <a:moveTo>
                    <a:pt x="66675" y="0"/>
                  </a:moveTo>
                  <a:lnTo>
                    <a:pt x="66675" y="9133"/>
                  </a:lnTo>
                  <a:lnTo>
                    <a:pt x="60129" y="17052"/>
                  </a:lnTo>
                  <a:lnTo>
                    <a:pt x="58474" y="22748"/>
                  </a:lnTo>
                  <a:lnTo>
                    <a:pt x="54502" y="48530"/>
                  </a:lnTo>
                  <a:lnTo>
                    <a:pt x="49663" y="66943"/>
                  </a:lnTo>
                  <a:lnTo>
                    <a:pt x="47804" y="112337"/>
                  </a:lnTo>
                  <a:lnTo>
                    <a:pt x="47641" y="159766"/>
                  </a:lnTo>
                  <a:lnTo>
                    <a:pt x="47626" y="206249"/>
                  </a:lnTo>
                  <a:lnTo>
                    <a:pt x="46567" y="231750"/>
                  </a:lnTo>
                  <a:lnTo>
                    <a:pt x="42137" y="249759"/>
                  </a:lnTo>
                  <a:lnTo>
                    <a:pt x="47618" y="276172"/>
                  </a:lnTo>
                  <a:lnTo>
                    <a:pt x="52679" y="276209"/>
                  </a:lnTo>
                  <a:lnTo>
                    <a:pt x="54170" y="275156"/>
                  </a:lnTo>
                  <a:lnTo>
                    <a:pt x="55163" y="273396"/>
                  </a:lnTo>
                  <a:lnTo>
                    <a:pt x="57947" y="259978"/>
                  </a:lnTo>
                  <a:lnTo>
                    <a:pt x="63618" y="249656"/>
                  </a:lnTo>
                  <a:lnTo>
                    <a:pt x="66828" y="234721"/>
                  </a:lnTo>
                  <a:lnTo>
                    <a:pt x="83098" y="202184"/>
                  </a:lnTo>
                  <a:lnTo>
                    <a:pt x="85616" y="194635"/>
                  </a:lnTo>
                  <a:lnTo>
                    <a:pt x="90263" y="187751"/>
                  </a:lnTo>
                  <a:lnTo>
                    <a:pt x="94042" y="185493"/>
                  </a:lnTo>
                  <a:lnTo>
                    <a:pt x="109473" y="182313"/>
                  </a:lnTo>
                  <a:lnTo>
                    <a:pt x="126393" y="180313"/>
                  </a:lnTo>
                  <a:lnTo>
                    <a:pt x="134844" y="176095"/>
                  </a:lnTo>
                  <a:lnTo>
                    <a:pt x="138580" y="175605"/>
                  </a:lnTo>
                  <a:lnTo>
                    <a:pt x="170113" y="185760"/>
                  </a:lnTo>
                  <a:lnTo>
                    <a:pt x="173734" y="188399"/>
                  </a:lnTo>
                  <a:lnTo>
                    <a:pt x="177757" y="194152"/>
                  </a:lnTo>
                  <a:lnTo>
                    <a:pt x="195975" y="225629"/>
                  </a:lnTo>
                  <a:lnTo>
                    <a:pt x="199788" y="256536"/>
                  </a:lnTo>
                  <a:lnTo>
                    <a:pt x="199978" y="274805"/>
                  </a:lnTo>
                  <a:lnTo>
                    <a:pt x="197182" y="283707"/>
                  </a:lnTo>
                  <a:lnTo>
                    <a:pt x="183548" y="304621"/>
                  </a:lnTo>
                  <a:lnTo>
                    <a:pt x="182690" y="307856"/>
                  </a:lnTo>
                  <a:lnTo>
                    <a:pt x="180002" y="310012"/>
                  </a:lnTo>
                  <a:lnTo>
                    <a:pt x="141296" y="322358"/>
                  </a:lnTo>
                  <a:lnTo>
                    <a:pt x="125591" y="323407"/>
                  </a:lnTo>
                  <a:lnTo>
                    <a:pt x="83684" y="312074"/>
                  </a:lnTo>
                  <a:lnTo>
                    <a:pt x="41156" y="291968"/>
                  </a:lnTo>
                  <a:lnTo>
                    <a:pt x="9768" y="269517"/>
                  </a:lnTo>
                  <a:lnTo>
                    <a:pt x="0" y="26670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SMARTInkShape-346"/>
            <p:cNvSpPr/>
            <p:nvPr/>
          </p:nvSpPr>
          <p:spPr>
            <a:xfrm>
              <a:off x="3124080" y="6031080"/>
              <a:ext cx="218880" cy="18900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219075" h="189942">
                  <a:moveTo>
                    <a:pt x="19049" y="8966"/>
                  </a:moveTo>
                  <a:lnTo>
                    <a:pt x="19049" y="53862"/>
                  </a:lnTo>
                  <a:lnTo>
                    <a:pt x="19049" y="99881"/>
                  </a:lnTo>
                  <a:lnTo>
                    <a:pt x="19049" y="106875"/>
                  </a:lnTo>
                  <a:lnTo>
                    <a:pt x="16227" y="113512"/>
                  </a:lnTo>
                  <a:lnTo>
                    <a:pt x="12503" y="119989"/>
                  </a:lnTo>
                  <a:lnTo>
                    <a:pt x="9348" y="129586"/>
                  </a:lnTo>
                  <a:lnTo>
                    <a:pt x="37" y="142266"/>
                  </a:lnTo>
                  <a:lnTo>
                    <a:pt x="0" y="119924"/>
                  </a:lnTo>
                  <a:lnTo>
                    <a:pt x="5056" y="105460"/>
                  </a:lnTo>
                  <a:lnTo>
                    <a:pt x="15187" y="88156"/>
                  </a:lnTo>
                  <a:lnTo>
                    <a:pt x="23597" y="59323"/>
                  </a:lnTo>
                  <a:lnTo>
                    <a:pt x="35195" y="41883"/>
                  </a:lnTo>
                  <a:lnTo>
                    <a:pt x="69852" y="5805"/>
                  </a:lnTo>
                  <a:lnTo>
                    <a:pt x="76201" y="2270"/>
                  </a:lnTo>
                  <a:lnTo>
                    <a:pt x="83843" y="0"/>
                  </a:lnTo>
                  <a:lnTo>
                    <a:pt x="87711" y="2512"/>
                  </a:lnTo>
                  <a:lnTo>
                    <a:pt x="90223" y="4663"/>
                  </a:lnTo>
                  <a:lnTo>
                    <a:pt x="93015" y="9876"/>
                  </a:lnTo>
                  <a:lnTo>
                    <a:pt x="93760" y="12748"/>
                  </a:lnTo>
                  <a:lnTo>
                    <a:pt x="102592" y="28096"/>
                  </a:lnTo>
                  <a:lnTo>
                    <a:pt x="109974" y="50447"/>
                  </a:lnTo>
                  <a:lnTo>
                    <a:pt x="104852" y="96508"/>
                  </a:lnTo>
                  <a:lnTo>
                    <a:pt x="104774" y="123110"/>
                  </a:lnTo>
                  <a:lnTo>
                    <a:pt x="109830" y="123220"/>
                  </a:lnTo>
                  <a:lnTo>
                    <a:pt x="111320" y="122177"/>
                  </a:lnTo>
                  <a:lnTo>
                    <a:pt x="112313" y="120423"/>
                  </a:lnTo>
                  <a:lnTo>
                    <a:pt x="113907" y="115061"/>
                  </a:lnTo>
                  <a:lnTo>
                    <a:pt x="149254" y="70148"/>
                  </a:lnTo>
                  <a:lnTo>
                    <a:pt x="195791" y="22726"/>
                  </a:lnTo>
                  <a:lnTo>
                    <a:pt x="198143" y="20373"/>
                  </a:lnTo>
                  <a:lnTo>
                    <a:pt x="202010" y="19327"/>
                  </a:lnTo>
                  <a:lnTo>
                    <a:pt x="209108" y="18540"/>
                  </a:lnTo>
                  <a:lnTo>
                    <a:pt x="214475" y="23562"/>
                  </a:lnTo>
                  <a:lnTo>
                    <a:pt x="217030" y="28859"/>
                  </a:lnTo>
                  <a:lnTo>
                    <a:pt x="219021" y="65550"/>
                  </a:lnTo>
                  <a:lnTo>
                    <a:pt x="219072" y="111152"/>
                  </a:lnTo>
                  <a:lnTo>
                    <a:pt x="219074" y="158724"/>
                  </a:lnTo>
                  <a:lnTo>
                    <a:pt x="219074" y="189941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SMARTInkShape-347"/>
            <p:cNvSpPr/>
            <p:nvPr/>
          </p:nvSpPr>
          <p:spPr>
            <a:xfrm>
              <a:off x="3819600" y="5991120"/>
              <a:ext cx="179280" cy="32400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79175" h="323694">
                  <a:moveTo>
                    <a:pt x="19050" y="76068"/>
                  </a:moveTo>
                  <a:lnTo>
                    <a:pt x="19050" y="89325"/>
                  </a:lnTo>
                  <a:lnTo>
                    <a:pt x="21872" y="95366"/>
                  </a:lnTo>
                  <a:lnTo>
                    <a:pt x="24106" y="98458"/>
                  </a:lnTo>
                  <a:lnTo>
                    <a:pt x="27251" y="112923"/>
                  </a:lnTo>
                  <a:lnTo>
                    <a:pt x="19587" y="157151"/>
                  </a:lnTo>
                  <a:lnTo>
                    <a:pt x="18230" y="172430"/>
                  </a:lnTo>
                  <a:lnTo>
                    <a:pt x="9927" y="217011"/>
                  </a:lnTo>
                  <a:lnTo>
                    <a:pt x="906" y="260291"/>
                  </a:lnTo>
                  <a:lnTo>
                    <a:pt x="16" y="307243"/>
                  </a:lnTo>
                  <a:lnTo>
                    <a:pt x="0" y="323693"/>
                  </a:lnTo>
                  <a:lnTo>
                    <a:pt x="0" y="313598"/>
                  </a:lnTo>
                  <a:lnTo>
                    <a:pt x="2822" y="305814"/>
                  </a:lnTo>
                  <a:lnTo>
                    <a:pt x="6546" y="298828"/>
                  </a:lnTo>
                  <a:lnTo>
                    <a:pt x="18090" y="253509"/>
                  </a:lnTo>
                  <a:lnTo>
                    <a:pt x="17907" y="214678"/>
                  </a:lnTo>
                  <a:lnTo>
                    <a:pt x="10400" y="169023"/>
                  </a:lnTo>
                  <a:lnTo>
                    <a:pt x="8726" y="149353"/>
                  </a:lnTo>
                  <a:lnTo>
                    <a:pt x="1358" y="117378"/>
                  </a:lnTo>
                  <a:lnTo>
                    <a:pt x="8722" y="72895"/>
                  </a:lnTo>
                  <a:lnTo>
                    <a:pt x="10513" y="35852"/>
                  </a:lnTo>
                  <a:lnTo>
                    <a:pt x="17108" y="23347"/>
                  </a:lnTo>
                  <a:lnTo>
                    <a:pt x="22773" y="16300"/>
                  </a:lnTo>
                  <a:lnTo>
                    <a:pt x="28818" y="12463"/>
                  </a:lnTo>
                  <a:lnTo>
                    <a:pt x="35033" y="9699"/>
                  </a:lnTo>
                  <a:lnTo>
                    <a:pt x="44482" y="3252"/>
                  </a:lnTo>
                  <a:lnTo>
                    <a:pt x="50814" y="1372"/>
                  </a:lnTo>
                  <a:lnTo>
                    <a:pt x="78052" y="0"/>
                  </a:lnTo>
                  <a:lnTo>
                    <a:pt x="121199" y="11632"/>
                  </a:lnTo>
                  <a:lnTo>
                    <a:pt x="145467" y="31462"/>
                  </a:lnTo>
                  <a:lnTo>
                    <a:pt x="154610" y="41427"/>
                  </a:lnTo>
                  <a:lnTo>
                    <a:pt x="176923" y="82518"/>
                  </a:lnTo>
                  <a:lnTo>
                    <a:pt x="179174" y="93398"/>
                  </a:lnTo>
                  <a:lnTo>
                    <a:pt x="177353" y="102468"/>
                  </a:lnTo>
                  <a:lnTo>
                    <a:pt x="174073" y="111084"/>
                  </a:lnTo>
                  <a:lnTo>
                    <a:pt x="171169" y="126778"/>
                  </a:lnTo>
                  <a:lnTo>
                    <a:pt x="164076" y="138600"/>
                  </a:lnTo>
                  <a:lnTo>
                    <a:pt x="139660" y="164930"/>
                  </a:lnTo>
                  <a:lnTo>
                    <a:pt x="120446" y="176602"/>
                  </a:lnTo>
                  <a:lnTo>
                    <a:pt x="107772" y="179586"/>
                  </a:lnTo>
                  <a:lnTo>
                    <a:pt x="83990" y="180678"/>
                  </a:lnTo>
                  <a:lnTo>
                    <a:pt x="62530" y="175322"/>
                  </a:lnTo>
                  <a:lnTo>
                    <a:pt x="50369" y="177684"/>
                  </a:lnTo>
                  <a:lnTo>
                    <a:pt x="36679" y="184963"/>
                  </a:lnTo>
                  <a:lnTo>
                    <a:pt x="19050" y="20941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SMARTInkShape-348"/>
            <p:cNvSpPr/>
            <p:nvPr/>
          </p:nvSpPr>
          <p:spPr>
            <a:xfrm>
              <a:off x="3638520" y="6019920"/>
              <a:ext cx="142560" cy="1490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49040"/>
                <a:gd name="textAreaBottom" fmla="*/ 149040 h 149040"/>
              </a:gdLst>
              <a:ahLst/>
              <a:rect l="textAreaLeft" t="textAreaTop" r="textAreaRight" b="textAreaBottom"/>
              <a:pathLst>
                <a:path w="142812" h="148331">
                  <a:moveTo>
                    <a:pt x="76185" y="9525"/>
                  </a:moveTo>
                  <a:lnTo>
                    <a:pt x="76185" y="17726"/>
                  </a:lnTo>
                  <a:lnTo>
                    <a:pt x="75127" y="18167"/>
                  </a:lnTo>
                  <a:lnTo>
                    <a:pt x="71129" y="18658"/>
                  </a:lnTo>
                  <a:lnTo>
                    <a:pt x="65824" y="21698"/>
                  </a:lnTo>
                  <a:lnTo>
                    <a:pt x="19033" y="66681"/>
                  </a:lnTo>
                  <a:lnTo>
                    <a:pt x="4218" y="82551"/>
                  </a:lnTo>
                  <a:lnTo>
                    <a:pt x="1239" y="92075"/>
                  </a:lnTo>
                  <a:lnTo>
                    <a:pt x="0" y="118799"/>
                  </a:lnTo>
                  <a:lnTo>
                    <a:pt x="2814" y="124413"/>
                  </a:lnTo>
                  <a:lnTo>
                    <a:pt x="13244" y="136641"/>
                  </a:lnTo>
                  <a:lnTo>
                    <a:pt x="19283" y="140105"/>
                  </a:lnTo>
                  <a:lnTo>
                    <a:pt x="31784" y="142328"/>
                  </a:lnTo>
                  <a:lnTo>
                    <a:pt x="52049" y="143825"/>
                  </a:lnTo>
                  <a:lnTo>
                    <a:pt x="69151" y="148330"/>
                  </a:lnTo>
                  <a:lnTo>
                    <a:pt x="98267" y="142435"/>
                  </a:lnTo>
                  <a:lnTo>
                    <a:pt x="110127" y="135454"/>
                  </a:lnTo>
                  <a:lnTo>
                    <a:pt x="136472" y="111083"/>
                  </a:lnTo>
                  <a:lnTo>
                    <a:pt x="140021" y="104756"/>
                  </a:lnTo>
                  <a:lnTo>
                    <a:pt x="142299" y="92071"/>
                  </a:lnTo>
                  <a:lnTo>
                    <a:pt x="142811" y="67969"/>
                  </a:lnTo>
                  <a:lnTo>
                    <a:pt x="140016" y="59136"/>
                  </a:lnTo>
                  <a:lnTo>
                    <a:pt x="111061" y="16302"/>
                  </a:lnTo>
                  <a:lnTo>
                    <a:pt x="95235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SMARTInkShape-349"/>
            <p:cNvSpPr/>
            <p:nvPr/>
          </p:nvSpPr>
          <p:spPr>
            <a:xfrm>
              <a:off x="3429000" y="5886360"/>
              <a:ext cx="37800" cy="2761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8101" h="276226">
                  <a:moveTo>
                    <a:pt x="38100" y="0"/>
                  </a:moveTo>
                  <a:lnTo>
                    <a:pt x="38100" y="43675"/>
                  </a:lnTo>
                  <a:lnTo>
                    <a:pt x="38100" y="86459"/>
                  </a:lnTo>
                  <a:lnTo>
                    <a:pt x="29899" y="129682"/>
                  </a:lnTo>
                  <a:lnTo>
                    <a:pt x="25927" y="161860"/>
                  </a:lnTo>
                  <a:lnTo>
                    <a:pt x="11690" y="207314"/>
                  </a:lnTo>
                  <a:lnTo>
                    <a:pt x="7345" y="221235"/>
                  </a:lnTo>
                  <a:lnTo>
                    <a:pt x="2176" y="235943"/>
                  </a:lnTo>
                  <a:lnTo>
                    <a:pt x="0" y="27622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SMARTInkShape-350"/>
            <p:cNvSpPr/>
            <p:nvPr/>
          </p:nvSpPr>
          <p:spPr>
            <a:xfrm>
              <a:off x="2943360" y="6010200"/>
              <a:ext cx="133200" cy="1620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33178" h="161795">
                  <a:moveTo>
                    <a:pt x="104733" y="0"/>
                  </a:moveTo>
                  <a:lnTo>
                    <a:pt x="95600" y="0"/>
                  </a:lnTo>
                  <a:lnTo>
                    <a:pt x="87681" y="6546"/>
                  </a:lnTo>
                  <a:lnTo>
                    <a:pt x="78984" y="9701"/>
                  </a:lnTo>
                  <a:lnTo>
                    <a:pt x="31530" y="45534"/>
                  </a:lnTo>
                  <a:lnTo>
                    <a:pt x="16956" y="60529"/>
                  </a:lnTo>
                  <a:lnTo>
                    <a:pt x="2381" y="85551"/>
                  </a:lnTo>
                  <a:lnTo>
                    <a:pt x="100" y="107940"/>
                  </a:lnTo>
                  <a:lnTo>
                    <a:pt x="0" y="117472"/>
                  </a:lnTo>
                  <a:lnTo>
                    <a:pt x="2799" y="123823"/>
                  </a:lnTo>
                  <a:lnTo>
                    <a:pt x="22349" y="146050"/>
                  </a:lnTo>
                  <a:lnTo>
                    <a:pt x="31429" y="149578"/>
                  </a:lnTo>
                  <a:lnTo>
                    <a:pt x="41462" y="152204"/>
                  </a:lnTo>
                  <a:lnTo>
                    <a:pt x="54118" y="158574"/>
                  </a:lnTo>
                  <a:lnTo>
                    <a:pt x="96633" y="161794"/>
                  </a:lnTo>
                  <a:lnTo>
                    <a:pt x="103955" y="159045"/>
                  </a:lnTo>
                  <a:lnTo>
                    <a:pt x="117279" y="148656"/>
                  </a:lnTo>
                  <a:lnTo>
                    <a:pt x="120893" y="142622"/>
                  </a:lnTo>
                  <a:lnTo>
                    <a:pt x="123557" y="136413"/>
                  </a:lnTo>
                  <a:lnTo>
                    <a:pt x="129948" y="126967"/>
                  </a:lnTo>
                  <a:lnTo>
                    <a:pt x="132313" y="117465"/>
                  </a:lnTo>
                  <a:lnTo>
                    <a:pt x="133177" y="96542"/>
                  </a:lnTo>
                  <a:lnTo>
                    <a:pt x="130428" y="87710"/>
                  </a:lnTo>
                  <a:lnTo>
                    <a:pt x="98095" y="45214"/>
                  </a:lnTo>
                  <a:lnTo>
                    <a:pt x="57108" y="952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SMARTInkShape-351"/>
            <p:cNvSpPr/>
            <p:nvPr/>
          </p:nvSpPr>
          <p:spPr>
            <a:xfrm>
              <a:off x="2743200" y="6010200"/>
              <a:ext cx="142560" cy="16200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62000"/>
                <a:gd name="textAreaBottom" fmla="*/ 162000 h 162000"/>
              </a:gdLst>
              <a:ahLst/>
              <a:rect l="textAreaLeft" t="textAreaTop" r="textAreaRight" b="textAreaBottom"/>
              <a:pathLst>
                <a:path w="142876" h="161878">
                  <a:moveTo>
                    <a:pt x="142875" y="19014"/>
                  </a:moveTo>
                  <a:lnTo>
                    <a:pt x="142875" y="13958"/>
                  </a:lnTo>
                  <a:lnTo>
                    <a:pt x="141817" y="12468"/>
                  </a:lnTo>
                  <a:lnTo>
                    <a:pt x="140053" y="11475"/>
                  </a:lnTo>
                  <a:lnTo>
                    <a:pt x="107480" y="870"/>
                  </a:lnTo>
                  <a:lnTo>
                    <a:pt x="73440" y="0"/>
                  </a:lnTo>
                  <a:lnTo>
                    <a:pt x="66859" y="2802"/>
                  </a:lnTo>
                  <a:lnTo>
                    <a:pt x="60407" y="6517"/>
                  </a:lnTo>
                  <a:lnTo>
                    <a:pt x="54011" y="8168"/>
                  </a:lnTo>
                  <a:lnTo>
                    <a:pt x="51882" y="9667"/>
                  </a:lnTo>
                  <a:lnTo>
                    <a:pt x="50463" y="11724"/>
                  </a:lnTo>
                  <a:lnTo>
                    <a:pt x="48887" y="16832"/>
                  </a:lnTo>
                  <a:lnTo>
                    <a:pt x="47791" y="36901"/>
                  </a:lnTo>
                  <a:lnTo>
                    <a:pt x="50521" y="45661"/>
                  </a:lnTo>
                  <a:lnTo>
                    <a:pt x="64940" y="64269"/>
                  </a:lnTo>
                  <a:lnTo>
                    <a:pt x="97506" y="94611"/>
                  </a:lnTo>
                  <a:lnTo>
                    <a:pt x="116039" y="107795"/>
                  </a:lnTo>
                  <a:lnTo>
                    <a:pt x="129891" y="126078"/>
                  </a:lnTo>
                  <a:lnTo>
                    <a:pt x="138557" y="132229"/>
                  </a:lnTo>
                  <a:lnTo>
                    <a:pt x="140956" y="137417"/>
                  </a:lnTo>
                  <a:lnTo>
                    <a:pt x="142706" y="150564"/>
                  </a:lnTo>
                  <a:lnTo>
                    <a:pt x="134659" y="160407"/>
                  </a:lnTo>
                  <a:lnTo>
                    <a:pt x="131110" y="161230"/>
                  </a:lnTo>
                  <a:lnTo>
                    <a:pt x="88304" y="161877"/>
                  </a:lnTo>
                  <a:lnTo>
                    <a:pt x="69673" y="156830"/>
                  </a:lnTo>
                  <a:lnTo>
                    <a:pt x="30802" y="133241"/>
                  </a:lnTo>
                  <a:lnTo>
                    <a:pt x="23215" y="127990"/>
                  </a:lnTo>
                  <a:lnTo>
                    <a:pt x="9721" y="121796"/>
                  </a:lnTo>
                  <a:lnTo>
                    <a:pt x="0" y="11426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SMARTInkShape-352"/>
            <p:cNvSpPr/>
            <p:nvPr/>
          </p:nvSpPr>
          <p:spPr>
            <a:xfrm>
              <a:off x="2590920" y="5914800"/>
              <a:ext cx="168120" cy="22860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67365" h="228341">
                  <a:moveTo>
                    <a:pt x="114252" y="171307"/>
                  </a:moveTo>
                  <a:lnTo>
                    <a:pt x="114252" y="166251"/>
                  </a:lnTo>
                  <a:lnTo>
                    <a:pt x="113194" y="164761"/>
                  </a:lnTo>
                  <a:lnTo>
                    <a:pt x="111430" y="163768"/>
                  </a:lnTo>
                  <a:lnTo>
                    <a:pt x="105119" y="161898"/>
                  </a:lnTo>
                  <a:lnTo>
                    <a:pt x="66859" y="161783"/>
                  </a:lnTo>
                  <a:lnTo>
                    <a:pt x="58616" y="164604"/>
                  </a:lnTo>
                  <a:lnTo>
                    <a:pt x="35939" y="178029"/>
                  </a:lnTo>
                  <a:lnTo>
                    <a:pt x="29665" y="186233"/>
                  </a:lnTo>
                  <a:lnTo>
                    <a:pt x="12473" y="197599"/>
                  </a:lnTo>
                  <a:lnTo>
                    <a:pt x="4132" y="206496"/>
                  </a:lnTo>
                  <a:lnTo>
                    <a:pt x="0" y="218770"/>
                  </a:lnTo>
                  <a:lnTo>
                    <a:pt x="5023" y="223940"/>
                  </a:lnTo>
                  <a:lnTo>
                    <a:pt x="10320" y="226450"/>
                  </a:lnTo>
                  <a:lnTo>
                    <a:pt x="31751" y="228340"/>
                  </a:lnTo>
                  <a:lnTo>
                    <a:pt x="38074" y="225583"/>
                  </a:lnTo>
                  <a:lnTo>
                    <a:pt x="41242" y="223366"/>
                  </a:lnTo>
                  <a:lnTo>
                    <a:pt x="64643" y="216693"/>
                  </a:lnTo>
                  <a:lnTo>
                    <a:pt x="106544" y="178942"/>
                  </a:lnTo>
                  <a:lnTo>
                    <a:pt x="117025" y="163456"/>
                  </a:lnTo>
                  <a:lnTo>
                    <a:pt x="130986" y="120419"/>
                  </a:lnTo>
                  <a:lnTo>
                    <a:pt x="140174" y="95090"/>
                  </a:lnTo>
                  <a:lnTo>
                    <a:pt x="142672" y="50656"/>
                  </a:lnTo>
                  <a:lnTo>
                    <a:pt x="145580" y="40779"/>
                  </a:lnTo>
                  <a:lnTo>
                    <a:pt x="149342" y="31803"/>
                  </a:lnTo>
                  <a:lnTo>
                    <a:pt x="151956" y="12753"/>
                  </a:lnTo>
                  <a:lnTo>
                    <a:pt x="161758" y="0"/>
                  </a:lnTo>
                  <a:lnTo>
                    <a:pt x="162935" y="42420"/>
                  </a:lnTo>
                  <a:lnTo>
                    <a:pt x="167364" y="60564"/>
                  </a:lnTo>
                  <a:lnTo>
                    <a:pt x="162291" y="104654"/>
                  </a:lnTo>
                  <a:lnTo>
                    <a:pt x="160873" y="136385"/>
                  </a:lnTo>
                  <a:lnTo>
                    <a:pt x="152944" y="178010"/>
                  </a:lnTo>
                  <a:lnTo>
                    <a:pt x="152352" y="20940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SMARTInkShape-353"/>
            <p:cNvSpPr/>
            <p:nvPr/>
          </p:nvSpPr>
          <p:spPr>
            <a:xfrm>
              <a:off x="2443320" y="5992920"/>
              <a:ext cx="147600" cy="1699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47978" h="171045">
                  <a:moveTo>
                    <a:pt x="100363" y="85319"/>
                  </a:moveTo>
                  <a:lnTo>
                    <a:pt x="108564" y="77118"/>
                  </a:lnTo>
                  <a:lnTo>
                    <a:pt x="117231" y="74998"/>
                  </a:lnTo>
                  <a:lnTo>
                    <a:pt x="123029" y="70854"/>
                  </a:lnTo>
                  <a:lnTo>
                    <a:pt x="126312" y="65485"/>
                  </a:lnTo>
                  <a:lnTo>
                    <a:pt x="128829" y="59571"/>
                  </a:lnTo>
                  <a:lnTo>
                    <a:pt x="135138" y="50291"/>
                  </a:lnTo>
                  <a:lnTo>
                    <a:pt x="138536" y="40839"/>
                  </a:lnTo>
                  <a:lnTo>
                    <a:pt x="146534" y="30047"/>
                  </a:lnTo>
                  <a:lnTo>
                    <a:pt x="147557" y="23668"/>
                  </a:lnTo>
                  <a:lnTo>
                    <a:pt x="147977" y="9642"/>
                  </a:lnTo>
                  <a:lnTo>
                    <a:pt x="139786" y="964"/>
                  </a:lnTo>
                  <a:lnTo>
                    <a:pt x="133799" y="0"/>
                  </a:lnTo>
                  <a:lnTo>
                    <a:pt x="86644" y="660"/>
                  </a:lnTo>
                  <a:lnTo>
                    <a:pt x="55779" y="12852"/>
                  </a:lnTo>
                  <a:lnTo>
                    <a:pt x="31059" y="31393"/>
                  </a:lnTo>
                  <a:lnTo>
                    <a:pt x="11511" y="50398"/>
                  </a:lnTo>
                  <a:lnTo>
                    <a:pt x="7956" y="59568"/>
                  </a:lnTo>
                  <a:lnTo>
                    <a:pt x="5318" y="69641"/>
                  </a:lnTo>
                  <a:lnTo>
                    <a:pt x="618" y="77646"/>
                  </a:lnTo>
                  <a:lnTo>
                    <a:pt x="0" y="82320"/>
                  </a:lnTo>
                  <a:lnTo>
                    <a:pt x="4230" y="106104"/>
                  </a:lnTo>
                  <a:lnTo>
                    <a:pt x="6641" y="109759"/>
                  </a:lnTo>
                  <a:lnTo>
                    <a:pt x="45924" y="142453"/>
                  </a:lnTo>
                  <a:lnTo>
                    <a:pt x="75320" y="157284"/>
                  </a:lnTo>
                  <a:lnTo>
                    <a:pt x="93061" y="161323"/>
                  </a:lnTo>
                  <a:lnTo>
                    <a:pt x="109888" y="17104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SMARTInkShape-354"/>
            <p:cNvSpPr/>
            <p:nvPr/>
          </p:nvSpPr>
          <p:spPr>
            <a:xfrm>
              <a:off x="2343240" y="597204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3705" h="171320">
                  <a:moveTo>
                    <a:pt x="47587" y="19050"/>
                  </a:moveTo>
                  <a:lnTo>
                    <a:pt x="39386" y="19050"/>
                  </a:lnTo>
                  <a:lnTo>
                    <a:pt x="38945" y="20108"/>
                  </a:lnTo>
                  <a:lnTo>
                    <a:pt x="38454" y="24106"/>
                  </a:lnTo>
                  <a:lnTo>
                    <a:pt x="35414" y="29411"/>
                  </a:lnTo>
                  <a:lnTo>
                    <a:pt x="31593" y="35297"/>
                  </a:lnTo>
                  <a:lnTo>
                    <a:pt x="21201" y="60553"/>
                  </a:lnTo>
                  <a:lnTo>
                    <a:pt x="13428" y="73210"/>
                  </a:lnTo>
                  <a:lnTo>
                    <a:pt x="7443" y="93091"/>
                  </a:lnTo>
                  <a:lnTo>
                    <a:pt x="4949" y="96986"/>
                  </a:lnTo>
                  <a:lnTo>
                    <a:pt x="1440" y="112580"/>
                  </a:lnTo>
                  <a:lnTo>
                    <a:pt x="0" y="145923"/>
                  </a:lnTo>
                  <a:lnTo>
                    <a:pt x="2801" y="152343"/>
                  </a:lnTo>
                  <a:lnTo>
                    <a:pt x="5030" y="155538"/>
                  </a:lnTo>
                  <a:lnTo>
                    <a:pt x="10328" y="159086"/>
                  </a:lnTo>
                  <a:lnTo>
                    <a:pt x="13223" y="160032"/>
                  </a:lnTo>
                  <a:lnTo>
                    <a:pt x="15153" y="161722"/>
                  </a:lnTo>
                  <a:lnTo>
                    <a:pt x="17297" y="166421"/>
                  </a:lnTo>
                  <a:lnTo>
                    <a:pt x="18927" y="168097"/>
                  </a:lnTo>
                  <a:lnTo>
                    <a:pt x="23560" y="169959"/>
                  </a:lnTo>
                  <a:lnTo>
                    <a:pt x="46414" y="171319"/>
                  </a:lnTo>
                  <a:lnTo>
                    <a:pt x="55180" y="168570"/>
                  </a:lnTo>
                  <a:lnTo>
                    <a:pt x="62603" y="164878"/>
                  </a:lnTo>
                  <a:lnTo>
                    <a:pt x="72733" y="161742"/>
                  </a:lnTo>
                  <a:lnTo>
                    <a:pt x="88828" y="148783"/>
                  </a:lnTo>
                  <a:lnTo>
                    <a:pt x="107909" y="121935"/>
                  </a:lnTo>
                  <a:lnTo>
                    <a:pt x="111438" y="112049"/>
                  </a:lnTo>
                  <a:lnTo>
                    <a:pt x="113704" y="93512"/>
                  </a:lnTo>
                  <a:lnTo>
                    <a:pt x="106012" y="59893"/>
                  </a:lnTo>
                  <a:lnTo>
                    <a:pt x="103470" y="54745"/>
                  </a:lnTo>
                  <a:lnTo>
                    <a:pt x="63539" y="15921"/>
                  </a:lnTo>
                  <a:lnTo>
                    <a:pt x="57146" y="12367"/>
                  </a:lnTo>
                  <a:lnTo>
                    <a:pt x="50777" y="9730"/>
                  </a:lnTo>
                  <a:lnTo>
                    <a:pt x="3806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0" y="0"/>
            <a:ext cx="9067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Opdracht 2 </a:t>
            </a:r>
            <a:r>
              <a:rPr b="0" i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Vragen mak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ak de volgende vra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welke lichaamsholte en achter welk bot ligt het har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ussen welke 2 grote organen bevindt zich het har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 welk plaatvormig orgaan rust het har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is de functie van het har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eveel kleppen zitten er in het hart en waar bevinden ze zi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is de functie van de klepp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n waar zijn de kransslagaders een aftakking va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lke belangrijke "knoop" stuurt her hartritme aan en waar is deze knoop in het hart geleg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g in het kort het prikkelverloop in de hartwand u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is de normale hartfrequentie van een volwassen perso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em 3 manieren om het hartritme te me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lke 3 ingaande bloedvaten zijn er bij de rechterboez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reken hoeveel hartslagen iemand in rust heeft (dan is 1 hartslag 0.8 s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veroorzaakt de 1</a:t>
            </a:r>
            <a:r>
              <a:rPr b="0" lang="nl-NL" sz="2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harttoon, en wat de 2</a:t>
            </a:r>
            <a:r>
              <a:rPr b="0" lang="nl-NL" sz="2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hartto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StartOpdrach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52280" y="137124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Opdracht 2 Tekenen bloedsom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ken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ZÉLF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het hart, met de grote en kleine bloedsomlo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ervoor dat de volgende onderdelen aanwezig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chterboezem, linkerboezem, linkerkamer, rechterkamer, longslagader, longader, aorta, bovenste + onderste holle ader, AV-klep, aortaklep, pulmonalisklep en  poort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loedsom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te bloedsom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 lichaamscircul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ine bloedsom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 longcircul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agaders = 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arterië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voeren bloed van hart 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ders = 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v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voeren bloed naar hart t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Bloedsomloop"/>
          <p:cNvPicPr/>
          <p:nvPr/>
        </p:nvPicPr>
        <p:blipFill>
          <a:blip r:embed="rId1"/>
          <a:stretch/>
        </p:blipFill>
        <p:spPr>
          <a:xfrm>
            <a:off x="2209680" y="228600"/>
            <a:ext cx="8686800" cy="7196040"/>
          </a:xfrm>
          <a:prstGeom prst="rect">
            <a:avLst/>
          </a:prstGeom>
          <a:ln w="0">
            <a:noFill/>
          </a:ln>
        </p:spPr>
      </p:pic>
      <p:grpSp>
        <p:nvGrpSpPr>
          <p:cNvPr id="51" name="SMARTInkShape-Group98"/>
          <p:cNvGrpSpPr/>
          <p:nvPr/>
        </p:nvGrpSpPr>
        <p:grpSpPr>
          <a:xfrm>
            <a:off x="5392800" y="3220920"/>
            <a:ext cx="2093760" cy="198720"/>
            <a:chOff x="5392800" y="3220920"/>
            <a:chExt cx="2093760" cy="198720"/>
          </a:xfrm>
        </p:grpSpPr>
        <p:sp>
          <p:nvSpPr>
            <p:cNvPr id="52" name="SMARTInkShape-303"/>
            <p:cNvSpPr/>
            <p:nvPr/>
          </p:nvSpPr>
          <p:spPr>
            <a:xfrm>
              <a:off x="5392800" y="3220920"/>
              <a:ext cx="33120" cy="28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32845" h="3812">
                  <a:moveTo>
                    <a:pt x="0" y="3811"/>
                  </a:moveTo>
                  <a:lnTo>
                    <a:pt x="31122" y="288"/>
                  </a:lnTo>
                  <a:lnTo>
                    <a:pt x="-326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SMARTInkShape-304"/>
            <p:cNvSpPr/>
            <p:nvPr/>
          </p:nvSpPr>
          <p:spPr>
            <a:xfrm>
              <a:off x="7453440" y="3399120"/>
              <a:ext cx="33120" cy="205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3630" h="20138">
                  <a:moveTo>
                    <a:pt x="0" y="0"/>
                  </a:moveTo>
                  <a:lnTo>
                    <a:pt x="7932" y="8182"/>
                  </a:lnTo>
                  <a:lnTo>
                    <a:pt x="20910" y="17776"/>
                  </a:lnTo>
                  <a:lnTo>
                    <a:pt x="25506" y="19087"/>
                  </a:lnTo>
                  <a:lnTo>
                    <a:pt x="-31907" y="2013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 en ligging 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chter borstbeen(=sternum) in 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mediasti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rtpunt(=apex) wijst naar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inkerkamer+linkerboez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chterkamer+rechterboez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ezem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At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mer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Ventrik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5803920" y="3238560"/>
            <a:ext cx="76320" cy="990720"/>
          </a:xfrm>
          <a:custGeom>
            <a:avLst/>
            <a:gdLst>
              <a:gd name="textAreaLeft" fmla="*/ 0 w 76320"/>
              <a:gd name="textAreaRight" fmla="*/ 2736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5"/>
          <p:cNvSpPr/>
          <p:nvPr/>
        </p:nvSpPr>
        <p:spPr>
          <a:xfrm>
            <a:off x="6095880" y="3733920"/>
            <a:ext cx="76212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5880240" y="4025880"/>
            <a:ext cx="3429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scheiden door 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hart-tussenscho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ept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mediastinum_kleur"/>
          <p:cNvPicPr/>
          <p:nvPr/>
        </p:nvPicPr>
        <p:blipFill>
          <a:blip r:embed="rId1"/>
          <a:stretch/>
        </p:blipFill>
        <p:spPr>
          <a:xfrm>
            <a:off x="1143000" y="0"/>
            <a:ext cx="746748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loedvaten 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chterboezem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bovenste holle 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+ onderste holle 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chterkamer 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(linker+rechter) longslag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inkerboezem  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2x2 = 4 long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inkerkamer     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grote lichaamsslagader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ao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edvaten naar hart zelf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kransslag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rtklep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 boezemkamerkleppen (Av-klepp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 arteriële kle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ulmonaalkl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ortakl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nulus fibro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ndweefselr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hartkleppen"/>
          <p:cNvPicPr/>
          <p:nvPr/>
        </p:nvPicPr>
        <p:blipFill>
          <a:blip r:embed="rId1"/>
          <a:stretch/>
        </p:blipFill>
        <p:spPr>
          <a:xfrm>
            <a:off x="4648320" y="1600200"/>
            <a:ext cx="3213000" cy="5410080"/>
          </a:xfrm>
          <a:prstGeom prst="rect">
            <a:avLst/>
          </a:prstGeom>
          <a:ln w="0">
            <a:noFill/>
          </a:ln>
        </p:spPr>
      </p:pic>
      <p:sp>
        <p:nvSpPr>
          <p:cNvPr id="65" name="SMARTInkShape-314"/>
          <p:cNvSpPr/>
          <p:nvPr/>
        </p:nvSpPr>
        <p:spPr>
          <a:xfrm>
            <a:off x="3981600" y="4514760"/>
            <a:ext cx="1114200" cy="400320"/>
          </a:xfrm>
          <a:custGeom>
            <a:avLst/>
            <a:gdLst>
              <a:gd name="textAreaLeft" fmla="*/ 0 w 1114200"/>
              <a:gd name="textAreaRight" fmla="*/ 1114560 w 1114200"/>
              <a:gd name="textAreaTop" fmla="*/ 0 h 400320"/>
              <a:gd name="textAreaBottom" fmla="*/ 400680 h 400320"/>
            </a:gdLst>
            <a:ahLst/>
            <a:rect l="textAreaLeft" t="textAreaTop" r="textAreaRight" b="textAreaBottom"/>
            <a:pathLst>
              <a:path w="1114378" h="400051">
                <a:moveTo>
                  <a:pt x="9515" y="0"/>
                </a:moveTo>
                <a:lnTo>
                  <a:pt x="0" y="0"/>
                </a:lnTo>
                <a:lnTo>
                  <a:pt x="5049" y="5056"/>
                </a:lnTo>
                <a:lnTo>
                  <a:pt x="10353" y="7539"/>
                </a:lnTo>
                <a:lnTo>
                  <a:pt x="55160" y="17049"/>
                </a:lnTo>
                <a:lnTo>
                  <a:pt x="97563" y="23989"/>
                </a:lnTo>
                <a:lnTo>
                  <a:pt x="144393" y="33229"/>
                </a:lnTo>
                <a:lnTo>
                  <a:pt x="191948" y="42729"/>
                </a:lnTo>
                <a:lnTo>
                  <a:pt x="235424" y="47716"/>
                </a:lnTo>
                <a:lnTo>
                  <a:pt x="275684" y="57795"/>
                </a:lnTo>
                <a:lnTo>
                  <a:pt x="319267" y="64921"/>
                </a:lnTo>
                <a:lnTo>
                  <a:pt x="362095" y="73933"/>
                </a:lnTo>
                <a:lnTo>
                  <a:pt x="397852" y="82819"/>
                </a:lnTo>
                <a:lnTo>
                  <a:pt x="435257" y="91096"/>
                </a:lnTo>
                <a:lnTo>
                  <a:pt x="472093" y="96136"/>
                </a:lnTo>
                <a:lnTo>
                  <a:pt x="516343" y="110085"/>
                </a:lnTo>
                <a:lnTo>
                  <a:pt x="553033" y="115873"/>
                </a:lnTo>
                <a:lnTo>
                  <a:pt x="598301" y="127311"/>
                </a:lnTo>
                <a:lnTo>
                  <a:pt x="644363" y="139761"/>
                </a:lnTo>
                <a:lnTo>
                  <a:pt x="685133" y="149590"/>
                </a:lnTo>
                <a:lnTo>
                  <a:pt x="723760" y="156901"/>
                </a:lnTo>
                <a:lnTo>
                  <a:pt x="761964" y="168537"/>
                </a:lnTo>
                <a:lnTo>
                  <a:pt x="800085" y="181027"/>
                </a:lnTo>
                <a:lnTo>
                  <a:pt x="838189" y="193685"/>
                </a:lnTo>
                <a:lnTo>
                  <a:pt x="882993" y="209552"/>
                </a:lnTo>
                <a:lnTo>
                  <a:pt x="898319" y="214842"/>
                </a:lnTo>
                <a:lnTo>
                  <a:pt x="945147" y="225250"/>
                </a:lnTo>
                <a:lnTo>
                  <a:pt x="963837" y="228666"/>
                </a:lnTo>
                <a:lnTo>
                  <a:pt x="983644" y="236670"/>
                </a:lnTo>
                <a:lnTo>
                  <a:pt x="1003368" y="238896"/>
                </a:lnTo>
                <a:lnTo>
                  <a:pt x="1019165" y="247650"/>
                </a:lnTo>
                <a:lnTo>
                  <a:pt x="1041831" y="247650"/>
                </a:lnTo>
                <a:lnTo>
                  <a:pt x="1047936" y="250472"/>
                </a:lnTo>
                <a:lnTo>
                  <a:pt x="1054178" y="254196"/>
                </a:lnTo>
                <a:lnTo>
                  <a:pt x="1064920" y="256783"/>
                </a:lnTo>
                <a:lnTo>
                  <a:pt x="1095365" y="257175"/>
                </a:lnTo>
                <a:lnTo>
                  <a:pt x="1090309" y="257175"/>
                </a:lnTo>
                <a:lnTo>
                  <a:pt x="1088819" y="256117"/>
                </a:lnTo>
                <a:lnTo>
                  <a:pt x="1087826" y="254353"/>
                </a:lnTo>
                <a:lnTo>
                  <a:pt x="1086232" y="248974"/>
                </a:lnTo>
                <a:lnTo>
                  <a:pt x="1083192" y="248239"/>
                </a:lnTo>
                <a:lnTo>
                  <a:pt x="1080900" y="248042"/>
                </a:lnTo>
                <a:lnTo>
                  <a:pt x="1079371" y="246853"/>
                </a:lnTo>
                <a:lnTo>
                  <a:pt x="1077674" y="242710"/>
                </a:lnTo>
                <a:lnTo>
                  <a:pt x="1076162" y="241181"/>
                </a:lnTo>
                <a:lnTo>
                  <a:pt x="1066133" y="235907"/>
                </a:lnTo>
                <a:lnTo>
                  <a:pt x="1050828" y="223016"/>
                </a:lnTo>
                <a:lnTo>
                  <a:pt x="1038198" y="217031"/>
                </a:lnTo>
                <a:lnTo>
                  <a:pt x="1031856" y="212875"/>
                </a:lnTo>
                <a:lnTo>
                  <a:pt x="1022338" y="209477"/>
                </a:lnTo>
                <a:lnTo>
                  <a:pt x="1000115" y="193132"/>
                </a:lnTo>
                <a:lnTo>
                  <a:pt x="993765" y="190611"/>
                </a:lnTo>
                <a:lnTo>
                  <a:pt x="984240" y="184301"/>
                </a:lnTo>
                <a:lnTo>
                  <a:pt x="973421" y="181413"/>
                </a:lnTo>
                <a:lnTo>
                  <a:pt x="972794" y="180208"/>
                </a:lnTo>
                <a:lnTo>
                  <a:pt x="972097" y="176048"/>
                </a:lnTo>
                <a:lnTo>
                  <a:pt x="970853" y="174516"/>
                </a:lnTo>
                <a:lnTo>
                  <a:pt x="962422" y="171569"/>
                </a:lnTo>
                <a:lnTo>
                  <a:pt x="970252" y="163259"/>
                </a:lnTo>
                <a:lnTo>
                  <a:pt x="979628" y="162042"/>
                </a:lnTo>
                <a:lnTo>
                  <a:pt x="985696" y="161960"/>
                </a:lnTo>
                <a:lnTo>
                  <a:pt x="991237" y="164763"/>
                </a:lnTo>
                <a:lnTo>
                  <a:pt x="997228" y="168478"/>
                </a:lnTo>
                <a:lnTo>
                  <a:pt x="1009697" y="170863"/>
                </a:lnTo>
                <a:lnTo>
                  <a:pt x="1022352" y="171334"/>
                </a:lnTo>
                <a:lnTo>
                  <a:pt x="1028695" y="174220"/>
                </a:lnTo>
                <a:lnTo>
                  <a:pt x="1035042" y="177973"/>
                </a:lnTo>
                <a:lnTo>
                  <a:pt x="1044567" y="181144"/>
                </a:lnTo>
                <a:lnTo>
                  <a:pt x="1066790" y="197398"/>
                </a:lnTo>
                <a:lnTo>
                  <a:pt x="1073140" y="199916"/>
                </a:lnTo>
                <a:lnTo>
                  <a:pt x="1082665" y="206225"/>
                </a:lnTo>
                <a:lnTo>
                  <a:pt x="1089015" y="208073"/>
                </a:lnTo>
                <a:lnTo>
                  <a:pt x="1091132" y="209623"/>
                </a:lnTo>
                <a:lnTo>
                  <a:pt x="1092543" y="211716"/>
                </a:lnTo>
                <a:lnTo>
                  <a:pt x="1095169" y="216863"/>
                </a:lnTo>
                <a:lnTo>
                  <a:pt x="1101539" y="225710"/>
                </a:lnTo>
                <a:lnTo>
                  <a:pt x="1103401" y="231902"/>
                </a:lnTo>
                <a:lnTo>
                  <a:pt x="1104956" y="233976"/>
                </a:lnTo>
                <a:lnTo>
                  <a:pt x="1107050" y="235359"/>
                </a:lnTo>
                <a:lnTo>
                  <a:pt x="1109505" y="236281"/>
                </a:lnTo>
                <a:lnTo>
                  <a:pt x="1111142" y="237954"/>
                </a:lnTo>
                <a:lnTo>
                  <a:pt x="1112960" y="242635"/>
                </a:lnTo>
                <a:lnTo>
                  <a:pt x="1114377" y="264853"/>
                </a:lnTo>
                <a:lnTo>
                  <a:pt x="1097525" y="286390"/>
                </a:lnTo>
                <a:lnTo>
                  <a:pt x="1096805" y="289352"/>
                </a:lnTo>
                <a:lnTo>
                  <a:pt x="1095267" y="291326"/>
                </a:lnTo>
                <a:lnTo>
                  <a:pt x="1090735" y="293520"/>
                </a:lnTo>
                <a:lnTo>
                  <a:pt x="1089103" y="295163"/>
                </a:lnTo>
                <a:lnTo>
                  <a:pt x="1078492" y="314504"/>
                </a:lnTo>
                <a:lnTo>
                  <a:pt x="1077767" y="317619"/>
                </a:lnTo>
                <a:lnTo>
                  <a:pt x="1068242" y="331504"/>
                </a:lnTo>
                <a:lnTo>
                  <a:pt x="1053660" y="346468"/>
                </a:lnTo>
                <a:lnTo>
                  <a:pt x="1047549" y="349777"/>
                </a:lnTo>
                <a:lnTo>
                  <a:pt x="1041305" y="352307"/>
                </a:lnTo>
                <a:lnTo>
                  <a:pt x="1031840" y="358622"/>
                </a:lnTo>
                <a:lnTo>
                  <a:pt x="1022331" y="362022"/>
                </a:lnTo>
                <a:lnTo>
                  <a:pt x="1011755" y="368204"/>
                </a:lnTo>
                <a:lnTo>
                  <a:pt x="996743" y="371564"/>
                </a:lnTo>
                <a:lnTo>
                  <a:pt x="981653" y="378822"/>
                </a:lnTo>
                <a:lnTo>
                  <a:pt x="973538" y="380571"/>
                </a:lnTo>
                <a:lnTo>
                  <a:pt x="964330" y="387461"/>
                </a:lnTo>
                <a:lnTo>
                  <a:pt x="955410" y="389617"/>
                </a:lnTo>
                <a:lnTo>
                  <a:pt x="949202" y="390122"/>
                </a:lnTo>
                <a:lnTo>
                  <a:pt x="947123" y="391314"/>
                </a:lnTo>
                <a:lnTo>
                  <a:pt x="945737" y="393168"/>
                </a:lnTo>
                <a:lnTo>
                  <a:pt x="942965" y="400050"/>
                </a:lnTo>
                <a:lnTo>
                  <a:pt x="942965" y="390525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MARTInkShape-315"/>
          <p:cNvSpPr/>
          <p:nvPr/>
        </p:nvSpPr>
        <p:spPr>
          <a:xfrm>
            <a:off x="895320" y="4505400"/>
            <a:ext cx="2924280" cy="95040"/>
          </a:xfrm>
          <a:custGeom>
            <a:avLst/>
            <a:gdLst>
              <a:gd name="textAreaLeft" fmla="*/ 0 w 2924280"/>
              <a:gd name="textAreaRight" fmla="*/ 2924640 w 292428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2924175" h="95251">
                <a:moveTo>
                  <a:pt x="9524" y="0"/>
                </a:moveTo>
                <a:lnTo>
                  <a:pt x="9524" y="5056"/>
                </a:lnTo>
                <a:lnTo>
                  <a:pt x="8466" y="6546"/>
                </a:lnTo>
                <a:lnTo>
                  <a:pt x="6702" y="7539"/>
                </a:lnTo>
                <a:lnTo>
                  <a:pt x="1323" y="9133"/>
                </a:lnTo>
                <a:lnTo>
                  <a:pt x="0" y="47096"/>
                </a:lnTo>
                <a:lnTo>
                  <a:pt x="44475" y="47625"/>
                </a:lnTo>
                <a:lnTo>
                  <a:pt x="50811" y="47625"/>
                </a:lnTo>
                <a:lnTo>
                  <a:pt x="98359" y="56888"/>
                </a:lnTo>
                <a:lnTo>
                  <a:pt x="145162" y="57148"/>
                </a:lnTo>
                <a:lnTo>
                  <a:pt x="183838" y="57150"/>
                </a:lnTo>
                <a:lnTo>
                  <a:pt x="190361" y="59972"/>
                </a:lnTo>
                <a:lnTo>
                  <a:pt x="196788" y="63696"/>
                </a:lnTo>
                <a:lnTo>
                  <a:pt x="209537" y="66086"/>
                </a:lnTo>
                <a:lnTo>
                  <a:pt x="222247" y="66559"/>
                </a:lnTo>
                <a:lnTo>
                  <a:pt x="228598" y="63802"/>
                </a:lnTo>
                <a:lnTo>
                  <a:pt x="236242" y="58464"/>
                </a:lnTo>
                <a:lnTo>
                  <a:pt x="245357" y="57410"/>
                </a:lnTo>
                <a:lnTo>
                  <a:pt x="290249" y="57150"/>
                </a:lnTo>
                <a:lnTo>
                  <a:pt x="336752" y="56092"/>
                </a:lnTo>
                <a:lnTo>
                  <a:pt x="355208" y="48949"/>
                </a:lnTo>
                <a:lnTo>
                  <a:pt x="395985" y="46589"/>
                </a:lnTo>
                <a:lnTo>
                  <a:pt x="407194" y="41086"/>
                </a:lnTo>
                <a:lnTo>
                  <a:pt x="450777" y="38178"/>
                </a:lnTo>
                <a:lnTo>
                  <a:pt x="497703" y="38102"/>
                </a:lnTo>
                <a:lnTo>
                  <a:pt x="540153" y="38100"/>
                </a:lnTo>
                <a:lnTo>
                  <a:pt x="584223" y="38100"/>
                </a:lnTo>
                <a:lnTo>
                  <a:pt x="631473" y="38100"/>
                </a:lnTo>
                <a:lnTo>
                  <a:pt x="675686" y="38100"/>
                </a:lnTo>
                <a:lnTo>
                  <a:pt x="721861" y="38100"/>
                </a:lnTo>
                <a:lnTo>
                  <a:pt x="745167" y="35278"/>
                </a:lnTo>
                <a:lnTo>
                  <a:pt x="792755" y="29164"/>
                </a:lnTo>
                <a:lnTo>
                  <a:pt x="840376" y="28627"/>
                </a:lnTo>
                <a:lnTo>
                  <a:pt x="888001" y="28580"/>
                </a:lnTo>
                <a:lnTo>
                  <a:pt x="935626" y="28576"/>
                </a:lnTo>
                <a:lnTo>
                  <a:pt x="980302" y="28575"/>
                </a:lnTo>
                <a:lnTo>
                  <a:pt x="1020536" y="28575"/>
                </a:lnTo>
                <a:lnTo>
                  <a:pt x="1066978" y="28575"/>
                </a:lnTo>
                <a:lnTo>
                  <a:pt x="1095427" y="25753"/>
                </a:lnTo>
                <a:lnTo>
                  <a:pt x="1133484" y="20374"/>
                </a:lnTo>
                <a:lnTo>
                  <a:pt x="1181100" y="26763"/>
                </a:lnTo>
                <a:lnTo>
                  <a:pt x="1224256" y="28217"/>
                </a:lnTo>
                <a:lnTo>
                  <a:pt x="1271044" y="28528"/>
                </a:lnTo>
                <a:lnTo>
                  <a:pt x="1313401" y="33622"/>
                </a:lnTo>
                <a:lnTo>
                  <a:pt x="1358888" y="37216"/>
                </a:lnTo>
                <a:lnTo>
                  <a:pt x="1402367" y="40748"/>
                </a:lnTo>
                <a:lnTo>
                  <a:pt x="1446351" y="46267"/>
                </a:lnTo>
                <a:lnTo>
                  <a:pt x="1486671" y="47357"/>
                </a:lnTo>
                <a:lnTo>
                  <a:pt x="1531481" y="50394"/>
                </a:lnTo>
                <a:lnTo>
                  <a:pt x="1576277" y="55816"/>
                </a:lnTo>
                <a:lnTo>
                  <a:pt x="1619345" y="56886"/>
                </a:lnTo>
                <a:lnTo>
                  <a:pt x="1664698" y="57098"/>
                </a:lnTo>
                <a:lnTo>
                  <a:pt x="1704544" y="57140"/>
                </a:lnTo>
                <a:lnTo>
                  <a:pt x="1749535" y="57148"/>
                </a:lnTo>
                <a:lnTo>
                  <a:pt x="1790094" y="59972"/>
                </a:lnTo>
                <a:lnTo>
                  <a:pt x="1833736" y="65351"/>
                </a:lnTo>
                <a:lnTo>
                  <a:pt x="1870596" y="61226"/>
                </a:lnTo>
                <a:lnTo>
                  <a:pt x="1913373" y="63443"/>
                </a:lnTo>
                <a:lnTo>
                  <a:pt x="1952397" y="58706"/>
                </a:lnTo>
                <a:lnTo>
                  <a:pt x="1983954" y="60434"/>
                </a:lnTo>
                <a:lnTo>
                  <a:pt x="2027486" y="65442"/>
                </a:lnTo>
                <a:lnTo>
                  <a:pt x="2066660" y="66432"/>
                </a:lnTo>
                <a:lnTo>
                  <a:pt x="2107794" y="66627"/>
                </a:lnTo>
                <a:lnTo>
                  <a:pt x="2151315" y="66665"/>
                </a:lnTo>
                <a:lnTo>
                  <a:pt x="2191544" y="61185"/>
                </a:lnTo>
                <a:lnTo>
                  <a:pt x="2233514" y="65277"/>
                </a:lnTo>
                <a:lnTo>
                  <a:pt x="2272927" y="66399"/>
                </a:lnTo>
                <a:lnTo>
                  <a:pt x="2313873" y="66621"/>
                </a:lnTo>
                <a:lnTo>
                  <a:pt x="2352536" y="66664"/>
                </a:lnTo>
                <a:lnTo>
                  <a:pt x="2390747" y="66673"/>
                </a:lnTo>
                <a:lnTo>
                  <a:pt x="2428869" y="66674"/>
                </a:lnTo>
                <a:lnTo>
                  <a:pt x="2466973" y="66675"/>
                </a:lnTo>
                <a:lnTo>
                  <a:pt x="2513540" y="66675"/>
                </a:lnTo>
                <a:lnTo>
                  <a:pt x="2554023" y="66675"/>
                </a:lnTo>
                <a:lnTo>
                  <a:pt x="2592959" y="61958"/>
                </a:lnTo>
                <a:lnTo>
                  <a:pt x="2637778" y="66261"/>
                </a:lnTo>
                <a:lnTo>
                  <a:pt x="2679289" y="66639"/>
                </a:lnTo>
                <a:lnTo>
                  <a:pt x="2723556" y="66672"/>
                </a:lnTo>
                <a:lnTo>
                  <a:pt x="2768380" y="66675"/>
                </a:lnTo>
                <a:lnTo>
                  <a:pt x="2785350" y="67733"/>
                </a:lnTo>
                <a:lnTo>
                  <a:pt x="2816105" y="75317"/>
                </a:lnTo>
                <a:lnTo>
                  <a:pt x="2862674" y="76177"/>
                </a:lnTo>
                <a:lnTo>
                  <a:pt x="2869677" y="76190"/>
                </a:lnTo>
                <a:lnTo>
                  <a:pt x="2876317" y="79017"/>
                </a:lnTo>
                <a:lnTo>
                  <a:pt x="2882796" y="82744"/>
                </a:lnTo>
                <a:lnTo>
                  <a:pt x="2895579" y="85136"/>
                </a:lnTo>
                <a:lnTo>
                  <a:pt x="2908295" y="85608"/>
                </a:lnTo>
                <a:lnTo>
                  <a:pt x="2910413" y="86706"/>
                </a:lnTo>
                <a:lnTo>
                  <a:pt x="2911825" y="88495"/>
                </a:lnTo>
                <a:lnTo>
                  <a:pt x="2912766" y="90747"/>
                </a:lnTo>
                <a:lnTo>
                  <a:pt x="2914452" y="92248"/>
                </a:lnTo>
                <a:lnTo>
                  <a:pt x="2924174" y="9525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MARTInkShape-316"/>
          <p:cNvSpPr/>
          <p:nvPr/>
        </p:nvSpPr>
        <p:spPr>
          <a:xfrm>
            <a:off x="5915160" y="3409920"/>
            <a:ext cx="1428480" cy="228600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1428748" h="2285985">
                <a:moveTo>
                  <a:pt x="1428747" y="2181210"/>
                </a:moveTo>
                <a:lnTo>
                  <a:pt x="1396589" y="2181210"/>
                </a:lnTo>
                <a:lnTo>
                  <a:pt x="1390466" y="2178388"/>
                </a:lnTo>
                <a:lnTo>
                  <a:pt x="1384216" y="2174664"/>
                </a:lnTo>
                <a:lnTo>
                  <a:pt x="1373468" y="2172077"/>
                </a:lnTo>
                <a:lnTo>
                  <a:pt x="1342970" y="2145863"/>
                </a:lnTo>
                <a:lnTo>
                  <a:pt x="1336649" y="2143275"/>
                </a:lnTo>
                <a:lnTo>
                  <a:pt x="1289047" y="2098653"/>
                </a:lnTo>
                <a:lnTo>
                  <a:pt x="1246936" y="2059371"/>
                </a:lnTo>
                <a:lnTo>
                  <a:pt x="1201591" y="2025669"/>
                </a:lnTo>
                <a:lnTo>
                  <a:pt x="1159278" y="1990711"/>
                </a:lnTo>
                <a:lnTo>
                  <a:pt x="1149175" y="1983302"/>
                </a:lnTo>
                <a:lnTo>
                  <a:pt x="1126327" y="1956668"/>
                </a:lnTo>
                <a:lnTo>
                  <a:pt x="1082744" y="1926174"/>
                </a:lnTo>
                <a:lnTo>
                  <a:pt x="1064617" y="1906976"/>
                </a:lnTo>
                <a:lnTo>
                  <a:pt x="1054186" y="1898461"/>
                </a:lnTo>
                <a:lnTo>
                  <a:pt x="1036044" y="1878570"/>
                </a:lnTo>
                <a:lnTo>
                  <a:pt x="1025612" y="1869962"/>
                </a:lnTo>
                <a:lnTo>
                  <a:pt x="1007470" y="1850010"/>
                </a:lnTo>
                <a:lnTo>
                  <a:pt x="997038" y="1841394"/>
                </a:lnTo>
                <a:lnTo>
                  <a:pt x="978895" y="1821437"/>
                </a:lnTo>
                <a:lnTo>
                  <a:pt x="968463" y="1812819"/>
                </a:lnTo>
                <a:lnTo>
                  <a:pt x="940341" y="1771444"/>
                </a:lnTo>
                <a:lnTo>
                  <a:pt x="898615" y="1727374"/>
                </a:lnTo>
                <a:lnTo>
                  <a:pt x="864606" y="1682913"/>
                </a:lnTo>
                <a:lnTo>
                  <a:pt x="836021" y="1638858"/>
                </a:lnTo>
                <a:lnTo>
                  <a:pt x="798676" y="1593868"/>
                </a:lnTo>
                <a:lnTo>
                  <a:pt x="768254" y="1549387"/>
                </a:lnTo>
                <a:lnTo>
                  <a:pt x="732766" y="1504935"/>
                </a:lnTo>
                <a:lnTo>
                  <a:pt x="697134" y="1460485"/>
                </a:lnTo>
                <a:lnTo>
                  <a:pt x="663667" y="1416035"/>
                </a:lnTo>
                <a:lnTo>
                  <a:pt x="630825" y="1368763"/>
                </a:lnTo>
                <a:lnTo>
                  <a:pt x="616945" y="1344996"/>
                </a:lnTo>
                <a:lnTo>
                  <a:pt x="598348" y="1318003"/>
                </a:lnTo>
                <a:lnTo>
                  <a:pt x="577975" y="1271343"/>
                </a:lnTo>
                <a:lnTo>
                  <a:pt x="550608" y="1223803"/>
                </a:lnTo>
                <a:lnTo>
                  <a:pt x="526033" y="1180439"/>
                </a:lnTo>
                <a:lnTo>
                  <a:pt x="512165" y="1155141"/>
                </a:lnTo>
                <a:lnTo>
                  <a:pt x="497472" y="1131417"/>
                </a:lnTo>
                <a:lnTo>
                  <a:pt x="478650" y="1086624"/>
                </a:lnTo>
                <a:lnTo>
                  <a:pt x="455384" y="1046375"/>
                </a:lnTo>
                <a:lnTo>
                  <a:pt x="438326" y="1007470"/>
                </a:lnTo>
                <a:lnTo>
                  <a:pt x="419113" y="962656"/>
                </a:lnTo>
                <a:lnTo>
                  <a:pt x="392509" y="916428"/>
                </a:lnTo>
                <a:lnTo>
                  <a:pt x="368413" y="870054"/>
                </a:lnTo>
                <a:lnTo>
                  <a:pt x="349257" y="823644"/>
                </a:lnTo>
                <a:lnTo>
                  <a:pt x="327023" y="776880"/>
                </a:lnTo>
                <a:lnTo>
                  <a:pt x="307972" y="731124"/>
                </a:lnTo>
                <a:lnTo>
                  <a:pt x="283434" y="685667"/>
                </a:lnTo>
                <a:lnTo>
                  <a:pt x="269251" y="643720"/>
                </a:lnTo>
                <a:lnTo>
                  <a:pt x="249709" y="596733"/>
                </a:lnTo>
                <a:lnTo>
                  <a:pt x="233394" y="564125"/>
                </a:lnTo>
                <a:lnTo>
                  <a:pt x="218657" y="516511"/>
                </a:lnTo>
                <a:lnTo>
                  <a:pt x="199986" y="468887"/>
                </a:lnTo>
                <a:lnTo>
                  <a:pt x="180969" y="425979"/>
                </a:lnTo>
                <a:lnTo>
                  <a:pt x="161921" y="378768"/>
                </a:lnTo>
                <a:lnTo>
                  <a:pt x="142872" y="331180"/>
                </a:lnTo>
                <a:lnTo>
                  <a:pt x="131361" y="286380"/>
                </a:lnTo>
                <a:lnTo>
                  <a:pt x="114123" y="240153"/>
                </a:lnTo>
                <a:lnTo>
                  <a:pt x="92062" y="193779"/>
                </a:lnTo>
                <a:lnTo>
                  <a:pt x="78489" y="149217"/>
                </a:lnTo>
                <a:lnTo>
                  <a:pt x="57095" y="104760"/>
                </a:lnTo>
                <a:lnTo>
                  <a:pt x="51832" y="92060"/>
                </a:lnTo>
                <a:lnTo>
                  <a:pt x="43120" y="60310"/>
                </a:lnTo>
                <a:lnTo>
                  <a:pt x="31220" y="38921"/>
                </a:lnTo>
                <a:lnTo>
                  <a:pt x="28690" y="32107"/>
                </a:lnTo>
                <a:lnTo>
                  <a:pt x="22375" y="22320"/>
                </a:lnTo>
                <a:lnTo>
                  <a:pt x="18975" y="12718"/>
                </a:lnTo>
                <a:lnTo>
                  <a:pt x="10976" y="1871"/>
                </a:lnTo>
                <a:lnTo>
                  <a:pt x="7346" y="823"/>
                </a:lnTo>
                <a:lnTo>
                  <a:pt x="124" y="0"/>
                </a:lnTo>
                <a:lnTo>
                  <a:pt x="0" y="22375"/>
                </a:lnTo>
                <a:lnTo>
                  <a:pt x="8934" y="66914"/>
                </a:lnTo>
                <a:lnTo>
                  <a:pt x="12170" y="88607"/>
                </a:lnTo>
                <a:lnTo>
                  <a:pt x="19200" y="132658"/>
                </a:lnTo>
                <a:lnTo>
                  <a:pt x="32185" y="172809"/>
                </a:lnTo>
                <a:lnTo>
                  <a:pt x="44534" y="216352"/>
                </a:lnTo>
                <a:lnTo>
                  <a:pt x="57164" y="259447"/>
                </a:lnTo>
                <a:lnTo>
                  <a:pt x="69850" y="303355"/>
                </a:lnTo>
                <a:lnTo>
                  <a:pt x="82549" y="350207"/>
                </a:lnTo>
                <a:lnTo>
                  <a:pt x="93131" y="387623"/>
                </a:lnTo>
                <a:lnTo>
                  <a:pt x="108143" y="425520"/>
                </a:lnTo>
                <a:lnTo>
                  <a:pt x="119764" y="464619"/>
                </a:lnTo>
                <a:lnTo>
                  <a:pt x="130969" y="508188"/>
                </a:lnTo>
                <a:lnTo>
                  <a:pt x="147224" y="549438"/>
                </a:lnTo>
                <a:lnTo>
                  <a:pt x="165446" y="593645"/>
                </a:lnTo>
                <a:lnTo>
                  <a:pt x="184250" y="635083"/>
                </a:lnTo>
                <a:lnTo>
                  <a:pt x="203228" y="679347"/>
                </a:lnTo>
                <a:lnTo>
                  <a:pt x="222256" y="720801"/>
                </a:lnTo>
                <a:lnTo>
                  <a:pt x="242358" y="766128"/>
                </a:lnTo>
                <a:lnTo>
                  <a:pt x="266894" y="812013"/>
                </a:lnTo>
                <a:lnTo>
                  <a:pt x="288040" y="853949"/>
                </a:lnTo>
                <a:lnTo>
                  <a:pt x="307712" y="898360"/>
                </a:lnTo>
                <a:lnTo>
                  <a:pt x="328003" y="939858"/>
                </a:lnTo>
                <a:lnTo>
                  <a:pt x="352595" y="984139"/>
                </a:lnTo>
                <a:lnTo>
                  <a:pt x="374816" y="1025599"/>
                </a:lnTo>
                <a:lnTo>
                  <a:pt x="401038" y="1070927"/>
                </a:lnTo>
                <a:lnTo>
                  <a:pt x="428916" y="1117872"/>
                </a:lnTo>
                <a:lnTo>
                  <a:pt x="457284" y="1165295"/>
                </a:lnTo>
                <a:lnTo>
                  <a:pt x="484740" y="1211802"/>
                </a:lnTo>
                <a:lnTo>
                  <a:pt x="508867" y="1253922"/>
                </a:lnTo>
                <a:lnTo>
                  <a:pt x="540828" y="1298386"/>
                </a:lnTo>
                <a:lnTo>
                  <a:pt x="570877" y="1339901"/>
                </a:lnTo>
                <a:lnTo>
                  <a:pt x="600946" y="1384187"/>
                </a:lnTo>
                <a:lnTo>
                  <a:pt x="635138" y="1425648"/>
                </a:lnTo>
                <a:lnTo>
                  <a:pt x="666907" y="1470977"/>
                </a:lnTo>
                <a:lnTo>
                  <a:pt x="702660" y="1517921"/>
                </a:lnTo>
                <a:lnTo>
                  <a:pt x="739006" y="1564286"/>
                </a:lnTo>
                <a:lnTo>
                  <a:pt x="771413" y="1606364"/>
                </a:lnTo>
                <a:lnTo>
                  <a:pt x="806297" y="1650818"/>
                </a:lnTo>
                <a:lnTo>
                  <a:pt x="838270" y="1692327"/>
                </a:lnTo>
                <a:lnTo>
                  <a:pt x="874085" y="1736612"/>
                </a:lnTo>
                <a:lnTo>
                  <a:pt x="910449" y="1777015"/>
                </a:lnTo>
                <a:lnTo>
                  <a:pt x="942860" y="1814739"/>
                </a:lnTo>
                <a:lnTo>
                  <a:pt x="988380" y="1859289"/>
                </a:lnTo>
                <a:lnTo>
                  <a:pt x="1028259" y="1903484"/>
                </a:lnTo>
                <a:lnTo>
                  <a:pt x="1072198" y="1949335"/>
                </a:lnTo>
                <a:lnTo>
                  <a:pt x="1106277" y="1990063"/>
                </a:lnTo>
                <a:lnTo>
                  <a:pt x="1143270" y="2028682"/>
                </a:lnTo>
                <a:lnTo>
                  <a:pt x="1181150" y="2066885"/>
                </a:lnTo>
                <a:lnTo>
                  <a:pt x="1228729" y="2109476"/>
                </a:lnTo>
                <a:lnTo>
                  <a:pt x="1273525" y="2142862"/>
                </a:lnTo>
                <a:lnTo>
                  <a:pt x="1311377" y="2181188"/>
                </a:lnTo>
                <a:lnTo>
                  <a:pt x="1321550" y="2193901"/>
                </a:lnTo>
                <a:lnTo>
                  <a:pt x="1357012" y="2225463"/>
                </a:lnTo>
                <a:lnTo>
                  <a:pt x="1368921" y="2241359"/>
                </a:lnTo>
                <a:lnTo>
                  <a:pt x="1402933" y="2269979"/>
                </a:lnTo>
                <a:lnTo>
                  <a:pt x="1406690" y="2276402"/>
                </a:lnTo>
                <a:lnTo>
                  <a:pt x="1407692" y="2279596"/>
                </a:lnTo>
                <a:lnTo>
                  <a:pt x="1409419" y="2281726"/>
                </a:lnTo>
                <a:lnTo>
                  <a:pt x="1419090" y="2285935"/>
                </a:lnTo>
                <a:lnTo>
                  <a:pt x="1405030" y="2285984"/>
                </a:lnTo>
                <a:lnTo>
                  <a:pt x="1399508" y="2283162"/>
                </a:lnTo>
                <a:lnTo>
                  <a:pt x="1387341" y="2272727"/>
                </a:lnTo>
                <a:lnTo>
                  <a:pt x="1356577" y="2234780"/>
                </a:lnTo>
                <a:lnTo>
                  <a:pt x="1312044" y="2197050"/>
                </a:lnTo>
                <a:lnTo>
                  <a:pt x="1265635" y="2157924"/>
                </a:lnTo>
                <a:lnTo>
                  <a:pt x="1224097" y="2113978"/>
                </a:lnTo>
                <a:lnTo>
                  <a:pt x="1177666" y="2066837"/>
                </a:lnTo>
                <a:lnTo>
                  <a:pt x="1134676" y="2028795"/>
                </a:lnTo>
                <a:lnTo>
                  <a:pt x="1094551" y="1984161"/>
                </a:lnTo>
                <a:lnTo>
                  <a:pt x="1049780" y="1940849"/>
                </a:lnTo>
                <a:lnTo>
                  <a:pt x="1019774" y="1904323"/>
                </a:lnTo>
                <a:lnTo>
                  <a:pt x="976134" y="1859111"/>
                </a:lnTo>
                <a:lnTo>
                  <a:pt x="934353" y="1812001"/>
                </a:lnTo>
                <a:lnTo>
                  <a:pt x="904082" y="1773483"/>
                </a:lnTo>
                <a:lnTo>
                  <a:pt x="868773" y="1730084"/>
                </a:lnTo>
                <a:lnTo>
                  <a:pt x="832557" y="1689944"/>
                </a:lnTo>
                <a:lnTo>
                  <a:pt x="800190" y="1651239"/>
                </a:lnTo>
                <a:lnTo>
                  <a:pt x="764259" y="1612960"/>
                </a:lnTo>
                <a:lnTo>
                  <a:pt x="727860" y="1573749"/>
                </a:lnTo>
                <a:lnTo>
                  <a:pt x="696496" y="1529087"/>
                </a:lnTo>
                <a:lnTo>
                  <a:pt x="666037" y="1483398"/>
                </a:lnTo>
                <a:lnTo>
                  <a:pt x="631729" y="1441521"/>
                </a:lnTo>
                <a:lnTo>
                  <a:pt x="600985" y="1396070"/>
                </a:lnTo>
                <a:lnTo>
                  <a:pt x="570709" y="1349089"/>
                </a:lnTo>
                <a:lnTo>
                  <a:pt x="536456" y="1301655"/>
                </a:lnTo>
                <a:lnTo>
                  <a:pt x="505728" y="1254086"/>
                </a:lnTo>
                <a:lnTo>
                  <a:pt x="486175" y="1222349"/>
                </a:lnTo>
                <a:lnTo>
                  <a:pt x="466901" y="1187783"/>
                </a:lnTo>
                <a:lnTo>
                  <a:pt x="447752" y="1153370"/>
                </a:lnTo>
                <a:lnTo>
                  <a:pt x="419121" y="1109138"/>
                </a:lnTo>
                <a:lnTo>
                  <a:pt x="391588" y="1062989"/>
                </a:lnTo>
                <a:lnTo>
                  <a:pt x="368495" y="1016859"/>
                </a:lnTo>
                <a:lnTo>
                  <a:pt x="343073" y="974851"/>
                </a:lnTo>
                <a:lnTo>
                  <a:pt x="320607" y="930420"/>
                </a:lnTo>
                <a:lnTo>
                  <a:pt x="295370" y="888915"/>
                </a:lnTo>
                <a:lnTo>
                  <a:pt x="272959" y="844632"/>
                </a:lnTo>
                <a:lnTo>
                  <a:pt x="248797" y="804230"/>
                </a:lnTo>
                <a:lnTo>
                  <a:pt x="231877" y="766506"/>
                </a:lnTo>
                <a:lnTo>
                  <a:pt x="201610" y="721956"/>
                </a:lnTo>
                <a:lnTo>
                  <a:pt x="179992" y="677760"/>
                </a:lnTo>
                <a:lnTo>
                  <a:pt x="157926" y="631910"/>
                </a:lnTo>
                <a:lnTo>
                  <a:pt x="131946" y="586498"/>
                </a:lnTo>
                <a:lnTo>
                  <a:pt x="123822" y="5619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MARTInkShape-317"/>
          <p:cNvSpPr/>
          <p:nvPr/>
        </p:nvSpPr>
        <p:spPr>
          <a:xfrm>
            <a:off x="6022800" y="2228760"/>
            <a:ext cx="225720" cy="228600"/>
          </a:xfrm>
          <a:custGeom>
            <a:avLst/>
            <a:gdLst>
              <a:gd name="textAreaLeft" fmla="*/ 0 w 225720"/>
              <a:gd name="textAreaRight" fmla="*/ 226080 w 225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25050" h="228386">
                <a:moveTo>
                  <a:pt x="0" y="0"/>
                </a:moveTo>
                <a:lnTo>
                  <a:pt x="5958" y="2623"/>
                </a:lnTo>
                <a:lnTo>
                  <a:pt x="12317" y="6338"/>
                </a:lnTo>
                <a:lnTo>
                  <a:pt x="22906" y="8429"/>
                </a:lnTo>
                <a:lnTo>
                  <a:pt x="37920" y="10107"/>
                </a:lnTo>
                <a:lnTo>
                  <a:pt x="56381" y="17477"/>
                </a:lnTo>
                <a:lnTo>
                  <a:pt x="75419" y="21478"/>
                </a:lnTo>
                <a:lnTo>
                  <a:pt x="89698" y="26321"/>
                </a:lnTo>
                <a:lnTo>
                  <a:pt x="103453" y="30578"/>
                </a:lnTo>
                <a:lnTo>
                  <a:pt x="112798" y="35696"/>
                </a:lnTo>
                <a:lnTo>
                  <a:pt x="119117" y="43469"/>
                </a:lnTo>
                <a:lnTo>
                  <a:pt x="133240" y="51948"/>
                </a:lnTo>
                <a:lnTo>
                  <a:pt x="180600" y="98213"/>
                </a:lnTo>
                <a:lnTo>
                  <a:pt x="184127" y="104561"/>
                </a:lnTo>
                <a:lnTo>
                  <a:pt x="186753" y="110911"/>
                </a:lnTo>
                <a:lnTo>
                  <a:pt x="193123" y="120435"/>
                </a:lnTo>
                <a:lnTo>
                  <a:pt x="196540" y="129960"/>
                </a:lnTo>
                <a:lnTo>
                  <a:pt x="202726" y="139485"/>
                </a:lnTo>
                <a:lnTo>
                  <a:pt x="206087" y="149010"/>
                </a:lnTo>
                <a:lnTo>
                  <a:pt x="212258" y="158535"/>
                </a:lnTo>
                <a:lnTo>
                  <a:pt x="214556" y="168060"/>
                </a:lnTo>
                <a:lnTo>
                  <a:pt x="215397" y="183935"/>
                </a:lnTo>
                <a:lnTo>
                  <a:pt x="218290" y="190285"/>
                </a:lnTo>
                <a:lnTo>
                  <a:pt x="223713" y="197928"/>
                </a:lnTo>
                <a:lnTo>
                  <a:pt x="224932" y="207846"/>
                </a:lnTo>
                <a:lnTo>
                  <a:pt x="225049" y="228385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MARTInkShape-318"/>
          <p:cNvSpPr/>
          <p:nvPr/>
        </p:nvSpPr>
        <p:spPr>
          <a:xfrm>
            <a:off x="7086600" y="3362400"/>
            <a:ext cx="57240" cy="181080"/>
          </a:xfrm>
          <a:custGeom>
            <a:avLst/>
            <a:gdLst>
              <a:gd name="textAreaLeft" fmla="*/ 0 w 57240"/>
              <a:gd name="textAreaRight" fmla="*/ 57600 w 57240"/>
              <a:gd name="textAreaTop" fmla="*/ 0 h 181080"/>
              <a:gd name="textAreaBottom" fmla="*/ 181080 h 181080"/>
            </a:gdLst>
            <a:ahLst/>
            <a:rect l="textAreaLeft" t="textAreaTop" r="textAreaRight" b="textAreaBottom"/>
            <a:pathLst>
              <a:path w="57151" h="180408">
                <a:moveTo>
                  <a:pt x="0" y="560"/>
                </a:moveTo>
                <a:lnTo>
                  <a:pt x="3570" y="0"/>
                </a:lnTo>
                <a:lnTo>
                  <a:pt x="5555" y="869"/>
                </a:lnTo>
                <a:lnTo>
                  <a:pt x="6879" y="2507"/>
                </a:lnTo>
                <a:lnTo>
                  <a:pt x="8349" y="7149"/>
                </a:lnTo>
                <a:lnTo>
                  <a:pt x="12278" y="30909"/>
                </a:lnTo>
                <a:lnTo>
                  <a:pt x="16040" y="41997"/>
                </a:lnTo>
                <a:lnTo>
                  <a:pt x="18874" y="85233"/>
                </a:lnTo>
                <a:lnTo>
                  <a:pt x="19045" y="131948"/>
                </a:lnTo>
                <a:lnTo>
                  <a:pt x="19048" y="145317"/>
                </a:lnTo>
                <a:lnTo>
                  <a:pt x="21872" y="151759"/>
                </a:lnTo>
                <a:lnTo>
                  <a:pt x="25595" y="158149"/>
                </a:lnTo>
                <a:lnTo>
                  <a:pt x="27251" y="164518"/>
                </a:lnTo>
                <a:lnTo>
                  <a:pt x="28750" y="166639"/>
                </a:lnTo>
                <a:lnTo>
                  <a:pt x="30809" y="168053"/>
                </a:lnTo>
                <a:lnTo>
                  <a:pt x="35917" y="170683"/>
                </a:lnTo>
                <a:lnTo>
                  <a:pt x="45874" y="178918"/>
                </a:lnTo>
                <a:lnTo>
                  <a:pt x="57150" y="18040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MARTInkShape-319"/>
          <p:cNvSpPr/>
          <p:nvPr/>
        </p:nvSpPr>
        <p:spPr>
          <a:xfrm>
            <a:off x="6788160" y="5091120"/>
            <a:ext cx="57240" cy="60480"/>
          </a:xfrm>
          <a:custGeom>
            <a:avLst/>
            <a:gdLst>
              <a:gd name="textAreaLeft" fmla="*/ 0 w 57240"/>
              <a:gd name="textAreaRight" fmla="*/ 57600 w 5724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56737" h="60132">
                <a:moveTo>
                  <a:pt x="0" y="0"/>
                </a:moveTo>
                <a:lnTo>
                  <a:pt x="19006" y="20157"/>
                </a:lnTo>
                <a:lnTo>
                  <a:pt x="-9495" y="-7279"/>
                </a:lnTo>
                <a:lnTo>
                  <a:pt x="-8800" y="-540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MARTInkShape-320"/>
          <p:cNvSpPr/>
          <p:nvPr/>
        </p:nvSpPr>
        <p:spPr>
          <a:xfrm>
            <a:off x="5229360" y="5892840"/>
            <a:ext cx="28440" cy="108000"/>
          </a:xfrm>
          <a:custGeom>
            <a:avLst/>
            <a:gdLst>
              <a:gd name="textAreaLeft" fmla="*/ 0 w 28440"/>
              <a:gd name="textAreaRight" fmla="*/ 28800 w 284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8256" h="107301">
                <a:moveTo>
                  <a:pt x="28255" y="107300"/>
                </a:moveTo>
                <a:lnTo>
                  <a:pt x="28255" y="102244"/>
                </a:lnTo>
                <a:lnTo>
                  <a:pt x="27197" y="100754"/>
                </a:lnTo>
                <a:lnTo>
                  <a:pt x="25433" y="99761"/>
                </a:lnTo>
                <a:lnTo>
                  <a:pt x="19122" y="97890"/>
                </a:lnTo>
                <a:lnTo>
                  <a:pt x="10564" y="89584"/>
                </a:lnTo>
                <a:lnTo>
                  <a:pt x="9607" y="83589"/>
                </a:lnTo>
                <a:lnTo>
                  <a:pt x="9207" y="37798"/>
                </a:lnTo>
                <a:lnTo>
                  <a:pt x="8148" y="27727"/>
                </a:lnTo>
                <a:lnTo>
                  <a:pt x="1004" y="926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MARTInkShape-321"/>
          <p:cNvSpPr/>
          <p:nvPr/>
        </p:nvSpPr>
        <p:spPr>
          <a:xfrm>
            <a:off x="5029200" y="1857240"/>
            <a:ext cx="76320" cy="727200"/>
          </a:xfrm>
          <a:custGeom>
            <a:avLst/>
            <a:gdLst>
              <a:gd name="textAreaLeft" fmla="*/ 0 w 76320"/>
              <a:gd name="textAreaRight" fmla="*/ 76680 w 76320"/>
              <a:gd name="textAreaTop" fmla="*/ 0 h 727200"/>
              <a:gd name="textAreaBottom" fmla="*/ 727560 h 727200"/>
            </a:gdLst>
            <a:ahLst/>
            <a:rect l="textAreaLeft" t="textAreaTop" r="textAreaRight" b="textAreaBottom"/>
            <a:pathLst>
              <a:path w="75661" h="727738">
                <a:moveTo>
                  <a:pt x="28035" y="0"/>
                </a:moveTo>
                <a:lnTo>
                  <a:pt x="18625" y="0"/>
                </a:lnTo>
                <a:lnTo>
                  <a:pt x="18544" y="5056"/>
                </a:lnTo>
                <a:lnTo>
                  <a:pt x="19591" y="6546"/>
                </a:lnTo>
                <a:lnTo>
                  <a:pt x="21348" y="7539"/>
                </a:lnTo>
                <a:lnTo>
                  <a:pt x="27644" y="9409"/>
                </a:lnTo>
                <a:lnTo>
                  <a:pt x="36201" y="9515"/>
                </a:lnTo>
                <a:lnTo>
                  <a:pt x="36654" y="10576"/>
                </a:lnTo>
                <a:lnTo>
                  <a:pt x="37158" y="14579"/>
                </a:lnTo>
                <a:lnTo>
                  <a:pt x="38350" y="16069"/>
                </a:lnTo>
                <a:lnTo>
                  <a:pt x="42497" y="17725"/>
                </a:lnTo>
                <a:lnTo>
                  <a:pt x="44026" y="19225"/>
                </a:lnTo>
                <a:lnTo>
                  <a:pt x="46682" y="27135"/>
                </a:lnTo>
                <a:lnTo>
                  <a:pt x="46966" y="33205"/>
                </a:lnTo>
                <a:lnTo>
                  <a:pt x="48064" y="34836"/>
                </a:lnTo>
                <a:lnTo>
                  <a:pt x="49855" y="35924"/>
                </a:lnTo>
                <a:lnTo>
                  <a:pt x="52106" y="36650"/>
                </a:lnTo>
                <a:lnTo>
                  <a:pt x="53607" y="38191"/>
                </a:lnTo>
                <a:lnTo>
                  <a:pt x="56215" y="46174"/>
                </a:lnTo>
                <a:lnTo>
                  <a:pt x="56575" y="55699"/>
                </a:lnTo>
                <a:lnTo>
                  <a:pt x="63149" y="64468"/>
                </a:lnTo>
                <a:lnTo>
                  <a:pt x="65742" y="74446"/>
                </a:lnTo>
                <a:lnTo>
                  <a:pt x="66135" y="121558"/>
                </a:lnTo>
                <a:lnTo>
                  <a:pt x="66135" y="127403"/>
                </a:lnTo>
                <a:lnTo>
                  <a:pt x="67193" y="129386"/>
                </a:lnTo>
                <a:lnTo>
                  <a:pt x="68957" y="130707"/>
                </a:lnTo>
                <a:lnTo>
                  <a:pt x="71191" y="131588"/>
                </a:lnTo>
                <a:lnTo>
                  <a:pt x="72681" y="133234"/>
                </a:lnTo>
                <a:lnTo>
                  <a:pt x="74336" y="137884"/>
                </a:lnTo>
                <a:lnTo>
                  <a:pt x="75660" y="184580"/>
                </a:lnTo>
                <a:lnTo>
                  <a:pt x="75660" y="230639"/>
                </a:lnTo>
                <a:lnTo>
                  <a:pt x="75660" y="274218"/>
                </a:lnTo>
                <a:lnTo>
                  <a:pt x="75660" y="297140"/>
                </a:lnTo>
                <a:lnTo>
                  <a:pt x="72838" y="304218"/>
                </a:lnTo>
                <a:lnTo>
                  <a:pt x="69114" y="310891"/>
                </a:lnTo>
                <a:lnTo>
                  <a:pt x="66723" y="323799"/>
                </a:lnTo>
                <a:lnTo>
                  <a:pt x="66137" y="368300"/>
                </a:lnTo>
                <a:lnTo>
                  <a:pt x="66135" y="385499"/>
                </a:lnTo>
                <a:lnTo>
                  <a:pt x="63313" y="391113"/>
                </a:lnTo>
                <a:lnTo>
                  <a:pt x="59589" y="397137"/>
                </a:lnTo>
                <a:lnTo>
                  <a:pt x="57198" y="409627"/>
                </a:lnTo>
                <a:lnTo>
                  <a:pt x="56725" y="417229"/>
                </a:lnTo>
                <a:lnTo>
                  <a:pt x="50087" y="426335"/>
                </a:lnTo>
                <a:lnTo>
                  <a:pt x="47974" y="435237"/>
                </a:lnTo>
                <a:lnTo>
                  <a:pt x="47086" y="480749"/>
                </a:lnTo>
                <a:lnTo>
                  <a:pt x="44263" y="486364"/>
                </a:lnTo>
                <a:lnTo>
                  <a:pt x="40540" y="492387"/>
                </a:lnTo>
                <a:lnTo>
                  <a:pt x="38148" y="504877"/>
                </a:lnTo>
                <a:lnTo>
                  <a:pt x="37675" y="517535"/>
                </a:lnTo>
                <a:lnTo>
                  <a:pt x="34790" y="523879"/>
                </a:lnTo>
                <a:lnTo>
                  <a:pt x="31037" y="530227"/>
                </a:lnTo>
                <a:lnTo>
                  <a:pt x="28628" y="542925"/>
                </a:lnTo>
                <a:lnTo>
                  <a:pt x="28430" y="546100"/>
                </a:lnTo>
                <a:lnTo>
                  <a:pt x="25389" y="552450"/>
                </a:lnTo>
                <a:lnTo>
                  <a:pt x="19869" y="560093"/>
                </a:lnTo>
                <a:lnTo>
                  <a:pt x="18779" y="569208"/>
                </a:lnTo>
                <a:lnTo>
                  <a:pt x="18511" y="613168"/>
                </a:lnTo>
                <a:lnTo>
                  <a:pt x="15688" y="619300"/>
                </a:lnTo>
                <a:lnTo>
                  <a:pt x="11964" y="625553"/>
                </a:lnTo>
                <a:lnTo>
                  <a:pt x="9573" y="638190"/>
                </a:lnTo>
                <a:lnTo>
                  <a:pt x="8986" y="682703"/>
                </a:lnTo>
                <a:lnTo>
                  <a:pt x="8985" y="698510"/>
                </a:lnTo>
                <a:lnTo>
                  <a:pt x="6163" y="704854"/>
                </a:lnTo>
                <a:lnTo>
                  <a:pt x="2439" y="711202"/>
                </a:lnTo>
                <a:lnTo>
                  <a:pt x="48" y="723900"/>
                </a:lnTo>
                <a:lnTo>
                  <a:pt x="0" y="727737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MARTInkShape-322"/>
          <p:cNvSpPr/>
          <p:nvPr/>
        </p:nvSpPr>
        <p:spPr>
          <a:xfrm>
            <a:off x="3986280" y="1819440"/>
            <a:ext cx="71280" cy="66600"/>
          </a:xfrm>
          <a:custGeom>
            <a:avLst/>
            <a:gdLst>
              <a:gd name="textAreaLeft" fmla="*/ 0 w 71280"/>
              <a:gd name="textAreaRight" fmla="*/ 71640 w 712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71437" h="66675">
                <a:moveTo>
                  <a:pt x="5432" y="66674"/>
                </a:moveTo>
                <a:lnTo>
                  <a:pt x="5432" y="61618"/>
                </a:lnTo>
                <a:lnTo>
                  <a:pt x="4385" y="60128"/>
                </a:lnTo>
                <a:lnTo>
                  <a:pt x="2638" y="59135"/>
                </a:lnTo>
                <a:lnTo>
                  <a:pt x="427" y="58473"/>
                </a:lnTo>
                <a:lnTo>
                  <a:pt x="0" y="58032"/>
                </a:lnTo>
                <a:lnTo>
                  <a:pt x="762" y="57738"/>
                </a:lnTo>
                <a:lnTo>
                  <a:pt x="5432" y="57149"/>
                </a:lnTo>
                <a:lnTo>
                  <a:pt x="5432" y="47634"/>
                </a:lnTo>
                <a:lnTo>
                  <a:pt x="5432" y="57115"/>
                </a:lnTo>
                <a:lnTo>
                  <a:pt x="5432" y="47658"/>
                </a:lnTo>
                <a:lnTo>
                  <a:pt x="10437" y="47634"/>
                </a:lnTo>
                <a:lnTo>
                  <a:pt x="11912" y="46573"/>
                </a:lnTo>
                <a:lnTo>
                  <a:pt x="12895" y="44806"/>
                </a:lnTo>
                <a:lnTo>
                  <a:pt x="14747" y="38492"/>
                </a:lnTo>
                <a:lnTo>
                  <a:pt x="23899" y="28977"/>
                </a:lnTo>
                <a:lnTo>
                  <a:pt x="29181" y="28694"/>
                </a:lnTo>
                <a:lnTo>
                  <a:pt x="30694" y="27596"/>
                </a:lnTo>
                <a:lnTo>
                  <a:pt x="31703" y="25806"/>
                </a:lnTo>
                <a:lnTo>
                  <a:pt x="32375" y="23554"/>
                </a:lnTo>
                <a:lnTo>
                  <a:pt x="33872" y="22053"/>
                </a:lnTo>
                <a:lnTo>
                  <a:pt x="41722" y="19446"/>
                </a:lnTo>
                <a:lnTo>
                  <a:pt x="47733" y="19167"/>
                </a:lnTo>
                <a:lnTo>
                  <a:pt x="49349" y="18070"/>
                </a:lnTo>
                <a:lnTo>
                  <a:pt x="50426" y="16280"/>
                </a:lnTo>
                <a:lnTo>
                  <a:pt x="52154" y="10859"/>
                </a:lnTo>
                <a:lnTo>
                  <a:pt x="55184" y="10118"/>
                </a:lnTo>
                <a:lnTo>
                  <a:pt x="71436" y="9525"/>
                </a:lnTo>
                <a:lnTo>
                  <a:pt x="62124" y="9525"/>
                </a:lnTo>
                <a:lnTo>
                  <a:pt x="71436" y="9525"/>
                </a:lnTo>
                <a:lnTo>
                  <a:pt x="63320" y="9525"/>
                </a:lnTo>
                <a:lnTo>
                  <a:pt x="62884" y="8467"/>
                </a:lnTo>
                <a:lnTo>
                  <a:pt x="62019" y="116"/>
                </a:lnTo>
                <a:lnTo>
                  <a:pt x="62009" y="9522"/>
                </a:lnTo>
                <a:lnTo>
                  <a:pt x="62009" y="116"/>
                </a:lnTo>
                <a:lnTo>
                  <a:pt x="62009" y="9522"/>
                </a:lnTo>
                <a:lnTo>
                  <a:pt x="62009" y="0"/>
                </a:lnTo>
              </a:path>
            </a:pathLst>
          </a:custGeom>
          <a:noFill/>
          <a:ln w="1908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ikkelgeleiding 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inusknoop = pace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00 slagen/minu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prikkelgeleiding hart"/>
          <p:cNvPicPr/>
          <p:nvPr/>
        </p:nvPicPr>
        <p:blipFill>
          <a:blip r:embed="rId1"/>
          <a:stretch/>
        </p:blipFill>
        <p:spPr>
          <a:xfrm>
            <a:off x="5638680" y="1219320"/>
            <a:ext cx="3313080" cy="5638680"/>
          </a:xfrm>
          <a:prstGeom prst="rect">
            <a:avLst/>
          </a:prstGeom>
          <a:ln w="0">
            <a:noFill/>
          </a:ln>
        </p:spPr>
      </p:pic>
      <p:sp>
        <p:nvSpPr>
          <p:cNvPr id="77" name="Line 6"/>
          <p:cNvSpPr/>
          <p:nvPr/>
        </p:nvSpPr>
        <p:spPr>
          <a:xfrm>
            <a:off x="1219320" y="21337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457200" y="4114800"/>
            <a:ext cx="297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deel van de prikkelautom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vert Jan van Brussel</dc:creator>
  <dc:description/>
  <dc:language>en-US</dc:language>
  <cp:lastModifiedBy>Evert Jan van Brussel</cp:lastModifiedBy>
  <dcterms:modified xsi:type="dcterms:W3CDTF">2017-11-01T08:50:41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