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05D7-1B9F-4001-A018-CE306DF4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0F5B-5567-49D0-8016-27ACB6B2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460-340C-478E-836A-5CB3DD30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BE9-07BF-4819-AD60-059DA54B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74F-6DB5-4484-99C6-2E030865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64C-D89F-4D5A-B4DB-5CE58A08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361-8313-47B5-B646-6543502A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9BE-1F69-441B-9356-C730BC0B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802-1BAB-4348-8245-576CABAB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228-77D0-4B46-9CA0-8879C064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DBD3-C745-44D2-A3CB-6EE0AF3F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054-688A-446D-9994-1AF7C591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6D02-0261-4DA6-87E2-052F602D4B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ens, 1 gehee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209600" y="1611360"/>
            <a:ext cx="6724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or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. arterie  (slag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.  vena   (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. nervus (zenuw)  aftakking van ruggenmergzen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. nervus (zenuw) hersenzen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. musculus (sp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Zoek de betekenis van de volgende woorden op en schrijf deze op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ys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tholoog-Anat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yto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pit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afra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asti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o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us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tremit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rv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oe zeg je wáár iets zi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atomische houd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soon staat rechtop, met hoofd recht omh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men gestrekt naast het lich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palmen naar voren g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eten licht gespr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etje aan de voorkant, schuin erbove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/ achte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ntraal / dorsaal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erior / pos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aal / perif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us / exter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Links / rechts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nister / dex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Binnen/buiten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aal / later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ek de betekenis op van de volgende ter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raal − dors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erior − post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ntraal − perife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aniaal − caud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perior − inf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eraal − med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ximaal − dist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nister − dex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us − extern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itwend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pec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cu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s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boratoriumonderz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wend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öntgenonderz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T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RI-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pplerson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dosc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G,EEG, E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erlijke 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387440" y="1600200"/>
            <a:ext cx="6369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ens: 1 geh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00.000 miljard c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len niet onafhankelijk, werken s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weefs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orgaan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orgaanstels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de kleinste, zelfstandig levende eenheid van je lich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eefs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 groep cellen met zelfde vorm en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rgaa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groep van samenwerkende weefsels met bepaalde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rgaanstels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groep van samenwerkende organen met bepaalde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orgaanstelsels"/>
          <p:cNvPicPr/>
          <p:nvPr/>
        </p:nvPicPr>
        <p:blipFill>
          <a:blip r:embed="rId1"/>
          <a:stretch/>
        </p:blipFill>
        <p:spPr>
          <a:xfrm>
            <a:off x="-185760" y="-114480"/>
            <a:ext cx="9516960" cy="70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1</a:t>
            </a: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Uitleg orgaanstel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roepjes van 3 á 4 wordt één van de volgende 10 orgaanstelsels per groepje geko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groepje zoekt uit HOE het orgaanstelsel werkt, WELKE organen er bij betrokken zijn, met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inimaal 2 latijnse na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t wordt kort voor de klas gepresenteerd, het liefst met beeld via beamer/ smartboard in max.2 minu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irculatie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jsverter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rineweg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rmonaal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orisch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torisch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plant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fselvo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wendig milieu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s wat in je lichaam zit, en géén contact met de buitenwereld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wendig milieu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s van je lichaam wat contact met de buitenwereld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905120" y="3657600"/>
            <a:ext cx="99036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8120" y="3733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.v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l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666880" y="541008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267080" y="57150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.v. huid, maar óók slokdarm, maag, urineb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04920" y="2286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3 Maken vr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1143000"/>
            <a:ext cx="76197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organisatieniveaus binnen de mens zij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an, weefsel, orgaanstelsel, cel en organ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t deze in de goede volgorde, van groot naar kl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. Geef de definitie van een weef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 de definitie van een org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 de definitie van een orgaan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soorten weefsels zijn 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4 typen steunweefsel zijn 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. Wat is het verschil tussen anatomie en fysiolog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. Wat is de functie van de kern in de dierlijke c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. Wat is de functie van de mitochondriën in de dierlijke c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2 Latijnse wo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oek de betekenis van de volgende woorden op en schrijf deze o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OMOS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WENDIG MIL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NTRA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ERIF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TER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XTER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BDOMEN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49528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vert Jan van Brussel</dc:creator>
  <dc:description/>
  <dc:language>en-US</dc:language>
  <cp:lastModifiedBy>Evert Jan van Brussel</cp:lastModifiedBy>
  <dcterms:modified xsi:type="dcterms:W3CDTF">2019-09-20T06:41:0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