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9B92-2DFC-4821-84BF-CDB20C3100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F646-96C6-47CE-803D-DE76E09708F4}"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764B-1004-4D42-AA50-25ABD8243E3F}"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BA0E-76B7-4A99-845D-9D5D8FE913FC}"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C94A-7E23-4325-AD87-39CC1C4103FB}"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9DD5B-CB85-4651-851A-4005ACFB6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7786-FCC9-4249-B470-AEB0ADFB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45D6E-CEEC-4C19-8BE7-4A0F769B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CF644-622F-407B-ACD3-93382FC97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683AE-886D-4FB7-9F24-BC64400B9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454D0-2D62-4489-A1EB-BA677AE40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08011-35CF-4DF7-B9EB-EB58B1F04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BCE97-50C5-4CC6-8A5C-1E9CF1F3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EC1AA-76FD-4894-BE8B-3F1D1BD7C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9F581-D078-4A92-9401-6FCB4CF21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6F56C-ECFF-4F90-8242-6E2EDE603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8C3A-31D9-449D-A1CB-DA6049B7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57A6F-C396-4963-ACCA-B66708A94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D4BDD-F9A8-4520-958A-52581E2F4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0B89-0357-4DEE-A0A2-C83B74A51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7B22B-B77F-4205-89BD-E75BED466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3A4CF-73DA-4AE5-8B1E-0911C743B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96F258-6131-471A-96B0-04CC2AED1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8E5DF-BC4C-4E70-9656-6E0E6DF5F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6CA52-8C0C-4355-9DD4-9AC8F6209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0674B-EF46-4B61-8923-06A7BC297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F6D0C-9685-4CC3-8D08-3CBFFD6BA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5BEE-769D-4ACC-AC07-3D5CAB35E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3DAF8-2794-4D2F-BC22-F703AF8F7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D4537-2AEF-4633-A5D9-75B6137A8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8A99F-20B3-4AA9-9815-242D662BC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82E3C-E4A2-48E0-8743-DE3874B57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05525-8009-4A13-A79F-8AE63528F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E6F86A-E196-4F28-B96C-C26059DC7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66354-7678-4701-ACAC-EB77B52BE4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9ABA-4639-4F60-A307-CEC38C3D0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9B0F-6EB4-4239-85E8-7765F5C5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57292-D65F-478A-9A99-96A9161D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6DCB-A0D0-4988-AAD3-6A5BB23D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5289-C190-46FC-9014-E9E62E51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7FED-9FD7-4402-B875-5D9088314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3B6C-1974-4220-8224-3604DC4C330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6C10-07AF-4F8D-B346-FA3BCED3805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29CE-C17C-44B3-A63F-DDAAFB20D11F}" type="datetime">
              <a:rPr b="0" lang="nl-NL" sz="1400" spc="-1" strike="noStrike">
                <a:solidFill>
                  <a:srgbClr val="898989"/>
                </a:solidFill>
                <a:latin typeface="Times New Roman"/>
                <a:ea typeface="ＭＳ Ｐゴシック"/>
              </a:rPr>
              <a:t>31-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604D-3E8A-4394-AB66-808B5B794961}"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