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9E33-E121-4444-9B32-9478FE2451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EB5D-4A9E-43CF-8C9F-FB7086659C9C}"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4618-64FE-4C93-91D5-7DE8A5835589}"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F3E5-8E85-41DF-86DF-30A8F8A1E317}"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0193-7A61-4EDB-A8A7-76B8A8C6456D}"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2CF8E-1F68-4ECA-B785-99F1CDCD0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F9A0-2787-4738-94DA-8A21615FB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864C5-62B0-4C54-9CA5-B1D4C6BC6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25C18-7C47-4B5E-AFF8-ECA52E8A0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A4460-0795-476D-B9B4-78B311603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4DAAE-F038-49D4-BAFD-3A3D71A88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4421F-35A6-427D-9EB6-D2D52A0FC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0A68A-5F33-4877-B834-0FDA199F4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281BE-A5B1-44F3-A5AC-EFA7D1C45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26F6C-2B88-4B0F-983C-51BA984F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B338-777F-4481-A02D-AC3AE902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FD19-4B69-4723-87CD-DAE1987FF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5136-D1DA-45ED-8D57-3CDE4B36A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5C80-8BDB-41D2-9E9A-F892FF1A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3E4EF-8210-4F55-8701-007F902BC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B985F-A3C2-4893-A4F9-4E2D53821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226DF-24B8-4B29-B13C-52C38B8C1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E21490-3BFC-4263-A2A8-6632AA27A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C570F-A9EE-45DB-8CE8-4A85B92B94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7FF4B-6176-4092-9B8E-5A410D07F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4CFA8-20C2-4078-9249-944BDF4906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D77B1-33C7-41E0-B789-48F574E9AD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86A46-AF26-42B5-BC73-028ACC57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2CD72-C81B-4402-AC7A-1B88C033B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4812E-D0D3-43D2-9AEF-9D8C8702C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728D1-CEB4-4270-A695-99BBDE3BA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CD9F1-786A-4B86-8E10-D2431F15C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06796-8B42-40B8-AF53-9311B0E81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C03468-BB95-4EA7-A7E5-0344D6F2E5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691CF-D555-4B96-9DE3-F406078DF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E290-F046-442B-838C-1F6840A6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70B4B-BC95-477F-91DC-476D122ED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5668A-5D2A-4FC8-9951-440552FA6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63BF-16B1-46BA-A5CA-1975F1A1E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1C42-BE12-485F-9BCE-33EEA2792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39BB-5AFF-42E2-BD7C-9F1570F14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C7CC-270A-4E29-A062-D46D7137535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B820-0999-4F37-BE88-3D3EA0F4D53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BD7F-50A6-4CB4-8D48-5789B0C9A466}" type="datetime">
              <a:rPr b="0" lang="nl-NL" sz="1400" spc="-1" strike="noStrike">
                <a:solidFill>
                  <a:srgbClr val="898989"/>
                </a:solidFill>
                <a:latin typeface="Times New Roman"/>
                <a:ea typeface="ＭＳ Ｐゴシック"/>
              </a:rPr>
              <a:t>29-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910D-FF86-4F9A-A38C-F06F40933213}"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