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D3F3-652D-4927-A0A9-BD20B53E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97C-60A8-44D9-8FCE-8092A7AD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9C3-2D1C-426D-988E-D0530558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055E-D34E-4DC6-89AC-E9A29389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49E7-C3F9-4F85-96DA-1D86BEB3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511-3958-46FC-8A0C-2CCF5400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D2D-1CB1-4668-AF0E-DF480E0F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0D63-3054-45BA-A440-B459884F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0793-08FC-483E-858A-F42D5308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E6E0-7066-454C-B408-8AB6AABC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263A-2BAC-41E6-9475-EE64A19B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A78-050C-4A97-9F2F-D51A5E0C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5FE6-6BC0-4EF3-958D-0E375CC3C39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ens, 1 geheel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209600" y="1611360"/>
            <a:ext cx="67248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ort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. arterie  (slag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.  vena   (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. nervus (zenuw)  aftakking van ruggenmergzen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. nervus (zenuw) hersenzen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. musculus (sp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Zoek de betekenis van de volgende woorden op en schrijf deze op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at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ysi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tholoog-Anat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yto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pith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afra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diasti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or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us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xtremit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rv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oe zeg je wáár iets zit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atomische houd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soon staat rechtop, met hoofd recht omh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men gestrekt naast het lich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palmen naar voren ge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eten licht gespr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etje aan de voorkant, schuin erbove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/ achte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ntraal / dorsaal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erior / pos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aal / perif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us / exter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Links / rechts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nister / dex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Binnen/buiten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diaal / later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ek de betekenis op van de volgende ter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raal − dors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erior − posteri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ntraal − perife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raniaal − caud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perior − inferi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teraal − medi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ximaal − dist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nister − dex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nus − extern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zoeksmeth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itwend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pec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l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cu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uscu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boratoriumonderz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zoeksmeth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wend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öntgenonderz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T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RI-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pplerson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dosc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G,EEG, E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erlijke 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387440" y="1600200"/>
            <a:ext cx="6369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ens: 1 geh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00.000 miljard c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len niet onafhankelijk, werken s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el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weefsel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orgaan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orgaanstelsel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de kleinste, zelfstandig levende eenheid van je lich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Weefs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 groep cellen met zelfde vorm en 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rgaa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groep van samenwerkende weefsels met bepaalde 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rgaanstels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groep van samenwerkende organen met bepaalde 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orgaanstelsels"/>
          <p:cNvPicPr/>
          <p:nvPr/>
        </p:nvPicPr>
        <p:blipFill>
          <a:blip r:embed="rId1"/>
          <a:stretch/>
        </p:blipFill>
        <p:spPr>
          <a:xfrm>
            <a:off x="-185760" y="-114480"/>
            <a:ext cx="9516960" cy="70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pdracht 1</a:t>
            </a: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Uitleg orgaanstels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groepjes van 3 á 4 wordt één van de volgende 10 orgaanstelsels per groepje gekoz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groepje zoekt uit HOE het orgaanstelsel werkt, WELKE organen er bij betrokken zijn, met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inimaal 2 latijnse nam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t wordt kort voor de klas gepresenteerd, het liefst met beeld via beamer/ smartboard in max.2 minu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irculatie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jsverterings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rineweg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rmonaal 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nuw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nsorisch 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torisch 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tplantings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fselvo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wendig milieu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alles wat in je lichaam zit, en géén contact met de buitenwereld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wendig milieu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alles van je lichaam wat contact met de buitenwereld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905120" y="3657600"/>
            <a:ext cx="99036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8120" y="3733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.v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l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2666880" y="5410080"/>
            <a:ext cx="1371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267080" y="57150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.v. huid, maar óók slokdarm, maag, urineb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04920" y="22860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pdracht 3 Maken vr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1143000"/>
            <a:ext cx="76197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organisatieniveaus binnen de mens zij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an, weefsel, orgaanstelsel, cel en organ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et deze in de goede volgorde, van groot naar kl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. Geef de definitie van een weef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 de definitie van een org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 de definitie van een orgaan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soorten weefsels zijn 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4 typen steunweefsel zijn 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. Wat is het verschil tussen anatomie en fysiolog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. Wat is de functie van de kern in de dierlijke c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. Wat is de functie van de mitochondriën in de dierlijke c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pdracht 2 Latijnse woo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oek de betekenis van de volgende woorden op en schrijf deze o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HROMOS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WENDIG MIL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NTRA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ERIF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TER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XTER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BDOMEN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49528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vert Jan van Brussel</dc:creator>
  <dc:description/>
  <dc:language>en-US</dc:language>
  <cp:lastModifiedBy>Evert Jan van Brussel</cp:lastModifiedBy>
  <dcterms:modified xsi:type="dcterms:W3CDTF">2019-09-20T06:41:08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