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6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82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90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8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171.xml.rels" ContentType="application/vnd.openxmlformats-package.relationships+xml"/>
  <Override PartName="/ppt/notesSlides/_rels/notesSlide193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173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7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184.xml.rels" ContentType="application/vnd.openxmlformats-package.relationships+xml"/>
  <Override PartName="/ppt/notesSlides/_rels/notesSlide17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87.xml.rels" ContentType="application/vnd.openxmlformats-package.relationships+xml"/>
  <Override PartName="/ppt/notesSlides/_rels/notesSlide180.xml.rels" ContentType="application/vnd.openxmlformats-package.relationships+xml"/>
  <Override PartName="/ppt/notesSlides/_rels/notesSlide186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7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17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91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2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161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77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76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75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74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73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72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71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193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89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8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87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18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79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78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192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9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8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8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69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180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9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170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81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182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8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18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8.xml.rels" ContentType="application/vnd.openxmlformats-package.relationships+xml"/>
  <Override PartName="/ppt/slides/_rels/slide170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151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56.xml.rels" ContentType="application/vnd.openxmlformats-package.relationships+xml"/>
  <Override PartName="/ppt/slides/_rels/slide69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149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50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79.xml.rels" ContentType="application/vnd.openxmlformats-package.relationships+xml"/>
  <Override PartName="/ppt/slides/_rels/slide51.xml.rels" ContentType="application/vnd.openxmlformats-package.relationships+xml"/>
  <Override PartName="/ppt/slides/_rels/slide178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7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18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18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38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89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83802-6290-4144-BE98-688BD3707DA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68.xml.rels><?xml version="1.0" encoding="UTF-8"?>
<Relationships xmlns="http://schemas.openxmlformats.org/package/2006/relationships"><Relationship Id="rId1" Type="http://schemas.openxmlformats.org/officeDocument/2006/relationships/slide" Target="../slides/slide168.xml"/><Relationship Id="rId2" Type="http://schemas.openxmlformats.org/officeDocument/2006/relationships/notesMaster" Target="../notesMasters/notesMaster1.xml"/>
</Relationships>
</file>

<file path=ppt/notesSlides/_rels/notesSlide169.xml.rels><?xml version="1.0" encoding="UTF-8"?>
<Relationships xmlns="http://schemas.openxmlformats.org/package/2006/relationships"><Relationship Id="rId1" Type="http://schemas.openxmlformats.org/officeDocument/2006/relationships/slide" Target="../slides/slide169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70.xml.rels><?xml version="1.0" encoding="UTF-8"?>
<Relationships xmlns="http://schemas.openxmlformats.org/package/2006/relationships"><Relationship Id="rId1" Type="http://schemas.openxmlformats.org/officeDocument/2006/relationships/slide" Target="../slides/slide170.xml"/><Relationship Id="rId2" Type="http://schemas.openxmlformats.org/officeDocument/2006/relationships/notesMaster" Target="../notesMasters/notesMaster1.xml"/>
</Relationships>
</file>

<file path=ppt/notesSlides/_rels/notesSlide171.xml.rels><?xml version="1.0" encoding="UTF-8"?>
<Relationships xmlns="http://schemas.openxmlformats.org/package/2006/relationships"><Relationship Id="rId1" Type="http://schemas.openxmlformats.org/officeDocument/2006/relationships/slide" Target="../slides/slide171.xml"/><Relationship Id="rId2" Type="http://schemas.openxmlformats.org/officeDocument/2006/relationships/notesMaster" Target="../notesMasters/notesMaster1.xml"/>
</Relationships>
</file>

<file path=ppt/notesSlides/_rels/notesSlide172.xml.rels><?xml version="1.0" encoding="UTF-8"?>
<Relationships xmlns="http://schemas.openxmlformats.org/package/2006/relationships"><Relationship Id="rId1" Type="http://schemas.openxmlformats.org/officeDocument/2006/relationships/slide" Target="../slides/slide172.xml"/><Relationship Id="rId2" Type="http://schemas.openxmlformats.org/officeDocument/2006/relationships/notesMaster" Target="../notesMasters/notesMaster1.xml"/>
</Relationships>
</file>

<file path=ppt/notesSlides/_rels/notesSlide173.xml.rels><?xml version="1.0" encoding="UTF-8"?>
<Relationships xmlns="http://schemas.openxmlformats.org/package/2006/relationships"><Relationship Id="rId1" Type="http://schemas.openxmlformats.org/officeDocument/2006/relationships/slide" Target="../slides/slide173.xml"/><Relationship Id="rId2" Type="http://schemas.openxmlformats.org/officeDocument/2006/relationships/notesMaster" Target="../notesMasters/notesMaster1.xml"/>
</Relationships>
</file>

<file path=ppt/notesSlides/_rels/notesSlide174.xml.rels><?xml version="1.0" encoding="UTF-8"?>
<Relationships xmlns="http://schemas.openxmlformats.org/package/2006/relationships"><Relationship Id="rId1" Type="http://schemas.openxmlformats.org/officeDocument/2006/relationships/slide" Target="../slides/slide174.xml"/><Relationship Id="rId2" Type="http://schemas.openxmlformats.org/officeDocument/2006/relationships/notesMaster" Target="../notesMasters/notesMaster1.xml"/>
</Relationships>
</file>

<file path=ppt/notesSlides/_rels/notesSlide175.xml.rels><?xml version="1.0" encoding="UTF-8"?>
<Relationships xmlns="http://schemas.openxmlformats.org/package/2006/relationships"><Relationship Id="rId1" Type="http://schemas.openxmlformats.org/officeDocument/2006/relationships/slide" Target="../slides/slide175.xml"/><Relationship Id="rId2" Type="http://schemas.openxmlformats.org/officeDocument/2006/relationships/notesMaster" Target="../notesMasters/notesMaster1.xml"/>
</Relationships>
</file>

<file path=ppt/notesSlides/_rels/notesSlide176.xml.rels><?xml version="1.0" encoding="UTF-8"?>
<Relationships xmlns="http://schemas.openxmlformats.org/package/2006/relationships"><Relationship Id="rId1" Type="http://schemas.openxmlformats.org/officeDocument/2006/relationships/slide" Target="../slides/slide176.xml"/><Relationship Id="rId2" Type="http://schemas.openxmlformats.org/officeDocument/2006/relationships/notesMaster" Target="../notesMasters/notesMaster1.xml"/>
</Relationships>
</file>

<file path=ppt/notesSlides/_rels/notesSlide177.xml.rels><?xml version="1.0" encoding="UTF-8"?>
<Relationships xmlns="http://schemas.openxmlformats.org/package/2006/relationships"><Relationship Id="rId1" Type="http://schemas.openxmlformats.org/officeDocument/2006/relationships/slide" Target="../slides/slide177.xml"/><Relationship Id="rId2" Type="http://schemas.openxmlformats.org/officeDocument/2006/relationships/notesMaster" Target="../notesMasters/notesMaster1.xml"/>
</Relationships>
</file>

<file path=ppt/notesSlides/_rels/notesSlide178.xml.rels><?xml version="1.0" encoding="UTF-8"?>
<Relationships xmlns="http://schemas.openxmlformats.org/package/2006/relationships"><Relationship Id="rId1" Type="http://schemas.openxmlformats.org/officeDocument/2006/relationships/slide" Target="../slides/slide178.xml"/><Relationship Id="rId2" Type="http://schemas.openxmlformats.org/officeDocument/2006/relationships/notesMaster" Target="../notesMasters/notesMaster1.xml"/>
</Relationships>
</file>

<file path=ppt/notesSlides/_rels/notesSlide179.xml.rels><?xml version="1.0" encoding="UTF-8"?>
<Relationships xmlns="http://schemas.openxmlformats.org/package/2006/relationships"><Relationship Id="rId1" Type="http://schemas.openxmlformats.org/officeDocument/2006/relationships/slide" Target="../slides/slide179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80.xml.rels><?xml version="1.0" encoding="UTF-8"?>
<Relationships xmlns="http://schemas.openxmlformats.org/package/2006/relationships"><Relationship Id="rId1" Type="http://schemas.openxmlformats.org/officeDocument/2006/relationships/slide" Target="../slides/slide180.xml"/><Relationship Id="rId2" Type="http://schemas.openxmlformats.org/officeDocument/2006/relationships/notesMaster" Target="../notesMasters/notesMaster1.xml"/>
</Relationships>
</file>

<file path=ppt/notesSlides/_rels/notesSlide181.xml.rels><?xml version="1.0" encoding="UTF-8"?>
<Relationships xmlns="http://schemas.openxmlformats.org/package/2006/relationships"><Relationship Id="rId1" Type="http://schemas.openxmlformats.org/officeDocument/2006/relationships/slide" Target="../slides/slide181.xml"/><Relationship Id="rId2" Type="http://schemas.openxmlformats.org/officeDocument/2006/relationships/notesMaster" Target="../notesMasters/notesMaster1.xml"/>
</Relationships>
</file>

<file path=ppt/notesSlides/_rels/notesSlide182.xml.rels><?xml version="1.0" encoding="UTF-8"?>
<Relationships xmlns="http://schemas.openxmlformats.org/package/2006/relationships"><Relationship Id="rId1" Type="http://schemas.openxmlformats.org/officeDocument/2006/relationships/slide" Target="../slides/slide182.xml"/><Relationship Id="rId2" Type="http://schemas.openxmlformats.org/officeDocument/2006/relationships/notesMaster" Target="../notesMasters/notesMaster1.xml"/>
</Relationships>
</file>

<file path=ppt/notesSlides/_rels/notesSlide183.xml.rels><?xml version="1.0" encoding="UTF-8"?>
<Relationships xmlns="http://schemas.openxmlformats.org/package/2006/relationships"><Relationship Id="rId1" Type="http://schemas.openxmlformats.org/officeDocument/2006/relationships/slide" Target="../slides/slide183.xml"/><Relationship Id="rId2" Type="http://schemas.openxmlformats.org/officeDocument/2006/relationships/notesMaster" Target="../notesMasters/notesMaster1.xml"/>
</Relationships>
</file>

<file path=ppt/notesSlides/_rels/notesSlide184.xml.rels><?xml version="1.0" encoding="UTF-8"?>
<Relationships xmlns="http://schemas.openxmlformats.org/package/2006/relationships"><Relationship Id="rId1" Type="http://schemas.openxmlformats.org/officeDocument/2006/relationships/slide" Target="../slides/slide184.xml"/><Relationship Id="rId2" Type="http://schemas.openxmlformats.org/officeDocument/2006/relationships/notesMaster" Target="../notesMasters/notesMaster1.xml"/>
</Relationships>
</file>

<file path=ppt/notesSlides/_rels/notesSlide185.xml.rels><?xml version="1.0" encoding="UTF-8"?>
<Relationships xmlns="http://schemas.openxmlformats.org/package/2006/relationships"><Relationship Id="rId1" Type="http://schemas.openxmlformats.org/officeDocument/2006/relationships/slide" Target="../slides/slide185.xml"/><Relationship Id="rId2" Type="http://schemas.openxmlformats.org/officeDocument/2006/relationships/notesMaster" Target="../notesMasters/notesMaster1.xml"/>
</Relationships>
</file>

<file path=ppt/notesSlides/_rels/notesSlide186.xml.rels><?xml version="1.0" encoding="UTF-8"?>
<Relationships xmlns="http://schemas.openxmlformats.org/package/2006/relationships"><Relationship Id="rId1" Type="http://schemas.openxmlformats.org/officeDocument/2006/relationships/slide" Target="../slides/slide186.xml"/><Relationship Id="rId2" Type="http://schemas.openxmlformats.org/officeDocument/2006/relationships/notesMaster" Target="../notesMasters/notesMaster1.xml"/>
</Relationships>
</file>

<file path=ppt/notesSlides/_rels/notesSlide187.xml.rels><?xml version="1.0" encoding="UTF-8"?>
<Relationships xmlns="http://schemas.openxmlformats.org/package/2006/relationships"><Relationship Id="rId1" Type="http://schemas.openxmlformats.org/officeDocument/2006/relationships/slide" Target="../slides/slide187.xml"/><Relationship Id="rId2" Type="http://schemas.openxmlformats.org/officeDocument/2006/relationships/notesMaster" Target="../notesMasters/notesMaster1.xml"/>
</Relationships>
</file>

<file path=ppt/notesSlides/_rels/notesSlide188.xml.rels><?xml version="1.0" encoding="UTF-8"?>
<Relationships xmlns="http://schemas.openxmlformats.org/package/2006/relationships"><Relationship Id="rId1" Type="http://schemas.openxmlformats.org/officeDocument/2006/relationships/slide" Target="../slides/slide188.xml"/><Relationship Id="rId2" Type="http://schemas.openxmlformats.org/officeDocument/2006/relationships/notesMaster" Target="../notesMasters/notesMaster1.xml"/>
</Relationships>
</file>

<file path=ppt/notesSlides/_rels/notesSlide189.xml.rels><?xml version="1.0" encoding="UTF-8"?>
<Relationships xmlns="http://schemas.openxmlformats.org/package/2006/relationships"><Relationship Id="rId1" Type="http://schemas.openxmlformats.org/officeDocument/2006/relationships/slide" Target="../slides/slide189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190.xml.rels><?xml version="1.0" encoding="UTF-8"?>
<Relationships xmlns="http://schemas.openxmlformats.org/package/2006/relationships"><Relationship Id="rId1" Type="http://schemas.openxmlformats.org/officeDocument/2006/relationships/slide" Target="../slides/slide190.xml"/><Relationship Id="rId2" Type="http://schemas.openxmlformats.org/officeDocument/2006/relationships/notesMaster" Target="../notesMasters/notesMaster1.xml"/>
</Relationships>
</file>

<file path=ppt/notesSlides/_rels/notesSlide191.xml.rels><?xml version="1.0" encoding="UTF-8"?>
<Relationships xmlns="http://schemas.openxmlformats.org/package/2006/relationships"><Relationship Id="rId1" Type="http://schemas.openxmlformats.org/officeDocument/2006/relationships/slide" Target="../slides/slide191.xml"/><Relationship Id="rId2" Type="http://schemas.openxmlformats.org/officeDocument/2006/relationships/notesMaster" Target="../notesMasters/notesMaster1.xml"/>
</Relationships>
</file>

<file path=ppt/notesSlides/_rels/notesSlide192.xml.rels><?xml version="1.0" encoding="UTF-8"?>
<Relationships xmlns="http://schemas.openxmlformats.org/package/2006/relationships"><Relationship Id="rId1" Type="http://schemas.openxmlformats.org/officeDocument/2006/relationships/slide" Target="../slides/slide192.xml"/><Relationship Id="rId2" Type="http://schemas.openxmlformats.org/officeDocument/2006/relationships/notesMaster" Target="../notesMasters/notesMaster1.xml"/>
</Relationships>
</file>

<file path=ppt/notesSlides/_rels/notesSlide193.xml.rels><?xml version="1.0" encoding="UTF-8"?>
<Relationships xmlns="http://schemas.openxmlformats.org/package/2006/relationships"><Relationship Id="rId1" Type="http://schemas.openxmlformats.org/officeDocument/2006/relationships/slide" Target="../slides/slide19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99DD3-909B-41C2-816C-3131E49D21C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940B1-9BC8-4341-A828-B46777137DB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51EA7-9DD5-4F86-848A-5A075B3D458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9805E-7AF5-40A7-9F04-95E8A0326CC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BDCB8-BD6F-46D7-AF12-1A7DCC68109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46DA1-0ECC-4E95-84DC-BFD7EAA272D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07602-4A7D-4260-8FB7-CFC74DFA7FC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5A1A1-FB9F-4388-B4CF-D129E88C0A4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28355-4252-46CC-BE21-15AD88CDD5F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0B5A7-D249-4B42-91A7-3F6F6BDE891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DA899-7448-4071-BF68-E72170ED014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53662-DF22-4E81-8E0C-46970D15C1D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83040-A6B1-493A-B103-AF79C8BB006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00C73-14ED-48AE-B9B6-93EB727024E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7EA1F-C6A6-40A3-92A7-080C5B853B5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1AAA5-E8C8-4666-A7BD-0EEDC0D210C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42AB1-77DD-41F4-9BDB-451E7C29A2E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63D94-223B-4D1E-917E-C41C0DEA7A3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872AF-7FFE-4475-8638-FA27D008490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15C40-7E0B-4325-9FCE-F00531D467E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D3E42-B4C8-45E7-BF4A-2D6C735B9D4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C0723-D893-4A53-8997-35FDF35691C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7B5B1-7E20-4C3B-9189-F68146B24E8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541F4-CB64-4086-9E1F-A7B364AE723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313B1-345F-4B04-BA8B-329B1CF72EB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367FC-1BFD-432F-9CC6-F7401D0D125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E70E8-10DB-4421-92E7-BDF8CF52919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AE262-66F1-4CBB-A734-CE7FC104869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B729C-9727-438B-9F5E-D91EC545087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CFA8B-A8F7-4B74-96F9-F9550E3F15A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DB33F-CE2C-4610-B0B2-0FCA60F757E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FF6D5-3672-48A8-A4DB-3ED2B7E0688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D2C9B-879E-4C1E-AB1A-A6466D04B11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7C9EE-2861-4716-9A64-159E948030A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322B7-6074-4EB0-9F9B-8BE50833604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7658D-9A38-4CD8-9E2A-48D8ABFABE8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B9757-E50C-4693-91C7-23E55B76042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6AB4D-ECB5-4923-82C9-11EC0AC9368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F2348-FAE8-4754-B5C0-94EDC03DDAF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927CF-C85E-47D0-AA30-78A4CC105DA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EA371-3C87-4F4D-AEDF-B7C7DB15C52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E2B1F-0F79-4692-94DE-DD4350D0BFD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01DD7-0DCE-4622-BD6A-89DD767274A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9D42D-24AA-447F-9ACF-FE32B895A1A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A1828-351D-4272-AFC8-88F65013861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DFCB5-6965-445C-BC3C-A82856EEB71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A251D-66FF-40CE-8034-8CAB7B69CD7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9E9A1-40C8-45C0-A4CE-007E36D4D95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FD319-2A5C-46AE-9C8A-5E33FAF924C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72420-0CC9-407A-A23A-D49A6F22970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236DF-7269-4156-95C4-7348447FF84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0AC4A-D9C3-4AD9-AA43-7E7D4929A92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4CA05-DA2E-466F-AF22-0D374383E76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74CD7-2304-48EF-BD16-54ED1FCBAB9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43BF2-5487-4C44-A348-F7834E5EE01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39B4E-172D-4081-B915-7D4BBE1EDB3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C70A2-5600-4669-94D2-D3510593947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1B227-EC5A-4613-A813-99935CD41DB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C531A-FA42-4286-B4FF-47E832B8FF3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F439D-E403-48CF-9FF6-76244A1BC5E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B37A2-C413-4BED-B5B8-9A82906518E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CE60D-3C3F-4632-8E61-BBCB140B39D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5BB3A-B817-4501-A108-95197CE5369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4F9A2-E1F4-45EF-90DD-4FE8568BCED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AAF5B-51C3-4FF8-AF62-5EF75705CE2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DFB0B-83AA-4F38-A110-3BC3E2E7381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5B719-557D-411B-B455-3B346141691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11499-63D0-4D42-9D9C-1146B000E02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6B5B0-7558-4D8A-A998-40D42D5904D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6BA5F-66F8-4DDA-9182-F068F444484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C8CC1-4FCB-492F-8860-67F9EE37E39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40483-3E71-4A93-BB23-7D213C94EB6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13701-A8EF-4690-88D2-84F431CF68F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0B59B-3FBF-44AD-A676-30B29FC7222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0C699-01CC-42AE-B4C8-0DE3B5CDC1A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662C8-0CA7-489A-9A66-73D28C63F34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7693A-4A76-46FD-BB7F-2711F32A580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0B4FC-67D7-4151-AB2B-C1E7121E5D5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93B98-6340-4981-80D4-9DA9B8358AF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88930-A1EA-4AAC-B57F-4A0E3F973C6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2C29F-8E6C-47C5-803D-0359D4A64EF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FB099-6945-4096-B95F-DFA81C74649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20299-EE81-4D7C-B837-6CBE84044EE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EF6D6-176D-450B-B8E5-FA7F1A34CAB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4720E-0809-4E2A-BE90-22266DEB040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8D7F2-77A8-41E2-955D-9DAEC44863A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A02FF-44A4-4F35-B919-E8699C3103E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A0DCE-1D8F-4536-A6C8-8DDB8FDBA6D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59673-65CA-4805-B5DD-3F89D880BA9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E915E-B934-40AF-A7B2-E13324B11F2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308E3-9A1E-4219-89E8-A5C174F4F49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4B4DE-DD9D-42A2-A6DE-0D790FFE809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C93C6-5089-4E80-9010-84589011D4D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762F5-089B-451A-8608-74450269437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75182-ED7F-4F0F-BB51-48389E618E2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BD882-DA7A-433C-B1D3-8FCC12ACA64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D3CAA-02FB-4DDA-B5CA-DE40ECC7C67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BEB8D-9F3B-414C-A5AF-FA223707255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2B632-64DA-4513-AEF6-9BC9748159F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80F7F-2F4E-4A21-BDA2-8709241951F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D9306-673D-4301-8A2F-07BF377FB1B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8FF88-3ABF-4BAA-B45E-CAC23110EED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ADB0F-58AB-4655-BD6C-7604FEB06F9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BB91C-E11B-4958-B8DA-DF7846FD85A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FF313-E170-42AD-B6DE-6E033887A5F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3D103-4038-4BA6-B178-51BD6015688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C11F3-FF29-49A0-92F4-C93FD68C73B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D50F2-0BC6-4A3D-8E7F-05955D5E647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3DF6E-21BE-4891-BBE6-7959860D9ED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5377D-2EA2-47B8-A978-453200C4143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D1395-5AAE-4F9E-8DE6-AE2C9CB8C6D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BFEDB-EC6E-4E55-B946-420F7080FE2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AD5F3-4901-4BF3-A721-811D9A5F673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23502-2C06-426C-9236-60061678683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E0188-AC4E-4241-B213-CB4672DC3F6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0FDFD-44C8-4BD6-AEE9-7E3FD180B06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85B96-3B0E-463A-8539-AA35638EFC6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E1C13-673E-49D5-911B-DB8B3670B2A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8271E-2ED6-4EC6-97F7-CEEE82A7B63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BA7A3-6CCC-46BF-85FA-81DF0BCBE11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84C8E-4653-4F8C-8F36-4EA551A86AF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07092-C40A-4E3F-B30A-81147E8A144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0438D-963F-405F-99B9-716194D5FBC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88DD4-29DB-4A85-8C20-FC52AF76593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53386-D144-47FE-A058-EB12DEAB544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A1843-01B3-46DF-AE38-1148EB6C4EE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65CA6-9E54-4722-8B4C-4D3BD6CDA0F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A90DC-C505-4EBD-B2C9-C2176678480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08256-D970-4E43-B390-EB6BD2D8B00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446DB-3978-40B4-A457-B8669F33E87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4DE1B-590F-4D4A-9C70-1B915A5A268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2AC12-6B3A-47CA-B861-AFF19414B86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800C7-1A87-41E9-BD89-0C8B63E9AAB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7D438-80B8-4A4A-AB9C-3D15ADAF067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030E7-818B-4CC8-AF2B-B7F5256476C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BE63A-567C-485A-B243-490A5672B62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9122F-47CB-45F9-AAC3-7564BE2A6D5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BE87B-CCC8-4636-B2F1-4C0F2E3FF0C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FCCAC-71E0-4793-A4AE-CD59DE79F4B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BA4AA-8EE7-4639-927E-C53BFF656ED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CB716-EE0E-42F5-AAE2-97E839378EA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EC506-A396-41DD-83D7-FE02CD9282D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2D508-9EAE-466A-A1D2-1066C641B30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40C8C-C64E-4EC0-BF51-168FBA4B54E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B7E08-A463-4563-90A3-ECFE24B4205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EE049-D2E5-4262-A170-DC806A6F99E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E4473-DA22-4201-9773-3B5C8AD720D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2418B-5169-4D6E-848E-50B78868E5A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D4D46-23F4-425D-9A92-567683784FB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3E75F-5F5A-4720-AEAE-1B0BC09A733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2F373-3988-4A5A-BA36-5515753B753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A14DF-6F19-4A9F-AEFB-C5DBC34FC45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7379F-DF76-4A49-8C28-D572F041A30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F2157-746E-48D1-9C40-F17F20C9E37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CC311-AB69-40D6-A364-C7518953D2A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ED479-4E0C-4E6D-A059-ED8E691011C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81EE1-A3EB-43B5-B294-93B54725A0B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7FF6C-73C6-4407-A3C6-A32E30678A4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8331C-F273-4543-AFEC-0A101CFC8F5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8A3B2-C45A-475E-AA04-A71115B9090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491B6-ED1D-4397-B581-BD15ADD500F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1E9DC-2380-4026-9091-A3961F525D4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8C0A9-8344-434E-9A8D-386F1A02E94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62FA2-8DF1-4209-9AD4-6F351ABF009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2D7CE-39C0-45BE-95A3-4B5BB79CAE3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32D93-4193-4458-AEBB-83EFF1464BA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AD918-B9A6-49AD-A9A5-7C07B9311CB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57C9D-1143-487D-A4CD-58306F37B7C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9C816-4B3D-4346-98F8-F9BF47A210D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C250F-53D7-4705-BF1E-D51372A5692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CD22B-5006-4651-9687-320C5C9772C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E76C1-5125-427C-8077-D4F37BB3975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14C69-1829-439F-ACC2-BB6D7C321A6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0C2C4-6A4D-4935-8306-A21F984FE47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284BA-D1F4-4732-9FED-9CAA34FC60C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9E901-A92E-4263-809D-BC45D4F1913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E2172-7E05-42F7-BBAC-3B4F211C6F4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60067-6FEB-4797-AD05-E6B975E2CFE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5F9E2-F9AE-4CB6-85A7-EA48AB1CB36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B6662-3D00-4176-935C-C4160FB58C1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66BBD-0D6B-4A46-9A6F-A3261795E8C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CC5DA-84F8-4CBC-B7D3-C1818A659A1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ECE64-3343-4AA8-B6BA-A0AD48C496F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ED143-66C7-49D0-A60C-0A64C7EE36D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CA65D-CF68-4B24-8AB1-980AF06A0DC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7300F-F55A-4963-8B19-F6FF80F8DF7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5B427-9340-4C82-A288-9FCFC7B9B24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4F6CD-24F4-4BCD-964D-B6D7D8FF85A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2931B-D040-4E1A-A58A-9F18B060690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87DC2-D6F9-4E05-8F50-90A0B1DF762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9DCD8-E439-483C-826D-7A2B15A4E42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E12DB-C313-46DB-869B-D422418C7E4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2A58D-C364-4F1E-BC73-EE8ACAA1164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0F59-D06A-452B-8EBB-894E23453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77F3-4E73-4204-875E-95C881CFB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4173-B7A7-43E7-9A28-C276DC6DC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994C-609B-41C2-B105-18C3CEB6C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BF8E-083B-4B05-99F7-CD5A752B4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FBDB-63D2-40DA-B4F2-0333460B3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416B-99BE-4758-BA09-A0D5C2248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A3B5-A0E1-4858-9499-847EEC168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E85C-6500-4CF7-95F8-524D00115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7E41-5F31-4CD7-B229-4359D88BE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31F9-0113-404A-AD44-A9570870B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24F0-5C1D-4C91-BA4B-9292C184E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A3373-FD49-470C-8751-0DB5AFD1CC1E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7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8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0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2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4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6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7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8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0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2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4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6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7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8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0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2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pla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voor een activitei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eld van een 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SMART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ecif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etb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b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list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geb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geleidingsstijlen volgens Ohio State University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menteel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ticiper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ituatiegericht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één vaste begeleidingsstijl gebruiken, maar de stij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aan de specifieke cliënt, de specifiek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behoefte en de specifiek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oach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dersteunen en stimuleren van cliënten in h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leven door onder mee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nieuwe) uitdagende doelen te 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g erheen in kaart 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vaardigheden te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 te moedigen om die doelen te bere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en nodig bij te 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dact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verdragen van kennis en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en gangbare didactische metho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nstr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leide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otiveren en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ven van de juiste prikkel om iemand enthousiast te maken iets te doen of te l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mand aansporen iets te doen of te laten op basis van overtuigingskr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ctoren die de motivatie beïnvl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nerlijk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tern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rel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strumentaliteitstheorie; drie aannam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ordt bepaald door een combinatie van krachten zowel gelegen in het individu als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nemen bewust besluiten aangaande hu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kiezen uit verschillende soorten gedrag op grond van de verwachting dat een specifiek soort gedrag tot het gewenste resultaat zal 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ieren van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gni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omotor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-affec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specten van sociaal-affectief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ctieve vaardigheden: het reageren op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actieve vaardigheden: het omgaan met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RUMBA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ev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nderstandable (begrijpelij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asurable (meet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vorial (concreet gedra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ttainable (haal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sen in het cyclische leerproc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 opdoen, concreet 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ren en 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uleren en ordenen, abstracte begrip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perimen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Leerstijlen volgens Kolb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ouwers/waarnem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n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lis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n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functies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groepsproce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nalyseren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en informel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en secundair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mogene en heterogen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interne functies va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sociale identiteit aan de l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ëren van een referentieka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en van de mogelijkheid zich van anderen te ondersch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de mogelijkheid om invloed uit te oefenen op de omgeving van de 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Groepsproce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treding tot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tstaan van sociale struc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der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roblemen bij socialis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ciale struct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 geïntegreerd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akgericht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eutral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xterne oorzaken voor veranderingen in de groepsstruc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chnologische verander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aan van organisatorische zwak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ing van buitena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ethoden voor beïnvloeden groepsstuctuur en - cul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groepsgroot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machtsconcentr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jl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he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uraf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W-vragen om een begeleidingsplan op te zet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me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nn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alyse van een groe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van de analys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ystematisch verzamelen van informatie, me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sociogr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atie heterogeniteit/homogen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rkte/zwakte-analy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ekken van conclus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richting van de leef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ing bij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gebruiks- en spel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plan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 van di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beh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richting; houd rekening m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inrich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merken va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rgebrui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plaa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 en 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uitzonderingen: regels aanp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maal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koffie- en theepauz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uimen en af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as 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den beh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auzes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een rustige, opgeruim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sfeerma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de wa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iket met wasvoorschrift le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kle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choonm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oog stofvrij maken (tapijt, hout, textie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t reinigen (gladde oppervlakk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een bepaalde volgo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nnen minimum en maximum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tsing werkvoorraad en buffer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vensmiddelen volgens de FIFO-meth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sartikelen: gee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bruiksartikelen: één stuk i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iligheidsaspect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m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(giftige) schoonmaak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PDCA-cyclu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: maak een pl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: voer het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ck: controleer de voortga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: hand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steun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tot samen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idelijke 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samenwerk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preken op groeps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odzaak duidelijk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spect gezelligheid onderst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houd spel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merplant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ctussen en vetplanten weinig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dplanten en bloeiende planten meer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water bij ho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nder water bij la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inwinnen bij de bloemist bij ziekten en ongedier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tten en hon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sten geld in het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gels en v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jn goedkoop in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s vragen op z'n tijd wel aandacht, vissen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kooi onderhouden kost weinig tijd, een aquarium goed onderhouden kost meer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dures vol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lijsten aanleggen en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 materiaal signa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istratiesysteem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 regelmatig controleren op fouten en gebreken; 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 materiaal inpassen in opbergsyst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ugdelijk materi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miss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erantwoord gedrag van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rijfshulpverlening (BH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an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en v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lijke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mische vloei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volgens 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eer b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uurstoftoevoer naar vlammen afsl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lam in de pan: deksel op de p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lucht via vlucht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aststellen en beoordelen van acties of activitei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op basis van dat oordeel conclusies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 te trekken, te onderscheiden i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voldoen aan veiligheids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bij mankementen vervangen of gerepareerd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goed onderhouden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kementen, let o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pott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goed functionerende of vastlopende beweg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of blootliggende bedrading bij elektrische appa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water/vocht en elektric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zittende stek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komen van vermiss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controleren aanwezig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maken wat te doen als je elkaar kwijt r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uren vergrendelen (alleen als instellingsbeleid!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mist! Wat nu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andere cliënten niet aan hun lot ov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na waar en wanneer de cliënt vermist raak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ek op logische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ld het volgens het instellings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 bedrijfshulpverlen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van brand en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d optreden bij brand en calamiteiten: contactpersoon met de hulpdiensten, ontruiming in gang zetten, gevolgen beperken, enzovoo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nen van eerste hulp (EHBO-functi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ende en agogische beroep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3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of juist nie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4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imuleren tot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5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specteren van de fysieke integrite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6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bij persoonlijke 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7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ulpmiddelen bij de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8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liënten verzor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9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rgonomische voorschrif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pleegtechnische handel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inder scheiding tussen verzorgend en agogisch werk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zorg en begel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unctieonderzoek en arbeidsmar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aan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aspecten van begeleiden 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d rekening met wat iemand zelf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 bij voorkeur samen wat iemand zelf niet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meedenken en meebesl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 aan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ren wat algemeen geldende normen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jzen op consequenties van afwijkend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het goede voorbeeld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onderdelen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onding en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ysiek contact in je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uiting van affec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bij wederzijds goed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functionele handelin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altijd eerst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arom je dat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ek de cliënt zoveel mogelijk bij wat je do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zoveel mogelijk zelf beslissing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preek elkaars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erm de 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 volgens de 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09120" y="7621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ichaam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nden wassen na toiletgebruik en voor het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douchen of in b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ebit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oets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loss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tandartsbezo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ing van kleding en schoei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ass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ar- en nagel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knipp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de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L-hulp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he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ingen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DL-hulpmidde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aankleden, zoals een aantrekhulp voor steunkousen of een knopenh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eten en drinken, zoals aangepast bestek of een antilekbe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wassen, zoals een kraanopener of een badborstel met gebogen handgre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haarverzorging, zoals een verlengde k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nagelverzorging, zoals een elektrische nagelvijl of een nagelborstel op zuign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toiletgang, zoals een toiletverhoger of 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erplaatsen, zoals krukken of rolla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cliën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de lichamelijke gestel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het verzorgingsmoment voor persoonlijke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voor bad of douch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 en washand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gel, badschuim of -ol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hampo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öh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-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waterafstotend schort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baden of douch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st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- en badbeugels voor de cliënt om zich aan vast te 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bij het wassen op be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kommen; één voor boven en één voor on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en en washand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 of pyj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ep of doucheg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nagel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eten en drin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 zoveel mogelijk rechtop zit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een lepel bij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at met cliënt tijdens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k mond tussendoor scho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incontin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the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ontinentiemateriaa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-wasbaar: wegwerpluier(broekje)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baar: katoenen luier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altamp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slakens en onder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et 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afsluiting van het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met vrijwilli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rgonomische voorschriften zijn belangrij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gezon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het werk zo efficiënt mogelijk te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prestatie van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pleegtechnische handel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en op het gebied van verplegen en verzorg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 behalve kennis ook een bepaalde vaardigheid voo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d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voegd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wettelijk geregeld is (voorbehouden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in de instelling geregeld is (risicovolle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kwaam b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kwaam als j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context van de handeling kent (waarom is het nodi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oel, het resultaat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vaardigheid hebt om de handeling methodisch uit te 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ijwerking of bijverschijnselen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risico's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2 Basisprincipes van 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3 Veel voorkomende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4 De inhoud van een verbandtromm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5 Infectieziek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6 Maag- en darmaandoen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7 Naar de dok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8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een ongeval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gnaleer eventuele gevaren, denk aan eigen veilig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e ernst van d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of je zelf hulp kunt verlenen, zo niet regel deskundig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en eerst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el voorkomende ongeval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wendige 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n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werp in neus of o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ectenb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uiltje in oo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lauw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nd er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tbreu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neuz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andaardinhoud van een verbandtromm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wondsnelverban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snelverbanden, nummer 1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snelverband, nummer 2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ideaal windsel, 4, 8, 12 cm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pakje witte watt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steriele gaasj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metaline compressen, steri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3 elastische, hydrofiele zwachtels 4 m lang, 6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driekante doeken, ook bekend onder de naam mitell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assortiment wondpleiste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rol kleefpleister, 2 ½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verbandschaa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veiligheidsspel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ectie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metting door micro-organis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ubatietijd: wel besmet, nog niet 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dere ziekte heeft eigen incubatie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inder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senvlies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khoe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z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de h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odvon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erpok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471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voorbereidings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267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anstellen coördin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organisatiecomité en werkgroep(en) aa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uccescriteria in kaart bre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erke en zwakke punten inventaris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rote lijnen vast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t team definitief same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lan van aanpak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8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groting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9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ventuele contracten afsl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rijwilligers werven en begelei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dere infectieziekten, onder ander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ddenoor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kou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oken am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i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ortsstui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ag- en darmstoorn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edsel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atyf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tip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den en w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 het spreek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sjes mee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geru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ts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schriften opvolgen en doorgeven aan collega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loeden op 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en opvoedings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 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ur bi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ulerend optr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in bijzonder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en op de ontwikkel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ysiek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fomstan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du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conta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kind leren zich met zijn eigenheid in de wereld 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dden door t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u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r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ingsvaardigh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 positieve handelingen en uitingen van opvoed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e bijdragen aan de ontwikkeling van een ki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lfredzaamheid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en voor veilige, vertrouw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op onderzoek laten uitg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en van eigen 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wat het kind al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persoonlijke manier van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feedback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wisselen met ru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ructuur bied je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oede inrichting van de 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ste daginde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regels en ritu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re opvoedmethod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opvoeders of verzor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Regulerend optr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en regels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onen en stra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leren zelf problemen op te lo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me-out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dag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gram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l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riaallij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: het wedstrijdsche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chrijving programmaonderdelen en plattegr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ativiteitsontwikkeling e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tekenis van beeldende vorming voor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ende en kunstzinnige vorming in fasen va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ps voor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ne doelen va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09120" y="53352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beteren originele denken, fantasie, verke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reatieve en esthetische ontwikkeling stimul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ognitieve competenties stimuleren, bijvoorbeeld de taal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motorische vaardigheden verbet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rsoonlijkheids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vorderen sociaal functioneren in groepen en in de samenlev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ezelf openstellen en jezelf leren 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ndere kunstzinnige, creatieve en culturele aspecten en uitingen leren kenn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schillende materialen en gereedschappen leren kennen en daarmee om leren ga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over onder andere kleur, vorm, ritme, muziek, dans, ruimte en compos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reflecteren op je eigen werk en dat van and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en zinvolle en plezierige tijdsbeste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eldende en kunstzinnige vorming in fasen van de ontwikkeling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unstzinnige en culturele oriën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dimensionaal 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dimensionaal en driedimensionaal werk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- en driedimensionaal werk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schema twee-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, gereedschappen en toe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- en driedimensionaal werken op verschillende leeftijd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len, gereedschappen en toepass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twe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pi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et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muziek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 op verschillende leeftij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ans en bewe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oneel en dra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Uitvoering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ördin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muni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tro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didactische aanpa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lang van een goe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 vorm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vorm 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ctiviteiten vormgev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ces va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rme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gericht -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geri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e expres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ven fasen beeldbeschouw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oorden eerste indru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wat je z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houdelijke achtergronden van de afbeelding verke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nier van maken analy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de beeldende aspe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functie en doelgroep van het kuns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luiting en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organisatiegebonden 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leidsplan of strategisch plan (3 tot 5 jaa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aarplan per onderdeel/afdeling (afgeleid van beleidspla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deelplannen, bijvoorbeel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dagogisch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nieuwbouw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usie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ociaal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sluiting evenemen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een prijsuitrei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ank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bouwen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palen van de waarde van een activiteit om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 van dat oordeel conclusies te trekken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erken met vrijwilliger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coördinator aan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wer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bestand aan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ken inventaris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introduc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schiedenis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behoeften zijn en hoe ze ontst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begeleidingsbehoefte n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delen van 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 met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tegratie zorg en welzijn blijkt u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smatige aanpak over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petenties beroepsopleid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gvallen van ‘muren’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rippen rond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verl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heel van activiteiten en handelingen dat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matig en bedoeld en bewust uitvoert om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te helpen bij het oplossen van zijn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je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soorten innerlijke 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tuationele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gebonden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n begeleidingsbehoefte naar begeleidingsactiviteit; twee uitgangspu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niet elke behoefte vraagt om een begeleidingsactivite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de cliënt bepaalt zelf zijn behoef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deel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plan (arts, psycholoog, psychiat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plan (disciplines die vooral begeleid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egplan (verpleging en verzorgin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plan (activiteitenbegeleid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splan (basisschool en voortgezet onderwij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lkuilen bij koppelen van activiteiten aan behoef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vra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veel accent op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n oog voor wat goed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nkele mogelijkheden om te hel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overnem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probleemdeel over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wijzingen g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nier waarop je je bij de uitoefening van je beroe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n in relatie met de cliënt gedraag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ar voor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afstemming binnen te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 van instelling wordt uitgedra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evingsvermo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inlevingsvermo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elt zich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stelt zich makkelijker op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is meer bereid na te denken over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un je respect tonen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e belangstelling voor iemand hebb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dering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elijk, beleefd, warm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n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uld t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cht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veel mogelijk en gemeend jezelf zijn in je relatie m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enmerken van de relatie cliënt-begeleid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erkte keuzevrijheid cliënt en begelei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hank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motionele bin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 en bekwaam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oor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requentie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ur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nsiteit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reiden van een pla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lysere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oefte pei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punten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ezen uit activiteitenrepertoi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uze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icht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uit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gevolgen van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voordelen van degene met wie je een emotionele binding heb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an (te) vermoeiend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2 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3 Zelfvertrouw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4 Zelfvertrouw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5 Ontdekken eigen mogelijk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6 Opkomen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7 Gedragsveran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8 Begeleiden bij praktisch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9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rippen begrep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in uiteenlopen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tandigheden vertrouwt op eigen kunnen en op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 besluit- en mening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pecten va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ken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beel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waa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Stimulere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bena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sporen oorzaken gebrek aan zelfvertrouw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ren van minder goede eigensch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Positieve bena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uit van de positieve k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bewust iets positiefs tege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woorden met een positieve beteke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Hulp bij ontdekken eigen mogelijkhed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 bij omgaan met nieuw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angen bij teleur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en motiv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ische weerbaarheid; het op een tactvolle manie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komen voor je eigen mening, wensen of bel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Ondersteuning bij 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oelen en 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fronteer en zoek oplo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en analyseer 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on zelf voorbeeld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tijdens de uitvo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en draaiboek bew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 begeleiden en coördin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proces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Gedrag staat in relatie to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ersoon zelf met alles wat bij hem of haar hoor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ysieke omgev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social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eleiding bij gedragsveran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inzicht i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cliënt zelf verantwoordelijkheid voor oploss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 ondersteun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udge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n tevoren vastgesteld bedrag waar je i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iode van tevoren vastgestelde (begrote) uitga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moe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h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oelens en emo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two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enz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8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raalwetenschap; filosofie van het juiste handelen 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zichte van medemensen, dieren of na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e normen in zorg en agogisch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rond leven en doo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waardige 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keurs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238248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 dilem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46200" y="2893680"/>
            <a:ext cx="8534160" cy="23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 rondom een ethische vraa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 individueel nivea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groter verb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685800" y="4395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lemma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43"/>
          <p:cNvSpPr/>
          <p:nvPr/>
        </p:nvSpPr>
        <p:spPr>
          <a:xfrm>
            <a:off x="755640" y="1052640"/>
            <a:ext cx="8534520" cy="23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thische keuzes;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waar krijg je mee te maken?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nsen en behoeften va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dere beroepsbeoefen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llega'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eigen normen en waarden (gewet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of ongeschreven regels, die je kunn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bepalen wat je wel en niet moet doen in situa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in het geweten een rol spee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717120" y="907560"/>
            <a:ext cx="853452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of negatieve afwijkingen van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685800" y="37893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fecten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3"/>
          <p:cNvSpPr/>
          <p:nvPr/>
        </p:nvSpPr>
        <p:spPr>
          <a:xfrm>
            <a:off x="684360" y="4149720"/>
            <a:ext cx="853416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23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ftige gemoedsaandoening; hevig gevo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stappen van de methodische begeleidingscyclus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mgaan met eigen 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je eigen gevoelsl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er je eigen emo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p emoties reagee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Aspecten van omgaan met emoties van clië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het gevoelsleven van de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eer de emoties van een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de cliënt zijn emoties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antwo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naar beste geweten en hier verantwoord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rekenschap) over af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renzen voor professioneel handelen worden bepaa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 en protoc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persoonlijke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Privacybescherming wordt onder andere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erege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t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waarden en 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17120" y="1052640"/>
            <a:ext cx="85345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de ander, tegen zijn zin, je wil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685800" y="360684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43"/>
          <p:cNvSpPr/>
          <p:nvPr/>
        </p:nvSpPr>
        <p:spPr>
          <a:xfrm>
            <a:off x="717480" y="3933720"/>
            <a:ext cx="853452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31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iets of iemand te bewer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sgebruik en machtsmisbrui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gebruik: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in het belang van de cliënt of de organis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misbruik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voor eigenbelang of verkeerde machts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ty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nc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s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gument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eren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orverwij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bro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en 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tschappelijke preven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, voorlichting en adv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 gecombineerd tot een samenhangend verh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, specifiek gericht op jouw persoonlijke vraag en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n bestaan uit één gegeven, een paar gegevens of veel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eft alleen een kennisdoel: de ander van iets op de hoog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gebreider dan inform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ordende en gestructureerd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 mo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passelijk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lledig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ouwbaar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of onvoorber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bij gevoelige of ingewikkelde z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oorbereid bij eenvoudige onderwerpen waar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van we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of 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bij individuen en bij eenmalig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 bij meerdere mensen en als herha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t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of groepsgewij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door middel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sgespr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gewijs door middel van een presentatie of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liënten vragen advies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m een ingewikkelde situatie of probleem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gevolgen van een keuze zwaar 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 zelf geen besluit kunn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elden van weerstand tegen advie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dringing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dracht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ektewinst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rstand vanuit gewetensfun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zelf onvoldoende kennis heb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niet bevoegd bent informatie t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het niet om jouw werkterrein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alkuilen bij 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op je gev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ementen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ai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Informatievragen kunnen betrekking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hebben op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 en scho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en w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usitiële maatreg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sondersteu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om je aan informatie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ocollen en handboe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och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meentegid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insituatie wordt bepaald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 instel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ële kad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taan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vormen van prev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preventie : voorkomen door oorzaken weg te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cundaire preventie : voorkomen door vroegtijdige opspo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rtiaire preventie : voorkomen van erg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ganisaties met preventieactivitei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G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nische zorgin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diens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Onderzoek en ontwikkeling preventieprogramma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zijn de risicogroep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zijn de risicofactor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factoren werken beschermend (preventief)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 kunnen de risicofactoren worden teruggedrong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 e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al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e levens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riendschap, relatie,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lijkwaardige verbondenheid tussen twee of meer mensen op basis van structurele wederzijdse belangstelling en sympath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min of meer structurele betrekking tussen twee of meer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mitei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gebieden van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s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van geestelijk en 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e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uncties van vriendscha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ien in een elementaire sociale behoef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, gevoelens, belangstelling 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 ontwikkelen of bevesti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p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af drie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ste intieme band is die met het opvoedingsmilie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is nog niet gericht op het zelf aangaan en onderhouden va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wisselt met enige regelmaat van vriendjes en vriendinnet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zoeken speelkameraadjes voor spel of andere activiteiten die ze samen kunn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 wordt nog geen onderscheid in geslacht gem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 zeven tot twaalf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langrijkste intimiteit blijft de thuis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zijn meer gericht op het aangaan en onderhouden van intimiteit met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solidariteit wordt belangrij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jes en vriendinnetjes wisselen minder v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hebben een voorkeur voor omgaan met h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jongens op meer 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meisjes op meer samen p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 twaalf tot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elen van intim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pen zijn heftiger en kwetsbaar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vaardigheden gaan een rol sp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nemende belangstelling voor andere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emste vriendschap m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S-formule voor probleemformul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 = probleem: wat kan iemand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 = etiologie: wat is de oorz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 = symptomen: wat zijn de verschijns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af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ast vriendschappen ook langdurige en diepgaande rel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breiding sociaal ne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aarmee het persoonlijke levensgebied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 betreden wordt en dat door die persoon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gewenst, vervelend, hinderlijk of bedreigend word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eksual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ing op het gebied van het geslachts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en belangrijke gebeurteni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beurtenis die belangrijk is als de cliënt deze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danig ervaa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 theoretische modellen bij verlieservaring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asentheorie van Elisabeth Kübler-Ro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takentheorie van J. William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fasentheorie van Elisabeth Kübler-Ros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in fasen verloop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1: ongeloof, ontke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2: boos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3: vervan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4: 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5: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theorie J.William Wor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vier taken ken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vaarden van het verl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erken van de p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van het leven zonder degene die er niet meer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emotioneel een plek geven en verder 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eidene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dactische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 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r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vatting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jlen van leiding geven/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aditionele i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eling Ohio State Univers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model van Hersey en Blanchar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ach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raditionele indeling begeleidingsstij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ut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‘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issez-faire’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2:41:50Z</dcterms:created>
  <dc:creator>Erik</dc:creator>
  <dc:description/>
  <dc:language>en-US</dc:language>
  <cp:lastModifiedBy>Elly Peters</cp:lastModifiedBy>
  <dcterms:modified xsi:type="dcterms:W3CDTF">2018-10-09T09:25:33Z</dcterms:modified>
  <cp:revision>11</cp:revision>
  <dc:subject/>
  <dc:title>De inhoud van dit thema:</dc:title>
</cp:coreProperties>
</file>