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396-B566-4E79-B1A0-72E9E850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DC3-3B01-4217-ABEE-0D79A903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9CAC-03D9-4FE4-A584-4240AAB6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112-D20A-472E-A866-81A45DFC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C03B-BB18-4A29-8D26-BBCDBC9F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5B04-8178-4D6A-B0DE-F178E278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CBC3-24D8-44DB-82CD-8C46B2D3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34BE-07DD-4F71-B32F-CFF113DD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14D8-D165-4418-B74E-ACF1BC88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C4CF-B74A-4344-A73D-684419A5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299A-B457-4970-9191-39E5AB2D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FEF-87C4-4BF6-9299-A476CEE2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EAF1-E9A5-4C67-A7DD-4182B20E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0E5A-1C30-4FE1-BD97-72B110B0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24B7-D894-452B-9D02-C287C6F9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D562-6603-4E84-B6C9-870E83C7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2D56-8AD1-4AAC-BBFE-E666C1E2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9E9-9A30-4C09-B9E9-615780CE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CD8-AC98-410D-AD7A-A1ACD368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FE7-55AB-45AE-9F74-043CC9DF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8676-9759-4DA4-87D6-570C83C8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ABD-19C7-4E28-8138-9A0A4AD2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CCB-6A0B-4020-8EAE-3A1D2F5C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BD8-0408-4742-8B59-0FD71E57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B2A8-3DAA-4C82-B4D3-D511C6487EA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8732-7B09-4017-8E40-0C2071E86AB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Bodem en bemes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kelvoudige kunst-mestof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kunst-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olog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676944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59054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is nu het best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t hangt af hoe je het toepa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ke eenzijdige bemesting is onvolle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mbinatie van organische stoffen en mineralen is meestal het bes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 voor het bodem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ineralen voor de vo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stoffen (van de chemische industrie 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van natuurlijk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ikstofmeststoffen 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osfaatmeststoffen (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limeststoffen (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gnesiummeststoffen (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met spore-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meststoffen (N+P+K+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voudig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amensgesteld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28600" y="2576520"/>
            <a:ext cx="2695680" cy="26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602320" y="1719360"/>
            <a:ext cx="2128680" cy="212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24360" y="3716280"/>
            <a:ext cx="14018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07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dierlijk of plantaardig 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composteerd huisvu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vat vaak veel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lage gehaltes aan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een sterk bacterieleven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werk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6044"/>
          <a:stretch/>
        </p:blipFill>
        <p:spPr>
          <a:xfrm>
            <a:off x="468360" y="620640"/>
            <a:ext cx="741672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Meststoffen van natuurlijke oorspro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wonnen uit zee (alg, kora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fossiele oorsprong (guan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droogde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valproducten van slachterij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stproducten uit de indust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ak gemakkelijk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voeding van plant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vengronds: vorming van suikers door zonlicht (assimilat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eneden (buit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gronds: water met daarin mineralen opgel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oven (binn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pstroom onderbroken: afsterving van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4160" y="538200"/>
            <a:ext cx="62956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m welke mineralen gaat he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grot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osfaat (Phosfaat) (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lium (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gnesium (M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avel 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klein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ndere scheikundige elementen zo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, Ni, Si, Ba enz. (de zgn spore-element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arin zitten deze voedings eleme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In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lmest, compost, slib, champost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In mineralen van biolog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wier, koraal, vogelmest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. In kunstmatig gefabriceer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684036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weet je wat er nodig 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worden onderzocht in het labaroto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incent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demkundige labor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co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onderzoek -&gt; adv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8-10-31T23:07:36Z</dcterms:modified>
  <cp:revision>8</cp:revision>
  <dc:subject/>
  <dc:title>Bodem en groen</dc:title>
</cp:coreProperties>
</file>