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A4BB-CD95-4668-8139-066AA0580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E2C0-0B88-41F7-BE16-32F1612EA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2815-2BC1-4F86-B0F3-108FCA6C9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A353-CA0E-4C2F-8F3A-B16A69DD1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A5FA6-83AA-44DE-93F4-9CE0863BC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62B93-D602-437D-9A8C-937B65942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A715F-27B5-479B-9CB8-A5F216B0B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51145-4506-484A-B237-BA087019E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746A3-DB9A-40B7-8548-B2F1EF15E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A0254-DE3F-4563-A9E4-B1B6ACAA1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0FE49-5080-49E1-8A0B-2DEB626F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CEC6-2E06-427B-B28A-AD0E8FD83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784D6-BABF-4ACA-9C9F-5DED81F7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C87CE-ADD8-433B-89E4-726359C9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B1E51-0129-4C23-A839-FB7BED032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247A1-B80A-42E3-85FC-D602343A0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CCB36-43E2-4C9C-B759-452AA2C5C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5F72-6B48-4789-9257-4C51D7619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202C-7604-48F5-85CC-D54C93B1E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A1DD-2845-48D9-BF5C-360713170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27CE-F282-4174-B08F-C8D6B711D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E31A-0D35-46B8-87DE-E4CFC252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1B4D-97C7-4668-81F5-8013ED3D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2290-E58F-4FBE-B0B0-A4D786F6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19E01-9F10-43E9-9752-5C3401564866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3F7CE-6B11-4D87-92C5-C0F100545526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06633"/>
                </a:solidFill>
                <a:latin typeface="Garamond"/>
              </a:rPr>
              <a:t>Onderzoek van de bodem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Wat kun je onderzoeke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rondso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pbouw van het profi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erhoudend vermo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erst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Grondsoor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nd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 aangewaa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 aangespoe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eemhoudende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lei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 rivier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 zee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vel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en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De zand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ndgronden die door wind zijn neergeleg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dekzand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duin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zandkorrels zijn afgeronde kiezelsteentj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ssen de vingers voelt het aan als schuurpapier, je voelt de korrels duidelijk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an weinig water vast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De zand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ndgronden die door het water zijn afgeze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ivierz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ez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korrels zijn scher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ssen de vingers voelt het aan als grof schuurpap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an weinig of geen water vast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De leemhoudende 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eem is een zeer fijne zandkorr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heeft eigenschappen als 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houdt veel vocht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roogt op in harde bon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waar te be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ssen de vingers voelt het aan als fijn schuurpap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Kleigronden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er fijn verweerd gesteentemateria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elt tussen de vingers in vochtige toestand aan als een smeermid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udt veel water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el plantenvoedende minera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waar te be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Zavel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korrelgrootte ligt tussen zand en 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oede vochthoudende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rettig te bewerken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ssen de vingers voelt het aan als een smeermiddel met wat fijn zand erd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Veen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ltijd van organische oorspr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aagveen (wordt onder water gevorm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ogveen (wordt boven de waterspiegel gevormd) is bijna verdw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21:09:10Z</dcterms:created>
  <dc:creator>Peter</dc:creator>
  <dc:description/>
  <dc:language>en-US</dc:language>
  <cp:lastModifiedBy>Peter</cp:lastModifiedBy>
  <dcterms:modified xsi:type="dcterms:W3CDTF">2008-11-20T16:57:56Z</dcterms:modified>
  <cp:revision>5</cp:revision>
  <dc:subject/>
  <dc:title>Werkvoorbereiding</dc:title>
</cp:coreProperties>
</file>