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F09B-C359-472A-B879-86CCDFB2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C7FE-7B56-4F7B-BAC4-B5117BB9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4A9-CAC0-401F-9302-5A7E0D39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22C2-0DE5-4826-88CD-9C99221D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92FF-CE6C-4182-8FC5-4BCE6BE5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8AC6-775E-45ED-BF1A-CEB22331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BC00-5F60-428C-B70F-93DBBD7A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8D1B-1E36-44B8-BC04-A254D82A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885E-C5CA-4F40-892C-0F06A532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5B01-D086-42BD-9BB7-CE13D8C5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2F22-29FD-4FC6-82BE-FB869511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3C9-68E8-48B0-AC2D-ED092C27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D299-BA47-45A5-BED6-5630B81D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86A1-9306-4103-B470-CE918F4B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C82A-1758-49F9-BE7E-7E09CEB7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5702-F551-4789-89C0-5359F97F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40DB-9531-4E93-B88E-81535982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9252-F9E2-4E9C-B89C-AF77DF6C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9CA-4320-4EC0-B71F-4F804B27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FF78-FE54-4D2F-ACA2-E753B072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A7E-993C-43F9-A7BB-7B94CE58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7AF-97D2-453D-9666-631C0FD0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249F-A67D-44A0-90B5-FBEDEDD8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88F7-6027-40F4-85A9-9953C14F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075E-B803-4E5E-9DAD-268F13A86D24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B406-6547-4D91-9FFE-6C7C37957C42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vies en plann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rst denken, da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heb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wil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moet je dan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wie doe je dit eigenlij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 jij er wat a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klant er gelukkig m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heb j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ariseren van alle tuin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es (of strekkende met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waliteit van het materiaal of 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bekijk je nog me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 ligt het object of tu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is de toegankelijkhei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ingen door bijv. de buu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n je overal met je materiaal bijko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ende werktij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12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 toega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ga je navrag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speciale 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afvalver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egang tot het terrein/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registratie werkt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keuren voor het werk, tijden, personeel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en tekening geeft duidelijkheid,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ar is er niet altij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4120"/>
            <a:ext cx="5256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33:23Z</dcterms:created>
  <dc:creator>default</dc:creator>
  <dc:description/>
  <dc:language>en-US</dc:language>
  <cp:lastModifiedBy>default</cp:lastModifiedBy>
  <dcterms:modified xsi:type="dcterms:W3CDTF">2008-09-18T12:47:27Z</dcterms:modified>
  <cp:revision>5</cp:revision>
  <dc:subject/>
  <dc:title>Advies en planning</dc:title>
</cp:coreProperties>
</file>