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EAE4-828F-4564-9038-509995AF8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9F9A-9427-4574-AE14-25374D0F1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8FC6-3B09-405A-9F5B-A2E03165F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682D-9863-454F-99DA-C595041F0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1440B-B323-44B0-820D-AA5AC379D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1F9BC-E973-49A2-B392-F75132696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FEC64-D017-458D-BE67-4E0F5109F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9A9AB-2484-4CEA-A1A3-2143B3183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6BED4-7DD2-41F4-A1DF-B414BEA4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EA729-450C-4B1C-A442-EB1E1A131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D9499-3AC0-4C91-AC69-25D90B2A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11D1-388A-4F4D-871A-DAB98C3EE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BF208-2C78-4BFB-8D3E-84F4957C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3ACA2-4BAA-45E2-A389-ED2ADECA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211C9-4300-4577-9BFE-FF94F5ED7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344DB-CC6D-4A21-9FD1-A97AE8678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1B5B3-FE89-4A90-9F71-A41B57A39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9E54-8EB8-4A70-BD45-13CF11B74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F5D3-AD18-47E1-B7AF-AF21899BE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F6C9-EF65-41E1-88F1-D32428FF5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2D88-0E03-4E68-8CC0-ADFC14772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2E2E-5312-4EA3-8AAD-39B65C32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F24A-06BB-4A9D-B2FF-0BE9B86C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35A6-A2DC-4AF0-BC8A-AB690F93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23645-6557-4AE8-AF9A-F12971991AA6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6BACF-8E36-4F63-BC7C-59CD30219A62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factsheet.do?request=download.factsheet&amp;id=74315842&amp;format=x-ms-wmv" TargetMode="External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anwb.nl/published/anwbcms/content/binaire-bestanden/pdfs/over-anwb/test-speeltuinen-931108.pdf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www.vwa.nl/portal/page?_pageid=119,1639866&amp;_dad=portal&amp;_schema=portal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peeltoestelle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t  onderhou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Beknopt systeem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eknopt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ij slechts enkele speelgelegenhe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er speeltoestel een logboe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ogboeken bunde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itgebreid systeem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ij meer dan 10 speelgelegenhe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er wijk of stadsdeel registrer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lke speeltoestellen op welke speelgelegenhe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to’s zijn aanbevo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puterprogramma’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ogboek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erplich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oor het aststellen aansprakelijkheid ongevall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formatie over wat en waa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echnische gegeve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ijzigingen die zijn aangebrach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Keuringen die zijn verrich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6141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Onderhoudsgegeven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2222640"/>
            <a:ext cx="9144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Het ongevallenbla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1300320"/>
            <a:ext cx="9144000" cy="55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99"/>
                </a:solidFill>
                <a:latin typeface="Arial"/>
              </a:rPr>
              <a:t>Inspectie-onderhoud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3 soorten inspectie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rote inspec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Functionele inspec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isuele inspec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30840" y="2133720"/>
            <a:ext cx="805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ffff99"/>
                </a:solidFill>
                <a:uFillTx/>
                <a:latin typeface="Arial"/>
                <a:hlinkClick r:id="rId1"/>
              </a:rPr>
              <a:t>Het onderhoud aan speeltoestell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Klik op de link en bekijk de film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Grote inspecti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Controle van de algehele veilighei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anwezigheid van roest, houtrot e.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instens 1 maal per jaa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Lijst met te inspecteren onderde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Soms uit te voeren door de leveranci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99"/>
                </a:solidFill>
                <a:latin typeface="Arial"/>
              </a:rPr>
              <a:t>Functionele inspectie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Controle op stabiliteit en sterk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erbindi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Werken de lagers no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oldoet het bodemmateria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instens 1 maal per 3 maan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Visuele inspecti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Wekelijks of routinemati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evaarlijke situaties door bijv. het weer, vandalisme of gebrui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ij constatering direct actie ondernem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Soms kan dagelijkse inspectie nodig zij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02080" cy="45306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0" y="450864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Verbindingen controle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Verven en andere oppervlaktebehandelin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Schokdempende bodemmaterial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Opruimen en schoonhoud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444480" y="-360"/>
            <a:ext cx="569916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Preventief onderhou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Correctief onderhou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ervanging van verbindi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ervanging kapotte delen van de construc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erwijderen gevaarlijke vervuil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anvullen bodemmateria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Onderhoud aan alle vrije ruimten van het terre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539640" y="1224000"/>
            <a:ext cx="7885080" cy="56340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Gevaarlijke vervuiling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99"/>
                </a:solidFill>
                <a:latin typeface="Arial"/>
              </a:rPr>
              <a:t>Onderhoud van bodemmaterialen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Zand aanvullen, losmaken of verva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outsnippers aanvul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ras onderhoud als een gaz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ervuiling verwijder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Rubber tegels controler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etontegels en straatklinkers, asfal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eubilai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Rubber tegel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Opdrach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Inventarisatie van speeltoestellen op de Zwiesebor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et behulp van een inventarisatie- syste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Formuleer actiepunt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Einde presentati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974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68360" y="5303880"/>
            <a:ext cx="604836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Om na te lezen, klik op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ff99"/>
                </a:solidFill>
                <a:uFillTx/>
                <a:latin typeface="Verdana"/>
                <a:hlinkClick r:id="rId2"/>
              </a:rPr>
              <a:t>Test speeltoestellen door de ANW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wetgeving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et attractiebesluit verplicht de beheerder de speeltoestellen zodanig te onderhouden dat er geen gevaar voor de gezondheid of de veiligheid van personen besta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oed onderhoud moet gepland wor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ierbij is een goede adminsitratie nodi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Wie ziet toe op de veiligheid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e Voedsel en Waren Autoriteit is de overheidsorganisatie die de veiligheid van voedsel en consumentenproducten onderzoekt en bewaakt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ff99"/>
                </a:solidFill>
                <a:uFillTx/>
                <a:latin typeface="Verdana"/>
                <a:hlinkClick r:id="rId3"/>
              </a:rPr>
              <a:t>Klik op deze link voor de informa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Drie stappen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. het opzetten van een inventarisatiesyste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. het aanleggen van een logboe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. het maken van een inspectie- en onderhouds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rcRect l="10141" t="15942" r="40400" b="35246"/>
          <a:stretch/>
        </p:blipFill>
        <p:spPr>
          <a:xfrm>
            <a:off x="0" y="20520"/>
            <a:ext cx="9144000" cy="684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Onderhou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inspectie-onderhou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preventief onderhou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correctief onderhou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- voor de speeltoestel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- voor de bodemmateria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- voor het aanwezige straatmeubilai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Inventarisatiesysteem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e moet weten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lke speeltoestellen er zij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 overige voorzieni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aar ze zich bevin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15:35:48Z</dcterms:created>
  <dc:creator>default</dc:creator>
  <dc:description/>
  <dc:language>en-US</dc:language>
  <cp:lastModifiedBy>Peter</cp:lastModifiedBy>
  <dcterms:modified xsi:type="dcterms:W3CDTF">2008-01-17T10:59:18Z</dcterms:modified>
  <cp:revision>6</cp:revision>
  <dc:subject/>
  <dc:title>speeltoestellen</dc:title>
</cp:coreProperties>
</file>