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8D5-09D1-451D-AFCA-A4A5B370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40AD-BF6A-43D1-91D0-9459D721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6CE-6886-4B1F-A810-EA6C5A11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1BF-3EE5-4353-A753-57F93BF2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CB71-85ED-4E16-A762-6910EFA7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81CC-4D59-46D2-8610-C023E168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CCD3-2B29-49F1-A258-6265B5B9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EE6D-C976-4477-9412-A2C204D9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01AA-52B3-4B8D-B842-080F97EC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64C1-DD47-4C57-A521-EDF0F738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4F59-EEF2-4AFE-B5FB-0963790E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39C-EDF5-44C9-B242-7763F876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6F68-D22F-4505-B658-4196581E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638C-B94C-42F0-A05E-7180C236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C05F-BB06-4A30-9464-53D18B85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59F0-C30B-4AE3-89A7-8D5273DB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EFF9-5BE8-4622-B9D8-57C2E9C8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E15-C196-464F-B94C-0AD7EEB7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A89-5CBF-4DA7-8AC3-42815185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415-229A-44A2-9A31-52E60123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B657-3747-4052-85FA-FB1D37D8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B5E-A90A-435E-8FB1-871A6726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3FE-09D3-4F06-BAE7-F76E99AA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3B8-B905-470D-B927-89DEFD96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2435-A7E8-4380-B04E-1716E494A1E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3350-275E-42B2-B734-9E18BBAED37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290041&amp;format=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odem en groe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vo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mogelijk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Grondwater is bereikba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ussen 50 en 150 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Grondwater is niet bereikbaar (water bereikbaar maken of grond waterhoudend m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29592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 grondwater is bereikba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heet een grondwaterprofiel of contact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water zit tussen 50 cm en 150 cm vanaf het maaiveld gem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enwortels kunnen direct water opn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Het grondwater zit dieper dan 150 cm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heet een hangwaterprofiel (alleen het water wat in de grond blijft hangen kan door de plant worden benut en van de neersl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 blijft hangen is vooral afhankelijk van het slibgehalte of het gehalte aan organische sto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door wordt droge grond waterhoude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er organische stof in de gr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 bemesten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lm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a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05160" y="3860640"/>
            <a:ext cx="5838840" cy="251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neersla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Nederland valt ca 750 mm neerslag per jaar, maar wel ongelijk over het jaar verdee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84720" y="1719360"/>
            <a:ext cx="4859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4240" y="2004840"/>
            <a:ext cx="6251400" cy="414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fiek van het KN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wat ondervinden de planten daarv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 groeiperiode is er meer verdamping dan neersla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volg zou kunnen zijn: afster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ar de grond houdt ook wat vast en kan worden gebruik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 het grondwater bereikbaar is, is er ook geen proble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verdamp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het groeiseizoen is er verdamping van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damping in het groeiseizoen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loten beplanting: ong. 500 mm per j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itaire bomen en struiken: ong. 600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planting in de stad: tussen 750 en 1000 m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le grond verdampt ongeveer 300 mm per groeiseiz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neerslag in het groeiseizoen is ongeveer 350 mm. Er is dus een TEKO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itaire boom of b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moet dat d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lukkig kan de grond ook water vasthou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verschilt per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: wein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: v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: verschillend, maar vaak red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bewortelingsdiepte is ook van bela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grondwater zit soms niet di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moet je in het groen dus doen voordat je gaat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 onderzoeken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ri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eikbaarheid van het grond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doe je m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grondboor en een penetrometer en leg je v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doe je met deze informati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liss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verva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iep 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een organische bemesting uitvoert en door de grond werk en hoe di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arna stuur je de klant een juiste reken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Een voorbeeld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og een voorbeel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643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dan het planten, maar eerst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 bewerken om gemakkelijker te kunnen plant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het profiel te verbeter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en om onkruiden onder te werk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grondlagen te wissel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mee bewerk je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ien (om het onkruid kort te krij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re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lo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torkopeg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2736720" cy="220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2998800"/>
            <a:ext cx="5003640" cy="375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95800" y="2790720"/>
            <a:ext cx="4048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erke verkruimeling van de ondiep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dee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regen werkt de grond als een sp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niet worden betr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gemakkelijk inza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freezen: grond aandrukken met een w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oeg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ikt voor grote oppervlak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een aanwezige vegetatie: voorscha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epte tot ong. 30 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: vóór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: ná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3708360" cy="255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29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tten met de kra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en kleine mach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ndb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 diepten mog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men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orden ingehuu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Rotorkope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ewerking van grove grondbe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grote projec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erkruimeling en vlakleg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kun je in het veld zien aan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s://livelink.groenkennisnet.nl/livelink/factsheet.do?request=download.factsheet&amp;id=74290041&amp;format=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bij landbou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nd bestaat u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Vaste delen (ong. 50%) en is van minerale of organische oorsp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Poriën (ong. 50%) en is gevuld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038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hoe zit dat soms bij groenvoorzien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sterke verdichting (bijv. nieuwbouw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ien zijn in elkaar gedrukt, waardoor per volume meer vaste de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minder dan 40% porienvolum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is onbewortelba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rzaak meestal mechanische verdichting onder natte omstandighe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un je dit me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 met een penetro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waarde op de klok mag niet boven 25-30 kg k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1619280" cy="299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static cone penetrometer"/>
          <p:cNvPicPr/>
          <p:nvPr/>
        </p:nvPicPr>
        <p:blipFill>
          <a:blip r:embed="rId2"/>
          <a:srcRect l="0" t="0" r="0" b="7346"/>
          <a:stretch/>
        </p:blipFill>
        <p:spPr>
          <a:xfrm>
            <a:off x="5148360" y="270828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ank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bomen: oorzaak  van omwaaien of scheefz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 bij hoge grondwaterst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e indringing op geringe diep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nstens 50 cm diep is nod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770120"/>
            <a:ext cx="40384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3929040" cy="558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diep wortelen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lu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zuurstof) minstens 1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koolzuurgas) samen met 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2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en bi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water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rottend materiaal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faltbedekking van de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7-09-20T18:53:39Z</dcterms:modified>
  <cp:revision>7</cp:revision>
  <dc:subject/>
  <dc:title>Bodem en groen</dc:title>
</cp:coreProperties>
</file>