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65BA-B65D-4461-92DB-806F1A2CD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2FC2-A7ED-4BAA-995C-DF62E0EB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D5B7-6BA3-4D3C-8A02-3B4C46223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F77A-3E73-4034-8871-9A83B1CEF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31E0-9F24-4C36-BA5F-97B14CB1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3C6B-8626-4615-AC8A-A94D14B4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F9D6-5E5C-4862-AAB9-13039FD3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EA01-3764-42ED-9657-81684070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F450-D731-4BCA-A4E9-D0E8379C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3CF5-8D59-4DA1-929E-B05F2CDC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6BE6-FA68-49B8-B04A-64F7096A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D92D-B4D2-4A0C-9DFE-2F3C1E95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B63F-BF62-4A1D-B829-9E9438D0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AF18-14D1-4249-83B3-4E523145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D468-BE63-441E-BDAA-784C26C2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FD5E-6562-4C60-80FD-E484EEFAD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873E-C981-47F4-9CD3-2B9291F7C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1740-5ED0-4392-B99D-75963647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ECA4-BD29-46F0-9F9B-FA65F5D4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2742-9C7D-46AF-A31B-08EB3069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570D-BD7B-47A1-B350-B4452DA6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55AD-734A-4157-A8F1-1386BC9F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5610-D108-4F6C-BFFB-D3505CD6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D398-C9E9-485C-98F1-C1399EEE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8406-5052-4145-BB3E-DEFB3E7F955D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27BD-D357-4B67-9430-36902411420D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Werkvoorbereiding projecte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inventaris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heb i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veel vrag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n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eriode uitvoe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s er een teke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et er wat worden verander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zit het met de verwerking van gron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Afbeelding 1" descr=""/>
          <p:cNvPicPr/>
          <p:nvPr/>
        </p:nvPicPr>
        <p:blipFill>
          <a:blip r:embed="rId1"/>
          <a:stretch/>
        </p:blipFill>
        <p:spPr>
          <a:xfrm>
            <a:off x="539640" y="701640"/>
            <a:ext cx="712800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kunt meestal maar 1 x m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t ju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uw controles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raa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zoek het terrein/gebi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ken duidelijk, systematis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eem foto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Beschrijf de toesta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slag (rijplat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reikbaarhei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ikbare ruimte (depo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perk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gelijkheden / alternati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ees hel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werkvoorbere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kl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persone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leveranci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je informatie overdraagbaar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Maak/gebruik lijs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ventarisatiesyste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anda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Afbeelding 1" descr=""/>
          <p:cNvPicPr/>
          <p:nvPr/>
        </p:nvPicPr>
        <p:blipFill>
          <a:blip r:embed="rId1"/>
          <a:stretch/>
        </p:blipFill>
        <p:spPr>
          <a:xfrm>
            <a:off x="826920" y="2087640"/>
            <a:ext cx="2853000" cy="2141640"/>
          </a:xfrm>
          <a:prstGeom prst="rect">
            <a:avLst/>
          </a:prstGeom>
          <a:ln w="0">
            <a:noFill/>
          </a:ln>
        </p:spPr>
      </p:pic>
      <p:pic>
        <p:nvPicPr>
          <p:cNvPr id="89" name="Afbeelding 2" descr=""/>
          <p:cNvPicPr/>
          <p:nvPr/>
        </p:nvPicPr>
        <p:blipFill>
          <a:blip r:embed="rId2"/>
          <a:stretch/>
        </p:blipFill>
        <p:spPr>
          <a:xfrm>
            <a:off x="4067280" y="2733840"/>
            <a:ext cx="4724280" cy="3544560"/>
          </a:xfrm>
          <a:prstGeom prst="rect">
            <a:avLst/>
          </a:prstGeom>
          <a:ln w="0">
            <a:noFill/>
          </a:ln>
        </p:spPr>
      </p:pic>
      <p:pic>
        <p:nvPicPr>
          <p:cNvPr id="90" name="Afbeelding 3" descr=""/>
          <p:cNvPicPr/>
          <p:nvPr/>
        </p:nvPicPr>
        <p:blipFill>
          <a:blip r:embed="rId3"/>
          <a:stretch/>
        </p:blipFill>
        <p:spPr>
          <a:xfrm>
            <a:off x="4606920" y="603360"/>
            <a:ext cx="395604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Afbeelding 4" descr=""/>
          <p:cNvPicPr/>
          <p:nvPr/>
        </p:nvPicPr>
        <p:blipFill>
          <a:blip r:embed="rId1"/>
          <a:stretch/>
        </p:blipFill>
        <p:spPr>
          <a:xfrm>
            <a:off x="1433520" y="476280"/>
            <a:ext cx="54450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Nieuw wer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kent het werk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kent de klant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een prijsopgave do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een planning m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het juiste personeel uitkiez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het juiste materiaal inze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de randvoorwaarden we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inventarisat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 is h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is de toegankelijkhe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kan wel en wat kan nie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ijn er andere beperking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is er allema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verwacht de kl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mag het kost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Afbeelding 1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20108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148360" y="1700280"/>
            <a:ext cx="36828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Hoe is de ligging in de buurt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8" name="Picture 6" descr="ontwerp_uw_eigen_tuin1"/>
          <p:cNvPicPr/>
          <p:nvPr/>
        </p:nvPicPr>
        <p:blipFill>
          <a:blip r:embed="rId1"/>
          <a:stretch/>
        </p:blipFill>
        <p:spPr>
          <a:xfrm>
            <a:off x="0" y="0"/>
            <a:ext cx="49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dus veel w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veelh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n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st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dus veel m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pervla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en van ongeregelde z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1:09:10Z</dcterms:created>
  <dc:creator>Peter</dc:creator>
  <dc:description/>
  <dc:language>en-US</dc:language>
  <cp:lastModifiedBy>Jan van der wiele</cp:lastModifiedBy>
  <dcterms:modified xsi:type="dcterms:W3CDTF">2018-12-01T16:52:46Z</dcterms:modified>
  <cp:revision>7</cp:revision>
  <dc:subject/>
  <dc:title>Werkvoorbereiding</dc:title>
</cp:coreProperties>
</file>