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2925-9171-4450-88F6-A77697E06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A301-DC13-45CE-8A75-2304FD871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6257-E647-4425-9D39-F6883F9BF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F9FF-7363-49BE-903F-9384C6834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D4BC-7DE0-4F9E-86EC-4CB012E4B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1589-6E1C-435E-9DD1-5E72723C8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73E8-364F-4C04-8D44-9EFD05EE9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E8D3-C45A-4729-84DC-B94917B7D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BAFF-53F9-4142-BBC4-470DB3A7E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35C1-F01E-4587-8766-CBB3ACEF4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ED21-464F-4CC9-ADFA-888497E5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97BD-3DB9-4799-833E-BD93A68A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D2548-08CA-4662-B589-D019EE140A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voorbereiding Tui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850920" y="1196640"/>
            <a:ext cx="5003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roting maken zie 3.2 van het digitale bo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57920" y="620280"/>
            <a:ext cx="238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 da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705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groten is du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lijst van objectgegevens van de planinventarisatie gebrui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 object de werkzaamheden uitzoe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lissen hoe je het gaat aanpak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 welke mach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et hoeveel men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het begrotingsformulier zetten en optell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 niet vergeten een nota stu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3850920" y="1196640"/>
            <a:ext cx="5003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bruik Het Groene Bo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13253" t="14943" r="9742" b="13575"/>
          <a:stretch/>
        </p:blipFill>
        <p:spPr>
          <a:xfrm>
            <a:off x="0" y="1413000"/>
            <a:ext cx="9144000" cy="48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e vind je het groene boe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132000" y="4221000"/>
            <a:ext cx="914400" cy="43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4508640"/>
            <a:ext cx="1726920" cy="50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7956720" cy="6659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86868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 het Begrotingsformulier, zie bo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e vind je het begrotingsformuli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21474600">
            <a:off x="395280" y="4437000"/>
            <a:ext cx="158436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195640" y="4365720"/>
            <a:ext cx="201600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e pak je dit aa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m je lijst met objec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paal wat er voor moet worden ged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bruik daarvoor het Groene B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reken de benodigde tij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et dit in je begrotingsformul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e gebruik je het groene boe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udeer eerst de inhoudsopg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or opruimen ga je naar rubriek: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or grondwerk ga je naar rubriek: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or klinkerverhardingen ga je naar rubriek: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briek gevond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vind hier hoe lang je doet over een eenheid (bijv. een m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vind ook hoeveel je doet in bijv. een uur (bijv. aantal m2 per uu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vindt met hoeveel personen is gerek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met welke werktuigen is gerek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e voorkom je dat je iets verge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15139" t="15755" r="12141" b="9810"/>
          <a:stretch/>
        </p:blipFill>
        <p:spPr>
          <a:xfrm>
            <a:off x="971640" y="1197000"/>
            <a:ext cx="7092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19:29:52Z</dcterms:created>
  <dc:creator>Administrator</dc:creator>
  <dc:description/>
  <dc:language>en-US</dc:language>
  <cp:lastModifiedBy>Administrator</cp:lastModifiedBy>
  <dcterms:modified xsi:type="dcterms:W3CDTF">2010-10-21T20:05:03Z</dcterms:modified>
  <cp:revision>3</cp:revision>
  <dc:subject/>
  <dc:title>Werkvoorbereiding Tuinen</dc:title>
</cp:coreProperties>
</file>