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B18-0FB2-440A-AA04-0FD42C7C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37A-B341-4AC6-8664-C5610049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C340-CB2D-4564-86FF-FBAB1D1C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448-60B7-43C5-B87B-7C19ED59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542E-7261-4601-A7CD-616B108A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ECB1-084D-4755-9880-0B440A11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E0AF-966C-4274-AAB2-7D46CA73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A80F-4131-48A6-98F9-39CAD34A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0F4F-D371-4273-A751-A937ED8A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5796-7E9A-4C99-83BD-68A798D4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6453-D289-4921-A6B4-63A269DF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7FDD-CE33-43B1-AD02-FE6CC842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052B-9546-40E6-B1E3-64EF84C7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FA9B-E2C3-4773-AAAA-07E2CCBB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6329-9BB6-435E-B609-92811B66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2E0D-AEAC-4A92-B520-EFFDC817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BA79-ACFA-44F4-8613-43CF2CE9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3AB-C7D3-4D34-9E6F-5E161375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3885-C780-4990-A202-E492F495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F988-D511-4F77-A696-D15A05C0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4E9-CB96-49D4-96D4-51F421B7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3E23-4C40-4EA7-9B5F-8B270165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9166-127F-4AF9-BD74-716C6B9A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46E-6BE0-442A-9332-CAF0B608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64A3-5D46-4008-B975-C0E522DDF1D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E5AF-EBDB-422A-95D3-F3D9BBA9399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Bodem en bemes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kelvoudige kunst-mestof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kunst-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olog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676944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59054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is nu het best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t hangt af hoe je het toepa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ke eenzijdige bemesting is onvolle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mbinatie van organische stoffen en mineralen is meestal het bes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 voor het bodem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ineralen voor de vo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stoffen (van de chemische industrie d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van natuurlijk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ikstofmeststoffen 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osfaatmeststoffen (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limeststoffen (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gnesiummeststoffen (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met spore-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meststoffen (N+P+K+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voudig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amensgesteld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28600" y="2576520"/>
            <a:ext cx="2695680" cy="2695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602320" y="1719360"/>
            <a:ext cx="2128680" cy="212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924360" y="3716280"/>
            <a:ext cx="14018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2007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dierlijk of plantaardig 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composteerd huisvu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vat vaak veel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lage gehaltes aan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een sterk bacterieleven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werk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0" b="6044"/>
          <a:stretch/>
        </p:blipFill>
        <p:spPr>
          <a:xfrm>
            <a:off x="468360" y="620640"/>
            <a:ext cx="741672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Meststoffen van natuurlijke oorspro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wonnen uit zee (alg, kora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fossiele oorsprong (guan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droogde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valproducten van slachterij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stproducten uit de industr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ak gemakkelijk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voeding van plant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vengronds: vorming van suikers door zonlicht (assimilati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eneden (buit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gronds: water met daarin mineralen opgelo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oven (binn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pstroom onderbroken: afsterving van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24160" y="538200"/>
            <a:ext cx="62956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m welke mineralen gaat he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grot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Fosfaat (Phosfaat) (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lium (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agnesium (M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wavel 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klein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ndere scheikundige elementen zo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o, Ni, Si, Ba enz. (de zgn spore-element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arin zitten deze voedings eleme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In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lmest, compost, slib, champost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In mineralen van biolog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wier, koraal, vogelmest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. In kunstmatig gefabriceer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684036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weet je wat er nodig 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worden onderzocht in het labarotor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incent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demkundige labor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co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onderzoek -&gt; adv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8-10-31T23:07:36Z</dcterms:modified>
  <cp:revision>8</cp:revision>
  <dc:subject/>
  <dc:title>Bodem en groen</dc:title>
</cp:coreProperties>
</file>