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A8E0-C084-402A-97FC-DFC9E8BCD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932F-3E15-4476-BCEF-FA69C4AA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1ECD-098D-4B74-B6B5-31A6D6EB2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9367-06D9-42C7-9E6D-40EBAD51F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A376-77D1-449B-AA0C-1A89C8F1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ECAB-27AC-4D3F-9E44-758B00B4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06A3-2111-48A5-A191-D128D620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08C2-7B70-4745-AD18-6985425D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7E12-0198-43B0-85C2-DEC5F9DB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3450-0CEC-4AFE-A3D3-17278223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1882-577E-428E-A0AA-A5C3A9CB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F3EA-157B-4CCF-BDB2-C793FF4F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9705-6F82-41E6-BFAE-FDCEF483B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waliteit plantmateria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en op w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en kweken uit za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één groeijaar ("1+0") gero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planten, wederom gerooid. in het vakjargon "1+1". (2 jaar 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geplant voor twee jaar (is dus 3 jaar oud), wordt dan gerooid, gesorteerd en verkocht, dit is de "1+2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ring (internationa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203480"/>
            <a:ext cx="860436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703520"/>
            <a:ext cx="91440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581328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59080" y="0"/>
            <a:ext cx="551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1120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x 7 (P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x 9 (P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Liter (C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m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2-14 (stamomtrek op 1m hoog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4-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6:04:29Z</dcterms:created>
  <dc:creator>johan</dc:creator>
  <dc:description/>
  <dc:language>en-US</dc:language>
  <cp:lastModifiedBy>johan</cp:lastModifiedBy>
  <dcterms:modified xsi:type="dcterms:W3CDTF">2009-06-12T09:28:42Z</dcterms:modified>
  <cp:revision>4</cp:revision>
  <dc:subject/>
  <dc:title>Kwaliteit plantmateriaal</dc:title>
</cp:coreProperties>
</file>