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4.wmf" ContentType="image/x-wmf"/>
  <Override PartName="/ppt/media/image23.jpeg" ContentType="image/jpeg"/>
  <Override PartName="/ppt/media/image18.jpeg" ContentType="image/jpeg"/>
  <Override PartName="/ppt/media/image21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9.jpeg" ContentType="image/jpeg"/>
  <Override PartName="/ppt/media/image2.png" ContentType="image/png"/>
  <Override PartName="/ppt/media/image4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C44E-9BF5-4FCE-9D9D-8790B772F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2119-0235-455A-8701-4C7BB1570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5741-9FC6-4B76-A53C-0A3F62865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F9CF-701A-4C20-8B84-659B81E34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D45A3-7BEB-454A-8506-C09993A4C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89109-F473-4B9A-B81B-8F868EF1B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8B4D4-7876-4D9F-ADC6-382E69C87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07EF9-49E4-4FAB-BAE9-009A4F05F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835A5-9CD0-42F5-BA88-1E7AB4DC1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13E56-F3AD-4BF4-9591-FAAC0BEA4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DA518-EF22-4A81-90EF-CCDBB1DE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D211-3652-495A-8D9D-5268F9FA9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C8D68-4E58-470D-B97D-3D469F9C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4245D-11F4-4750-A98E-95B0C775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2544E-05C9-4167-95A7-A1A74B3D8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BCE43-D7D9-4596-B378-210FE35FF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58918-624B-4427-BE46-DE5A2A169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A335-7296-428B-8FC4-47E5B62D3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5111-D751-4CBD-80B7-D72CABB41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5E2F-77E8-4ABA-A39F-4BFBC5122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1708-2F6B-4FBC-AAD5-1D692E886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CE73-CB8F-4782-A51C-8797B738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857F-0C72-49A6-93E3-047FCF21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A6A4-B63E-46DC-B577-1C47BCD3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9F02C-06AF-41C5-9C3B-9EB3D96D3716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FF0B8-F83C-4B30-A15F-297009847AB1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factsheet.do?request=download.factsheet&amp;id=74290041&amp;format=pdf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4.wmf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Bodem en groen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hebben planten nod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demvoch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5122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 mogelijkhede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 Grondwater is bereikbaa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tussen 50 en 150 c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 Grondwater is niet bereikbaar (water bereikbaar maken of grond waterhoudend ma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867280" y="765000"/>
            <a:ext cx="295920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1 grondwater is bereikbaa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t heet een grondwaterprofiel of contactprofi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water zit tussen 50 cm en 150 cm vanaf het maaiveld geme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ntenwortels kunnen direct water opnem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2. Het grondwater zit dieper dan 150 cm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it heet een hangwaterprofiel (alleen het water wat in de grond blijft hangen kan door de plant worden benut en van de neersla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veel blijft hangen is vooral afhankelijk van het slibgehalte of het gehalte aan organische stof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aardoor wordt droge grond waterhoudend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Meer organische stof in de gron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us bemesten m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talme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omp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hamp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e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Tur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Enz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305160" y="3860640"/>
            <a:ext cx="5838840" cy="25131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003640" y="1197000"/>
            <a:ext cx="2808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e zit dat met de neerslag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In Nederland valt ca 750 mm neerslag per jaar, maar wel ongelijk over het jaar verdeel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284720" y="1719360"/>
            <a:ext cx="485928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424240" y="2004840"/>
            <a:ext cx="6251400" cy="414504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rafiek van het KNM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 wat ondervinden de planten daarva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de groeiperiode is er meer verdamping dan neerslag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gevolg zou kunnen zijn: afsterv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ar de grond houdt ook wat vast en kan worden gebruik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s het grondwater bereikbaar is, is er ook geen problee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715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e zit dat met de verdamping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het groeiseizoen is er verdamping vana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gew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en w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851280" y="2565360"/>
            <a:ext cx="493236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erdamping in het groeiseizoen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sloten beplanting: ong. 500 mm per ja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itaire bomen en struiken: ong. 600 m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planting in de stad: tussen 750 en 1000 m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ale grond verdampt ongeveer 300 mm per groeiseizo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neerslag in het groeiseizoen is ongeveer 350 mm. Er is dus een TEKOR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Solitaire boom of b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1520" y="0"/>
            <a:ext cx="6060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e moet dat da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lukkig kan de grond ook water vasthoud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it verschilt per grondso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nd: weini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en: ve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lei: verschillend, maar vaak redelij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bewortelingsdiepte is ook van belang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grondwater zit soms niet di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at moet je in het groen dus doen voordat je gaat plante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nd onderzoeken op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ndso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ring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reikbaarheid van het grondw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t doe je me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en grondboor en een penetrometer en leg je vas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at doe je met deze informatie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slissen 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grond moet worden vervan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grond moet worden bewerk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e diep de grond moet worden bewerk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e een organische bemesting uitvoert en door de grond werk en hoe die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arna stuur je de klant een juiste rekening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Een voorbeeld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1719360"/>
            <a:ext cx="914400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Nog een voorbeel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643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 dan het planten, maar eerst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rond bewerken om gemakkelijker te kunnen planten 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rondbewerking om het profiel te verbeteren 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rondbewerken om onkruiden onder te werken 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rondbewerking om grondlagen te wissel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aarmee bewerk je de grond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aien (om het onkruid kort te krijge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Freez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loe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pit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otorkopeg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re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51280" cy="28893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4788000" y="260280"/>
            <a:ext cx="2736720" cy="22050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0" y="2998800"/>
            <a:ext cx="5003640" cy="37512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095800" y="2790720"/>
            <a:ext cx="404820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 Fre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terke verkruimeling van de ondiep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adeel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a regen werkt de grond als een sp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grond kan dan niet worden betre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grond kan dan gemakkelijk inzak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a freezen: grond aandrukken met een w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 groeiplaats: gron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langrijkste eis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1. Verankering van het gew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2. Voldoende groeikans d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. Bodemluc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. Bodemvoc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. Voe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loege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lleen geschikt voor grote oppervlak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j een aanwezige vegetatie: voorschaa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iepte tot ong. 30 c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leigrond: vóór de win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ndgrond: ná de win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435640" y="2492280"/>
            <a:ext cx="3708360" cy="25545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2936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pitten met de kra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te en kleine machi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ndba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e diepten mogelij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ede menging van 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an worden ingehuu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Rotorkope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bewerking van grove grondbewer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 grote projec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ede verkruimeling en vlaklegging van 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Wat kun je in het veld zien aan de grond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s://livelink.groenkennisnet.nl/livelink/factsheet.do?request=download.factsheet&amp;id=74290041&amp;format=pd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0" y="0"/>
          <a:ext cx="590400" cy="48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5904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0" y="0"/>
          <a:ext cx="590400" cy="485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5904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0" y="0"/>
          <a:ext cx="590400" cy="485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0"/>
                    <a:ext cx="5904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e zit dat bij landbouw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ond bestaat ui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 Vaste delen (ong. 50%) en is van minerale of organische oorspro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 Poriën (ong. 50%) en is gevuld me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 helft wa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 helft luc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211640" y="3645000"/>
            <a:ext cx="403848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 hoe zit dat soms bij groenvoorziening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j sterke verdichting (bijv. nieuwbouw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orien zijn in elkaar gedrukt, waardoor per volume meer vaste del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j minder dan 40% porienvolume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grond is onbewortelbaa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orzaak meestal mechanische verdichting onder natte omstandighed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un je dit mete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915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 met een penetrome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 waarde op de klok mag niet boven 25-30 kg kom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340000" y="2781360"/>
            <a:ext cx="1619280" cy="29908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static cone penetrometer"/>
          <p:cNvPicPr/>
          <p:nvPr/>
        </p:nvPicPr>
        <p:blipFill>
          <a:blip r:embed="rId2"/>
          <a:srcRect l="0" t="0" r="0" b="7346"/>
          <a:stretch/>
        </p:blipFill>
        <p:spPr>
          <a:xfrm>
            <a:off x="5148360" y="2708280"/>
            <a:ext cx="19447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eranker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ij bomen: oorzaak  van omwaaien of scheefzak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lecht bij hoge grondwaterst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lechte indringing op geringe diep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Minstens 50 cm diep is nodi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648320" y="1770120"/>
            <a:ext cx="403848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835280" y="1052640"/>
            <a:ext cx="3929040" cy="55893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e diep wortelen plante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demluch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zuurstof) minstens 16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koolzuurgas) samen met 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tijd 21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lemen bij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 veel water in 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 veel rottend materiaal in 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faltbedekking van de worte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18:41:36Z</dcterms:created>
  <dc:creator>Peter</dc:creator>
  <dc:description/>
  <dc:language>en-US</dc:language>
  <cp:lastModifiedBy>Peter</cp:lastModifiedBy>
  <dcterms:modified xsi:type="dcterms:W3CDTF">2007-09-20T18:53:39Z</dcterms:modified>
  <cp:revision>7</cp:revision>
  <dc:subject/>
  <dc:title>Bodem en groen</dc:title>
</cp:coreProperties>
</file>