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3973-50D9-4A7B-8DA8-0B2EABFE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FCFC-1646-4B5A-B08B-638C4C53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4E77-04ED-477D-ADDB-6E1C0AB4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D90F-B9C9-48DB-B97A-34D253D5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51E4-A934-40CE-949D-7E5A0CC7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13AA-1255-484E-93E1-75CFA926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BBD0-E570-4A45-853B-97FEAC68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5671-E9C5-44B7-A35D-1F43F1F0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5DA2-40AC-4A70-B49B-1EE067D0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2930-40D2-4191-B394-02D3AE0B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259D-9A41-490C-87A9-CAC08DA8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5890-B0C5-461B-B0B5-298AFA12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ED68-820E-4C59-8CCB-C0E36BD6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B779-C840-4747-BA83-CE64013D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9D45-7CD0-44C7-8D5A-DC72D1AD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D7A6-4497-4402-8953-51690CF6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B922-A56F-44E5-A063-376E017B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206E-987B-4075-BCC7-F10BE404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CFF-510A-45C4-BA88-08DCDE3C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2C53-F70C-4758-AF2C-05ED0ACB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6363-D2D9-4646-A921-62FD3394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2A8-026D-41C3-A4CE-2816E64C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7341-F61A-41B7-A63C-76F8F8AC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53E7-C464-4DE1-818A-2046DD63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322B-0689-4844-9E05-F60173D07B2A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D5C7-7F25-45A1-999F-C148F8E0C397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Werkvoorbereiding project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ventar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heb i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veel vra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eriode uitvoe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et er wat worden verander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t het met de verwerking van gron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fbeelding 1" descr=""/>
          <p:cNvPicPr/>
          <p:nvPr/>
        </p:nvPicPr>
        <p:blipFill>
          <a:blip r:embed="rId1"/>
          <a:stretch/>
        </p:blipFill>
        <p:spPr>
          <a:xfrm>
            <a:off x="539640" y="701640"/>
            <a:ext cx="71280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kunt meestal maar 1 x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t ju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uw controle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zoek het terrein/geb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ken duidelijk, systematis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eem foto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eschrijf de toest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lag (rijplat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reikbaarhei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ikbare ruimte (depo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perk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gelijkheden / alternati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ees hel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werkvoorbere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kl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person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leveranc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informatie overdraagbaar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ak/gebruik lijs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ventarisatiesyst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nd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fbeelding 1" descr=""/>
          <p:cNvPicPr/>
          <p:nvPr/>
        </p:nvPicPr>
        <p:blipFill>
          <a:blip r:embed="rId1"/>
          <a:stretch/>
        </p:blipFill>
        <p:spPr>
          <a:xfrm>
            <a:off x="826920" y="2087640"/>
            <a:ext cx="2853000" cy="2141640"/>
          </a:xfrm>
          <a:prstGeom prst="rect">
            <a:avLst/>
          </a:prstGeom>
          <a:ln w="0">
            <a:noFill/>
          </a:ln>
        </p:spPr>
      </p:pic>
      <p:pic>
        <p:nvPicPr>
          <p:cNvPr id="89" name="Afbeelding 2" descr=""/>
          <p:cNvPicPr/>
          <p:nvPr/>
        </p:nvPicPr>
        <p:blipFill>
          <a:blip r:embed="rId2"/>
          <a:stretch/>
        </p:blipFill>
        <p:spPr>
          <a:xfrm>
            <a:off x="4067280" y="2733840"/>
            <a:ext cx="4724280" cy="3544560"/>
          </a:xfrm>
          <a:prstGeom prst="rect">
            <a:avLst/>
          </a:prstGeom>
          <a:ln w="0">
            <a:noFill/>
          </a:ln>
        </p:spPr>
      </p:pic>
      <p:pic>
        <p:nvPicPr>
          <p:cNvPr id="90" name="Afbeelding 3" descr=""/>
          <p:cNvPicPr/>
          <p:nvPr/>
        </p:nvPicPr>
        <p:blipFill>
          <a:blip r:embed="rId3"/>
          <a:stretch/>
        </p:blipFill>
        <p:spPr>
          <a:xfrm>
            <a:off x="4606920" y="603360"/>
            <a:ext cx="395604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fbeelding 4" descr=""/>
          <p:cNvPicPr/>
          <p:nvPr/>
        </p:nvPicPr>
        <p:blipFill>
          <a:blip r:embed="rId1"/>
          <a:stretch/>
        </p:blipFill>
        <p:spPr>
          <a:xfrm>
            <a:off x="1433520" y="476280"/>
            <a:ext cx="54450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Nieuw we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het werk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de klant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rijsopgave d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lanning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personeel uitki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materiaal inze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de randvoorwaarden w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inventarisa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is h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is de toegankelijk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kan wel en wat kan ni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ijn er andere beperking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is er allem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verwacht de kl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ag het kos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Afbeelding 1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20108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148360" y="1700280"/>
            <a:ext cx="3682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Hoe is de ligging in de buurt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Picture 6" descr="ontwerp_uw_eigen_tuin1"/>
          <p:cNvPicPr/>
          <p:nvPr/>
        </p:nvPicPr>
        <p:blipFill>
          <a:blip r:embed="rId1"/>
          <a:stretch/>
        </p:blipFill>
        <p:spPr>
          <a:xfrm>
            <a:off x="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w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n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en van ongeregelde z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Jan van der wiele</cp:lastModifiedBy>
  <dcterms:modified xsi:type="dcterms:W3CDTF">2018-12-01T16:52:46Z</dcterms:modified>
  <cp:revision>7</cp:revision>
  <dc:subject/>
  <dc:title>Werkvoorbereiding</dc:title>
</cp:coreProperties>
</file>