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0F7-9498-4698-A8C2-A29B27A1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407-64CE-44F6-80FD-868FC7C9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E97-0273-4A91-ACD3-2554D4E2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F91-6E85-4957-8DB7-31C6FC75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964F-51B7-4072-8E01-4E2F8589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E469-59D5-4918-B4B6-706F7871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42F7-8A04-4140-8356-C63AD56F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841F-B1AF-4FDA-A02E-10AB3F3F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1ACC-D5A8-43C3-80DF-59869808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1ADF-9DE9-4904-B039-7DEADB1A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CD7C-93C1-4FEE-A933-C076A7D4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E29A-E094-4F6C-9967-AB4576DC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ECC5-05B4-44F5-96D1-246E1A0C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C10A-459C-4433-9341-C26754E4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0ECC-C1AF-4CE3-A588-CEF16B4A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3B9D-477E-41A3-8E19-9E65018B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BC3B-17CE-45FB-B5B1-E8D93379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4761-7CAC-4DD7-B978-6BE46267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AD7-82D3-4170-9DBC-F0C32474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D3F-C2C9-4A51-B8D6-F7ED14B0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745-7ACE-4D41-A22D-D3A65AD8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756-94C0-4699-8486-6FC75FC0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EDA-8EE6-4043-9826-F2EC246C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7C7-2AF5-4D54-9EEB-7FD1C822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3486-963C-472C-BAF5-A1729E9BE84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E5BE-E4AA-464D-B2AE-3CABAE24DA1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Bodem en bemes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kelvoudige kunst-mestof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kunst-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olog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676944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59054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is nu het best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t hangt af hoe je het toepa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ke eenzijdige bemesting is onvolle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mbinatie van organische stoffen en mineralen is meestal het bes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 voor het bodem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ineralen voor de vo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stoffen (van de chemische industrie 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van natuurlijk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ikstofmeststoffen 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osfaatmeststoffen (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limeststoffen (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gnesiummeststoffen (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met spore-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meststoffen (N+P+K+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voudig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amensgesteld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28600" y="2576520"/>
            <a:ext cx="2695680" cy="2695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602320" y="1719360"/>
            <a:ext cx="2128680" cy="212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24360" y="3716280"/>
            <a:ext cx="14018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2007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dierlijk of plantaardig 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composteerd huisvu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vat vaak veel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lage gehaltes aan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een sterk bacterieleven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werk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0" b="6044"/>
          <a:stretch/>
        </p:blipFill>
        <p:spPr>
          <a:xfrm>
            <a:off x="468360" y="620640"/>
            <a:ext cx="741672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Meststoffen van natuurlijke oorspro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wonnen uit zee (alg, kora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fossiele oorsprong (guan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droogde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valproducten van slachterij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stproducten uit de indust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ak gemakkelijk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voeding van plant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vengronds: vorming van suikers door zonlicht (assimilat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eneden (buit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gronds: water met daarin mineralen opgel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oven (binn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pstroom onderbroken: afsterving van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4160" y="538200"/>
            <a:ext cx="62956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m welke mineralen gaat he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grot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Fosfaat (Phosfaat) (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lium (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gnesium (M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avel 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klein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ndere scheikundige elementen zo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, Ni, Si, Ba enz. (de zgn spore-element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arin zitten deze voedings eleme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In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lmest, compost, slib, champost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In mineralen van biolog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wier, koraal, vogelmest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. In kunstmatig gefabriceer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684036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weet je wat er nodig 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worden onderzocht in het labaroto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incent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demkundige labor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co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onderzoek -&gt; adv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8-10-31T23:07:36Z</dcterms:modified>
  <cp:revision>8</cp:revision>
  <dc:subject/>
  <dc:title>Bodem en groen</dc:title>
</cp:coreProperties>
</file>