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83B-3DCB-4F94-B257-BB28A5EA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E99E-BB75-40AE-9F46-BBC1B85F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AD5-56DB-4B15-B672-BCC0932B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8EC-67AA-4DB0-A3CD-C6E8A137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8D61-9373-4C2B-9C96-3CBB051F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4DF9-4450-41B0-B766-C6228F31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744B-DE6B-452C-9E35-C6F9BEB7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1ABB-5C46-4CE0-89CD-6E098317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5B72-21CB-48E0-A866-A667ADBC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ECF6-2695-4E88-AE84-284112E3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4DFB-0EC8-4935-963B-BDA2F9FA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588-C25B-4ECC-92B1-7FEE678D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1F6F-C50B-40DF-8770-3CCDB838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4EF0-2BCC-440D-A626-44106DE0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C7F8-67C4-496C-9F19-771CD23F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BB8B-F3A9-4921-BA95-C8F69423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C6D5-8A61-4B47-B97D-E3D07E09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F09-0A52-404F-B8C0-E3B910CE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2B0-3FE7-4515-907B-5BDA5F48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FF6-378F-4093-A8CA-D96DB2E5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2F5-04DF-40A7-ACD5-451CF54E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0FEF-2442-46CC-88C9-0F6E288D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229-9173-4FC9-80F6-A5DD2482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EBD6-60D4-495D-9CFC-A927B604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8CC7-7601-48D4-AE87-B78A46F03C93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4BB1-76DA-4DBC-ACC4-EA0BFA7DDD1F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Werkbeschrijvingen en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la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en misverstanden met de kl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rekenen van de kosten (offert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heid voor het persone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orkomen van misverst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ste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juridisch docu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communicati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itgangspunt voor  calculatie en ra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idraad voor de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Juridisch documen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 over rechten en plich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187280" y="2232000"/>
            <a:ext cx="5185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mmunicatiemidd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ussen opdrachtgever en uitvoer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48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Uitgangspunt voor calculati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owel opdrachgever als uitvoerder kunnen de kosten bereke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554364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Leidraad voor de uitvoer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. Het resultaat t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1403280" y="2297160"/>
            <a:ext cx="6554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ntrol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ijn de afspraken nagekom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2465280"/>
            <a:ext cx="4859280" cy="4392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Waaraan moet een goed bestek voldoen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actuele gelijkwaard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verdeling van verantwoordelijkhed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duidige besteks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geen verschil van men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richt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duidelijkheid over te gebruiken materialen en toelaatbare afwijk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stenhomogenit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meer- of minderwerk voor afgesproken prijz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RAW-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AW bestekken van de CR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tworpen voor de grond- water- en weg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u ook voor de groene ruim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automatise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De werkomschrijv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le werkzaamheden voor het aanleggen of onderhouden van groen of een tu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 volgorde waarin ze worden uitgevo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gens een vast sch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 de hand van de inventaris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verzichtelij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930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Standaardbepaling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 gebruikte bepal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stgelegd in een standaardwe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n toepassing bep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fwijkingen apart beno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ofdstuk 51 voor de groenvoorzie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standaar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611280" y="888840"/>
            <a:ext cx="8208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inschrijvingsstaa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amenvatting van het bestek voor calc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971640" y="2017800"/>
            <a:ext cx="64800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overzich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aan te leggen of te beheren oppervla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wijze van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verwerk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bereikbaar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gronds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Beschrijving van de werkzaamheden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delen van de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schrijven van de te verrichten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van oppervlakten 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en werkmetho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van een indel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Omschrijving per onderde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werkzaamhed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materialen die gebruikt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noem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beschrij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Een voorbeeld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bewerken oppervlak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do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leven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keuzes (afhankelijk van de omstandig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of -volgor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0:18:07Z</dcterms:created>
  <dc:creator>Peter</dc:creator>
  <dc:description/>
  <dc:language>en-US</dc:language>
  <cp:lastModifiedBy>johan</cp:lastModifiedBy>
  <dcterms:modified xsi:type="dcterms:W3CDTF">2014-04-28T15:05:17Z</dcterms:modified>
  <cp:revision>6</cp:revision>
  <dc:subject/>
  <dc:title>Werkbeschrijvingen en bestekken</dc:title>
</cp:coreProperties>
</file>