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3E81-1096-4126-9645-946E7BF1B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2619-3D50-449D-B469-7D2467BE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A9CE-BA5D-4A2F-AF09-5DA35526C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6C71-6908-4C38-BD0B-54A1A895A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6A47-0447-4A24-91E5-B1175EFD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7E6A-5BAB-4391-A5D1-F1D05E7E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6589-C1B0-46EA-8754-03F2C565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8E2F-94B5-4F2E-AEB2-FCEABAE5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8EF3-483E-43B1-AB04-6301152B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3ACF-2C4D-41B4-B2A4-6A422A8A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3CCE-F405-4609-91C4-E226B255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DB36-291D-4E13-ADC1-4FC50AEC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990D-9AA6-48A9-9266-5C048A0FF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l van het onderhoud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derhoudspla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derhoudsadv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betekent dit allema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onderhoud is geen re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passen aan de wensen van de k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ok als tegenvoorstellen niet aan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ueel op schrift vastleg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isschien in de vorm van een werkomschrijving of een beste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 grote klanten: beeldbes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300720" y="4437000"/>
            <a:ext cx="284328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n je dit zonder overleg uitvoeren omdat je het nodig vind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71640" y="1401840"/>
            <a:ext cx="727236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s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totaal van alle werkzaamheden in een tu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deeld over de verschillende onderhoudsgroe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deeld over de seizo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k materialen noemen (bijv. bemes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delen goed toeli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nodig noodzakelijke machines no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ermee kan worden gecalculeerd en offertes gemaa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kmanschap vraagt om veel kennis en ervaring en geen gezw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3289320"/>
            <a:ext cx="5184720" cy="3568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084720" y="1484280"/>
            <a:ext cx="2857680" cy="3695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50920" y="1413000"/>
            <a:ext cx="2857320" cy="23810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851280" y="1268280"/>
            <a:ext cx="20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sadv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werkzaamheden die nodig zijn om het gewenste niveau te bereiken of be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 noodzakelijke werkzaamheden het ee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seizoen uitsplit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nt kan bepalen welke werkzaamheden hij zelf kan of w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uw vaktechnische inzicht is belangr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derhoudsadvies: vaak ter plaat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2571840"/>
            <a:ext cx="2857680" cy="4286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987640" y="1125360"/>
            <a:ext cx="3381480" cy="5124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588000" y="2060640"/>
            <a:ext cx="22384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lstell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houd in een tuin moet ergens toe lei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anten hebben vaak een verwac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kunnen vaktechnische obstakels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kunnen financiele belemmeringen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klant betaalt, dus ook: bepa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8000" y="76464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l elke klant dit mooi vin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beeld van een bedo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 oppervlakte die begroeid is met gras kan dienen v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s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op te voetba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kinderen tenten te laten bouw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ook begroeid te zijn met bloeiende pla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dieren te hou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et onkruidvrij zijn, of juist n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vrij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hoog stel je een grasmachine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03280" y="1211400"/>
            <a:ext cx="619308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onderhoud erva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onderhoud je een speelveld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siergaz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bloemrijk grasveld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gazon wat in de schaduw li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als er dieren worden gehou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et het pad onkruidvrij zijn of mag er ook wat op of overheen groei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76360" y="1168560"/>
            <a:ext cx="5977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weet je wat is gewen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de inventarisatie goed rondkij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stellen d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vraag van de klant beoordelen op de haalbaarheid en zonodig een tegenvoorstel d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s kun je het gewoon z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76360" y="1197000"/>
            <a:ext cx="55148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9:21:36Z</dcterms:created>
  <dc:creator>Administrator</dc:creator>
  <dc:description/>
  <dc:language>en-US</dc:language>
  <cp:lastModifiedBy>Administrator</cp:lastModifiedBy>
  <dcterms:modified xsi:type="dcterms:W3CDTF">2009-10-15T19:48:36Z</dcterms:modified>
  <cp:revision>2</cp:revision>
  <dc:subject/>
  <dc:title>Doel van het onderhoud, Onderhoudsplan Onderhoudsadvies</dc:title>
</cp:coreProperties>
</file>