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A30-F1EB-4E33-98D8-00E9493E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5956-4548-4A19-A571-9AD52F6D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CAF-15FB-4BFB-B760-8FB29C30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87A-7E0E-4E02-8DE2-27A27E2D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4E30-2491-4B22-B236-2AF3B769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676-24DB-4467-AF12-0A73C939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46A-CD0A-49F5-B9DB-7FB94579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57D-40E4-4409-A7B1-F6D7F828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F97-DD84-4195-A687-4D43133F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AE4D-5F50-47E5-B090-147A52CD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168-11EC-44F6-8EC6-FF6E6657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9280-C054-433A-B99B-E15A4C55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2147-D0AC-4D72-B56D-567528CB7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orbereiding Tu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 maken zie 3.2 van het digitale b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57920" y="62028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roten is d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jst van objectgegevens van de planinventarisati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bject de werkzaamheden uit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issen hoe je het gaat aanp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elk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oeveel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t begrotingsformulier zetten en op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niet vergeten een nota st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Het Groene 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253" t="14943" r="9742" b="13575"/>
          <a:stretch/>
        </p:blipFill>
        <p:spPr>
          <a:xfrm>
            <a:off x="0" y="141300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ind je het groene bo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2000" y="4221000"/>
            <a:ext cx="9144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08640"/>
            <a:ext cx="1726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56720" cy="66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het Begrotingsformulier, zie bo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ind je het begrotingsformu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74600">
            <a:off x="395280" y="4437000"/>
            <a:ext cx="1584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36572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pak je dit a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m je lijst met ob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al wat er voor moet worden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aarvoor het Groene 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benodig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 dit in je begrotings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gebruik je het groene bo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udeer eerst de inhoudsop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opruim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grondwerk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klinkerverharding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ek gevo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hier hoe lang je doet over een eenheid (bijv. een m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ook hoeveel je doet in bijv. een uur (bijv. aantal m2 per 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t met hoeveel personen is ger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t welke werktuigen is ger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oorkom je dat je iets verg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5139" t="15755" r="12141" b="9810"/>
          <a:stretch/>
        </p:blipFill>
        <p:spPr>
          <a:xfrm>
            <a:off x="971640" y="1197000"/>
            <a:ext cx="70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29:52Z</dcterms:created>
  <dc:creator>Administrator</dc:creator>
  <dc:description/>
  <dc:language>en-US</dc:language>
  <cp:lastModifiedBy>Administrator</cp:lastModifiedBy>
  <dcterms:modified xsi:type="dcterms:W3CDTF">2010-10-21T20:05:03Z</dcterms:modified>
  <cp:revision>3</cp:revision>
  <dc:subject/>
  <dc:title>Werkvoorbereiding Tuinen</dc:title>
</cp:coreProperties>
</file>