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590A-A409-47E4-A311-CA677BD1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EAC1-AF15-4508-B2A3-8B683CC7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B71E-515C-4C97-BF9F-49E3879F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D32-84F8-4B67-9762-88C2BBF6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DC87-535A-44C6-98C7-4B5346A4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8D4C-0A2C-417A-906D-A6C28EF4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E57D-66BB-4BB5-AA81-3EF2AE1A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81CC-CFF1-48A1-B41A-593B717B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5851-B3E0-407D-8AB8-0126AA77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FF45-1062-4387-8267-2BB91C31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9B7A-1EA7-412B-9ADC-9E7264F3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578D-D3EC-49BC-89B2-6FFE9BC0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8658-B6A6-4D13-A26A-F386751A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81F3-018F-4694-96F2-F6E26110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BCE2-53E6-4412-8886-E241C8EA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4BA7-D2AB-48F2-B370-E77CE663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D475-E01A-40E1-B15F-38F7BE28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5FDF-6675-40B2-A65A-44ADF2D4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765-CF64-4C51-9517-13CFCD2C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02BF-A6E9-417A-97E9-8CD5F768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2950-AB83-4FDD-953E-7EFA7842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583-AFF6-4D45-8986-6F3FF10B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384-FE72-46BC-B1A6-536AB506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512-372B-418B-A475-6F82EDDB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F3D8-FDB3-43E4-9877-A8E5BDE2068B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0901-1E14-4D98-8CE4-8218F505831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Werkvoorbereiding project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ventar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heb 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veel vra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eriode uitvoe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et er wat worden verande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t het met de verwerking van gro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fbeelding 1" descr=""/>
          <p:cNvPicPr/>
          <p:nvPr/>
        </p:nvPicPr>
        <p:blipFill>
          <a:blip r:embed="rId1"/>
          <a:stretch/>
        </p:blipFill>
        <p:spPr>
          <a:xfrm>
            <a:off x="539640" y="701640"/>
            <a:ext cx="71280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kunt meestal maar 1 x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t ju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uw cont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zoek het terrein/geb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ken duidelijk, systematis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eem foto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eschrijf de toest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lag (rijplat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reikbaarhei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ikbare ruimte (depo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perk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gelijkheden / alternati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ees hel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werkvoorbere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k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person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leveranc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informatie overdraagbaar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ak/gebruik lijs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ventarisatiesyst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fbeelding 1" descr=""/>
          <p:cNvPicPr/>
          <p:nvPr/>
        </p:nvPicPr>
        <p:blipFill>
          <a:blip r:embed="rId1"/>
          <a:stretch/>
        </p:blipFill>
        <p:spPr>
          <a:xfrm>
            <a:off x="826920" y="2087640"/>
            <a:ext cx="2853000" cy="2141640"/>
          </a:xfrm>
          <a:prstGeom prst="rect">
            <a:avLst/>
          </a:prstGeom>
          <a:ln w="0">
            <a:noFill/>
          </a:ln>
        </p:spPr>
      </p:pic>
      <p:pic>
        <p:nvPicPr>
          <p:cNvPr id="89" name="Afbeelding 2" descr=""/>
          <p:cNvPicPr/>
          <p:nvPr/>
        </p:nvPicPr>
        <p:blipFill>
          <a:blip r:embed="rId2"/>
          <a:stretch/>
        </p:blipFill>
        <p:spPr>
          <a:xfrm>
            <a:off x="4067280" y="2733840"/>
            <a:ext cx="4724280" cy="354456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3" descr=""/>
          <p:cNvPicPr/>
          <p:nvPr/>
        </p:nvPicPr>
        <p:blipFill>
          <a:blip r:embed="rId3"/>
          <a:stretch/>
        </p:blipFill>
        <p:spPr>
          <a:xfrm>
            <a:off x="4606920" y="603360"/>
            <a:ext cx="395604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fbeelding 4" descr=""/>
          <p:cNvPicPr/>
          <p:nvPr/>
        </p:nvPicPr>
        <p:blipFill>
          <a:blip r:embed="rId1"/>
          <a:stretch/>
        </p:blipFill>
        <p:spPr>
          <a:xfrm>
            <a:off x="1433520" y="476280"/>
            <a:ext cx="54450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Nieuw we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het werk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de klant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rijsopgave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lanning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personeel uitki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materiaal inz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de randvoorwaarden w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inventarisa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is h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is de toegankelijk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kan wel en wat kan n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ijn er andere beperking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is er allem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verwacht de kl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ag het kos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Afbeelding 1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20108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48360" y="1700280"/>
            <a:ext cx="3682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Hoe is de ligging in de buurt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Picture 6" descr="ontwerp_uw_eigen_tuin1"/>
          <p:cNvPicPr/>
          <p:nvPr/>
        </p:nvPicPr>
        <p:blipFill>
          <a:blip r:embed="rId1"/>
          <a:stretch/>
        </p:blipFill>
        <p:spPr>
          <a:xfrm>
            <a:off x="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w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n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en van ongeregelde z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Jan van der wiele</cp:lastModifiedBy>
  <dcterms:modified xsi:type="dcterms:W3CDTF">2018-12-01T16:52:46Z</dcterms:modified>
  <cp:revision>7</cp:revision>
  <dc:subject/>
  <dc:title>Werkvoorbereiding</dc:title>
</cp:coreProperties>
</file>