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C7F-3299-496B-8651-0C2DD2F8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B07-3998-4624-9C40-CDFAD233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93C5-8C0B-4D86-9D8E-4EF14004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521B-0879-4CD0-9524-585A85CA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2268-65DF-4A20-A246-5E0CA75B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6728-B684-4604-B0B6-C8766C5A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DF83-2AAE-4B2F-A503-EFBEFC1E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CD6-CDC2-4EC0-8C34-995F0601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FA5F-3EFF-433C-85B0-FA60A3ED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614-5377-4858-B146-E472DA78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D121-36F5-4A72-90BB-AA3405C8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075-A2C9-4EEE-A2F4-A05B8224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BC13-AFFE-4EFF-967E-BE6BBF2A3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orbereiding Tu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ing maken zie 3.2 van het digitale bo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57920" y="620280"/>
            <a:ext cx="23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d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roten is du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ijst van objectgegevens van de planinventarisati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object de werkzaamheden uit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issen hoe je het gaat aanp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welke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oeveel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et begrotingsformulier zetten en op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niet vergeten een nota st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Het Groene B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3253" t="14943" r="9742" b="13575"/>
          <a:stretch/>
        </p:blipFill>
        <p:spPr>
          <a:xfrm>
            <a:off x="0" y="1413000"/>
            <a:ext cx="91440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ind je het groene boe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32000" y="4221000"/>
            <a:ext cx="9144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508640"/>
            <a:ext cx="17269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956720" cy="66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68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het Begrotingsformulier, zie bo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ind je het begrotingsformul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21474600">
            <a:off x="395280" y="4437000"/>
            <a:ext cx="158436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4365720"/>
            <a:ext cx="2016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pak je dit a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m je lijst met ob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paal wat er voor moet worden ged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daarvoor het Groene 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benodig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t dit in je begrotingsform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gebruik je het groene bo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udeer eerst de inhoudsop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opruim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grondwerk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klinkerverharding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riek gevon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hier hoe lang je doet over een eenheid (bijv. een m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ook hoeveel je doet in bijv. een uur (bijv. aantal m2 per 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t met hoeveel personen is ger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met welke werktuigen is gerek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oorkom je dat je iets verg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5139" t="15755" r="12141" b="9810"/>
          <a:stretch/>
        </p:blipFill>
        <p:spPr>
          <a:xfrm>
            <a:off x="971640" y="1197000"/>
            <a:ext cx="709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9:29:52Z</dcterms:created>
  <dc:creator>Administrator</dc:creator>
  <dc:description/>
  <dc:language>en-US</dc:language>
  <cp:lastModifiedBy>Administrator</cp:lastModifiedBy>
  <dcterms:modified xsi:type="dcterms:W3CDTF">2010-10-21T20:05:03Z</dcterms:modified>
  <cp:revision>3</cp:revision>
  <dc:subject/>
  <dc:title>Werkvoorbereiding Tuinen</dc:title>
</cp:coreProperties>
</file>