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F3530-10E4-4CDF-A0A3-49B8E49FA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0C2FF-148D-44FC-8148-E53CB37F5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C3117-4B5A-49CE-BF7A-D6BFD7A32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5D28C-5F98-4F7C-A96A-0BA0C7CD6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808AA-D2AE-48D3-B740-1E902B88B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63BE6-3929-4163-8A5B-CEB49BD25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B78BD-337B-4AE3-A055-7EA3874A1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803AC-0253-471C-9F7F-0D92033CC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1F1A0-C704-456C-840E-C5C1DA313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60DD4-F877-4290-803F-8376FCC07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C0F92-8200-41CA-B149-C475CE8AB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5EB08-97AC-419C-9C9F-B3C55006A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B1A5F-C063-4E92-8F3A-457E17538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EA37A-D469-41D3-9AB1-CDA2469E6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2E4BB-2E4B-4A2F-9436-2BFF093A1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B744D-86A3-43F6-8FEF-0E3E9E075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AF6F4-158C-4035-8626-EF3019B02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CB89C-9B86-4376-9B96-3B3481685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E88C6-379D-43A0-91F9-0EDDA2184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3354B-688F-4E4F-866B-4136BF729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10E5F-822F-4CEF-9F7F-651F694C7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F6306-BDC3-4413-A9AC-B0ABA8621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1099B-0202-4C2F-A0A1-A58790148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6B480-46DD-44E3-8F66-295B24790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4292D-A2AD-4878-8F97-6FAA7F89C88E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538AF-BC22-416E-A926-9AE8CE81E1AE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Inmeten van een groot terrei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0" y="-747720"/>
            <a:ext cx="975348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-74772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 flipH="1" flipV="1">
            <a:off x="3924360" y="1557000"/>
            <a:ext cx="792000" cy="309564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924360" y="1557360"/>
            <a:ext cx="1224000" cy="35892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148360" y="1916280"/>
            <a:ext cx="1295280" cy="201744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4643280" y="3933720"/>
            <a:ext cx="1873440" cy="71928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 flipH="1" flipV="1">
            <a:off x="3924360" y="1557000"/>
            <a:ext cx="792000" cy="309564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924360" y="1557360"/>
            <a:ext cx="1224000" cy="35892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148360" y="1916280"/>
            <a:ext cx="1295280" cy="201744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4643280" y="3933720"/>
            <a:ext cx="1873440" cy="71928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924360" y="1557360"/>
            <a:ext cx="2519280" cy="237636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5280" y="723960"/>
            <a:ext cx="324000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ten doe je als volg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et alle omtreksmat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et  een diagona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itwerken doe je als volg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ken op schaal 1:5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ken eerst de ene driehoe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ken daarna de andere driehoe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ls het niet past: opnieuw met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4716360" y="3357360"/>
            <a:ext cx="1008000" cy="1223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4787640" y="1916280"/>
            <a:ext cx="360360" cy="433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0" y="-747720"/>
            <a:ext cx="975348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Ga nu aan het werk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Meet het voormalige maisveld op en teken het uit op papi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31T15:33:35Z</dcterms:created>
  <dc:creator>default</dc:creator>
  <dc:description/>
  <dc:language>en-US</dc:language>
  <cp:lastModifiedBy>default</cp:lastModifiedBy>
  <dcterms:modified xsi:type="dcterms:W3CDTF">2009-09-15T09:29:16Z</dcterms:modified>
  <cp:revision>4</cp:revision>
  <dc:subject/>
  <dc:title>Inmeten van een groot terrein</dc:title>
</cp:coreProperties>
</file>