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99627-DB18-4489-A2C3-6D4F28885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F0D7B-2AC0-4F58-BEF2-9289B1C90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19EA3-3F67-4A9A-85E9-A5B0496A9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4847C-552C-4409-84B3-EB9161C55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0AAA3-D3A0-4295-877E-17C834813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78FA5-3385-4233-A111-8F5F8DDFF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65B41-3231-4F3A-9831-B3DC2313A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B6CEA-48BD-454D-9A14-7BD18496F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7ED0D-331B-4C3D-AA1D-433930461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DA5F7-6E9C-4ECD-ADB1-17BBBAD3D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A369B-C263-4578-8F4D-17AD3B564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348AA-88B0-4921-9DE6-2EA3481EC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7436A-7E5C-4662-B761-E4055D776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1AA66-3607-4966-9599-21C5EE0FA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51AF5-D3EF-4A34-9C44-4FA686CEC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C86E3-1361-45E1-911E-101F5BBF0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8879E-2C19-45F5-9FFE-000D1C8AC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0915A-85D6-49A4-849A-2A33156D2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A2D00-F698-4C40-878F-C9954AE96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4CDB8-08DF-4512-8DF7-16F50915C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8B050-D83E-44DA-B973-CECEB5DC4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48451-9568-4844-84A2-287746A32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CABE2-25A2-41A2-A160-F788627C1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2E21D-F7C4-48AB-BE18-13459EDCE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EAE54-B2B3-45A9-B105-312587D9DF85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EF79F-39BB-4144-A868-15B4BA66AAA2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Inmeten van een groot terrei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0" y="-747720"/>
            <a:ext cx="975348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-74772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 flipH="1" flipV="1">
            <a:off x="3924360" y="1557000"/>
            <a:ext cx="792000" cy="309564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924360" y="1557360"/>
            <a:ext cx="1224000" cy="35892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148360" y="1916280"/>
            <a:ext cx="1295280" cy="201744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4643280" y="3933720"/>
            <a:ext cx="1873440" cy="71928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 flipH="1" flipV="1">
            <a:off x="3924360" y="1557000"/>
            <a:ext cx="792000" cy="309564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924360" y="1557360"/>
            <a:ext cx="1224000" cy="35892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148360" y="1916280"/>
            <a:ext cx="1295280" cy="201744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4643280" y="3933720"/>
            <a:ext cx="1873440" cy="71928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924360" y="1557360"/>
            <a:ext cx="2519280" cy="237636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5280" y="723960"/>
            <a:ext cx="324000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ten doe je als volg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et alle omtreksmat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et  een diagona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itwerken doe je als volg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ken op schaal 1:5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ken eerst de ene driehoe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ken daarna de andere driehoe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ls het niet past: opnieuw met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4716360" y="3357360"/>
            <a:ext cx="1008000" cy="1223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4787640" y="1916280"/>
            <a:ext cx="360360" cy="433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0" y="-747720"/>
            <a:ext cx="975348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Ga nu aan het werk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Meet het voormalige maisveld op en teken het uit op papi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31T15:33:35Z</dcterms:created>
  <dc:creator>default</dc:creator>
  <dc:description/>
  <dc:language>en-US</dc:language>
  <cp:lastModifiedBy>default</cp:lastModifiedBy>
  <dcterms:modified xsi:type="dcterms:W3CDTF">2009-09-15T09:29:16Z</dcterms:modified>
  <cp:revision>4</cp:revision>
  <dc:subject/>
  <dc:title>Inmeten van een groot terrein</dc:title>
</cp:coreProperties>
</file>