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4.wmf" ContentType="image/x-wmf"/>
  <Override PartName="/ppt/media/image23.jpeg" ContentType="image/jpeg"/>
  <Override PartName="/ppt/media/image18.jpeg" ContentType="image/jpeg"/>
  <Override PartName="/ppt/media/image2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2ECC-FC92-485B-8006-6FD2DD01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FFC7-A9F3-4B51-98CB-9BD31EFF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40ED-282D-44E5-9927-C9D38100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BECE-E485-4843-A88C-7E9546F4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2A2A-EDE2-4CE4-BFF7-F16E5974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E611-3D14-4CB5-B22B-8F0BB489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CBE2-7AA6-4457-A14B-89E2AEDA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0F5A-6D6C-4444-AA89-B84C4465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586C-E4DE-4B9E-AFC7-167D5074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2F14-079E-4A29-A28F-8D810464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DC53-9D2D-4948-A76A-C4DD2F44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529F-B67A-445C-A861-3671BDB1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6E23-183A-4F21-93F1-9C805F0B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F2F4-D9E9-416D-B4D9-112406D1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55E2-CFC6-4EF1-8FC6-4DB972AA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291B-A920-4865-87CF-75C63D18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41E5-D25D-4527-B1CF-D9E8D7BF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3C0A-ABA7-421A-A9B4-386CD817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BFA5-0995-4AE9-BD87-DBDCBB9E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EB9-915D-4ADC-AFCB-49D914D7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83A5-83B4-4B40-977D-1175100C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8519-AC5B-4831-89A8-A757783B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61F3-EF4E-4FDA-BD48-B66B805D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57D6-456E-4380-8877-84CF4115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58E6-0413-4849-9791-0CC99B5A193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A9F7-147D-4EE4-8DD6-D26CF3EF1F8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factsheet.do?request=download.factsheet&amp;id=74290041&amp;format=pdf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Bodem en groe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ben planten no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emvo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22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mogelijk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Grondwater is bereikba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tussen 50 en 150 c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Grondwater is niet bereikbaar (water bereikbaar maken of grond waterhoudend ma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867280" y="765000"/>
            <a:ext cx="29592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 grondwater is bereikba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t heet een grondwaterprofiel of contact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water zit tussen 50 cm en 150 cm vanaf het maaiveld gem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enwortels kunnen direct water opn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 Het grondwater zit dieper dan 150 cm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t heet een hangwaterprofiel (alleen het water wat in de grond blijft hangen kan door de plant worden benut en van de neersl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 blijft hangen is vooral afhankelijk van het slibgehalte of het gehalte aan organische sto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ardoor wordt droge grond waterhoude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eer organische stof in de gro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us bemesten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alm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om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ham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u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305160" y="3860640"/>
            <a:ext cx="5838840" cy="2513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met de neersla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Nederland valt ca 750 mm neerslag per jaar, maar wel ongelijk over het jaar verdeel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284720" y="1719360"/>
            <a:ext cx="48592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24240" y="2004840"/>
            <a:ext cx="6251400" cy="41450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fiek van het KNM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wat ondervinden de planten daarva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de groeiperiode is er meer verdamping dan neersla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gevolg zou kunnen zijn: afsterv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ar de grond houdt ook wat vast en kan worden gebruik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s het grondwater bereikbaar is, is er ook geen proble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met de verdamp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het groeiseizoen is er verdamping vana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493236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damping in het groeiseizoen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loten beplanting: ong. 500 mm per ja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itaire bomen en struiken: ong. 600 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planting in de stad: tussen 750 en 1000 m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le grond verdampt ongeveer 300 mm per groeiseiz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neerslag in het groeiseizoen is ongeveer 350 mm. Er is dus een TEKO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olitaire boom of b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moet dat da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lukkig kan de grond ook water vasthou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t verschilt per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: wein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: v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: verschillend, maar vaak redel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bewortelingsdiepte is ook van bela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grondwater zit soms niet di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 moet je in het groen dus doen voordat je gaat pla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 onderzoeken o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rin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reikbaarheid van het grond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t doe je m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grondboor en een penetrometer en leg je va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 doe je met deze informati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sliss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worden verva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worden bewe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iep de grond moet worden bewe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 een organische bemesting uitvoert en door de grond werk en hoe die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arna stuur je de klant een juiste rekeni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Een voorbeeld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719360"/>
            <a:ext cx="91440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Nog een voorbeel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643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dan het planten, maar eerst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 bewerken om gemakkelijker te kunnen plant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ing om het profiel te verbeter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en om onkruiden onder te werk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ing om grondlagen te wissel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armee bewerk je de gro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ien (om het onkruid kort te krij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re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lo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i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torkopeg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2736720" cy="2205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0" y="2998800"/>
            <a:ext cx="5003640" cy="3751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095800" y="2790720"/>
            <a:ext cx="40482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F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erke verkruimeling van de ondiep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deel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regen werkt de grond als een sp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dan niet worden betr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dan gemakkelijk inza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freezen: grond aandrukken met een w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groeiplaats: gro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angrijkste ei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Verankering van 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Voldoende groeikans 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. Bodem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. Bodem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. Vo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oeg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en geschikt voor grote oppervlak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een aanwezige vegetatie: voorscha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epte tot ong. 30 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: vóór de w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: ná de w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435640" y="2492280"/>
            <a:ext cx="3708360" cy="2554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29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itten met de kra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te en kleine mach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ndba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 diepten mogel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meng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orden ingehuu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Rotorkope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bewerking van grove grondbe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grote projec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erkruimeling en vlaklegg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t kun je in het veld zien aan de gro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s://livelink.groenkennisnet.nl/livelink/factsheet.do?request=download.factsheet&amp;id=74290041&amp;format=pd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bij landbouw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nd bestaat u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Vaste delen (ong. 50%) en is van minerale of organische oorspro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Poriën (ong. 50%) en is gevuld me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helft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helft 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211640" y="3645000"/>
            <a:ext cx="40384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hoe zit dat soms bij groenvoorzien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sterke verdichting (bijv. nieuwbouw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orien zijn in elkaar gedrukt, waardoor per volume meer vaste del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minder dan 40% porienvolum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is onbewortelba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orzaak meestal mechanische verdichting onder natte omstandighe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un je dit me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 met een penetro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waarde op de klok mag niet boven 25-30 kg ko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340000" y="2781360"/>
            <a:ext cx="1619280" cy="2990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static cone penetrometer"/>
          <p:cNvPicPr/>
          <p:nvPr/>
        </p:nvPicPr>
        <p:blipFill>
          <a:blip r:embed="rId2"/>
          <a:srcRect l="0" t="0" r="0" b="7346"/>
          <a:stretch/>
        </p:blipFill>
        <p:spPr>
          <a:xfrm>
            <a:off x="5148360" y="2708280"/>
            <a:ext cx="1944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anke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ij bomen: oorzaak  van omwaaien of scheefzak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lecht bij hoge grondwaterst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lechte indringing op geringe diep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instens 50 cm diep is nod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48320" y="1770120"/>
            <a:ext cx="40384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3929040" cy="558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diep wortelen pla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emlu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zuurstof) minstens 16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koolzuurgas) samen met 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21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en bij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veel water i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veel rottend materiaal i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faltbedekking van de wor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36Z</dcterms:created>
  <dc:creator>Peter</dc:creator>
  <dc:description/>
  <dc:language>en-US</dc:language>
  <cp:lastModifiedBy>Peter</cp:lastModifiedBy>
  <dcterms:modified xsi:type="dcterms:W3CDTF">2007-09-20T18:53:39Z</dcterms:modified>
  <cp:revision>7</cp:revision>
  <dc:subject/>
  <dc:title>Bodem en groen</dc:title>
</cp:coreProperties>
</file>