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D1EC-3582-41DC-A7E6-DEB4BB491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EBFB-73E0-4D80-8E30-478449CED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AAAF-9B51-41F4-AEC8-40889DE8D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F8D8-8BCA-4508-855B-FC54D96F8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A8641-1150-42E3-B3D4-8A218E151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2458F-6DC3-40A0-B465-319B2EBC7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42183-EEB3-4C39-82D4-21BADB02E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DDB3C-0504-4A2E-A7A2-22DAE6BDF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9C69D-BD52-44F0-B2F6-368EACD2E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0B515-F4B2-42E4-852A-F3A65E402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EB6EB-6F4F-488A-B115-7E3C658CB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C893-F195-4CE5-A608-10CC4BE5C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0B7D8-D6FA-4B91-B02E-E0C58856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1FAF4-5533-4958-9071-99B65B429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FFEF8-C102-4047-8D71-E2AA07144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5A9C5-0A25-4EB5-91D5-BB5EE31CA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217FF-B9DB-45AB-91F7-506DE9A6B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6448-B772-4465-BEB0-DE3339983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61B2-4126-4B90-BF5A-D9E6A8DF3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ABEB-FE55-417D-8A21-3941678AD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52BF-4D8A-485B-BBB6-26C2032A2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EA26-8C5C-45B7-9633-A1A89933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48B8-C5FB-4707-B75C-03F4A0D6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D31D-DBB8-47E9-A97F-E76B34FCD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1013B-576E-46E1-BC03-E4E9B916C85A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B6CBA-AD7B-432F-96B8-A5148BEF0654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livelink.groenkennisnet.nl/livelink/factsheet.do?request=download.factsheet&amp;id=74315842&amp;format=x-ms-wmv" TargetMode="External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anwb.nl/published/anwbcms/content/binaire-bestanden/pdfs/over-anwb/test-speeltuinen-931108.pdf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://www.vwa.nl/portal/page?_pageid=119,1639866&amp;_dad=portal&amp;_schema=portal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peeltoestelle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t  onderhou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Beknopt systeem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eknopt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ij slechts enkele speelgelegenhe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er speeltoestel een logboe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ogboeken bunde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itgebreid systeem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ij meer dan 10 speelgelegenhe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er wijk of stadsdeel registrer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lke speeltoestellen op welke speelgelegenhe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to’s zijn aanbevo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mputerprogramma’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Logboek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erplich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oor het aststellen aansprakelijkheid ongevall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formatie over wat en waa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echnische gegeve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ijzigingen die zijn aangebrach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Keuringen die zijn verrich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692360" y="0"/>
            <a:ext cx="6141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Onderhoudsgegeven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2222640"/>
            <a:ext cx="9144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Het ongevallenbla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1300320"/>
            <a:ext cx="9144000" cy="55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99"/>
                </a:solidFill>
                <a:latin typeface="Arial"/>
              </a:rPr>
              <a:t>Inspectie-onderhoud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3 soorten inspecties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rote inspec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Functionele inspec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isuele inspec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30840" y="2133720"/>
            <a:ext cx="805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 u="sng">
                <a:solidFill>
                  <a:srgbClr val="ffff99"/>
                </a:solidFill>
                <a:uFillTx/>
                <a:latin typeface="Arial"/>
                <a:hlinkClick r:id="rId1"/>
              </a:rPr>
              <a:t>Het onderhoud aan speeltoestell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Klik op de link en bekijk de film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Grote inspecti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Controle van de algehele veilighei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Aanwezigheid van roest, houtrot e.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instens 1 maal per jaa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Lijst met te inspecteren onderde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Soms uit te voeren door de leveranci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99"/>
                </a:solidFill>
                <a:latin typeface="Arial"/>
              </a:rPr>
              <a:t>Functionele inspectie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Controle op stabiliteit en sterkt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erbinding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Werken de lagers no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oldoet het bodemmateriaa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instens 1 maal per 3 maan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Visuele inspecti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Wekelijks of routinemati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evaarlijke situaties door bijv. het weer, vandalisme of gebrui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ij constatering direct actie ondernem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Soms kan dagelijkse inspectie nodig zij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02080" cy="45306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0" y="450864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Verbindingen controle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Verven en andere oppervlaktebehandeling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Schokdempende bodemmaterial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Opruimen en schoonhoud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444480" y="-360"/>
            <a:ext cx="569916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Preventief onderhou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Correctief onderhou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ervanging van verbinding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ervanging kapotte delen van de construc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erwijderen gevaarlijke vervuil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Aanvullen bodemmateriaa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Onderhoud aan alle vrije ruimten van het terrei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539640" y="1224000"/>
            <a:ext cx="7885080" cy="563400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Gevaarlijke vervuiling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99"/>
                </a:solidFill>
                <a:latin typeface="Arial"/>
              </a:rPr>
              <a:t>Onderhoud van bodemmaterialen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Zand aanvullen, losmaken of vervang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outsnippers aanvul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ras onderhoud als een gaz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ervuiling verwijder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Rubber tegels controler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etontegels en straatklinkers, asfal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eubilai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Rubber tegel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Opdrach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Inventarisatie van speeltoestellen op de Zwiesebor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et behulp van een inventarisatie- systee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Formuleer actiepunt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Einde presentati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3974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468360" y="5303880"/>
            <a:ext cx="604836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Om na te lezen, klik op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ff99"/>
                </a:solidFill>
                <a:uFillTx/>
                <a:latin typeface="Verdana"/>
                <a:hlinkClick r:id="rId2"/>
              </a:rPr>
              <a:t>Test speeltoestellen door de ANW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wetgeving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et attractiebesluit verplicht de beheerder de speeltoestellen zodanig te onderhouden dat er geen gevaar voor de gezondheid of de veiligheid van personen besta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oed onderhoud moet gepland wor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ierbij is een goede adminsitratie nodi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Wie ziet toe op de veiligheid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e Voedsel en Waren Autoriteit is de overheidsorganisatie die de veiligheid van voedsel en consumentenproducten onderzoekt en bewaakt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ff99"/>
                </a:solidFill>
                <a:uFillTx/>
                <a:latin typeface="Verdana"/>
                <a:hlinkClick r:id="rId3"/>
              </a:rPr>
              <a:t>Klik op deze link voor de informa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Drie stappen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. het opzetten van een inventarisatiesystee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. het aanleggen van een logboe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. het maken van een inspectie- en onderhouds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rcRect l="10141" t="15942" r="40400" b="35246"/>
          <a:stretch/>
        </p:blipFill>
        <p:spPr>
          <a:xfrm>
            <a:off x="0" y="20520"/>
            <a:ext cx="9144000" cy="684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Onderhou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inspectie-onderhou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preventief onderhou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correctief onderhou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- voor de speeltoestel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- voor de bodemmateria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- voor het aanwezige straatmeubilai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Inventarisatiesysteem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e moet weten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lke speeltoestellen er zij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 overige voorziening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aar ze zich bevin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15:35:48Z</dcterms:created>
  <dc:creator>default</dc:creator>
  <dc:description/>
  <dc:language>en-US</dc:language>
  <cp:lastModifiedBy>Peter</cp:lastModifiedBy>
  <dcterms:modified xsi:type="dcterms:W3CDTF">2008-01-17T10:59:18Z</dcterms:modified>
  <cp:revision>6</cp:revision>
  <dc:subject/>
  <dc:title>speeltoestellen</dc:title>
</cp:coreProperties>
</file>