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579-A646-454A-B1F4-A3EA513E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AB33-045E-482C-B981-4FB8CAE0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5CFA-D18F-4EF6-86C6-8F05ED29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114-FD46-487B-A524-8E6D85A2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5EAB-C969-4A5B-983F-3A89D09D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D217-B086-43D6-BB0C-FF2B8F24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5113-6BAF-4810-88D8-BE0A242F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026A-2086-400B-B4A1-D2843874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8D16-1CB0-4268-8999-865A8FDE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28A8-451F-4E21-95DF-64298621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70A4-14A9-447E-A2B3-9D67E2CD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DED-A6EE-459F-AE3B-3721E055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EB50-0287-4E9F-8768-07BBF8CF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5539-1D7B-4491-B22C-220E1C46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D000-829A-4A51-A8D4-D3B978F0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9443-AE6B-4837-BDA6-E12AC173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7056-FEC6-49D7-8E14-80EA9B28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6E7-5DA2-4231-A037-A7A917A7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E0D-24BA-4410-B0CE-F90F60C9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848-68B2-4F83-A066-29B66411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7B2-E73F-418E-98BD-3E94E944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B774-A9DD-46B3-AAE3-F223F119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546-C35D-4C98-9E56-71A52C51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8BB-C582-4CD4-BF51-098DDD11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6096-1602-465C-B33C-73A1B4F33EC3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7E44-DDA9-41B6-889C-BE2DB00B4E17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Werkbeschrijvingen en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la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en misverstanden met de kl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rekenen van de kosten (offert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heid voor het persone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orkomen van misverst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ste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juridisch docu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communicati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itgangspunt voor  calculatie en ra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idraad voor de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Juridisch documen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 over rechten en plich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187280" y="2232000"/>
            <a:ext cx="5185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mmunicatiemidd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ussen opdrachtgever en uitvoer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48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Uitgangspunt voor calculati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owel opdrachgever als uitvoerder kunnen de kosten bereke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554364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Leidraad voor de uitvoer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. Het resultaat t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1403280" y="2297160"/>
            <a:ext cx="6554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ntrol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ijn de afspraken nagekom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2465280"/>
            <a:ext cx="4859280" cy="4392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Waaraan moet een goed bestek voldoen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actuele gelijkwaard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verdeling van verantwoordelijkhed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duidige besteks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geen verschil van men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richt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duidelijkheid over te gebruiken materialen en toelaatbare afwijk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stenhomogenit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meer- of minderwerk voor afgesproken prijz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RAW-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AW bestekken van de CR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tworpen voor de grond- water- en weg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u ook voor de groene ruim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automatise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De werkomschrijv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le werkzaamheden voor het aanleggen of onderhouden van groen of een tu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 volgorde waarin ze worden uitgevo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gens een vast sch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 de hand van de inventaris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verzichtelij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930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Standaardbepaling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 gebruikte bepal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stgelegd in een standaardwe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n toepassing bep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fwijkingen apart beno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ofdstuk 51 voor de groenvoorzie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standaar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611280" y="888840"/>
            <a:ext cx="8208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inschrijvingsstaa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amenvatting van het bestek voor calc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971640" y="2017800"/>
            <a:ext cx="64800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overzich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aan te leggen of te beheren oppervla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wijze van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verwerk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bereikbaar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gronds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Beschrijving van de werkzaamheden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delen van de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schrijven van de te verrichten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van oppervlakten 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en werkmetho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van een indel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Omschrijving per onderde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werkzaamhed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materialen die gebruikt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noem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beschrij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Een voorbeeld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bewerken oppervlak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do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leven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keuzes (afhankelijk van de omstandig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of -volgor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0:18:07Z</dcterms:created>
  <dc:creator>Peter</dc:creator>
  <dc:description/>
  <dc:language>en-US</dc:language>
  <cp:lastModifiedBy>johan</cp:lastModifiedBy>
  <dcterms:modified xsi:type="dcterms:W3CDTF">2014-04-28T15:05:17Z</dcterms:modified>
  <cp:revision>6</cp:revision>
  <dc:subject/>
  <dc:title>Werkbeschrijvingen en bestekken</dc:title>
</cp:coreProperties>
</file>