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39E-45AE-432A-B4DC-000E699D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C18-C267-4742-A096-A9CF396D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798-2D77-4A66-A83A-61E042EA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B1E-95C8-4970-8120-161724DB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2DCB-17D8-45BC-8AC5-00E794F5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3A08-E9D3-4016-9D75-3308547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B9AD-F2FF-4C2E-A7E7-C7F0D3A3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E5E8-5130-412A-B8BB-02090CB2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FEAD-3C83-491A-BDE0-B92AAA6B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997A-AB17-45FC-9818-F71D086F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39D2-F21F-4AB8-AA8C-E5539AEF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B53-5700-44A0-A01C-3255DB6D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7D8C-3515-4035-848F-64D425AB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C286-5238-4F96-9EE5-953BDB9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5C82-B652-43E5-ACB3-D5521E21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81F5-720C-4D7E-8041-74C18CA5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B88F-B103-493C-819A-A824C8A7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49E-3C3F-4B2A-8F6A-8E4C4FFD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75E-4F44-439D-B11D-01FFE381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386-F7BF-410C-9BF3-FFDCB17D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154-EF70-4230-BDB9-495CADF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C86-7F6B-4345-AB9C-43B4F8E0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169-06FF-480A-BCDC-5A0739D8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FEDD-37F4-4C27-B221-D05E0282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C079-1B52-45A3-B1DA-95090B3C2F1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AB25-AD7C-4815-8373-A79FF7D19A1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project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iode uitvo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gr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fbeelding 1" descr=""/>
          <p:cNvPicPr/>
          <p:nvPr/>
        </p:nvPicPr>
        <p:blipFill>
          <a:blip r:embed="rId1"/>
          <a:stretch/>
        </p:blipFill>
        <p:spPr>
          <a:xfrm>
            <a:off x="539640" y="701640"/>
            <a:ext cx="7128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duidelijk, systematis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em foto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lag (rijplat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reikbaarhe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bare ruimte (de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 / alternati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826920" y="2087640"/>
            <a:ext cx="2853000" cy="2141640"/>
          </a:xfrm>
          <a:prstGeom prst="rect">
            <a:avLst/>
          </a:prstGeom>
          <a:ln w="0">
            <a:noFill/>
          </a:ln>
        </p:spPr>
      </p:pic>
      <p:pic>
        <p:nvPicPr>
          <p:cNvPr id="89" name="Afbeelding 2" descr=""/>
          <p:cNvPicPr/>
          <p:nvPr/>
        </p:nvPicPr>
        <p:blipFill>
          <a:blip r:embed="rId2"/>
          <a:stretch/>
        </p:blipFill>
        <p:spPr>
          <a:xfrm>
            <a:off x="4067280" y="2733840"/>
            <a:ext cx="4724280" cy="354456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3" descr=""/>
          <p:cNvPicPr/>
          <p:nvPr/>
        </p:nvPicPr>
        <p:blipFill>
          <a:blip r:embed="rId3"/>
          <a:stretch/>
        </p:blipFill>
        <p:spPr>
          <a:xfrm>
            <a:off x="4606920" y="603360"/>
            <a:ext cx="39560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4" descr=""/>
          <p:cNvPicPr/>
          <p:nvPr/>
        </p:nvPicPr>
        <p:blipFill>
          <a:blip r:embed="rId1"/>
          <a:stretch/>
        </p:blipFill>
        <p:spPr>
          <a:xfrm>
            <a:off x="1433520" y="476280"/>
            <a:ext cx="5445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2010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6" descr="ontwerp_uw_eigen_tuin1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Jan van der wiele</cp:lastModifiedBy>
  <dcterms:modified xsi:type="dcterms:W3CDTF">2018-12-01T16:52:46Z</dcterms:modified>
  <cp:revision>7</cp:revision>
  <dc:subject/>
  <dc:title>Werkvoorbereiding</dc:title>
</cp:coreProperties>
</file>