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053-FF7F-4E5A-A306-0DB5BC61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85C-7017-49A6-A11E-08E57AFD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A9E-FEEB-40A2-B821-725AE925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46C-BFA9-4E11-A404-983EFABE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1504-E247-4D18-974C-552F4BAA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8C19-4C58-44F0-B182-8C253E65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8F25-5391-4291-802C-506ADF65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3BF0-9EBD-4A18-8C4A-9C13AE85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BF4E-7F13-4F94-B48A-827BEC98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C0FA-7DE1-49AD-A37F-660FCAD5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C3DB-12CA-4A55-8E17-917C9489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65C-AEA7-4295-A132-0B459692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9998-3A38-41E7-AF45-0C36A5C5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2C5C-60BA-4B09-A879-5D22F423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868D-E08C-48B6-AD92-4441AB7D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6FDC-475A-45C4-8DF5-6EB0D127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6A7B-C0D2-4163-9CAF-1BC6CB9D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FBA-2383-4A45-90BB-5AD4657D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052-3A76-43EE-A6DE-BDF33C8C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498-2292-4BE3-A1FC-EF3CE04E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073-3B5C-4E1A-A0AE-F757CEB6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146-5F3A-4E5A-AF18-A5602249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381-DA36-4B25-9B25-777BE624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45A-74D2-4C76-B743-E9FF4E50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334F-9E78-4D43-BFB8-8A1F985CA93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3298-4DD1-4906-ACD9-D86F526B890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project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iode uitvo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gr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fbeelding 1" descr=""/>
          <p:cNvPicPr/>
          <p:nvPr/>
        </p:nvPicPr>
        <p:blipFill>
          <a:blip r:embed="rId1"/>
          <a:stretch/>
        </p:blipFill>
        <p:spPr>
          <a:xfrm>
            <a:off x="539640" y="701640"/>
            <a:ext cx="7128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duidelijk, systematis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em foto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lag (rijplat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reikbaarhe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bare ruimte (de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 / alternati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826920" y="2087640"/>
            <a:ext cx="2853000" cy="2141640"/>
          </a:xfrm>
          <a:prstGeom prst="rect">
            <a:avLst/>
          </a:prstGeom>
          <a:ln w="0">
            <a:noFill/>
          </a:ln>
        </p:spPr>
      </p:pic>
      <p:pic>
        <p:nvPicPr>
          <p:cNvPr id="89" name="Afbeelding 2" descr=""/>
          <p:cNvPicPr/>
          <p:nvPr/>
        </p:nvPicPr>
        <p:blipFill>
          <a:blip r:embed="rId2"/>
          <a:stretch/>
        </p:blipFill>
        <p:spPr>
          <a:xfrm>
            <a:off x="4067280" y="2733840"/>
            <a:ext cx="4724280" cy="354456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3" descr=""/>
          <p:cNvPicPr/>
          <p:nvPr/>
        </p:nvPicPr>
        <p:blipFill>
          <a:blip r:embed="rId3"/>
          <a:stretch/>
        </p:blipFill>
        <p:spPr>
          <a:xfrm>
            <a:off x="4606920" y="603360"/>
            <a:ext cx="39560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4" descr=""/>
          <p:cNvPicPr/>
          <p:nvPr/>
        </p:nvPicPr>
        <p:blipFill>
          <a:blip r:embed="rId1"/>
          <a:stretch/>
        </p:blipFill>
        <p:spPr>
          <a:xfrm>
            <a:off x="1433520" y="476280"/>
            <a:ext cx="5445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2010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6" descr="ontwerp_uw_eigen_tuin1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Jan van der wiele</cp:lastModifiedBy>
  <dcterms:modified xsi:type="dcterms:W3CDTF">2018-12-01T16:52:46Z</dcterms:modified>
  <cp:revision>7</cp:revision>
  <dc:subject/>
  <dc:title>Werkvoorbereiding</dc:title>
</cp:coreProperties>
</file>