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8D3C-1F94-4995-997E-7919D283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E172-6B59-4807-A858-AE60D542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3627-9312-4906-BD0D-3D5C82E4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A4CC-521E-4451-BA63-87F710A6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AF0A-0EAD-494B-8A5D-A9CC1B9F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0B39-1FA5-4A43-8961-4048D6EC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AFA0-D277-4544-AFC7-764911A5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9427-EADD-47D8-93F9-A01830AA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7D13-7B12-4453-865E-6F8DF3D8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7420-BA13-4B1E-BF7F-963CB645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C6F-AC68-48ED-A0BC-42B4AC1A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CE0D-CF1D-4FDD-AF3D-B145EF2C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7985-6438-47A2-8D15-F32F20945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orbereiding Tu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ing maken zie 3.2 van het digitale bo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57920" y="620280"/>
            <a:ext cx="23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d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roten is du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ijst van objectgegevens van de planinventarisati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object de werkzaamheden uit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issen hoe je het gaat aanp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welke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oeveel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et begrotingsformulier zetten en op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niet vergeten een nota st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Het Groene B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3253" t="14943" r="9742" b="13575"/>
          <a:stretch/>
        </p:blipFill>
        <p:spPr>
          <a:xfrm>
            <a:off x="0" y="1413000"/>
            <a:ext cx="91440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ind je het groene boe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32000" y="4221000"/>
            <a:ext cx="9144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508640"/>
            <a:ext cx="17269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956720" cy="66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68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het Begrotingsformulier, zie bo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ind je het begrotingsformul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21474600">
            <a:off x="395280" y="4437000"/>
            <a:ext cx="158436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4365720"/>
            <a:ext cx="2016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pak je dit a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m je lijst met ob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paal wat er voor moet worden ged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daarvoor het Groene 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benodig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t dit in je begrotingsform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gebruik je het groene bo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udeer eerst de inhoudsop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opruim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grondwerk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klinkerverharding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riek gevon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hier hoe lang je doet over een eenheid (bijv. een m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ook hoeveel je doet in bijv. een uur (bijv. aantal m2 per 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t met hoeveel personen is ger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met welke werktuigen is gerek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oorkom je dat je iets verg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5139" t="15755" r="12141" b="9810"/>
          <a:stretch/>
        </p:blipFill>
        <p:spPr>
          <a:xfrm>
            <a:off x="971640" y="1197000"/>
            <a:ext cx="709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9:29:52Z</dcterms:created>
  <dc:creator>Administrator</dc:creator>
  <dc:description/>
  <dc:language>en-US</dc:language>
  <cp:lastModifiedBy>Administrator</cp:lastModifiedBy>
  <dcterms:modified xsi:type="dcterms:W3CDTF">2010-10-21T20:05:03Z</dcterms:modified>
  <cp:revision>3</cp:revision>
  <dc:subject/>
  <dc:title>Werkvoorbereiding Tuinen</dc:title>
</cp:coreProperties>
</file>