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FF3B-C109-4125-9D4D-AE436CB5B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D63F-2A32-493F-9AC3-D82EA8DF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3F80-095C-4CBF-B162-C402E5813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25BE-54C8-4557-9014-E71FA7C7F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CFA4-0228-415B-922A-8F10A300A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C71D-974A-4492-B267-C94FA6BA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87BF4-7CD5-40F2-AAA8-C87D1942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0D75-6421-40CC-B528-F758BE1E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99A6-3B9E-4DEA-BAE9-28BD0A6A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2F66-AA6A-402A-9389-52BF6E51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70AAA-4316-4B09-834F-C7145F7E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AEEC-DC8A-48E2-B1E7-F19DEAA9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A32C-600E-4070-8532-CE5E7005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3A4E-D5B0-42FC-A52A-362BC40E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AA02F-09C6-46D4-9191-0A1E4AE1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0DED-A9C4-4C73-A8D6-935ECEBEE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77C7D-1684-4213-BD44-335C8361D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EA57-5C27-4DEF-A001-8D397CA3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DF78-6391-43C3-A3CE-DA96863E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50DE-FB32-4F67-AEC8-6E45B16B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CBB4-A22F-4A5D-A4B9-F27C5321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71DF-7754-4B7A-9061-65B4C653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C33B-5D6B-4DF4-90A9-F1E32632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2B48-7375-4DFA-B4E3-091340B5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E242-6E73-45DD-82D2-44818CB3082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94C8-AEC7-4286-AC51-3C08CDBE8E3A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7200" spc="-1" strike="noStrike">
                <a:solidFill>
                  <a:srgbClr val="ffffb7"/>
                </a:solidFill>
                <a:latin typeface="Arial Black"/>
              </a:rPr>
              <a:t>BEHEERPLAN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Economisch: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Maximum rendement, minimale kosten, bv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Sportveld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Fruitteel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Bosbou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Esthetisch</a:t>
            </a: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29000" y="1904760"/>
            <a:ext cx="6316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Aanbli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Schoffelwe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Hag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Sierhees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Leibom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RANDVOORWAARD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Technisch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rkeer (doorrijhoog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rktui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terdoorvo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traatlantaa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lektriciteitsmas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RANDVOORWAARD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Functioneel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etpa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rullenbak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an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peeltoestell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Fietsklem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ai- en aanrijschadepaaltj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RANDVOORWAARD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osmetisch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loeiende plan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schoffelde bor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stoken graskan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ijverpartij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a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RANDVOORWAARD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Kunnen ook door eigenaar/ beheerder worden opgelegd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lk kwaliteitsniveau in welke wij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nneer mag er wel en niet worden gewerk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STREEFBEELD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ZIJ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palend voor de kwalit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palend voor het resulta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palend voor de communic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STREEFBEELD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KUNNEN ZIJ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en tekening (bv. dwarsdoorsned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en fo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en omschrij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lle bovenstaande op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BEHEERMAATREGEL VERSUS</a:t>
            </a:r>
            <a:br>
              <a:rPr sz="4400"/>
            </a:b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ONDERHOUDSMAATREGEL 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2730600"/>
            <a:ext cx="8007480" cy="33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heermaatregel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Intensief /extensi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nderhoudsmaatregel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24 x of 2 x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ai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SPECIFICATIES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OFDBEHEERGROEPEN VALLEN UITEEN IN BEHEERGROEPEN, bv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om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Laanbomen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0- 10 ja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10-25 ja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&gt; 25 ja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arkbomen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0 – 10 ja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Beleidsniveau </a:t>
            </a:r>
            <a:r>
              <a:rPr b="0" lang="nl-NL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Groenbeleid/ 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structuurpl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Beheerniveau </a:t>
            </a:r>
            <a:r>
              <a:rPr b="0" lang="nl-NL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Beheerpl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Uitvoeringsniveau </a:t>
            </a:r>
            <a:r>
              <a:rPr b="0" lang="nl-NL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Werkpl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6516720" y="285264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>
            <a:off x="6443640" y="436572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SPECIFICATIES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SPECIFICATIE gaat in op detail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In verhard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Open of gesloten beeld van bepla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Intensief/ extensief maai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Vaste planten (cultuurlijk/ natuurlijk, plantenbak, grassen, winterbeeld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5400" spc="-1" strike="noStrike" u="sng">
                <a:solidFill>
                  <a:srgbClr val="ffffff"/>
                </a:solidFill>
                <a:uFillTx/>
                <a:latin typeface="Arial"/>
              </a:rPr>
              <a:t>SPECIFICATIES HEBBEN DUS GROTE </a:t>
            </a:r>
            <a:r>
              <a:rPr b="1" lang="nl-NL" sz="5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nl-NL" sz="5400" spc="-1" strike="noStrike" u="sng">
                <a:solidFill>
                  <a:srgbClr val="ffffff"/>
                </a:solidFill>
                <a:uFillTx/>
                <a:latin typeface="Arial"/>
              </a:rPr>
              <a:t>INVLOED OP HET </a:t>
            </a:r>
            <a:r>
              <a:rPr b="1" lang="nl-NL" sz="5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nl-NL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5400" spc="-1" strike="noStrike" u="sng">
                <a:solidFill>
                  <a:srgbClr val="ffffff"/>
                </a:solidFill>
                <a:uFillTx/>
                <a:latin typeface="Arial"/>
              </a:rPr>
              <a:t>WERKPAKKET!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WERKPAKKETT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Bijvoorbeeld het werkpakket van Laanbomen 0 - 10 jaar in verharding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Begeleidingssnoe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Wegafzetting plaatsen en opruim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Vergaren materia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Afvoeren materia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Pleksgewijs maai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WERKPAKKETT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beeld maaien gaz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Zwerfvuil verwij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ai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ras verga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fvoeren gras en zwerfvu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mes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ontrol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WERKPAKKETT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Aanvullende maatregelen gazon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Beregen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Mollenbestrijd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Belucht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Verticuter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Blad verwijder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Kanten stek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Onderhoudscategorieë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yclisch onderhou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Incidenteel onderhou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Omvorm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Stappenplan</a:t>
            </a: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 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Wat wil ik? Inventarisatie van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Wat wil eigena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Wat wil beheer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Wat zijn de doelstelling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Wat mag het kost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Stappenplan</a:t>
            </a: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 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Wat heb ik? Inventarisatie van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Bodem, grondwatersta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Soorten gew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Soorten verhard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Straatmeubilai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Stappenplan</a:t>
            </a: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 3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Hoe moet dat? Inventarisatie van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Hoe wordt het uitgevoer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Inzet mens en materieel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Wanne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Rijafstand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OPZET BEHEERPLA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49640" y="1904760"/>
            <a:ext cx="659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oelstellin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andvoorwaar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treefbeel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(Hoofd)beheergroe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pecific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rkpakket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DRIE DOELSTELLING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70120" y="1904760"/>
            <a:ext cx="6175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Ecologis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Economis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Esthetis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Ecologisch: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79240" y="1904760"/>
            <a:ext cx="73659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Biotoopbehe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Kruidachtige gewass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Structuurvariati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Ecologische infrastructuu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17:45:17Z</dcterms:created>
  <dc:creator>Huub</dc:creator>
  <dc:description/>
  <dc:language>en-US</dc:language>
  <cp:lastModifiedBy>Jan van der Wiele</cp:lastModifiedBy>
  <dcterms:modified xsi:type="dcterms:W3CDTF">2018-11-21T09:14:43Z</dcterms:modified>
  <cp:revision>4</cp:revision>
  <dc:subject/>
  <dc:title>BEHEERPLAN</dc:title>
</cp:coreProperties>
</file>