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ADD-F299-4785-839E-5E9BFD8F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684-B6F9-4135-998D-1C501F3A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56F-7533-4BFA-93C9-94F4E3D1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9F4-4A7C-402C-85ED-95E6059C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BE31-8BBF-487F-B73B-4E7F382F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C7F6-CBED-40B2-8BDB-69BD6E89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EEAD-2EAC-4314-B76B-EF0FB130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619D-FC3A-49A3-9F6E-414DFEE2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B4F1-A42C-48E6-B95E-2D370F7B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E507-8901-4546-9E83-2E2F611A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AD17-C53E-4AD0-961A-0167B499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35E-63C3-4453-A8AC-B6BA3FEF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3D69-E70E-4851-9A9F-D1323D32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7EBE-DF57-4762-8A6C-276C115B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5DF3-D01E-4E75-9B6C-78BD8997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EEBA-2204-4A8D-A5A0-09839D55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00D9-B710-4967-9937-3B207EC0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3CF-CE81-47EC-8F77-36818E56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5B1-9749-4E06-BB31-2B66DD01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3F5-0B39-403A-AA12-2D815613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302-3889-4C05-A960-DCB2CBC3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050-F5D4-478E-B4BB-2C87ADF9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26C-B65C-4D40-AE28-3EE3E857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942-56FF-4736-A199-A2B03E8B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954A-5F94-4483-A4BD-4E3E208F38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93CB-4351-4671-8DB2-36C4F6370BA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ffb7"/>
                </a:solidFill>
                <a:latin typeface="Arial Black"/>
              </a:rPr>
              <a:t>BEHEERPLAN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nom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Maximum rendement, minimale kosten, b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ortvel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ruittee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osbou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sthetisch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29000" y="1904760"/>
            <a:ext cx="6316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anbli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choffelwe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ierhee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Leib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echn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keer (doorrijhoog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tu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doorvo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atlantaa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lektriciteitsma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unctioneel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etp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ullenba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eltoe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ietsklem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- en aanrijschadepaalt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smet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iende pl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choffelde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token grask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jverpartij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unnen ook door eigenaar/ beheerder worden opgeleg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lk kwaliteitsniveau in welke wij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nneer mag er wel en niet worden gewerk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kwa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het result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UNNEN 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tekening (bv. dwarsdoorsne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fo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omschrij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 bovenstaande op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BEHEERMAATREGEL VERSUS</a:t>
            </a:r>
            <a:br>
              <a:rPr sz="4400"/>
            </a:b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NDERHOUDSMAATREGEL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730600"/>
            <a:ext cx="80074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eer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Intensief /extens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houds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24 x of 2 x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OFDBEHEERGROEPEN VALLEN UITEEN IN BEHEERGROEPEN, b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m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anbomen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-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0-25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&gt; 25 ja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rkb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 –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leid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Groenbeleid/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uctuu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heer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Behee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voering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Werk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516720" y="2852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6443640" y="4365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ECIFICATIE gaat in op detail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 verhar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pen of gesloten beeld van bepla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tensief/ extensief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aste planten (cultuurlijk/ natuurlijk, plantenbak, grassen, winterbeel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SPECIFICATIES HEBBEN DUS GROTE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INVLOED OP HET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WERKPAKKET!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ijvoorbeeld het werkpakket van Laanbomen 0 - 10 jaar in verhard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geleidingssno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egafzetting plaatsen en oprui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ga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fvoe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Pleksgewijs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maaien gaz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werfvuil verwij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ras verg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voeren gras en zwerfv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me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anvullende maatregelen gaz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regen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ollenbestrij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luch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ticut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lad verwijd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Kanten ste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Onderhoudscategorieë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yclisch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cidenteel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mvor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wil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eigena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behee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zijn de doelstelling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mag het kos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heb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odem, grondwaterst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gew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verhar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aatmeubil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Hoe moet dat? Inventarisatie va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Hoe wordt het uitgevoer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zet mens en materiee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anne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ijafstand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PZET BEHEERPL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49640" y="1904760"/>
            <a:ext cx="659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elstel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ndvoorwa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eefbee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Hoofd)beheergroe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cif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pakke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DRIE DOELSTELLING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70120" y="1904760"/>
            <a:ext cx="6175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nom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sthet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log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240" y="1904760"/>
            <a:ext cx="7365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iotoopbehe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ruidachtige gewas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tructuurvari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e infrastructuu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7:45:17Z</dcterms:created>
  <dc:creator>Huub</dc:creator>
  <dc:description/>
  <dc:language>en-US</dc:language>
  <cp:lastModifiedBy>Jan van der Wiele</cp:lastModifiedBy>
  <dcterms:modified xsi:type="dcterms:W3CDTF">2018-11-21T09:14:43Z</dcterms:modified>
  <cp:revision>4</cp:revision>
  <dc:subject/>
  <dc:title>BEHEERPLAN</dc:title>
</cp:coreProperties>
</file>